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13AB-7E41-4A98-BAF9-4D3BDEA2B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igh cost of commercial and military thermal imaging systems is due to the optical components which are made with the high cost materials and require complex manufactur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nventional approach achieves high performance imaging by employing a complex sequences of lenses or increasing lens complexity and this add to the cost, size and weight of the imaging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le the cost of producing lenses is relatively constant over the time, the improvements in electronic technology make the cost of digital signal processing exponentially decreasing (Moor’s law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2292-8E15-485C-8A0D-51D702B96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7E3D-1CA7-472D-882F-CA4B883BF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63B54-4026-44F5-A21E-43B05B9D0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2B964-19B8-4A0C-B14C-146FFA3CB0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D16C-DFEA-473E-84C6-D6368D7A9E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7B9E-54EC-41D4-8494-BF4F3BA82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E3D6B-B9AD-4CE5-9CAB-6C6B06ED9E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6A5B-AC37-4EC7-99D0-C6F8D4D5C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8750-D44E-47AF-B7BD-52D3DDF77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6305-AABA-4ED2-8011-C654719AA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CC54-4AF5-4369-B582-1CD8F0450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51DDD-62C0-4130-A0C1-B0E66AA38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142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BCAB-3003-45A9-8CEF-7C775FF45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2514600" cy="32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51460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52280" y="256500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Marlett"/>
                <a:ea typeface="Marlett"/>
              </a:rPr>
              <a:t>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</a:rPr>
              <a:t>Revision of Electrostatics (week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Marlett"/>
                <a:ea typeface="Marlett"/>
              </a:rPr>
              <a:t>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</a:rPr>
              <a:t>Vector Calculus (week 2-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Marlett"/>
                <a:ea typeface="Marlett"/>
              </a:rPr>
              <a:t>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</a:rPr>
              <a:t>Maxwell’s equations in integral and differential form (week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Marlett"/>
                <a:ea typeface="Marlett"/>
              </a:rPr>
              <a:t>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lectromagnetic wave behaviour from Maxwell’s equations (week 6-7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euristic description of the generation of EM wa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thematical derivation of EM waves in free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lationship between E and 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M waves in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oundary conditions for EM waves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Marlett"/>
                <a:ea typeface="Marlett"/>
              </a:rPr>
              <a:t>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</a:rPr>
              <a:t>Fourier description of EM waves (week 7.5-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Marlett"/>
                <a:ea typeface="Marlett"/>
              </a:rPr>
              <a:t></a:t>
            </a:r>
            <a:r>
              <a:rPr b="0" lang="en-GB" sz="2000" spc="-1" strike="noStrike">
                <a:solidFill>
                  <a:srgbClr val="808080"/>
                </a:solidFill>
                <a:latin typeface="Times New Roman"/>
              </a:rPr>
              <a:t>Reflection and transmission of EM waves from materials (week 9-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441000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10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762120" y="41400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2.3MB1 Electromagnetism</a:t>
            </a:r>
            <a:br>
              <a:rPr sz="32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r Andy Harvey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-mail a.r.harvey@hw.ac.uk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lecture notes are at:</a:t>
            </a:r>
            <a:br>
              <a:rPr sz="2000"/>
            </a:b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http://www.cee.hw.ac.uk/~arharvey/22.3MB1electromagnetism.z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0F3B1-054F-48C4-A85F-9A31347139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438280" y="1600200"/>
            <a:ext cx="2590920" cy="1600200"/>
          </a:xfrm>
          <a:prstGeom prst="rect">
            <a:avLst/>
          </a:prstGeom>
          <a:solidFill>
            <a:srgbClr val="ffbbbb"/>
          </a:solidFill>
          <a:ln w="9360">
            <a:solidFill>
              <a:srgbClr val="ffb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bey second order partial differential wave equ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638440" y="1600200"/>
                <a:ext cx="1925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ε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6858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ve equations in free space c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37000" y="2362320"/>
                <a:ext cx="20142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ε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0" name=""/>
          <p:cNvGrpSpPr/>
          <p:nvPr/>
        </p:nvGrpSpPr>
        <p:grpSpPr>
          <a:xfrm>
            <a:off x="457200" y="3352680"/>
            <a:ext cx="8686800" cy="2008440"/>
            <a:chOff x="457200" y="3352680"/>
            <a:chExt cx="8686800" cy="200844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4572000"/>
                  <a:ext cx="368784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Volts/metre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tr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ε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Volts/metre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conds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457200" y="3352680"/>
              <a:ext cx="8686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000"/>
            </a:bodyPr>
            <a:p>
              <a:pPr marL="13680" indent="-136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What does this mea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520" indent="-1116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imensional analysis ?</a:t>
              </a:r>
              <a:br>
                <a:rPr sz="2400"/>
              </a:br>
              <a:br>
                <a:rPr sz="2400"/>
              </a:b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520" indent="-1116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520" indent="-1116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has units of velocity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9520" indent="-1116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Why is this a wave with velocity 1/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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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3680" indent="-136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2AF8A-2CE4-4565-8CB4-2126291D42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876920" y="1066680"/>
            <a:ext cx="4190760" cy="13827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wave eq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676520" y="1066680"/>
                <a:ext cx="198432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ε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043080" y="2844720"/>
                <a:ext cx="19098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v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" name=""/>
          <p:cNvGrpSpPr/>
          <p:nvPr/>
        </p:nvGrpSpPr>
        <p:grpSpPr>
          <a:xfrm>
            <a:off x="1981080" y="4572000"/>
            <a:ext cx="3810240" cy="685800"/>
            <a:chOff x="1981080" y="4572000"/>
            <a:chExt cx="3810240" cy="685800"/>
          </a:xfrm>
        </p:grpSpPr>
        <p:sp>
          <p:nvSpPr>
            <p:cNvPr id="148" name=""/>
            <p:cNvSpPr/>
            <p:nvPr/>
          </p:nvSpPr>
          <p:spPr>
            <a:xfrm>
              <a:off x="1981080" y="4572000"/>
              <a:ext cx="3810240" cy="685800"/>
            </a:xfrm>
            <a:prstGeom prst="rect">
              <a:avLst/>
            </a:prstGeom>
            <a:solidFill>
              <a:srgbClr val="ffbbbb"/>
            </a:solidFill>
            <a:ln w="9360">
              <a:solidFill>
                <a:srgbClr val="ff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1982880" y="4707000"/>
                  <a:ext cx="3774960" cy="47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vt</m:t>
                          </m:r>
                        </m:e>
                      </m:d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sSup>
                        <m:e>
                          <m:r>
                            <m:t xml:space="preserve">v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ε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  <m:r>
                            <m:t xml:space="preserve">'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z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v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841920" y="5384880"/>
                <a:ext cx="14158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ε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46320" y="5816520"/>
                <a:ext cx="4338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7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/sec</m:t>
                    </m:r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"/>
          <p:cNvGrpSpPr/>
          <p:nvPr/>
        </p:nvGrpSpPr>
        <p:grpSpPr>
          <a:xfrm>
            <a:off x="6248520" y="1065600"/>
            <a:ext cx="622440" cy="459720"/>
            <a:chOff x="6248520" y="1065600"/>
            <a:chExt cx="622440" cy="459720"/>
          </a:xfrm>
        </p:grpSpPr>
        <p:sp>
          <p:nvSpPr>
            <p:cNvPr id="153" name=""/>
            <p:cNvSpPr/>
            <p:nvPr/>
          </p:nvSpPr>
          <p:spPr>
            <a:xfrm>
              <a:off x="6248520" y="1219320"/>
              <a:ext cx="380880" cy="228600"/>
            </a:xfrm>
            <a:prstGeom prst="rightArrow">
              <a:avLst>
                <a:gd name="adj1" fmla="val 50000"/>
                <a:gd name="adj2" fmla="val 41654"/>
              </a:avLst>
            </a:prstGeom>
            <a:gradFill rotWithShape="0">
              <a:gsLst>
                <a:gs pos="0">
                  <a:srgbClr val="2f7575"/>
                </a:gs>
                <a:gs pos="100000">
                  <a:srgbClr val="66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54520" y="106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105520" y="2514600"/>
            <a:ext cx="1904760" cy="609480"/>
          </a:xfrm>
          <a:custGeom>
            <a:avLst/>
            <a:gdLst/>
            <a:ahLst/>
            <a:rect l="l" t="t" r="r" b="b"/>
            <a:pathLst>
              <a:path w="1200" h="384">
                <a:moveTo>
                  <a:pt x="0" y="384"/>
                </a:moveTo>
                <a:cubicBezTo>
                  <a:pt x="380" y="368"/>
                  <a:pt x="760" y="352"/>
                  <a:pt x="960" y="288"/>
                </a:cubicBezTo>
                <a:cubicBezTo>
                  <a:pt x="1160" y="224"/>
                  <a:pt x="1180" y="112"/>
                  <a:pt x="120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320" y="4114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titute back into the above EM 3D wa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5410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a travelling wave 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fre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905120"/>
            <a:ext cx="9067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y is this a travelling wav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1D travelling wave has a solution of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16200" y="1752480"/>
            <a:ext cx="635040" cy="381240"/>
          </a:xfrm>
          <a:custGeom>
            <a:avLst/>
            <a:gdLst/>
            <a:ahLst/>
            <a:rect l="l" t="t" r="r" b="b"/>
            <a:pathLst>
              <a:path w="400" h="240">
                <a:moveTo>
                  <a:pt x="8" y="240"/>
                </a:moveTo>
                <a:cubicBezTo>
                  <a:pt x="4" y="232"/>
                  <a:pt x="0" y="224"/>
                  <a:pt x="56" y="192"/>
                </a:cubicBezTo>
                <a:cubicBezTo>
                  <a:pt x="112" y="160"/>
                  <a:pt x="288" y="80"/>
                  <a:pt x="344" y="48"/>
                </a:cubicBezTo>
                <a:cubicBezTo>
                  <a:pt x="400" y="16"/>
                  <a:pt x="396" y="8"/>
                  <a:pt x="392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56120" y="2844720"/>
            <a:ext cx="2801880" cy="520920"/>
          </a:xfrm>
          <a:custGeom>
            <a:avLst/>
            <a:gdLst/>
            <a:ahLst/>
            <a:rect l="l" t="t" r="r" b="b"/>
            <a:pathLst>
              <a:path w="1765" h="328">
                <a:moveTo>
                  <a:pt x="85" y="272"/>
                </a:moveTo>
                <a:cubicBezTo>
                  <a:pt x="225" y="296"/>
                  <a:pt x="362" y="309"/>
                  <a:pt x="421" y="272"/>
                </a:cubicBezTo>
                <a:cubicBezTo>
                  <a:pt x="480" y="235"/>
                  <a:pt x="502" y="86"/>
                  <a:pt x="437" y="47"/>
                </a:cubicBezTo>
                <a:cubicBezTo>
                  <a:pt x="372" y="8"/>
                  <a:pt x="57" y="0"/>
                  <a:pt x="32" y="39"/>
                </a:cubicBezTo>
                <a:cubicBezTo>
                  <a:pt x="7" y="78"/>
                  <a:pt x="0" y="234"/>
                  <a:pt x="289" y="281"/>
                </a:cubicBezTo>
                <a:cubicBezTo>
                  <a:pt x="578" y="328"/>
                  <a:pt x="1458" y="312"/>
                  <a:pt x="1765" y="32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9560" y="2936520"/>
            <a:ext cx="23097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Constant f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ravelling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95280" y="3352680"/>
                <a:ext cx="54752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</m:d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A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6172200" y="914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043680" y="2057400"/>
                <a:ext cx="280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89E74-FF5D-4013-B6B4-E7951184A7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6761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stitute this 1D expression into 3D ‘wave equation’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E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ve equations in free space c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95280" y="990720"/>
                <a:ext cx="2297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332000" y="2106720"/>
                <a:ext cx="5856120" cy="26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β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βv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ε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ε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29200" y="914400"/>
                <a:ext cx="19256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ε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28600" y="4876920"/>
            <a:ext cx="8763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usoidal variation in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a solution ton the wa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3551D-973E-45E0-A3B3-C86088EBB7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xwells equations lead to the three-dimensional wave equation to describe the propagation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e sinusoidal waves are a solution to the 3D wa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ve equations are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emporal field variations can be decomposed into Fourier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ve equation describes the propagation of an arbitrary disturb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waves can be written as a superposition of plane waves (again by Fourier analys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ve equation describes the propagation of arbitrary wave fronts in free sp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mmary of wave equations in free space c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210B-9526-4602-A0FA-3E74E21F0C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mmary of the generation of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velling wa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276720" y="2971800"/>
                <a:ext cx="13716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6477120" y="1828800"/>
                <a:ext cx="153036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∂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/</m:t>
                    </m:r>
                    <m:r>
                      <m:t xml:space="preserve">∂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see that travelling waves are set up w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celerating cha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there is also a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fiel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due to Coulomb’s la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 spherical travelling wave, th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arried by the travelling wave obeys an inverse square law (conservation of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GB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o be discussed later in the cou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/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ulomb field decays more rapidly than travelling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 large distances the field due to the travelling wave is much larger than the ‘near-field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4AE51-7AC7-489A-BDCE-8BC0550B2A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9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euristic summary of the generation of travelling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274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0" y="1295280"/>
            <a:ext cx="7772040" cy="5335200"/>
            <a:chOff x="0" y="1295280"/>
            <a:chExt cx="7772040" cy="53352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7772040" cy="533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"/>
            <p:cNvGrpSpPr/>
            <p:nvPr/>
          </p:nvGrpSpPr>
          <p:grpSpPr>
            <a:xfrm>
              <a:off x="985320" y="2055960"/>
              <a:ext cx="3654000" cy="3773880"/>
              <a:chOff x="985320" y="2055960"/>
              <a:chExt cx="3654000" cy="377388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086840" y="2055960"/>
                <a:ext cx="3552480" cy="1371240"/>
                <a:chOff x="1086840" y="2055960"/>
                <a:chExt cx="3552480" cy="13712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086840" y="2055960"/>
                  <a:ext cx="3552480" cy="1371240"/>
                </a:xfrm>
                <a:custGeom>
                  <a:avLst/>
                  <a:gdLst/>
                  <a:ahLst/>
                  <a:rect l="l" t="t" r="r" b="b"/>
                  <a:pathLst>
                    <a:path w="1536" h="576">
                      <a:moveTo>
                        <a:pt x="96" y="240"/>
                      </a:moveTo>
                      <a:cubicBezTo>
                        <a:pt x="192" y="152"/>
                        <a:pt x="480" y="0"/>
                        <a:pt x="672" y="0"/>
                      </a:cubicBezTo>
                      <a:cubicBezTo>
                        <a:pt x="864" y="0"/>
                        <a:pt x="1104" y="152"/>
                        <a:pt x="1248" y="240"/>
                      </a:cubicBezTo>
                      <a:cubicBezTo>
                        <a:pt x="1392" y="328"/>
                        <a:pt x="1532" y="489"/>
                        <a:pt x="1536" y="528"/>
                      </a:cubicBezTo>
                      <a:cubicBezTo>
                        <a:pt x="1536" y="576"/>
                        <a:pt x="1271" y="477"/>
                        <a:pt x="1271" y="477"/>
                      </a:cubicBezTo>
                      <a:cubicBezTo>
                        <a:pt x="1121" y="425"/>
                        <a:pt x="1051" y="353"/>
                        <a:pt x="951" y="353"/>
                      </a:cubicBezTo>
                      <a:cubicBezTo>
                        <a:pt x="851" y="353"/>
                        <a:pt x="814" y="451"/>
                        <a:pt x="672" y="480"/>
                      </a:cubicBezTo>
                      <a:cubicBezTo>
                        <a:pt x="672" y="480"/>
                        <a:pt x="192" y="568"/>
                        <a:pt x="96" y="528"/>
                      </a:cubicBezTo>
                      <a:cubicBezTo>
                        <a:pt x="0" y="488"/>
                        <a:pt x="0" y="328"/>
                        <a:pt x="96" y="240"/>
                      </a:cubicBez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1641600" y="2170080"/>
                  <a:ext cx="554760" cy="228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985320" y="4456080"/>
                <a:ext cx="3543480" cy="1373760"/>
              </a:xfrm>
              <a:custGeom>
                <a:avLst/>
                <a:gdLst/>
                <a:ahLst/>
                <a:rect l="l" t="t" r="r" b="b"/>
                <a:pathLst>
                  <a:path w="1532" h="577">
                    <a:moveTo>
                      <a:pt x="167" y="343"/>
                    </a:moveTo>
                    <a:cubicBezTo>
                      <a:pt x="263" y="431"/>
                      <a:pt x="489" y="577"/>
                      <a:pt x="668" y="576"/>
                    </a:cubicBezTo>
                    <a:cubicBezTo>
                      <a:pt x="860" y="576"/>
                      <a:pt x="1100" y="424"/>
                      <a:pt x="1244" y="336"/>
                    </a:cubicBezTo>
                    <a:cubicBezTo>
                      <a:pt x="1388" y="248"/>
                      <a:pt x="1519" y="91"/>
                      <a:pt x="1532" y="48"/>
                    </a:cubicBezTo>
                    <a:cubicBezTo>
                      <a:pt x="1532" y="0"/>
                      <a:pt x="1320" y="78"/>
                      <a:pt x="1320" y="78"/>
                    </a:cubicBezTo>
                    <a:cubicBezTo>
                      <a:pt x="1170" y="130"/>
                      <a:pt x="1133" y="207"/>
                      <a:pt x="1024" y="210"/>
                    </a:cubicBezTo>
                    <a:cubicBezTo>
                      <a:pt x="924" y="212"/>
                      <a:pt x="875" y="120"/>
                      <a:pt x="720" y="93"/>
                    </a:cubicBezTo>
                    <a:cubicBezTo>
                      <a:pt x="720" y="93"/>
                      <a:pt x="184" y="6"/>
                      <a:pt x="92" y="48"/>
                    </a:cubicBezTo>
                    <a:cubicBezTo>
                      <a:pt x="0" y="90"/>
                      <a:pt x="71" y="255"/>
                      <a:pt x="167" y="343"/>
                    </a:cubicBez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1530720" y="5484960"/>
                <a:ext cx="554760" cy="22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3276720" y="5105520"/>
            <a:ext cx="457200" cy="121896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5834160"/>
            <a:ext cx="1143000" cy="4903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733920" y="3352680"/>
            <a:ext cx="1676160" cy="152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97036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due to stationary charge (1/r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876920" y="1219320"/>
            <a:ext cx="3145320" cy="750960"/>
            <a:chOff x="4876920" y="1219320"/>
            <a:chExt cx="3145320" cy="750960"/>
          </a:xfrm>
        </p:grpSpPr>
        <p:sp>
          <p:nvSpPr>
            <p:cNvPr id="193" name=""/>
            <p:cNvSpPr/>
            <p:nvPr/>
          </p:nvSpPr>
          <p:spPr>
            <a:xfrm>
              <a:off x="4977720" y="1320120"/>
              <a:ext cx="304452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ue to char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onstant velocity (1/ r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4876920" y="1219320"/>
                  <a:ext cx="741240" cy="41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∂</m:t>
                      </m:r>
                      <m:r>
                        <m:t xml:space="preserve">E</m:t>
                      </m:r>
                      <m:r>
                        <m:t xml:space="preserve">/</m:t>
                      </m:r>
                      <m:r>
                        <m:t xml:space="preserve">∂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 flipV="1">
            <a:off x="2895480" y="1676160"/>
            <a:ext cx="190512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38480" y="2514600"/>
            <a:ext cx="1371600" cy="838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886200" y="4724280"/>
            <a:ext cx="1371600" cy="533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47242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334120" y="4495680"/>
                <a:ext cx="95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∂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/</m:t>
                    </m:r>
                    <m:r>
                      <m:t xml:space="preserve">∂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6159600" y="4509000"/>
            <a:ext cx="26668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inks due to charge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leration (1/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733920" y="6172200"/>
            <a:ext cx="3456000" cy="425520"/>
            <a:chOff x="3733920" y="6172200"/>
            <a:chExt cx="3456000" cy="425520"/>
          </a:xfrm>
        </p:grpSpPr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3733920" y="6172200"/>
                  <a:ext cx="100800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∂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H</m:t>
                      </m:r>
                      <m:r>
                        <m:t xml:space="preserve">/</m:t>
                      </m:r>
                      <m:r>
                        <m:t xml:space="preserve">∂</m:t>
                      </m:r>
                      <m:sSup>
                        <m:e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4523040" y="6277320"/>
              <a:ext cx="26668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ue to 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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   (1/r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08F3-53E4-43A8-9A3B-2E6B695700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a uniform plane wave, propagating in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rection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ndependen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8 Uniform plane waves - transverse relation of E and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371600" y="3276720"/>
                <a:ext cx="300024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676520" y="1981080"/>
                <a:ext cx="22431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8" name=""/>
          <p:cNvGrpSpPr/>
          <p:nvPr/>
        </p:nvGrpSpPr>
        <p:grpSpPr>
          <a:xfrm>
            <a:off x="1001880" y="4495680"/>
            <a:ext cx="8065800" cy="779760"/>
            <a:chOff x="1001880" y="4495680"/>
            <a:chExt cx="8065800" cy="779760"/>
          </a:xfrm>
        </p:grpSpPr>
        <p:sp>
          <p:nvSpPr>
            <p:cNvPr id="209" name=""/>
            <p:cNvSpPr/>
            <p:nvPr/>
          </p:nvSpPr>
          <p:spPr>
            <a:xfrm>
              <a:off x="5029200" y="4572000"/>
              <a:ext cx="1143000" cy="533520"/>
            </a:xfrm>
            <a:prstGeom prst="rect">
              <a:avLst/>
            </a:prstGeom>
            <a:solidFill>
              <a:srgbClr val="ffbbbb"/>
            </a:solidFill>
            <a:ln w="9360">
              <a:solidFill>
                <a:srgbClr val="ff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"/>
                <p:cNvSpPr txBox="1"/>
                <p:nvPr/>
              </p:nvSpPr>
              <p:spPr>
                <a:xfrm>
                  <a:off x="1001880" y="4495680"/>
                  <a:ext cx="8065800" cy="77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x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∂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is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not</m:t>
                      </m:r>
                      <m:r>
                        <m:t xml:space="preserve"> </m:t>
                      </m:r>
                      <m:r>
                        <m:t xml:space="preserve">a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wave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1" name=""/>
          <p:cNvSpPr/>
          <p:nvPr/>
        </p:nvSpPr>
        <p:spPr>
          <a:xfrm>
            <a:off x="609480" y="2743200"/>
            <a:ext cx="8534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a source free region,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0 (Gauss’ law) 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independent of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525780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for a plane wave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no component in the direction of propagation. Similarly fo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ne waves have only transvers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2BD5-ED4F-43B1-BBD6-7CB0CC26FD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rthogonal relationship between E and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 plane z-directed wave there are no variations along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858000" y="1447920"/>
                <a:ext cx="198756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z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447920" y="1523880"/>
                <a:ext cx="29257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838080" y="4548240"/>
                <a:ext cx="16923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191200" y="4548240"/>
                <a:ext cx="16668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432480" y="4102200"/>
                <a:ext cx="19875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∂</m:t>
                    </m:r>
                    <m:r>
                      <m:t xml:space="preserve">H</m:t>
                    </m:r>
                    <m:r>
                      <m:t xml:space="preserve">/</m:t>
                    </m:r>
                    <m:r>
                      <m:t xml:space="preserve">∂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52280" y="3987720"/>
            <a:ext cx="2756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ating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077240" y="3338640"/>
            <a:ext cx="1653840" cy="698400"/>
            <a:chOff x="7077240" y="3338640"/>
            <a:chExt cx="1653840" cy="698400"/>
          </a:xfrm>
        </p:grpSpPr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7077240" y="3338640"/>
                  <a:ext cx="165384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23" name=""/>
            <p:cNvSpPr/>
            <p:nvPr/>
          </p:nvSpPr>
          <p:spPr>
            <a:xfrm flipV="1">
              <a:off x="7886880" y="3544560"/>
              <a:ext cx="266400" cy="202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86880" y="3544920"/>
              <a:ext cx="266400" cy="202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987720" y="4025880"/>
            <a:ext cx="88394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likewise for                          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41400" y="2292480"/>
            <a:ext cx="4192560" cy="1644480"/>
            <a:chOff x="941400" y="2292480"/>
            <a:chExt cx="4192560" cy="1644480"/>
          </a:xfrm>
        </p:grpSpPr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941400" y="2292480"/>
                  <a:ext cx="4192560" cy="164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∂</m:t>
                              </m:r>
                              <m:r>
                                <m:t xml:space="preserve">D</m:t>
                              </m:r>
                            </m:num>
                            <m:den>
                              <m:r>
                                <m:t xml:space="preserve">∂</m:t>
                              </m:r>
                              <m:r>
                                <m:t xml:space="preserve">t</m:t>
                              </m:r>
                            </m:den>
                          </m:f>
                        </m:e>
                        <m:e>
                          <m:r>
                            <m:t xml:space="preserve">=</m:t>
                          </m:r>
                          <m:r>
                            <m:t xml:space="preserve">ε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28" name=""/>
            <p:cNvSpPr/>
            <p:nvPr/>
          </p:nvSpPr>
          <p:spPr>
            <a:xfrm>
              <a:off x="4373640" y="3262320"/>
              <a:ext cx="45540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373280" y="3262320"/>
              <a:ext cx="455400" cy="4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52280" y="6059520"/>
            <a:ext cx="883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patial rate of change of H is proportionate to the temporal rate of change of the orthogonal component of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&amp; v.v.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at the same point in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-209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2A5C-C57E-4E5B-ADC2-EE761F5A64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966960" y="3740040"/>
            <a:ext cx="1904760" cy="838440"/>
          </a:xfrm>
          <a:prstGeom prst="rect">
            <a:avLst/>
          </a:prstGeom>
          <a:solidFill>
            <a:srgbClr val="ffbbbb"/>
          </a:solidFill>
          <a:ln w="9360">
            <a:solidFill>
              <a:srgbClr val="ffb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6858000" y="1523880"/>
                <a:ext cx="16923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ider a linearly polarised wave that has a transverse component in (say)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rection on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9200" y="1614600"/>
                <a:ext cx="28303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</m:e>
                      <m:e>
                        <m:r>
                          <m:t xml:space="preserve">⇒</m:t>
                        </m:r>
                        <m:r>
                          <m:t xml:space="preserve">ε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7010280" y="4876920"/>
                <a:ext cx="16671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4876920" y="2286000"/>
            <a:ext cx="213336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1344" y="192"/>
                </a:moveTo>
                <a:cubicBezTo>
                  <a:pt x="1192" y="136"/>
                  <a:pt x="1040" y="80"/>
                  <a:pt x="816" y="48"/>
                </a:cubicBezTo>
                <a:cubicBezTo>
                  <a:pt x="592" y="16"/>
                  <a:pt x="296" y="8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5334120"/>
            <a:ext cx="1904760" cy="838080"/>
          </a:xfrm>
          <a:prstGeom prst="rect">
            <a:avLst/>
          </a:prstGeom>
          <a:solidFill>
            <a:srgbClr val="ffbbbb"/>
          </a:solidFill>
          <a:ln w="9360">
            <a:solidFill>
              <a:srgbClr val="ffb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96880" y="5272200"/>
                <a:ext cx="2398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609480" y="4800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il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17680" y="2757600"/>
                <a:ext cx="6180120" cy="18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t</m:t>
                                </m:r>
                              </m:e>
                            </m:d>
                          </m:e>
                        </m:nary>
                        <m:r>
                          <m:t xml:space="preserve">dz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705120" y="2036880"/>
                <a:ext cx="8049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3662280" y="5638680"/>
            <a:ext cx="3195720" cy="30492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1344" y="192"/>
                </a:moveTo>
                <a:cubicBezTo>
                  <a:pt x="1192" y="136"/>
                  <a:pt x="1040" y="80"/>
                  <a:pt x="816" y="48"/>
                </a:cubicBezTo>
                <a:cubicBezTo>
                  <a:pt x="592" y="16"/>
                  <a:pt x="296" y="8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0" y="488520"/>
            <a:ext cx="8677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rthogonal and phase relationship between E and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310440"/>
            <a:ext cx="883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 and E are in phase and ortho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2128-38ED-4F88-B7FC-BA1330B79B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ratio of the magnetic to electric fields strengths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ich has units of impedan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752480" y="762120"/>
                <a:ext cx="16416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483080" y="701640"/>
                <a:ext cx="16668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170000" y="2057400"/>
                <a:ext cx="302904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ε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676520" y="3657600"/>
                <a:ext cx="18684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olt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tre</m:t>
                            </m:r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mp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etre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371600" y="5181480"/>
                <a:ext cx="3911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7</m:t>
                                </m:r>
                              </m:sup>
                            </m:sSup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36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77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1" name=""/>
          <p:cNvGrpSpPr/>
          <p:nvPr/>
        </p:nvGrpSpPr>
        <p:grpSpPr>
          <a:xfrm>
            <a:off x="5715000" y="2208600"/>
            <a:ext cx="3124080" cy="1372680"/>
            <a:chOff x="5715000" y="2208600"/>
            <a:chExt cx="3124080" cy="1372680"/>
          </a:xfrm>
        </p:grpSpPr>
        <p:sp>
          <p:nvSpPr>
            <p:cNvPr id="252" name=""/>
            <p:cNvSpPr/>
            <p:nvPr/>
          </p:nvSpPr>
          <p:spPr>
            <a:xfrm>
              <a:off x="5943240" y="2742840"/>
              <a:ext cx="2590560" cy="762120"/>
            </a:xfrm>
            <a:prstGeom prst="rect">
              <a:avLst/>
            </a:prstGeom>
            <a:solidFill>
              <a:srgbClr val="ffbbbb"/>
            </a:solidFill>
            <a:ln w="9360">
              <a:solidFill>
                <a:srgbClr val="ffbb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6019560" y="2742840"/>
                  <a:ext cx="2550600" cy="80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E</m:t>
                          </m:r>
                        </m:num>
                        <m:den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H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rad>
                        </m:den>
                      </m:f>
                      <m:r>
                        <m:t xml:space="preserve">=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54" name=""/>
            <p:cNvSpPr/>
            <p:nvPr/>
          </p:nvSpPr>
          <p:spPr>
            <a:xfrm>
              <a:off x="5715000" y="2209680"/>
              <a:ext cx="312408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220860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No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85800" y="45133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mpedance of free sp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7CDB-9EB7-4C55-A57D-F71CB7CE3A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axwell’s equations in differential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 rot="10800000">
                <a:off x="1752480" y="1072800"/>
                <a:ext cx="6310440" cy="334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auss</m:t>
                        </m:r>
                        <m:r>
                          <m:t xml:space="preserve">'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ectrostatics</m:t>
                        </m:r>
                      </m:e>
                      <m:e>
                        <m:r>
                          <m:t xml:space="preserve">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auss</m:t>
                        </m:r>
                        <m:r>
                          <m:t xml:space="preserve">'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gnetostatics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pere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w</m:t>
                        </m:r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araday</m:t>
                        </m:r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w</m:t>
                        </m:r>
                      </m:e>
                      <m:e>
                        <m:r>
                          <m:t xml:space="preserve">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tinuit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273400" y="4495680"/>
                <a:ext cx="9270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ε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μ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733920" y="4572000"/>
            <a:ext cx="4724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rying E and H fields are coup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2640" y="5653440"/>
            <a:ext cx="832176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B Equations brought from elsewhere, or to be carried on to next page, highlighted in this col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71760" y="6110640"/>
            <a:ext cx="4077720" cy="307080"/>
          </a:xfrm>
          <a:prstGeom prst="rect">
            <a:avLst/>
          </a:pr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B Important results highlighted in this col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955B5-4BE6-49A7-A2A5-03E6A1D2F4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066680" y="3200400"/>
            <a:ext cx="2590920" cy="457200"/>
          </a:xfrm>
          <a:prstGeom prst="rect">
            <a:avLst/>
          </a:pr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6019920"/>
            <a:ext cx="1905120" cy="457200"/>
          </a:xfrm>
          <a:prstGeom prst="rect">
            <a:avLst/>
          </a:pr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rientation of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any medium the intrinsic impedance is denoted by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aking the scalar produc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re mutually orthog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371600" y="1600200"/>
                <a:ext cx="17146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09480" y="2819520"/>
                <a:ext cx="2979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ηH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η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914400" y="5029200"/>
                <a:ext cx="29718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×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ηH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ηH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×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p>
                          <m:e>
                            <m:r>
                              <m:t xml:space="preserve">η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095880" y="4994280"/>
                <a:ext cx="26542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41781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ing the cross product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we get the direction of wave propag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B37C-7808-4216-A862-23572FA27B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231920" y="23004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520200"/>
            <a:ext cx="900756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‘horizontally’ polarised 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65440" y="2527200"/>
            <a:ext cx="88920" cy="9525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828800" y="2908440"/>
            <a:ext cx="673200" cy="5713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89800" y="234864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76400" y="2577240"/>
            <a:ext cx="4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3441600"/>
            <a:ext cx="6248520" cy="2057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291280" y="1041480"/>
                <a:ext cx="15411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7861320" y="5605560"/>
                <a:ext cx="833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8920" y="104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nusoidal variation of E and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and H in phase and orthog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CFEF-A3A7-454F-BF1A-1591BE0AAC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3920" y="3794040"/>
            <a:ext cx="8607240" cy="279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391680"/>
            <a:ext cx="91440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block of space containing an EM plane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3840" y="1041480"/>
            <a:ext cx="7772400" cy="24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point in 3D space is characteris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ich 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vice 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 degrees of free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976400" y="4379760"/>
            <a:ext cx="3970440" cy="1905120"/>
            <a:chOff x="1976400" y="4379760"/>
            <a:chExt cx="3970440" cy="1905120"/>
          </a:xfrm>
        </p:grpSpPr>
        <p:grpSp>
          <p:nvGrpSpPr>
            <p:cNvPr id="280" name=""/>
            <p:cNvGrpSpPr/>
            <p:nvPr/>
          </p:nvGrpSpPr>
          <p:grpSpPr>
            <a:xfrm>
              <a:off x="1976400" y="4379760"/>
              <a:ext cx="3581640" cy="1905120"/>
              <a:chOff x="1976400" y="4379760"/>
              <a:chExt cx="3581640" cy="1905120"/>
            </a:xfrm>
          </p:grpSpPr>
          <p:sp>
            <p:nvSpPr>
              <p:cNvPr id="281" name=""/>
              <p:cNvSpPr/>
              <p:nvPr/>
            </p:nvSpPr>
            <p:spPr>
              <a:xfrm>
                <a:off x="1976400" y="4913280"/>
                <a:ext cx="3124440" cy="137160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129040" y="4379760"/>
                <a:ext cx="53316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2904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20500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28132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50992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1484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1940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9572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7204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50064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0520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11012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18644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6240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9100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71960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220500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228132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250992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411012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186440" y="4379760"/>
                <a:ext cx="53316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426240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49100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11940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19572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3272040" y="4379760"/>
                <a:ext cx="53316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3500640" y="4379760"/>
                <a:ext cx="53316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2814840" y="4379760"/>
                <a:ext cx="53316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380520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471960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94820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24520" y="4913280"/>
                <a:ext cx="0" cy="1371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494820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5024520" y="4379760"/>
                <a:ext cx="533520" cy="5335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head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2184480" y="47973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2355840" y="462744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508480" y="448452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2262240" y="47973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428920" y="462888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571840" y="44859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2344680" y="47145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502000" y="45669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2346480" y="47973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494080" y="462888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2646360" y="44859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2733840" y="464472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3071520" y="4599000"/>
                <a:ext cx="43200" cy="47520"/>
                <a:chOff x="3071520" y="4599000"/>
                <a:chExt cx="43200" cy="47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071880" y="46036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flipH="1">
                  <a:off x="3071520" y="45990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3381120" y="4599000"/>
                <a:ext cx="43200" cy="47520"/>
                <a:chOff x="3381120" y="4599000"/>
                <a:chExt cx="43200" cy="47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3381480" y="46036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3381120" y="45990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3457440" y="4597200"/>
                <a:ext cx="43200" cy="47520"/>
                <a:chOff x="3457440" y="4597200"/>
                <a:chExt cx="43200" cy="47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3457800" y="46018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3457440" y="45972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543120" y="4597200"/>
                <a:ext cx="43200" cy="47520"/>
                <a:chOff x="3543120" y="4597200"/>
                <a:chExt cx="43200" cy="475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543480" y="46018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3543120" y="45972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228840" y="4757760"/>
                <a:ext cx="43200" cy="47520"/>
                <a:chOff x="3228840" y="4757760"/>
                <a:chExt cx="43200" cy="475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229200" y="47624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3228840" y="47577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3304800" y="4755960"/>
                <a:ext cx="43200" cy="47520"/>
                <a:chOff x="3304800" y="4755960"/>
                <a:chExt cx="43200" cy="475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3305160" y="47606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3304800" y="47559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3390480" y="4755960"/>
                <a:ext cx="43200" cy="47520"/>
                <a:chOff x="3390480" y="4755960"/>
                <a:chExt cx="43200" cy="475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390840" y="47606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3390480" y="47559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524040" y="4446360"/>
                <a:ext cx="43200" cy="47520"/>
                <a:chOff x="3524040" y="4446360"/>
                <a:chExt cx="43200" cy="475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524400" y="44510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3524040" y="44463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3600000" y="4444920"/>
                <a:ext cx="43200" cy="47520"/>
                <a:chOff x="3600000" y="4444920"/>
                <a:chExt cx="43200" cy="475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3600360" y="444960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3600000" y="444492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686040" y="4444920"/>
                <a:ext cx="43200" cy="47520"/>
                <a:chOff x="3686040" y="4444920"/>
                <a:chExt cx="43200" cy="475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686400" y="444960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>
                  <a:off x="3686040" y="444492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376440" y="4684680"/>
                <a:ext cx="43200" cy="47520"/>
                <a:chOff x="3376440" y="4684680"/>
                <a:chExt cx="43200" cy="475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376800" y="468936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>
                  <a:off x="3376440" y="468468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528720" y="4532040"/>
                <a:ext cx="43200" cy="47520"/>
                <a:chOff x="3528720" y="4532040"/>
                <a:chExt cx="43200" cy="475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529080" y="453672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H="1">
                  <a:off x="3528720" y="453204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4" name=""/>
              <p:cNvSpPr/>
              <p:nvPr/>
            </p:nvSpPr>
            <p:spPr>
              <a:xfrm flipV="1">
                <a:off x="4048200" y="463068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3728880" y="4630680"/>
                <a:ext cx="43200" cy="47520"/>
                <a:chOff x="3728880" y="4630680"/>
                <a:chExt cx="43200" cy="475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729240" y="463536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>
                  <a:off x="3728880" y="463068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5190840" y="4613040"/>
                <a:ext cx="43200" cy="47520"/>
                <a:chOff x="5190840" y="4613040"/>
                <a:chExt cx="43200" cy="4752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5191200" y="461772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5190840" y="461304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5267160" y="4611600"/>
                <a:ext cx="43200" cy="47520"/>
                <a:chOff x="5267160" y="4611600"/>
                <a:chExt cx="43200" cy="4752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267520" y="46162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5267160" y="46116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038560" y="4771800"/>
                <a:ext cx="43200" cy="47520"/>
                <a:chOff x="5038560" y="4771800"/>
                <a:chExt cx="43200" cy="475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5038920" y="47764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>
                  <a:off x="5038560" y="47718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5114520" y="4770360"/>
                <a:ext cx="43200" cy="47520"/>
                <a:chOff x="5114520" y="4770360"/>
                <a:chExt cx="43200" cy="475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5114880" y="47750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5114520" y="47703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333760" y="4460760"/>
                <a:ext cx="43200" cy="47520"/>
                <a:chOff x="5333760" y="4460760"/>
                <a:chExt cx="43200" cy="4752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334120" y="44654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>
                  <a:off x="5333760" y="44607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5410080" y="4458960"/>
                <a:ext cx="43200" cy="47520"/>
                <a:chOff x="5410080" y="4458960"/>
                <a:chExt cx="43200" cy="4752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5410440" y="44636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>
                  <a:off x="5410080" y="44589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186160" y="4698720"/>
                <a:ext cx="43200" cy="47520"/>
                <a:chOff x="5186160" y="4698720"/>
                <a:chExt cx="43200" cy="4752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5186520" y="470340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>
                  <a:off x="5186160" y="469872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5338440" y="4546440"/>
                <a:ext cx="43200" cy="47520"/>
                <a:chOff x="5338440" y="4546440"/>
                <a:chExt cx="43200" cy="4752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338800" y="455112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>
                  <a:off x="5338440" y="454644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952880" y="4635360"/>
                <a:ext cx="43200" cy="47520"/>
                <a:chOff x="4952880" y="4635360"/>
                <a:chExt cx="43200" cy="4752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953240" y="46400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4952880" y="46353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 flipV="1">
                <a:off x="4156200" y="47973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327560" y="462744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4479840" y="448452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4233960" y="47973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4400640" y="462888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4543560" y="44859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4316400" y="47145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473720" y="45669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318200" y="47973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4465800" y="462888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4618080" y="448596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4705560" y="4644720"/>
                <a:ext cx="54000" cy="54000"/>
              </a:xfrm>
              <a:prstGeom prst="ellipse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67280" y="510192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167280" y="531648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167280" y="553068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167280" y="574488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165480" y="595944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4997520" y="506412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997520" y="527832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4997520" y="549252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4997520" y="5706360"/>
                <a:ext cx="54000" cy="53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4996080" y="592128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248280" y="5101920"/>
                <a:ext cx="5364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248280" y="5530680"/>
                <a:ext cx="5364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246480" y="595944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095640" y="510192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095640" y="553068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094200" y="595944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4691160" y="508788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4691160" y="5516280"/>
                <a:ext cx="5400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4689720" y="5945040"/>
                <a:ext cx="5364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476880" y="5526000"/>
                <a:ext cx="53640" cy="540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2791080" y="5539680"/>
                <a:ext cx="53640" cy="536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 rot="10800000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3785760" y="5526000"/>
                <a:ext cx="43200" cy="47520"/>
                <a:chOff x="3785760" y="5526000"/>
                <a:chExt cx="43200" cy="475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786120" y="55306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3785760" y="55260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4465440" y="5526000"/>
                <a:ext cx="43200" cy="47520"/>
                <a:chOff x="4465440" y="5526000"/>
                <a:chExt cx="43200" cy="475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465800" y="55306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H="1">
                  <a:off x="4465440" y="55260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484000" y="5537160"/>
                <a:ext cx="43200" cy="47520"/>
                <a:chOff x="2484000" y="5537160"/>
                <a:chExt cx="43200" cy="475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484360" y="55418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H="1">
                  <a:off x="2484000" y="55371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2255400" y="5608440"/>
                <a:ext cx="43200" cy="47520"/>
                <a:chOff x="2255400" y="5608440"/>
                <a:chExt cx="43200" cy="475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255760" y="561312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>
                  <a:off x="2255400" y="560844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2255400" y="5108400"/>
                <a:ext cx="43200" cy="47520"/>
                <a:chOff x="2255400" y="5108400"/>
                <a:chExt cx="43200" cy="475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255760" y="51130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H="1">
                  <a:off x="2255400" y="51084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2255400" y="6110280"/>
                <a:ext cx="43200" cy="47520"/>
                <a:chOff x="2255400" y="6110280"/>
                <a:chExt cx="43200" cy="4752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2255760" y="611496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255400" y="611028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2107800" y="5608440"/>
                <a:ext cx="43200" cy="47520"/>
                <a:chOff x="2107800" y="5608440"/>
                <a:chExt cx="43200" cy="4752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108160" y="561312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2107800" y="560844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107800" y="5108400"/>
                <a:ext cx="43200" cy="47520"/>
                <a:chOff x="2107800" y="5108400"/>
                <a:chExt cx="43200" cy="475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108160" y="51130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2107800" y="51084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2107800" y="6110280"/>
                <a:ext cx="43200" cy="47520"/>
                <a:chOff x="2107800" y="6110280"/>
                <a:chExt cx="43200" cy="475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2108160" y="611496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2107800" y="611028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2179440" y="5352840"/>
                <a:ext cx="43200" cy="47520"/>
                <a:chOff x="2179440" y="5352840"/>
                <a:chExt cx="43200" cy="475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2179800" y="535752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2179440" y="535284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2179440" y="5854680"/>
                <a:ext cx="43200" cy="47520"/>
                <a:chOff x="2179440" y="5854680"/>
                <a:chExt cx="43200" cy="4752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2179800" y="585936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>
                  <a:off x="2179440" y="585468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2179440" y="5603760"/>
                <a:ext cx="43200" cy="47520"/>
                <a:chOff x="2179440" y="5603760"/>
                <a:chExt cx="43200" cy="475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2179800" y="56084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2179440" y="56037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2179440" y="5103720"/>
                <a:ext cx="43200" cy="47520"/>
                <a:chOff x="2179440" y="5103720"/>
                <a:chExt cx="43200" cy="4752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2179800" y="510840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2179440" y="510372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2179440" y="6105240"/>
                <a:ext cx="43200" cy="47520"/>
                <a:chOff x="2179440" y="6105240"/>
                <a:chExt cx="43200" cy="4752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2179800" y="610992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2179440" y="610524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4236840" y="5613120"/>
                <a:ext cx="43200" cy="47520"/>
                <a:chOff x="4236840" y="5613120"/>
                <a:chExt cx="43200" cy="475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4237200" y="561780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4236840" y="561312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4236840" y="5113080"/>
                <a:ext cx="43200" cy="47520"/>
                <a:chOff x="4236840" y="5113080"/>
                <a:chExt cx="43200" cy="475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4237200" y="511776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236840" y="511308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4236840" y="6114960"/>
                <a:ext cx="43200" cy="47520"/>
                <a:chOff x="4236840" y="6114960"/>
                <a:chExt cx="43200" cy="475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4237200" y="61196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236840" y="61149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4089240" y="5613120"/>
                <a:ext cx="43200" cy="47520"/>
                <a:chOff x="4089240" y="5613120"/>
                <a:chExt cx="43200" cy="47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4089600" y="561780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4089240" y="561312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4089240" y="5113080"/>
                <a:ext cx="43200" cy="47520"/>
                <a:chOff x="4089240" y="5113080"/>
                <a:chExt cx="43200" cy="47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4089600" y="511776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>
                  <a:off x="4089240" y="511308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4089240" y="6114960"/>
                <a:ext cx="43200" cy="47520"/>
                <a:chOff x="4089240" y="6114960"/>
                <a:chExt cx="43200" cy="475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4089600" y="61196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4089240" y="61149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4160520" y="5357520"/>
                <a:ext cx="43200" cy="47520"/>
                <a:chOff x="4160520" y="5357520"/>
                <a:chExt cx="43200" cy="475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160880" y="536220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4160520" y="535752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160520" y="5859360"/>
                <a:ext cx="43200" cy="47520"/>
                <a:chOff x="4160520" y="5859360"/>
                <a:chExt cx="43200" cy="475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4160880" y="586404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4160520" y="585936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4160520" y="5608440"/>
                <a:ext cx="43200" cy="47520"/>
                <a:chOff x="4160520" y="5608440"/>
                <a:chExt cx="43200" cy="475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160880" y="561312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4160520" y="560844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4160520" y="5108400"/>
                <a:ext cx="43200" cy="47520"/>
                <a:chOff x="4160520" y="5108400"/>
                <a:chExt cx="43200" cy="475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160880" y="511308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4160520" y="510840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4160520" y="6110280"/>
                <a:ext cx="43200" cy="47520"/>
                <a:chOff x="4160520" y="6110280"/>
                <a:chExt cx="43200" cy="47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4160880" y="6114960"/>
                  <a:ext cx="42840" cy="4284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4160520" y="6110280"/>
                  <a:ext cx="42840" cy="47520"/>
                </a:xfrm>
                <a:prstGeom prst="line">
                  <a:avLst/>
                </a:prstGeom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3" name=""/>
            <p:cNvSpPr/>
            <p:nvPr/>
          </p:nvSpPr>
          <p:spPr>
            <a:xfrm>
              <a:off x="5452920" y="5400720"/>
              <a:ext cx="493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700360" y="4195800"/>
            <a:ext cx="2019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80920" y="3912120"/>
            <a:ext cx="34848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5946840" y="5240160"/>
                <a:ext cx="833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4527720" y="622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52600" y="4888080"/>
            <a:ext cx="0" cy="1371600"/>
          </a:xfrm>
          <a:prstGeom prst="line">
            <a:avLst/>
          </a:prstGeom>
          <a:ln w="28440">
            <a:solidFill>
              <a:srgbClr val="ff33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1452600" y="4354560"/>
            <a:ext cx="533520" cy="533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3840" y="5458680"/>
            <a:ext cx="47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93840" y="4271040"/>
            <a:ext cx="44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i="1" lang="en-GB" sz="2400" spc="-1" strike="noStrike" baseline="-25000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7112160" y="4379760"/>
                <a:ext cx="16412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20BF-4543-4E24-9BC7-FD8ED41D94D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-360" y="1041480"/>
            <a:ext cx="4457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 example application of Maxwell’s equations: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Magnet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auto0" descr=""/>
          <p:cNvPicPr/>
          <p:nvPr/>
        </p:nvPicPr>
        <p:blipFill>
          <a:blip r:embed="rId1">
            <a:lum contrast="12000"/>
          </a:blip>
          <a:srcRect l="4235" t="0" r="0" b="0"/>
          <a:stretch/>
        </p:blipFill>
        <p:spPr>
          <a:xfrm>
            <a:off x="4635360" y="0"/>
            <a:ext cx="4023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6203B-85F8-46E0-AE11-ECD59EC250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auto0" descr=""/>
          <p:cNvPicPr/>
          <p:nvPr/>
        </p:nvPicPr>
        <p:blipFill>
          <a:blip r:embed="rId1"/>
          <a:srcRect l="7647" t="-1259" r="0" b="2411"/>
          <a:stretch/>
        </p:blipFill>
        <p:spPr>
          <a:xfrm>
            <a:off x="38160" y="-79200"/>
            <a:ext cx="6157800" cy="69102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6541560" y="2869200"/>
            <a:ext cx="23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ynting vecto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82120" y="3707280"/>
            <a:ext cx="317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cement current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12440" y="459648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86080" y="127080"/>
            <a:ext cx="58039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magnet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85000" y="163836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rentz force F=q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5447880" y="692280"/>
            <a:ext cx="3149640" cy="622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cate fea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3733920" y="2095560"/>
            <a:ext cx="2251080" cy="457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4470480" y="3060360"/>
            <a:ext cx="2071440" cy="138420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267080" y="3974760"/>
            <a:ext cx="1717920" cy="21337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1373760" y="887400"/>
            <a:ext cx="5638320" cy="3963960"/>
            <a:chOff x="1373760" y="887400"/>
            <a:chExt cx="5638320" cy="3963960"/>
          </a:xfrm>
        </p:grpSpPr>
        <p:sp>
          <p:nvSpPr>
            <p:cNvPr id="526" name=""/>
            <p:cNvSpPr/>
            <p:nvPr/>
          </p:nvSpPr>
          <p:spPr>
            <a:xfrm rot="8308800">
              <a:off x="4266720" y="1047240"/>
              <a:ext cx="571680" cy="266760"/>
            </a:xfrm>
            <a:prstGeom prst="rightArrow">
              <a:avLst>
                <a:gd name="adj1" fmla="val 50000"/>
                <a:gd name="adj2" fmla="val 5357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617200">
              <a:off x="1396800" y="1047600"/>
              <a:ext cx="571320" cy="266760"/>
            </a:xfrm>
            <a:prstGeom prst="rightArrow">
              <a:avLst>
                <a:gd name="adj1" fmla="val 50000"/>
                <a:gd name="adj2" fmla="val 5354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9419000">
              <a:off x="1397160" y="2869920"/>
              <a:ext cx="571320" cy="266760"/>
            </a:xfrm>
            <a:prstGeom prst="rightArrow">
              <a:avLst>
                <a:gd name="adj1" fmla="val 50000"/>
                <a:gd name="adj2" fmla="val 53543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3561800">
              <a:off x="4114440" y="2907720"/>
              <a:ext cx="571680" cy="266760"/>
            </a:xfrm>
            <a:prstGeom prst="rightArrow">
              <a:avLst>
                <a:gd name="adj1" fmla="val 50000"/>
                <a:gd name="adj2" fmla="val 5357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0480" y="3137040"/>
              <a:ext cx="2541600" cy="1714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44799-A450-4AB9-B516-A8377371AA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ower flow of EM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777240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uitively power flows in the direction of 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direction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133720" y="2590920"/>
                <a:ext cx="297180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×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p>
                          <m:e>
                            <m:r>
                              <m:t xml:space="preserve">η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228600" y="44197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are the units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(Amps/metre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ts/metr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cf 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(Volts/metre)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/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ts/metr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cf I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this really power fl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3E2C2-54D9-4455-8691-D69A86572A7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80520" y="926640"/>
            <a:ext cx="81918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nergy stored in the EM field in the thin box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ower flow of EM radiation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25360" y="3947040"/>
            <a:ext cx="8605800" cy="2645640"/>
            <a:chOff x="225360" y="3947040"/>
            <a:chExt cx="8605800" cy="2645640"/>
          </a:xfrm>
        </p:grpSpPr>
        <p:sp>
          <p:nvSpPr>
            <p:cNvPr id="538" name=""/>
            <p:cNvSpPr/>
            <p:nvPr/>
          </p:nvSpPr>
          <p:spPr>
            <a:xfrm>
              <a:off x="225360" y="3948120"/>
              <a:ext cx="8605800" cy="2643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03400" y="4959360"/>
              <a:ext cx="3124080" cy="13716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25568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5568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3200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0796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3656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4148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4640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32236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39868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2728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93220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23676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1308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38940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1800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84660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332000" y="4425840"/>
              <a:ext cx="53316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40796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163656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23676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31308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389400" y="4425840"/>
              <a:ext cx="53316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618000" y="4425840"/>
              <a:ext cx="53316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2246400" y="4425840"/>
              <a:ext cx="53316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232236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39868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262728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94148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932200" y="4425840"/>
              <a:ext cx="53316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3846600" y="4425840"/>
              <a:ext cx="53316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07520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51160" y="495936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4075200" y="4425840"/>
              <a:ext cx="53316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4151160" y="442584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1311120" y="484344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1482840" y="467352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1635120" y="453060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1389240" y="4843440"/>
              <a:ext cx="5364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555920" y="4675320"/>
              <a:ext cx="5364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1698480" y="453240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1471680" y="476100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1628640" y="461340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473120" y="484344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1620720" y="467532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1773360" y="453240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1860480" y="469116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2198160" y="4645080"/>
              <a:ext cx="43200" cy="47520"/>
              <a:chOff x="2198160" y="4645080"/>
              <a:chExt cx="43200" cy="47520"/>
            </a:xfrm>
          </p:grpSpPr>
          <p:sp>
            <p:nvSpPr>
              <p:cNvPr id="587" name=""/>
              <p:cNvSpPr/>
              <p:nvPr/>
            </p:nvSpPr>
            <p:spPr>
              <a:xfrm>
                <a:off x="2198520" y="464976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198160" y="464508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507760" y="4645080"/>
              <a:ext cx="43200" cy="47520"/>
              <a:chOff x="2507760" y="4645080"/>
              <a:chExt cx="43200" cy="47520"/>
            </a:xfrm>
          </p:grpSpPr>
          <p:sp>
            <p:nvSpPr>
              <p:cNvPr id="590" name=""/>
              <p:cNvSpPr/>
              <p:nvPr/>
            </p:nvSpPr>
            <p:spPr>
              <a:xfrm>
                <a:off x="2508120" y="464976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507760" y="464508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584080" y="4643280"/>
              <a:ext cx="43200" cy="47520"/>
              <a:chOff x="2584080" y="4643280"/>
              <a:chExt cx="43200" cy="47520"/>
            </a:xfrm>
          </p:grpSpPr>
          <p:sp>
            <p:nvSpPr>
              <p:cNvPr id="593" name=""/>
              <p:cNvSpPr/>
              <p:nvPr/>
            </p:nvSpPr>
            <p:spPr>
              <a:xfrm>
                <a:off x="2584440" y="464796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584080" y="464328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2669760" y="4643280"/>
              <a:ext cx="43200" cy="47520"/>
              <a:chOff x="2669760" y="4643280"/>
              <a:chExt cx="43200" cy="47520"/>
            </a:xfrm>
          </p:grpSpPr>
          <p:sp>
            <p:nvSpPr>
              <p:cNvPr id="596" name=""/>
              <p:cNvSpPr/>
              <p:nvPr/>
            </p:nvSpPr>
            <p:spPr>
              <a:xfrm>
                <a:off x="2670120" y="464796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2669760" y="464328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355480" y="4803840"/>
              <a:ext cx="43200" cy="47520"/>
              <a:chOff x="2355480" y="4803840"/>
              <a:chExt cx="43200" cy="47520"/>
            </a:xfrm>
          </p:grpSpPr>
          <p:sp>
            <p:nvSpPr>
              <p:cNvPr id="599" name=""/>
              <p:cNvSpPr/>
              <p:nvPr/>
            </p:nvSpPr>
            <p:spPr>
              <a:xfrm>
                <a:off x="2355840" y="480852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2355480" y="480384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431800" y="4802040"/>
              <a:ext cx="43200" cy="47520"/>
              <a:chOff x="2431800" y="4802040"/>
              <a:chExt cx="43200" cy="47520"/>
            </a:xfrm>
          </p:grpSpPr>
          <p:sp>
            <p:nvSpPr>
              <p:cNvPr id="602" name=""/>
              <p:cNvSpPr/>
              <p:nvPr/>
            </p:nvSpPr>
            <p:spPr>
              <a:xfrm>
                <a:off x="2432160" y="480672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2431800" y="480204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517480" y="4802040"/>
              <a:ext cx="43200" cy="47520"/>
              <a:chOff x="2517480" y="4802040"/>
              <a:chExt cx="43200" cy="47520"/>
            </a:xfrm>
          </p:grpSpPr>
          <p:sp>
            <p:nvSpPr>
              <p:cNvPr id="605" name=""/>
              <p:cNvSpPr/>
              <p:nvPr/>
            </p:nvSpPr>
            <p:spPr>
              <a:xfrm>
                <a:off x="2517840" y="480672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517480" y="480204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650680" y="4492800"/>
              <a:ext cx="43200" cy="47520"/>
              <a:chOff x="2650680" y="4492800"/>
              <a:chExt cx="43200" cy="47520"/>
            </a:xfrm>
          </p:grpSpPr>
          <p:sp>
            <p:nvSpPr>
              <p:cNvPr id="608" name=""/>
              <p:cNvSpPr/>
              <p:nvPr/>
            </p:nvSpPr>
            <p:spPr>
              <a:xfrm>
                <a:off x="2651040" y="449748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2650680" y="449280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2727000" y="4491000"/>
              <a:ext cx="43200" cy="47520"/>
              <a:chOff x="2727000" y="4491000"/>
              <a:chExt cx="43200" cy="47520"/>
            </a:xfrm>
          </p:grpSpPr>
          <p:sp>
            <p:nvSpPr>
              <p:cNvPr id="611" name=""/>
              <p:cNvSpPr/>
              <p:nvPr/>
            </p:nvSpPr>
            <p:spPr>
              <a:xfrm>
                <a:off x="2727360" y="449568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727000" y="449100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812680" y="4491000"/>
              <a:ext cx="43200" cy="47520"/>
              <a:chOff x="2812680" y="4491000"/>
              <a:chExt cx="43200" cy="47520"/>
            </a:xfrm>
          </p:grpSpPr>
          <p:sp>
            <p:nvSpPr>
              <p:cNvPr id="614" name=""/>
              <p:cNvSpPr/>
              <p:nvPr/>
            </p:nvSpPr>
            <p:spPr>
              <a:xfrm>
                <a:off x="2813040" y="449568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2812680" y="449100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503080" y="4730760"/>
              <a:ext cx="43200" cy="47520"/>
              <a:chOff x="2503080" y="4730760"/>
              <a:chExt cx="43200" cy="47520"/>
            </a:xfrm>
          </p:grpSpPr>
          <p:sp>
            <p:nvSpPr>
              <p:cNvPr id="617" name=""/>
              <p:cNvSpPr/>
              <p:nvPr/>
            </p:nvSpPr>
            <p:spPr>
              <a:xfrm>
                <a:off x="2503440" y="473544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2503080" y="473076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655360" y="4578480"/>
              <a:ext cx="43200" cy="47520"/>
              <a:chOff x="2655360" y="4578480"/>
              <a:chExt cx="43200" cy="47520"/>
            </a:xfrm>
          </p:grpSpPr>
          <p:sp>
            <p:nvSpPr>
              <p:cNvPr id="620" name=""/>
              <p:cNvSpPr/>
              <p:nvPr/>
            </p:nvSpPr>
            <p:spPr>
              <a:xfrm>
                <a:off x="2655720" y="458316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2655360" y="457848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 flipV="1">
              <a:off x="3174840" y="467676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2855520" y="4676760"/>
              <a:ext cx="43200" cy="47520"/>
              <a:chOff x="2855520" y="4676760"/>
              <a:chExt cx="43200" cy="47520"/>
            </a:xfrm>
          </p:grpSpPr>
          <p:sp>
            <p:nvSpPr>
              <p:cNvPr id="624" name=""/>
              <p:cNvSpPr/>
              <p:nvPr/>
            </p:nvSpPr>
            <p:spPr>
              <a:xfrm>
                <a:off x="2855880" y="468144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2855520" y="467676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317480" y="4659480"/>
              <a:ext cx="43200" cy="47520"/>
              <a:chOff x="4317480" y="4659480"/>
              <a:chExt cx="43200" cy="47520"/>
            </a:xfrm>
          </p:grpSpPr>
          <p:sp>
            <p:nvSpPr>
              <p:cNvPr id="627" name=""/>
              <p:cNvSpPr/>
              <p:nvPr/>
            </p:nvSpPr>
            <p:spPr>
              <a:xfrm>
                <a:off x="4317840" y="466416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4317480" y="465948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4393800" y="4657680"/>
              <a:ext cx="43200" cy="47520"/>
              <a:chOff x="4393800" y="4657680"/>
              <a:chExt cx="43200" cy="47520"/>
            </a:xfrm>
          </p:grpSpPr>
          <p:sp>
            <p:nvSpPr>
              <p:cNvPr id="630" name=""/>
              <p:cNvSpPr/>
              <p:nvPr/>
            </p:nvSpPr>
            <p:spPr>
              <a:xfrm>
                <a:off x="4394160" y="466236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93800" y="465768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165200" y="4818240"/>
              <a:ext cx="43200" cy="47520"/>
              <a:chOff x="4165200" y="4818240"/>
              <a:chExt cx="43200" cy="47520"/>
            </a:xfrm>
          </p:grpSpPr>
          <p:sp>
            <p:nvSpPr>
              <p:cNvPr id="633" name=""/>
              <p:cNvSpPr/>
              <p:nvPr/>
            </p:nvSpPr>
            <p:spPr>
              <a:xfrm>
                <a:off x="4165560" y="482292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4165200" y="481824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241520" y="4816440"/>
              <a:ext cx="43200" cy="47520"/>
              <a:chOff x="4241520" y="4816440"/>
              <a:chExt cx="43200" cy="47520"/>
            </a:xfrm>
          </p:grpSpPr>
          <p:sp>
            <p:nvSpPr>
              <p:cNvPr id="636" name=""/>
              <p:cNvSpPr/>
              <p:nvPr/>
            </p:nvSpPr>
            <p:spPr>
              <a:xfrm>
                <a:off x="4241880" y="482112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4241520" y="481644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460400" y="4506840"/>
              <a:ext cx="43200" cy="47520"/>
              <a:chOff x="4460400" y="4506840"/>
              <a:chExt cx="43200" cy="47520"/>
            </a:xfrm>
          </p:grpSpPr>
          <p:sp>
            <p:nvSpPr>
              <p:cNvPr id="639" name=""/>
              <p:cNvSpPr/>
              <p:nvPr/>
            </p:nvSpPr>
            <p:spPr>
              <a:xfrm>
                <a:off x="4460760" y="451152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4460400" y="450684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4536720" y="4505400"/>
              <a:ext cx="43200" cy="47520"/>
              <a:chOff x="4536720" y="4505400"/>
              <a:chExt cx="43200" cy="47520"/>
            </a:xfrm>
          </p:grpSpPr>
          <p:sp>
            <p:nvSpPr>
              <p:cNvPr id="642" name=""/>
              <p:cNvSpPr/>
              <p:nvPr/>
            </p:nvSpPr>
            <p:spPr>
              <a:xfrm>
                <a:off x="4537080" y="451008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4536720" y="450540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312800" y="4745160"/>
              <a:ext cx="43200" cy="47520"/>
              <a:chOff x="4312800" y="4745160"/>
              <a:chExt cx="43200" cy="47520"/>
            </a:xfrm>
          </p:grpSpPr>
          <p:sp>
            <p:nvSpPr>
              <p:cNvPr id="645" name=""/>
              <p:cNvSpPr/>
              <p:nvPr/>
            </p:nvSpPr>
            <p:spPr>
              <a:xfrm>
                <a:off x="4313160" y="474984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4312800" y="474516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465440" y="4592520"/>
              <a:ext cx="43200" cy="47520"/>
              <a:chOff x="4465440" y="4592520"/>
              <a:chExt cx="43200" cy="47520"/>
            </a:xfrm>
          </p:grpSpPr>
          <p:sp>
            <p:nvSpPr>
              <p:cNvPr id="648" name=""/>
              <p:cNvSpPr/>
              <p:nvPr/>
            </p:nvSpPr>
            <p:spPr>
              <a:xfrm>
                <a:off x="4465800" y="459720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4465440" y="459252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4079520" y="4681440"/>
              <a:ext cx="43200" cy="47520"/>
              <a:chOff x="4079520" y="4681440"/>
              <a:chExt cx="43200" cy="47520"/>
            </a:xfrm>
          </p:grpSpPr>
          <p:sp>
            <p:nvSpPr>
              <p:cNvPr id="651" name=""/>
              <p:cNvSpPr/>
              <p:nvPr/>
            </p:nvSpPr>
            <p:spPr>
              <a:xfrm>
                <a:off x="4079880" y="4686120"/>
                <a:ext cx="42840" cy="4284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4079520" y="4681440"/>
                <a:ext cx="42840" cy="475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V="1">
              <a:off x="3282840" y="484344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3454560" y="4673520"/>
              <a:ext cx="5364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606840" y="453060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360600" y="484344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3527280" y="467532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670200" y="453240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443400" y="476100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3600360" y="461340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3444840" y="484344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592440" y="467532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745080" y="4532400"/>
              <a:ext cx="5364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832200" y="4691160"/>
              <a:ext cx="54000" cy="54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2293920" y="51483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2293920" y="53625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2293920" y="55767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293920" y="579132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292480" y="600552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124160" y="511020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V="1">
              <a:off x="4124160" y="532440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4124160" y="5538240"/>
              <a:ext cx="54000" cy="5364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4124160" y="57531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4122720" y="59673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2374920" y="51483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2374920" y="55767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2373480" y="6005520"/>
              <a:ext cx="5364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2222640" y="51483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2222640" y="55767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2220840" y="600552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3817800" y="513396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817800" y="556272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816360" y="599112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603520" y="557208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1917720" y="5586480"/>
              <a:ext cx="54000" cy="540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 rot="10800000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6" name=""/>
            <p:cNvGrpSpPr/>
            <p:nvPr/>
          </p:nvGrpSpPr>
          <p:grpSpPr>
            <a:xfrm>
              <a:off x="2912760" y="5572080"/>
              <a:ext cx="43200" cy="47520"/>
              <a:chOff x="2912760" y="5572080"/>
              <a:chExt cx="43200" cy="47520"/>
            </a:xfrm>
          </p:grpSpPr>
          <p:sp>
            <p:nvSpPr>
              <p:cNvPr id="687" name=""/>
              <p:cNvSpPr/>
              <p:nvPr/>
            </p:nvSpPr>
            <p:spPr>
              <a:xfrm>
                <a:off x="2913120" y="557676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2912760" y="557208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3592080" y="5572080"/>
              <a:ext cx="43200" cy="47520"/>
              <a:chOff x="3592080" y="5572080"/>
              <a:chExt cx="43200" cy="47520"/>
            </a:xfrm>
          </p:grpSpPr>
          <p:sp>
            <p:nvSpPr>
              <p:cNvPr id="690" name=""/>
              <p:cNvSpPr/>
              <p:nvPr/>
            </p:nvSpPr>
            <p:spPr>
              <a:xfrm>
                <a:off x="3592440" y="557676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3592080" y="557208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1611000" y="5583240"/>
              <a:ext cx="43200" cy="47520"/>
              <a:chOff x="1611000" y="5583240"/>
              <a:chExt cx="43200" cy="47520"/>
            </a:xfrm>
          </p:grpSpPr>
          <p:sp>
            <p:nvSpPr>
              <p:cNvPr id="693" name=""/>
              <p:cNvSpPr/>
              <p:nvPr/>
            </p:nvSpPr>
            <p:spPr>
              <a:xfrm>
                <a:off x="1611360" y="558792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611000" y="558324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1382400" y="5654520"/>
              <a:ext cx="43200" cy="47520"/>
              <a:chOff x="1382400" y="5654520"/>
              <a:chExt cx="43200" cy="47520"/>
            </a:xfrm>
          </p:grpSpPr>
          <p:sp>
            <p:nvSpPr>
              <p:cNvPr id="696" name=""/>
              <p:cNvSpPr/>
              <p:nvPr/>
            </p:nvSpPr>
            <p:spPr>
              <a:xfrm>
                <a:off x="1382760" y="565920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1382400" y="565452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382400" y="5154480"/>
              <a:ext cx="43200" cy="47520"/>
              <a:chOff x="1382400" y="5154480"/>
              <a:chExt cx="43200" cy="47520"/>
            </a:xfrm>
          </p:grpSpPr>
          <p:sp>
            <p:nvSpPr>
              <p:cNvPr id="699" name=""/>
              <p:cNvSpPr/>
              <p:nvPr/>
            </p:nvSpPr>
            <p:spPr>
              <a:xfrm>
                <a:off x="1382760" y="515916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1382400" y="515448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1382400" y="6156360"/>
              <a:ext cx="43200" cy="47520"/>
              <a:chOff x="1382400" y="6156360"/>
              <a:chExt cx="43200" cy="47520"/>
            </a:xfrm>
          </p:grpSpPr>
          <p:sp>
            <p:nvSpPr>
              <p:cNvPr id="702" name=""/>
              <p:cNvSpPr/>
              <p:nvPr/>
            </p:nvSpPr>
            <p:spPr>
              <a:xfrm>
                <a:off x="1382760" y="616104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1382400" y="615636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1234800" y="5654520"/>
              <a:ext cx="43200" cy="47520"/>
              <a:chOff x="1234800" y="5654520"/>
              <a:chExt cx="43200" cy="47520"/>
            </a:xfrm>
          </p:grpSpPr>
          <p:sp>
            <p:nvSpPr>
              <p:cNvPr id="705" name=""/>
              <p:cNvSpPr/>
              <p:nvPr/>
            </p:nvSpPr>
            <p:spPr>
              <a:xfrm>
                <a:off x="1235160" y="565920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1234800" y="565452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1234800" y="5154480"/>
              <a:ext cx="43200" cy="47520"/>
              <a:chOff x="1234800" y="5154480"/>
              <a:chExt cx="43200" cy="47520"/>
            </a:xfrm>
          </p:grpSpPr>
          <p:sp>
            <p:nvSpPr>
              <p:cNvPr id="708" name=""/>
              <p:cNvSpPr/>
              <p:nvPr/>
            </p:nvSpPr>
            <p:spPr>
              <a:xfrm>
                <a:off x="1235160" y="515916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1234800" y="515448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234800" y="6156360"/>
              <a:ext cx="43200" cy="47520"/>
              <a:chOff x="1234800" y="6156360"/>
              <a:chExt cx="43200" cy="47520"/>
            </a:xfrm>
          </p:grpSpPr>
          <p:sp>
            <p:nvSpPr>
              <p:cNvPr id="711" name=""/>
              <p:cNvSpPr/>
              <p:nvPr/>
            </p:nvSpPr>
            <p:spPr>
              <a:xfrm>
                <a:off x="1235160" y="616104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1234800" y="615636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1306080" y="5398920"/>
              <a:ext cx="43200" cy="47520"/>
              <a:chOff x="1306080" y="5398920"/>
              <a:chExt cx="43200" cy="47520"/>
            </a:xfrm>
          </p:grpSpPr>
          <p:sp>
            <p:nvSpPr>
              <p:cNvPr id="714" name=""/>
              <p:cNvSpPr/>
              <p:nvPr/>
            </p:nvSpPr>
            <p:spPr>
              <a:xfrm>
                <a:off x="1306440" y="540360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1306080" y="539892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1306080" y="5900760"/>
              <a:ext cx="43200" cy="47520"/>
              <a:chOff x="1306080" y="5900760"/>
              <a:chExt cx="43200" cy="47520"/>
            </a:xfrm>
          </p:grpSpPr>
          <p:sp>
            <p:nvSpPr>
              <p:cNvPr id="717" name=""/>
              <p:cNvSpPr/>
              <p:nvPr/>
            </p:nvSpPr>
            <p:spPr>
              <a:xfrm>
                <a:off x="1306440" y="590544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1306080" y="590076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1306080" y="5649840"/>
              <a:ext cx="43200" cy="47520"/>
              <a:chOff x="1306080" y="5649840"/>
              <a:chExt cx="43200" cy="47520"/>
            </a:xfrm>
          </p:grpSpPr>
          <p:sp>
            <p:nvSpPr>
              <p:cNvPr id="720" name=""/>
              <p:cNvSpPr/>
              <p:nvPr/>
            </p:nvSpPr>
            <p:spPr>
              <a:xfrm>
                <a:off x="1306440" y="565452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1306080" y="564984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1306080" y="5149800"/>
              <a:ext cx="43200" cy="47520"/>
              <a:chOff x="1306080" y="5149800"/>
              <a:chExt cx="43200" cy="47520"/>
            </a:xfrm>
          </p:grpSpPr>
          <p:sp>
            <p:nvSpPr>
              <p:cNvPr id="723" name=""/>
              <p:cNvSpPr/>
              <p:nvPr/>
            </p:nvSpPr>
            <p:spPr>
              <a:xfrm>
                <a:off x="1306440" y="515448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1306080" y="514980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1306080" y="6151680"/>
              <a:ext cx="43200" cy="47520"/>
              <a:chOff x="1306080" y="6151680"/>
              <a:chExt cx="43200" cy="47520"/>
            </a:xfrm>
          </p:grpSpPr>
          <p:sp>
            <p:nvSpPr>
              <p:cNvPr id="726" name=""/>
              <p:cNvSpPr/>
              <p:nvPr/>
            </p:nvSpPr>
            <p:spPr>
              <a:xfrm>
                <a:off x="1306440" y="615636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1306080" y="615168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3363480" y="5659560"/>
              <a:ext cx="43200" cy="47520"/>
              <a:chOff x="3363480" y="5659560"/>
              <a:chExt cx="43200" cy="47520"/>
            </a:xfrm>
          </p:grpSpPr>
          <p:sp>
            <p:nvSpPr>
              <p:cNvPr id="729" name=""/>
              <p:cNvSpPr/>
              <p:nvPr/>
            </p:nvSpPr>
            <p:spPr>
              <a:xfrm>
                <a:off x="3363840" y="566424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3363480" y="565956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3363480" y="5159520"/>
              <a:ext cx="43200" cy="47520"/>
              <a:chOff x="3363480" y="5159520"/>
              <a:chExt cx="43200" cy="47520"/>
            </a:xfrm>
          </p:grpSpPr>
          <p:sp>
            <p:nvSpPr>
              <p:cNvPr id="732" name=""/>
              <p:cNvSpPr/>
              <p:nvPr/>
            </p:nvSpPr>
            <p:spPr>
              <a:xfrm>
                <a:off x="3363840" y="516420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363480" y="515952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3363480" y="6161040"/>
              <a:ext cx="43200" cy="47520"/>
              <a:chOff x="3363480" y="6161040"/>
              <a:chExt cx="43200" cy="47520"/>
            </a:xfrm>
          </p:grpSpPr>
          <p:sp>
            <p:nvSpPr>
              <p:cNvPr id="735" name=""/>
              <p:cNvSpPr/>
              <p:nvPr/>
            </p:nvSpPr>
            <p:spPr>
              <a:xfrm>
                <a:off x="3363840" y="616572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3363480" y="616104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3215880" y="5659560"/>
              <a:ext cx="43200" cy="47520"/>
              <a:chOff x="3215880" y="5659560"/>
              <a:chExt cx="43200" cy="47520"/>
            </a:xfrm>
          </p:grpSpPr>
          <p:sp>
            <p:nvSpPr>
              <p:cNvPr id="738" name=""/>
              <p:cNvSpPr/>
              <p:nvPr/>
            </p:nvSpPr>
            <p:spPr>
              <a:xfrm>
                <a:off x="3216240" y="566424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3215880" y="565956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215880" y="5159520"/>
              <a:ext cx="43200" cy="47520"/>
              <a:chOff x="3215880" y="5159520"/>
              <a:chExt cx="43200" cy="47520"/>
            </a:xfrm>
          </p:grpSpPr>
          <p:sp>
            <p:nvSpPr>
              <p:cNvPr id="741" name=""/>
              <p:cNvSpPr/>
              <p:nvPr/>
            </p:nvSpPr>
            <p:spPr>
              <a:xfrm>
                <a:off x="3216240" y="516420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3215880" y="515952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3215880" y="6161040"/>
              <a:ext cx="43200" cy="47520"/>
              <a:chOff x="3215880" y="6161040"/>
              <a:chExt cx="43200" cy="47520"/>
            </a:xfrm>
          </p:grpSpPr>
          <p:sp>
            <p:nvSpPr>
              <p:cNvPr id="744" name=""/>
              <p:cNvSpPr/>
              <p:nvPr/>
            </p:nvSpPr>
            <p:spPr>
              <a:xfrm>
                <a:off x="3216240" y="616572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3215880" y="616104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3287520" y="5403960"/>
              <a:ext cx="43200" cy="47520"/>
              <a:chOff x="3287520" y="5403960"/>
              <a:chExt cx="43200" cy="47520"/>
            </a:xfrm>
          </p:grpSpPr>
          <p:sp>
            <p:nvSpPr>
              <p:cNvPr id="747" name=""/>
              <p:cNvSpPr/>
              <p:nvPr/>
            </p:nvSpPr>
            <p:spPr>
              <a:xfrm>
                <a:off x="3287880" y="540864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3287520" y="540396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3287520" y="5905440"/>
              <a:ext cx="43200" cy="47520"/>
              <a:chOff x="3287520" y="5905440"/>
              <a:chExt cx="43200" cy="47520"/>
            </a:xfrm>
          </p:grpSpPr>
          <p:sp>
            <p:nvSpPr>
              <p:cNvPr id="750" name=""/>
              <p:cNvSpPr/>
              <p:nvPr/>
            </p:nvSpPr>
            <p:spPr>
              <a:xfrm>
                <a:off x="3287880" y="591012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3287520" y="590544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3287520" y="5654520"/>
              <a:ext cx="43200" cy="47520"/>
              <a:chOff x="3287520" y="5654520"/>
              <a:chExt cx="43200" cy="47520"/>
            </a:xfrm>
          </p:grpSpPr>
          <p:sp>
            <p:nvSpPr>
              <p:cNvPr id="753" name=""/>
              <p:cNvSpPr/>
              <p:nvPr/>
            </p:nvSpPr>
            <p:spPr>
              <a:xfrm>
                <a:off x="3287880" y="565920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3287520" y="565452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"/>
            <p:cNvGrpSpPr/>
            <p:nvPr/>
          </p:nvGrpSpPr>
          <p:grpSpPr>
            <a:xfrm>
              <a:off x="3287520" y="5154480"/>
              <a:ext cx="43200" cy="47520"/>
              <a:chOff x="3287520" y="5154480"/>
              <a:chExt cx="43200" cy="47520"/>
            </a:xfrm>
          </p:grpSpPr>
          <p:sp>
            <p:nvSpPr>
              <p:cNvPr id="756" name=""/>
              <p:cNvSpPr/>
              <p:nvPr/>
            </p:nvSpPr>
            <p:spPr>
              <a:xfrm>
                <a:off x="3287880" y="515916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3287520" y="515448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3287520" y="6156360"/>
              <a:ext cx="43200" cy="47520"/>
              <a:chOff x="3287520" y="6156360"/>
              <a:chExt cx="43200" cy="47520"/>
            </a:xfrm>
          </p:grpSpPr>
          <p:sp>
            <p:nvSpPr>
              <p:cNvPr id="759" name=""/>
              <p:cNvSpPr/>
              <p:nvPr/>
            </p:nvSpPr>
            <p:spPr>
              <a:xfrm>
                <a:off x="3287880" y="6161040"/>
                <a:ext cx="42840" cy="4284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3287520" y="6156360"/>
                <a:ext cx="42840" cy="475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4579920" y="5446800"/>
              <a:ext cx="493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827360" y="4241880"/>
              <a:ext cx="20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07920" y="3958200"/>
              <a:ext cx="348480" cy="459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4" name=""/>
                <p:cNvSpPr txBox="1"/>
                <p:nvPr/>
              </p:nvSpPr>
              <p:spPr>
                <a:xfrm>
                  <a:off x="5073480" y="5286240"/>
                  <a:ext cx="8337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5" name=""/>
            <p:cNvSpPr/>
            <p:nvPr/>
          </p:nvSpPr>
          <p:spPr>
            <a:xfrm>
              <a:off x="6056280" y="4959360"/>
              <a:ext cx="128520" cy="137160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92040" y="498492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392040" y="4451400"/>
              <a:ext cx="533520" cy="533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13280" y="555552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3300"/>
                  </a:solidFill>
                  <a:latin typeface="Times New Roman"/>
                </a:rPr>
                <a:t>H</a:t>
              </a:r>
              <a:r>
                <a:rPr b="0" i="1" lang="en-GB" sz="2400" spc="-1" strike="noStrike" baseline="-25000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3280" y="4367880"/>
              <a:ext cx="44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E</a:t>
              </a:r>
              <a:r>
                <a:rPr b="0" i="1" lang="en-GB" sz="2400" spc="-1" strike="noStrike" baseline="-25000">
                  <a:solidFill>
                    <a:srgbClr val="3333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6235560" y="4416480"/>
              <a:ext cx="34128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30920" y="4419720"/>
              <a:ext cx="34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62360" y="394704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438960" y="5214960"/>
              <a:ext cx="1257120" cy="1160280"/>
            </a:xfrm>
            <a:custGeom>
              <a:avLst/>
              <a:gdLst/>
              <a:ahLst/>
              <a:rect l="l" t="t" r="r" b="b"/>
              <a:pathLst>
                <a:path w="792" h="731">
                  <a:moveTo>
                    <a:pt x="0" y="83"/>
                  </a:moveTo>
                  <a:cubicBezTo>
                    <a:pt x="78" y="41"/>
                    <a:pt x="157" y="0"/>
                    <a:pt x="256" y="91"/>
                  </a:cubicBezTo>
                  <a:cubicBezTo>
                    <a:pt x="355" y="182"/>
                    <a:pt x="503" y="523"/>
                    <a:pt x="592" y="627"/>
                  </a:cubicBezTo>
                  <a:cubicBezTo>
                    <a:pt x="681" y="731"/>
                    <a:pt x="736" y="723"/>
                    <a:pt x="792" y="7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657920" y="6132960"/>
              <a:ext cx="10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rea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380880" y="1403280"/>
                <a:ext cx="38941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U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  <m:r>
                      <m:t xml:space="preserve">A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24640" y="992160"/>
                <a:ext cx="1540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ε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77" name=""/>
          <p:cNvGrpSpPr/>
          <p:nvPr/>
        </p:nvGrpSpPr>
        <p:grpSpPr>
          <a:xfrm>
            <a:off x="482760" y="1901880"/>
            <a:ext cx="2800080" cy="1334880"/>
            <a:chOff x="482760" y="1901880"/>
            <a:chExt cx="2800080" cy="1334880"/>
          </a:xfrm>
        </p:grpSpPr>
        <p:sp>
          <p:nvSpPr>
            <p:cNvPr id="778" name=""/>
            <p:cNvSpPr/>
            <p:nvPr/>
          </p:nvSpPr>
          <p:spPr>
            <a:xfrm>
              <a:off x="482760" y="2838600"/>
              <a:ext cx="1687320" cy="398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9" name=""/>
                <p:cNvSpPr txBox="1"/>
                <p:nvPr/>
              </p:nvSpPr>
              <p:spPr>
                <a:xfrm>
                  <a:off x="482760" y="1901880"/>
                  <a:ext cx="2800080" cy="12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dU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t xml:space="preserve">εE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μ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  <m:r>
                            <m:t xml:space="preserve">Adx</m:t>
                          </m:r>
                        </m:e>
                        <m:e>
                          <m:sSup>
                            <m:e>
                              <m:r>
                                <m:t xml:space="preserve">ε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Adx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7529400" y="2838600"/>
                <a:ext cx="13017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1" name=""/>
          <p:cNvSpPr/>
          <p:nvPr/>
        </p:nvSpPr>
        <p:spPr>
          <a:xfrm>
            <a:off x="225360" y="3274920"/>
            <a:ext cx="8191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wer transmitted through the box is dU/dt=dU/(dx/c)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3E12-C53B-42E8-B447-54BCDFE495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430200" y="2309400"/>
            <a:ext cx="7772400" cy="18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is the instantaneous power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lf is contained in the electric compon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lf is contained in the magnetic compo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 varies sinusoidal, so the average value of S is obta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1650960" y="1433520"/>
                <a:ext cx="50878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U</m:t>
                        </m:r>
                      </m:num>
                      <m:den>
                        <m:r>
                          <m:t xml:space="preserve">A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ε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x</m:t>
                            </m:r>
                            <m:r>
                              <m:t xml:space="preserve">/</m:t>
                            </m:r>
                            <m:r>
                              <m:t xml:space="preserve">c</m:t>
                            </m:r>
                          </m:e>
                        </m:d>
                      </m:den>
                    </m:f>
                    <m:r>
                      <m:t xml:space="preserve">Ad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ε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W/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2909880" y="990720"/>
                <a:ext cx="1555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ε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A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5" name="PlaceHolder 2"/>
          <p:cNvSpPr>
            <a:spLocks noGrp="1"/>
          </p:cNvSpPr>
          <p:nvPr>
            <p:ph type="title"/>
          </p:nvPr>
        </p:nvSpPr>
        <p:spPr>
          <a:xfrm>
            <a:off x="0" y="457200"/>
            <a:ext cx="79754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ower flow of EM radiation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2084400" y="3935520"/>
                <a:ext cx="3147840" cy="19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t</m:t>
                                </m:r>
                              </m:e>
                            </m:d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vt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η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>
            <a:off x="430200" y="5916600"/>
            <a:ext cx="7772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is the Poynting vector and indicates the direction and magnitude of power flow in the EM 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A28FD-E4D5-4C26-8434-B8BDF035515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66760" y="431280"/>
            <a:ext cx="819144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xampl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66400" y="1130040"/>
            <a:ext cx="8597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door of a microwave oven is left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timate the peak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trengths in the aperture of the do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ich plane contains both E and H vecto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parameters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quations are requir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5791320" y="3809880"/>
            <a:ext cx="2158920" cy="1498680"/>
            <a:chOff x="5791320" y="3809880"/>
            <a:chExt cx="2158920" cy="1498680"/>
          </a:xfrm>
        </p:grpSpPr>
        <p:sp>
          <p:nvSpPr>
            <p:cNvPr id="791" name=""/>
            <p:cNvSpPr/>
            <p:nvPr/>
          </p:nvSpPr>
          <p:spPr>
            <a:xfrm>
              <a:off x="5791320" y="3809880"/>
              <a:ext cx="2158920" cy="14986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943600" y="4089240"/>
              <a:ext cx="1752840" cy="1028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 rot="10396800">
            <a:off x="5511600" y="4432320"/>
            <a:ext cx="660240" cy="495360"/>
          </a:xfrm>
          <a:custGeom>
            <a:avLst/>
            <a:gdLst>
              <a:gd name="textAreaLeft" fmla="*/ 102960 w 660240"/>
              <a:gd name="textAreaRight" fmla="*/ 577800 w 66024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7779000">
            <a:off x="5815800" y="4736880"/>
            <a:ext cx="660600" cy="495000"/>
          </a:xfrm>
          <a:custGeom>
            <a:avLst/>
            <a:gdLst>
              <a:gd name="textAreaLeft" fmla="*/ 102960 w 660600"/>
              <a:gd name="textAreaRight" fmla="*/ 578160 w 660600"/>
              <a:gd name="textAreaTop" fmla="*/ 123840 h 495000"/>
              <a:gd name="textAreaBottom" fmla="*/ 371520 h 495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5802600">
            <a:off x="6381360" y="5010120"/>
            <a:ext cx="660240" cy="495360"/>
          </a:xfrm>
          <a:custGeom>
            <a:avLst/>
            <a:gdLst>
              <a:gd name="textAreaLeft" fmla="*/ 102960 w 660240"/>
              <a:gd name="textAreaRight" fmla="*/ 577800 w 66024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4836600">
            <a:off x="6877080" y="5010120"/>
            <a:ext cx="660240" cy="495360"/>
          </a:xfrm>
          <a:custGeom>
            <a:avLst/>
            <a:gdLst>
              <a:gd name="textAreaLeft" fmla="*/ 102960 w 660240"/>
              <a:gd name="textAreaRight" fmla="*/ 577800 w 66024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2791200">
            <a:off x="7372080" y="4730400"/>
            <a:ext cx="660240" cy="495360"/>
          </a:xfrm>
          <a:custGeom>
            <a:avLst/>
            <a:gdLst>
              <a:gd name="textAreaLeft" fmla="*/ 102960 w 660240"/>
              <a:gd name="textAreaRight" fmla="*/ 577800 w 660240"/>
              <a:gd name="textAreaTop" fmla="*/ 123840 h 495360"/>
              <a:gd name="textAreaBottom" fmla="*/ 371520 h 495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154160" y="4432320"/>
                <a:ext cx="26096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η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η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W/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139680" y="2927520"/>
            <a:ext cx="859788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wer-750 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ea of aperture - 0.3 x 0.2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edance of free space - 377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oynting vec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2A662-36FC-44FF-BFE8-5ED080E38E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028960" y="1322280"/>
                <a:ext cx="4767120" cy="40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η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tts</m:t>
                        </m:r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η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ower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0</m:t>
                                </m:r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/m</m:t>
                        </m:r>
                      </m:e>
                      <m:e/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17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A/m</m:t>
                        </m:r>
                      </m:e>
                      <m:e/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μTesl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0CBC-D0AE-4B50-8C7A-AFA5302EC0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ields at large distances from charges and current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2209320"/>
            <a:ext cx="5257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a straight conductor the magnetic field is given by Ampere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04920" y="2514600"/>
            <a:ext cx="2133360" cy="2514600"/>
            <a:chOff x="304920" y="2514600"/>
            <a:chExt cx="2133360" cy="2514600"/>
          </a:xfrm>
        </p:grpSpPr>
        <p:sp>
          <p:nvSpPr>
            <p:cNvPr id="62" name=""/>
            <p:cNvSpPr/>
            <p:nvPr/>
          </p:nvSpPr>
          <p:spPr>
            <a:xfrm>
              <a:off x="304920" y="3353040"/>
              <a:ext cx="213336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2514600"/>
              <a:ext cx="1218600" cy="251460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9160" y="3621240"/>
              <a:ext cx="1536120" cy="950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V="1">
            <a:off x="1828800" y="3429000"/>
            <a:ext cx="0" cy="45720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400800" y="1066680"/>
                <a:ext cx="215100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05320" y="1066680"/>
                <a:ext cx="243036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722680" y="1571760"/>
            <a:ext cx="679320" cy="1027080"/>
          </a:xfrm>
          <a:custGeom>
            <a:avLst/>
            <a:gdLst/>
            <a:ahLst/>
            <a:rect l="l" t="t" r="r" b="b"/>
            <a:pathLst>
              <a:path w="428" h="647">
                <a:moveTo>
                  <a:pt x="428" y="615"/>
                </a:moveTo>
                <a:cubicBezTo>
                  <a:pt x="397" y="609"/>
                  <a:pt x="300" y="647"/>
                  <a:pt x="233" y="576"/>
                </a:cubicBezTo>
                <a:cubicBezTo>
                  <a:pt x="166" y="505"/>
                  <a:pt x="0" y="283"/>
                  <a:pt x="23" y="187"/>
                </a:cubicBezTo>
                <a:cubicBezTo>
                  <a:pt x="46" y="91"/>
                  <a:pt x="300" y="39"/>
                  <a:pt x="373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8480" y="34279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9880" y="32756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572000"/>
            <a:ext cx="52578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dt produce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dt term produce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 do the mixed-up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ields spread out from a modulated current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current loop, antenna et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2895480"/>
            <a:ext cx="5257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 large distances or high frequencie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,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lags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,d=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due to propag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nsmission of field is not instan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ctually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,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is due to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-d/c,d=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ulation of I(t) produces a  d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/dt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1542960"/>
            <a:ext cx="992160" cy="2571840"/>
          </a:xfrm>
          <a:custGeom>
            <a:avLst/>
            <a:gdLst/>
            <a:ahLst/>
            <a:rect l="l" t="t" r="r" b="b"/>
            <a:pathLst>
              <a:path w="625" h="1620">
                <a:moveTo>
                  <a:pt x="0" y="1620"/>
                </a:moveTo>
                <a:cubicBezTo>
                  <a:pt x="88" y="1514"/>
                  <a:pt x="427" y="1228"/>
                  <a:pt x="526" y="984"/>
                </a:cubicBezTo>
                <a:cubicBezTo>
                  <a:pt x="625" y="740"/>
                  <a:pt x="613" y="316"/>
                  <a:pt x="597" y="158"/>
                </a:cubicBezTo>
                <a:cubicBezTo>
                  <a:pt x="581" y="0"/>
                  <a:pt x="466" y="62"/>
                  <a:pt x="432" y="3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8F69-6668-4337-BA92-CBA84DAFD9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393840"/>
            <a:ext cx="8966160" cy="56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se the microwave source is omnidirectional and displaced horizontally at a displacement of 100 km. Neglecting the effect of the gr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E-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) radially out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) radially in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) either a) or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the Poynting vector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radially out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radially inw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) at right angles to a vector from the observer to th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calculate the strength of the E-field should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) Apply the inverse square law to the power gene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) Apply a 1/r law to the E field gene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) Employ Coulomb’s 1/r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1A6F6-1DEE-459A-8CA3-E4865C0ACF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eld due to a 1 kW omnidirectional generato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952560" y="1909800"/>
                <a:ext cx="6364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π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5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W/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η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ower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η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Power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π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7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50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10</m:t>
                                            </m:r>
                                          </m:e>
                                          <m:sup>
                                            <m:r>
                                              <m:t xml:space="preserve">5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V/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B706-EA93-4EE8-884E-077AA48F527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4.1 Polar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215640" y="1041120"/>
            <a:ext cx="8318520" cy="21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reating Maxwells equations we referred to components of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ong the x,y,z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y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y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a plane (single frequency) EM w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H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z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wave can be fully described by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eithe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mponents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t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7112160" y="3821040"/>
                <a:ext cx="164124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190440" y="4051440"/>
            <a:ext cx="8318520" cy="25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ore usual to describe a wave in terms of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t is more easily meas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wave that has the E-vector in the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x-direc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ly is said to b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larised in the x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milarly for th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y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518080" y="3919680"/>
            <a:ext cx="1454400" cy="74520"/>
          </a:xfrm>
          <a:custGeom>
            <a:avLst/>
            <a:gdLst/>
            <a:ahLst/>
            <a:rect l="l" t="t" r="r" b="b"/>
            <a:pathLst>
              <a:path w="2484" h="115">
                <a:moveTo>
                  <a:pt x="4" y="35"/>
                </a:moveTo>
                <a:cubicBezTo>
                  <a:pt x="60" y="30"/>
                  <a:pt x="0" y="6"/>
                  <a:pt x="332" y="3"/>
                </a:cubicBezTo>
                <a:cubicBezTo>
                  <a:pt x="664" y="0"/>
                  <a:pt x="1637" y="0"/>
                  <a:pt x="1996" y="19"/>
                </a:cubicBezTo>
                <a:cubicBezTo>
                  <a:pt x="2355" y="38"/>
                  <a:pt x="2419" y="76"/>
                  <a:pt x="2484" y="115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33D7-B90D-4440-A5F8-E67E39B4A88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Polarisation cont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0" y="1130040"/>
            <a:ext cx="892800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the cardinal axes are Earth-refere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fer to horizontally or vertically polari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 field oscillates in one plane only and is referred to as linear pola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enerated by simple antennas, some lasers, reflections off dielec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larised receivers must be correctly aligned to receive a specific pola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1486080" y="3029040"/>
            <a:ext cx="5715000" cy="285732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241200" y="58903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horizontal polarised wave generated by a horizontal dipole and incident upon horizontal and vertical dip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4080-2D0F-4C99-961B-81CAEEA41DF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9661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orizontal and vertical linear pola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" descr=""/>
          <p:cNvPicPr/>
          <p:nvPr/>
        </p:nvPicPr>
        <p:blipFill>
          <a:blip r:embed="rId1"/>
          <a:stretch/>
        </p:blipFill>
        <p:spPr>
          <a:xfrm>
            <a:off x="1994040" y="3936960"/>
            <a:ext cx="5207040" cy="2603520"/>
          </a:xfrm>
          <a:prstGeom prst="rect">
            <a:avLst/>
          </a:prstGeom>
          <a:ln w="0">
            <a:noFill/>
          </a:ln>
        </p:spPr>
      </p:pic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1994040" y="1333440"/>
            <a:ext cx="5207040" cy="26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8962C-0556-4A04-AEDC-0A7EEE6F36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440" y="266400"/>
            <a:ext cx="8204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inear polar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0080" y="837720"/>
            <a:ext cx="8953560" cy="19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both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re present and in phase then components add linearly to form a wave that is linearly polarised signal at 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2660760" y="2019240"/>
                <a:ext cx="15685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3048120" y="333360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821" name="" descr=""/>
          <p:cNvPicPr/>
          <p:nvPr/>
        </p:nvPicPr>
        <p:blipFill>
          <a:blip r:embed="rId2"/>
          <a:stretch/>
        </p:blipFill>
        <p:spPr>
          <a:xfrm>
            <a:off x="12600" y="3365640"/>
            <a:ext cx="3222720" cy="241596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/>
          <p:nvPr/>
        </p:nvSpPr>
        <p:spPr>
          <a:xfrm>
            <a:off x="599040" y="6048720"/>
            <a:ext cx="13449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a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723120" y="6048720"/>
            <a:ext cx="13449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la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4" name="" descr=""/>
          <p:cNvPicPr/>
          <p:nvPr/>
        </p:nvPicPr>
        <p:blipFill>
          <a:blip r:embed="rId3"/>
          <a:stretch/>
        </p:blipFill>
        <p:spPr>
          <a:xfrm>
            <a:off x="6448320" y="3102120"/>
            <a:ext cx="2441520" cy="29304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5936040" y="6048720"/>
            <a:ext cx="32029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phased vertical+horiz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slant Pola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843680" y="4029840"/>
            <a:ext cx="5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785000" y="4178160"/>
            <a:ext cx="228600" cy="482760"/>
          </a:xfrm>
          <a:custGeom>
            <a:avLst/>
            <a:gdLst/>
            <a:ahLst/>
            <a:rect l="l" t="t" r="r" b="b"/>
            <a:pathLst>
              <a:path w="144" h="304">
                <a:moveTo>
                  <a:pt x="0" y="0"/>
                </a:moveTo>
                <a:cubicBezTo>
                  <a:pt x="20" y="21"/>
                  <a:pt x="96" y="77"/>
                  <a:pt x="120" y="128"/>
                </a:cubicBezTo>
                <a:cubicBezTo>
                  <a:pt x="144" y="179"/>
                  <a:pt x="139" y="267"/>
                  <a:pt x="144" y="304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0D24-481C-4140-81B7-C9756B424A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844720" y="88560"/>
            <a:ext cx="4788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lant linear polar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1523880" y="812880"/>
            <a:ext cx="5715000" cy="285732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2"/>
          <a:stretch/>
        </p:blipFill>
        <p:spPr>
          <a:xfrm>
            <a:off x="1523880" y="3238560"/>
            <a:ext cx="5715000" cy="285732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77840" y="5969160"/>
            <a:ext cx="896616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lant polarised waves generated by co-phased horizontal and vertical dipoles and incident upon horizontal and vertical dip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8069-6779-4613-8176-AC28B2778A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ircular pola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1"/>
          <a:stretch/>
        </p:blipFill>
        <p:spPr>
          <a:xfrm>
            <a:off x="6362640" y="11685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6362640" y="38480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3"/>
          <a:stretch/>
        </p:blipFill>
        <p:spPr>
          <a:xfrm>
            <a:off x="2413080" y="1460520"/>
            <a:ext cx="3759120" cy="23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130320" y="4513320"/>
                <a:ext cx="1730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125280" y="2787480"/>
                <a:ext cx="1990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142920" y="1770120"/>
                <a:ext cx="1728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9" name=""/>
          <p:cNvSpPr/>
          <p:nvPr/>
        </p:nvSpPr>
        <p:spPr>
          <a:xfrm>
            <a:off x="0" y="386856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0" y="78264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4"/>
          <a:stretch/>
        </p:blipFill>
        <p:spPr>
          <a:xfrm>
            <a:off x="2400480" y="3997440"/>
            <a:ext cx="3759120" cy="2311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138240" y="5495760"/>
                <a:ext cx="19904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>
            <a:off x="23400" y="3897720"/>
            <a:ext cx="24804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HC polar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040" y="781200"/>
            <a:ext cx="243000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HC polar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02640" y="815400"/>
            <a:ext cx="31266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B viewed as approaching 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8204040" y="5295960"/>
            <a:ext cx="74880" cy="380880"/>
          </a:xfrm>
          <a:custGeom>
            <a:avLst/>
            <a:gdLst/>
            <a:ahLst/>
            <a:rect l="l" t="t" r="r" b="b"/>
            <a:pathLst>
              <a:path w="47" h="240">
                <a:moveTo>
                  <a:pt x="40" y="0"/>
                </a:moveTo>
                <a:cubicBezTo>
                  <a:pt x="43" y="32"/>
                  <a:pt x="47" y="64"/>
                  <a:pt x="40" y="104"/>
                </a:cubicBezTo>
                <a:cubicBezTo>
                  <a:pt x="33" y="144"/>
                  <a:pt x="16" y="192"/>
                  <a:pt x="0" y="24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8280360" y="2247120"/>
            <a:ext cx="74520" cy="381240"/>
          </a:xfrm>
          <a:custGeom>
            <a:avLst/>
            <a:gdLst/>
            <a:ahLst/>
            <a:rect l="l" t="t" r="r" b="b"/>
            <a:pathLst>
              <a:path w="47" h="240">
                <a:moveTo>
                  <a:pt x="40" y="0"/>
                </a:moveTo>
                <a:cubicBezTo>
                  <a:pt x="43" y="32"/>
                  <a:pt x="47" y="64"/>
                  <a:pt x="40" y="104"/>
                </a:cubicBezTo>
                <a:cubicBezTo>
                  <a:pt x="33" y="144"/>
                  <a:pt x="16" y="192"/>
                  <a:pt x="0" y="24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3360" y="3706920"/>
            <a:ext cx="3367080" cy="117360"/>
          </a:xfrm>
          <a:custGeom>
            <a:avLst/>
            <a:gdLst/>
            <a:ahLst/>
            <a:rect l="l" t="t" r="r" b="b"/>
            <a:pathLst>
              <a:path w="2121" h="74">
                <a:moveTo>
                  <a:pt x="9" y="49"/>
                </a:moveTo>
                <a:cubicBezTo>
                  <a:pt x="16" y="53"/>
                  <a:pt x="25" y="61"/>
                  <a:pt x="49" y="65"/>
                </a:cubicBezTo>
                <a:cubicBezTo>
                  <a:pt x="73" y="69"/>
                  <a:pt x="0" y="74"/>
                  <a:pt x="153" y="73"/>
                </a:cubicBezTo>
                <a:cubicBezTo>
                  <a:pt x="306" y="72"/>
                  <a:pt x="740" y="60"/>
                  <a:pt x="969" y="57"/>
                </a:cubicBezTo>
                <a:cubicBezTo>
                  <a:pt x="1198" y="54"/>
                  <a:pt x="1360" y="65"/>
                  <a:pt x="1529" y="57"/>
                </a:cubicBezTo>
                <a:cubicBezTo>
                  <a:pt x="1698" y="49"/>
                  <a:pt x="1886" y="18"/>
                  <a:pt x="1985" y="9"/>
                </a:cubicBezTo>
                <a:cubicBezTo>
                  <a:pt x="2084" y="0"/>
                  <a:pt x="2093" y="3"/>
                  <a:pt x="2121" y="1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967200" y="1201680"/>
            <a:ext cx="2543040" cy="1414440"/>
          </a:xfrm>
          <a:custGeom>
            <a:avLst/>
            <a:gdLst/>
            <a:ahLst/>
            <a:rect l="l" t="t" r="r" b="b"/>
            <a:pathLst>
              <a:path w="1602" h="891">
                <a:moveTo>
                  <a:pt x="101" y="43"/>
                </a:moveTo>
                <a:cubicBezTo>
                  <a:pt x="120" y="44"/>
                  <a:pt x="0" y="43"/>
                  <a:pt x="213" y="59"/>
                </a:cubicBezTo>
                <a:cubicBezTo>
                  <a:pt x="426" y="75"/>
                  <a:pt x="1160" y="0"/>
                  <a:pt x="1381" y="139"/>
                </a:cubicBezTo>
                <a:cubicBezTo>
                  <a:pt x="1602" y="278"/>
                  <a:pt x="1508" y="734"/>
                  <a:pt x="1541" y="891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ED53-CD9F-4A84-8273-70D199B7B9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" descr=""/>
          <p:cNvPicPr/>
          <p:nvPr/>
        </p:nvPicPr>
        <p:blipFill>
          <a:blip r:embed="rId1"/>
          <a:stretch/>
        </p:blipFill>
        <p:spPr>
          <a:xfrm>
            <a:off x="1625760" y="3232080"/>
            <a:ext cx="5715000" cy="2857680"/>
          </a:xfrm>
          <a:prstGeom prst="rect">
            <a:avLst/>
          </a:prstGeom>
          <a:ln w="0">
            <a:noFill/>
          </a:ln>
        </p:spPr>
      </p:pic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1612800" y="907920"/>
            <a:ext cx="5715000" cy="285768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384200" y="12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Circular polaris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-254160" y="5969160"/>
            <a:ext cx="93981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HC &amp; RHC polarised waves generated by quadrature -phased horizontal and vertical dipoles and incident upon horizontal and vertical dip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33200" y="16092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H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22040" y="4149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H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D308-59D1-46E7-B120-6BF9703AE83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79360" y="126720"/>
            <a:ext cx="83692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lliptical polarisation - a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2933640" y="1828800"/>
            <a:ext cx="3162240" cy="4743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089160" y="1042920"/>
                <a:ext cx="24256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315120" y="4106880"/>
                <a:ext cx="19684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1313-AF09-45A2-B87C-5C52D57ADF1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moving point char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66720" y="914400"/>
            <a:ext cx="4876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tatic charge produces radial field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tant velocity, acceleration and finite propagation speed distorts the field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agation of kinks in E field lines which produces kinks of     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s 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ouple int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v.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elds due to            are short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ields due to                propa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celerating charges produce travelling waves consisting coupled modulations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267080" cy="32004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4724280" y="3567240"/>
            <a:ext cx="2697120" cy="1692000"/>
            <a:chOff x="4724280" y="3567240"/>
            <a:chExt cx="2697120" cy="1692000"/>
          </a:xfrm>
        </p:grpSpPr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4724280" y="3692520"/>
                  <a:ext cx="6858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∂</m:t>
                      </m:r>
                      <m:r>
                        <m:t xml:space="preserve">E</m:t>
                      </m:r>
                      <m:r>
                        <m:t xml:space="preserve">/</m:t>
                      </m:r>
                      <m:r>
                        <m:t xml:space="preserve">∂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6019920" y="3567240"/>
                  <a:ext cx="9442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∂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E</m:t>
                      </m:r>
                      <m:r>
                        <m:t xml:space="preserve">/</m:t>
                      </m:r>
                      <m:sSup>
                        <m:e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6477120" y="4508640"/>
                  <a:ext cx="6858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∂</m:t>
                      </m:r>
                      <m:r>
                        <m:t xml:space="preserve">E</m:t>
                      </m:r>
                      <m:r>
                        <m:t xml:space="preserve">/</m:t>
                      </m:r>
                      <m:r>
                        <m:t xml:space="preserve">∂</m:t>
                      </m:r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6477120" y="4749840"/>
                  <a:ext cx="94428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∂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E</m:t>
                      </m:r>
                      <m:r>
                        <m:t xml:space="preserve">/</m:t>
                      </m:r>
                      <m:sSup>
                        <m:e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81A8-D217-428F-8513-CDC1D77ADD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nstitutive re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6934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mittivity of free spac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8.85 x 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F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rmeability of free spac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x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H/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rmally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ielectric constant) an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ry with material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frequency depe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non-magnetic material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~1 and for Fe is ~2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normally a few ~2.25 for glass at optical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-208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normally simple scalars (i.e. for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isotropi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aterials) so that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re parallel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re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ferroelectrics and ferromagnetics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pend on the relative orientation of the material and the applied 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6705720" y="1066680"/>
                <a:ext cx="21304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ε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μ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H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σ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304920" y="5029200"/>
                <a:ext cx="371952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z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6172200" y="5029200"/>
                <a:ext cx="26701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μ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jκ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jκ</m:t>
                              </m:r>
                            </m:e>
                            <m:e>
                              <m:r>
                                <m:t xml:space="preserve">μ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μ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5" name=""/>
          <p:cNvSpPr/>
          <p:nvPr/>
        </p:nvSpPr>
        <p:spPr>
          <a:xfrm>
            <a:off x="4722480" y="5174640"/>
            <a:ext cx="14259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cro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requenc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337E4-B075-4E9A-82FE-9E625203F17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291960"/>
            <a:ext cx="79311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Constitutive relations cont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28320" y="925560"/>
            <a:ext cx="828828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relationship between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refractive index for non magnetic material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v=c/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the speed of light in a material of refractive index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r glass and many plastics at optical frequ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~1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~2.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edance is lower within a dielec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happens at the boundary between materials of differen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,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1793880" y="2058840"/>
                <a:ext cx="18097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27040" y="4740120"/>
                <a:ext cx="12556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E7DEA-9B0E-4F93-9F8B-3B3D9FA519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hy are boundary conditions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02680" y="875880"/>
            <a:ext cx="839484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 free-space electromagnetic wave is incident upon a medium secondary wave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nsmitted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flected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ransmitted wave is due to 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ields at the boundary as seen from the incident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eflected wave is due to th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ields at the boundary as seen from the transmitted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calculate the transmitted and reflected fields we need to know the fields at the bound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re determined by the boundary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B27D-8D5A-4CA6-B22E-F06F105B97D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oundary Conditions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203040" y="2755440"/>
            <a:ext cx="854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 a boundary between two media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ifferent on either si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brupt change in these values changes the characteristic impedance experienced by propagating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ontinuities results in partial reflection and transmission of EM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haracteristics of the reflected and transmitted waves can be determined from a solution of Maxwells equations along the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793960" y="1714680"/>
            <a:ext cx="327672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793960" y="171468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49640" y="1917000"/>
            <a:ext cx="109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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949640" y="1231200"/>
            <a:ext cx="109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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27977-EF57-4CC7-A488-4A0BBE59784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2.3 Boundary 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77840" y="860400"/>
            <a:ext cx="5130720" cy="25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tangential component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ontinuous at a surface of discontin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t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xcept for a perfect conduct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the tangential component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continuous at a surface of discontin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t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2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618880" y="811800"/>
            <a:ext cx="97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t,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</a:rPr>
              <a:t>1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5587920" y="859680"/>
            <a:ext cx="3276720" cy="1312200"/>
            <a:chOff x="5587920" y="859680"/>
            <a:chExt cx="3276720" cy="1312200"/>
          </a:xfrm>
        </p:grpSpPr>
        <p:sp>
          <p:nvSpPr>
            <p:cNvPr id="882" name=""/>
            <p:cNvSpPr/>
            <p:nvPr/>
          </p:nvSpPr>
          <p:spPr>
            <a:xfrm>
              <a:off x="5587920" y="1486080"/>
              <a:ext cx="3276720" cy="685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587920" y="1486080"/>
              <a:ext cx="32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5956200" y="1571760"/>
              <a:ext cx="6732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69160" y="1346040"/>
              <a:ext cx="66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751520" y="1545480"/>
              <a:ext cx="109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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51520" y="859680"/>
              <a:ext cx="109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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28240" y="1548360"/>
              <a:ext cx="97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t,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177840" y="3429000"/>
            <a:ext cx="8813880" cy="3403440"/>
            <a:chOff x="177840" y="3429000"/>
            <a:chExt cx="8813880" cy="3403440"/>
          </a:xfrm>
        </p:grpSpPr>
        <p:grpSp>
          <p:nvGrpSpPr>
            <p:cNvPr id="890" name=""/>
            <p:cNvGrpSpPr/>
            <p:nvPr/>
          </p:nvGrpSpPr>
          <p:grpSpPr>
            <a:xfrm>
              <a:off x="5588640" y="3910680"/>
              <a:ext cx="3285360" cy="1359720"/>
              <a:chOff x="5588640" y="3910680"/>
              <a:chExt cx="3285360" cy="1359720"/>
            </a:xfrm>
          </p:grpSpPr>
          <p:sp>
            <p:nvSpPr>
              <p:cNvPr id="891" name=""/>
              <p:cNvSpPr/>
              <p:nvPr/>
            </p:nvSpPr>
            <p:spPr>
              <a:xfrm>
                <a:off x="5597640" y="4584600"/>
                <a:ext cx="3276360" cy="6858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597640" y="4584600"/>
                <a:ext cx="32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6861240" y="467028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6861240" y="3936600"/>
                <a:ext cx="0" cy="568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760880" y="4644000"/>
                <a:ext cx="1091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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60880" y="3958200"/>
                <a:ext cx="1091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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588640" y="3910680"/>
                <a:ext cx="1049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n, 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588640" y="4647240"/>
                <a:ext cx="1049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1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n, </a:t>
                </a:r>
                <a:r>
                  <a:rPr b="0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1" lang="en-GB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"/>
            <p:cNvSpPr/>
            <p:nvPr/>
          </p:nvSpPr>
          <p:spPr>
            <a:xfrm>
              <a:off x="177840" y="3429000"/>
              <a:ext cx="5130720" cy="34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he normal component of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is continuous at the surface of a discontinuity if there is no surface charge density. If there is surface charge density </a:t>
              </a: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 is discontinuous by an amount equal to the surface charge density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n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n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The normal component of B is continuous at the surface of discontinu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n,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7840" y="3505320"/>
              <a:ext cx="8813880" cy="3124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77840" y="838080"/>
            <a:ext cx="8813880" cy="259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1538A-0EF6-4675-95D2-60368B8B418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-360" y="203040"/>
            <a:ext cx="89154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of of boundary conditions - continu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2984400"/>
            <a:ext cx="83692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gral form of Faraday’s la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924280" y="3532320"/>
                <a:ext cx="2003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290520" y="4229280"/>
                <a:ext cx="78786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Δ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Δ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ΔxΔ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3137040" y="5859360"/>
                <a:ext cx="22431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907" name=""/>
          <p:cNvGrpSpPr/>
          <p:nvPr/>
        </p:nvGrpSpPr>
        <p:grpSpPr>
          <a:xfrm>
            <a:off x="7810560" y="3935880"/>
            <a:ext cx="669600" cy="522000"/>
            <a:chOff x="7810560" y="3935880"/>
            <a:chExt cx="669600" cy="522000"/>
          </a:xfrm>
        </p:grpSpPr>
        <p:sp>
          <p:nvSpPr>
            <p:cNvPr id="908" name=""/>
            <p:cNvSpPr/>
            <p:nvPr/>
          </p:nvSpPr>
          <p:spPr>
            <a:xfrm flipV="1">
              <a:off x="7810560" y="4203720"/>
              <a:ext cx="372960" cy="254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147160" y="393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457200" y="3872160"/>
            <a:ext cx="669600" cy="521280"/>
            <a:chOff x="457200" y="3872160"/>
            <a:chExt cx="669600" cy="521280"/>
          </a:xfrm>
        </p:grpSpPr>
        <p:sp>
          <p:nvSpPr>
            <p:cNvPr id="911" name=""/>
            <p:cNvSpPr/>
            <p:nvPr/>
          </p:nvSpPr>
          <p:spPr>
            <a:xfrm flipV="1">
              <a:off x="457200" y="4139640"/>
              <a:ext cx="372960" cy="253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93800" y="38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024520" y="3834000"/>
            <a:ext cx="669600" cy="521280"/>
            <a:chOff x="5024520" y="3834000"/>
            <a:chExt cx="669600" cy="521280"/>
          </a:xfrm>
        </p:grpSpPr>
        <p:sp>
          <p:nvSpPr>
            <p:cNvPr id="914" name=""/>
            <p:cNvSpPr/>
            <p:nvPr/>
          </p:nvSpPr>
          <p:spPr>
            <a:xfrm flipV="1">
              <a:off x="5024520" y="4101480"/>
              <a:ext cx="372960" cy="253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361120" y="3834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1768320" y="3834000"/>
            <a:ext cx="669600" cy="521280"/>
            <a:chOff x="1768320" y="3834000"/>
            <a:chExt cx="669600" cy="521280"/>
          </a:xfrm>
        </p:grpSpPr>
        <p:sp>
          <p:nvSpPr>
            <p:cNvPr id="917" name=""/>
            <p:cNvSpPr/>
            <p:nvPr/>
          </p:nvSpPr>
          <p:spPr>
            <a:xfrm flipV="1">
              <a:off x="1768320" y="4101480"/>
              <a:ext cx="372960" cy="253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04920" y="3834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4241880" y="4825080"/>
            <a:ext cx="728280" cy="459720"/>
            <a:chOff x="4241880" y="4825080"/>
            <a:chExt cx="728280" cy="459720"/>
          </a:xfrm>
        </p:grpSpPr>
        <p:sp>
          <p:nvSpPr>
            <p:cNvPr id="920" name=""/>
            <p:cNvSpPr/>
            <p:nvPr/>
          </p:nvSpPr>
          <p:spPr>
            <a:xfrm>
              <a:off x="4241880" y="4876920"/>
              <a:ext cx="43164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37160" y="4825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6040440" y="5238360"/>
            <a:ext cx="2874960" cy="1191240"/>
          </a:xfrm>
          <a:prstGeom prst="rect">
            <a:avLst/>
          </a:pr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is, the tangential component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523800" y="5140440"/>
                <a:ext cx="4754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t xml:space="preserve">Δy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∂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ΔxΔy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4" name=""/>
          <p:cNvGrpSpPr/>
          <p:nvPr/>
        </p:nvGrpSpPr>
        <p:grpSpPr>
          <a:xfrm>
            <a:off x="1015920" y="673200"/>
            <a:ext cx="7315200" cy="2311200"/>
            <a:chOff x="1015920" y="673200"/>
            <a:chExt cx="7315200" cy="2311200"/>
          </a:xfrm>
        </p:grpSpPr>
        <p:sp>
          <p:nvSpPr>
            <p:cNvPr id="925" name=""/>
            <p:cNvSpPr/>
            <p:nvPr/>
          </p:nvSpPr>
          <p:spPr>
            <a:xfrm>
              <a:off x="1015920" y="673200"/>
              <a:ext cx="7315200" cy="23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425600" y="1862280"/>
              <a:ext cx="6753240" cy="1074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086240" y="1739160"/>
              <a:ext cx="109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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086240" y="1324800"/>
              <a:ext cx="109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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01800" y="1384200"/>
              <a:ext cx="3286080" cy="95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797280" y="1384200"/>
              <a:ext cx="109548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3657600" y="2335320"/>
              <a:ext cx="1371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2701800" y="1980720"/>
              <a:ext cx="32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2701800" y="1503360"/>
              <a:ext cx="324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987880" y="1862280"/>
              <a:ext cx="324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987880" y="1503360"/>
              <a:ext cx="324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51240" y="1384200"/>
              <a:ext cx="0" cy="955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7" name=""/>
                <p:cNvSpPr txBox="1"/>
                <p:nvPr/>
              </p:nvSpPr>
              <p:spPr>
                <a:xfrm>
                  <a:off x="1838160" y="1560600"/>
                  <a:ext cx="61308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8" name=""/>
            <p:cNvSpPr/>
            <p:nvPr/>
          </p:nvSpPr>
          <p:spPr>
            <a:xfrm>
              <a:off x="2705040" y="1181160"/>
              <a:ext cx="3282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9" name=""/>
                <p:cNvSpPr txBox="1"/>
                <p:nvPr/>
              </p:nvSpPr>
              <p:spPr>
                <a:xfrm>
                  <a:off x="4116240" y="865080"/>
                  <a:ext cx="61308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0" name=""/>
                <p:cNvSpPr txBox="1"/>
                <p:nvPr/>
              </p:nvSpPr>
              <p:spPr>
                <a:xfrm>
                  <a:off x="2755800" y="1463760"/>
                  <a:ext cx="40032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1" name=""/>
                <p:cNvSpPr txBox="1"/>
                <p:nvPr/>
              </p:nvSpPr>
              <p:spPr>
                <a:xfrm>
                  <a:off x="2759040" y="1882800"/>
                  <a:ext cx="4478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2" name=""/>
                <p:cNvSpPr txBox="1"/>
                <p:nvPr/>
              </p:nvSpPr>
              <p:spPr>
                <a:xfrm>
                  <a:off x="4065480" y="2413080"/>
                  <a:ext cx="42732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3" name=""/>
                <p:cNvSpPr txBox="1"/>
                <p:nvPr/>
              </p:nvSpPr>
              <p:spPr>
                <a:xfrm>
                  <a:off x="4116240" y="1463760"/>
                  <a:ext cx="40176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4" name=""/>
                <p:cNvSpPr txBox="1"/>
                <p:nvPr/>
              </p:nvSpPr>
              <p:spPr>
                <a:xfrm>
                  <a:off x="5499000" y="1463760"/>
                  <a:ext cx="42696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5" name=""/>
                <p:cNvSpPr txBox="1"/>
                <p:nvPr/>
              </p:nvSpPr>
              <p:spPr>
                <a:xfrm>
                  <a:off x="5514840" y="1882800"/>
                  <a:ext cx="4478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46" name=""/>
            <p:cNvSpPr/>
            <p:nvPr/>
          </p:nvSpPr>
          <p:spPr>
            <a:xfrm>
              <a:off x="1270080" y="673200"/>
              <a:ext cx="7061040" cy="2311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3E47-9279-4FBA-82E8-DBCD289FF3D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203040" y="2936880"/>
            <a:ext cx="89409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mpere’s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of of boundary conditions - continuity of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851200" y="3495600"/>
                <a:ext cx="25574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155520" y="4186080"/>
                <a:ext cx="8826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Δ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Δ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ΔxΔ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622440" y="5114880"/>
                <a:ext cx="55530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t xml:space="preserve">Δy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/</m:t>
                        </m:r>
                        <m:r>
                          <m:t xml:space="preserve">∂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ΔxΔy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3079800" y="5859360"/>
                <a:ext cx="235728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6269040" y="5238360"/>
            <a:ext cx="2874960" cy="1191240"/>
          </a:xfrm>
          <a:prstGeom prst="rect">
            <a:avLst/>
          </a:pr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is, the tangential component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7512120" y="3618360"/>
            <a:ext cx="669600" cy="522000"/>
            <a:chOff x="7512120" y="3618360"/>
            <a:chExt cx="669600" cy="522000"/>
          </a:xfrm>
        </p:grpSpPr>
        <p:sp>
          <p:nvSpPr>
            <p:cNvPr id="955" name=""/>
            <p:cNvSpPr/>
            <p:nvPr/>
          </p:nvSpPr>
          <p:spPr>
            <a:xfrm flipV="1">
              <a:off x="7512120" y="3886200"/>
              <a:ext cx="372960" cy="254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848720" y="3618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914400" y="3821400"/>
            <a:ext cx="669600" cy="521280"/>
            <a:chOff x="914400" y="3821400"/>
            <a:chExt cx="669600" cy="521280"/>
          </a:xfrm>
        </p:grpSpPr>
        <p:sp>
          <p:nvSpPr>
            <p:cNvPr id="958" name=""/>
            <p:cNvSpPr/>
            <p:nvPr/>
          </p:nvSpPr>
          <p:spPr>
            <a:xfrm flipV="1">
              <a:off x="914400" y="4088880"/>
              <a:ext cx="372960" cy="253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51000" y="3821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5397480" y="3718080"/>
            <a:ext cx="669600" cy="521280"/>
            <a:chOff x="5397480" y="3718080"/>
            <a:chExt cx="669600" cy="521280"/>
          </a:xfrm>
        </p:grpSpPr>
        <p:sp>
          <p:nvSpPr>
            <p:cNvPr id="961" name=""/>
            <p:cNvSpPr/>
            <p:nvPr/>
          </p:nvSpPr>
          <p:spPr>
            <a:xfrm flipV="1">
              <a:off x="5397480" y="3985560"/>
              <a:ext cx="372960" cy="253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734080" y="3718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1976400" y="3770640"/>
            <a:ext cx="669600" cy="521280"/>
            <a:chOff x="1976400" y="3770640"/>
            <a:chExt cx="669600" cy="521280"/>
          </a:xfrm>
        </p:grpSpPr>
        <p:sp>
          <p:nvSpPr>
            <p:cNvPr id="964" name=""/>
            <p:cNvSpPr/>
            <p:nvPr/>
          </p:nvSpPr>
          <p:spPr>
            <a:xfrm flipV="1">
              <a:off x="1976400" y="4038120"/>
              <a:ext cx="372960" cy="253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313000" y="377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4294080" y="4781880"/>
            <a:ext cx="728280" cy="459720"/>
            <a:chOff x="4294080" y="4781880"/>
            <a:chExt cx="728280" cy="459720"/>
          </a:xfrm>
        </p:grpSpPr>
        <p:sp>
          <p:nvSpPr>
            <p:cNvPr id="967" name=""/>
            <p:cNvSpPr/>
            <p:nvPr/>
          </p:nvSpPr>
          <p:spPr>
            <a:xfrm>
              <a:off x="4294080" y="4833720"/>
              <a:ext cx="43164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689360" y="4781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1257480" y="673200"/>
            <a:ext cx="7061040" cy="2311200"/>
            <a:chOff x="1257480" y="673200"/>
            <a:chExt cx="7061040" cy="2311200"/>
          </a:xfrm>
        </p:grpSpPr>
        <p:sp>
          <p:nvSpPr>
            <p:cNvPr id="970" name=""/>
            <p:cNvSpPr/>
            <p:nvPr/>
          </p:nvSpPr>
          <p:spPr>
            <a:xfrm>
              <a:off x="1371600" y="1862280"/>
              <a:ext cx="6794640" cy="1074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073640" y="1739160"/>
              <a:ext cx="109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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73640" y="1324800"/>
              <a:ext cx="109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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89200" y="1384200"/>
              <a:ext cx="3286080" cy="95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784680" y="1384200"/>
              <a:ext cx="1095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3645000" y="2335320"/>
              <a:ext cx="1371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2689200" y="1980720"/>
              <a:ext cx="32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2689200" y="1503360"/>
              <a:ext cx="324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75280" y="1862280"/>
              <a:ext cx="324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75280" y="1503360"/>
              <a:ext cx="324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38280" y="1384200"/>
              <a:ext cx="0" cy="955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1" name=""/>
                <p:cNvSpPr txBox="1"/>
                <p:nvPr/>
              </p:nvSpPr>
              <p:spPr>
                <a:xfrm>
                  <a:off x="1825560" y="1560600"/>
                  <a:ext cx="61272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82" name=""/>
            <p:cNvSpPr/>
            <p:nvPr/>
          </p:nvSpPr>
          <p:spPr>
            <a:xfrm>
              <a:off x="2692440" y="1181160"/>
              <a:ext cx="3282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3938760" y="865080"/>
                  <a:ext cx="61272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4" name=""/>
                <p:cNvSpPr txBox="1"/>
                <p:nvPr/>
              </p:nvSpPr>
              <p:spPr>
                <a:xfrm>
                  <a:off x="2719440" y="1463760"/>
                  <a:ext cx="44748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5" name=""/>
                <p:cNvSpPr txBox="1"/>
                <p:nvPr/>
              </p:nvSpPr>
              <p:spPr>
                <a:xfrm>
                  <a:off x="2735280" y="1882800"/>
                  <a:ext cx="4698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6" name=""/>
                <p:cNvSpPr txBox="1"/>
                <p:nvPr/>
              </p:nvSpPr>
              <p:spPr>
                <a:xfrm>
                  <a:off x="4030560" y="2413080"/>
                  <a:ext cx="4716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7" name=""/>
                <p:cNvSpPr txBox="1"/>
                <p:nvPr/>
              </p:nvSpPr>
              <p:spPr>
                <a:xfrm>
                  <a:off x="4079880" y="1463760"/>
                  <a:ext cx="44928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8" name=""/>
                <p:cNvSpPr txBox="1"/>
                <p:nvPr/>
              </p:nvSpPr>
              <p:spPr>
                <a:xfrm>
                  <a:off x="5464080" y="1463760"/>
                  <a:ext cx="4716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9" name=""/>
                <p:cNvSpPr txBox="1"/>
                <p:nvPr/>
              </p:nvSpPr>
              <p:spPr>
                <a:xfrm>
                  <a:off x="5491080" y="1882800"/>
                  <a:ext cx="4716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90" name=""/>
            <p:cNvSpPr/>
            <p:nvPr/>
          </p:nvSpPr>
          <p:spPr>
            <a:xfrm>
              <a:off x="1257480" y="673200"/>
              <a:ext cx="7061040" cy="2311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ADBFB-868E-4DC3-9523-28FB0383732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/>
          </p:nvPr>
        </p:nvSpPr>
        <p:spPr>
          <a:xfrm>
            <a:off x="152280" y="3422520"/>
            <a:ext cx="805176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tegral form of Gauss’ law for electrostatics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203040"/>
            <a:ext cx="89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of of boundary conditions -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962000" y="3894120"/>
                <a:ext cx="21402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∯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∭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4" name=""/>
          <p:cNvSpPr/>
          <p:nvPr/>
        </p:nvSpPr>
        <p:spPr>
          <a:xfrm>
            <a:off x="165240" y="4317840"/>
            <a:ext cx="80517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ed to the box g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963720" y="4836960"/>
                <a:ext cx="4311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ΔxΔy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ΔxΔ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g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ΔxΔy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96" name=""/>
          <p:cNvGrpSpPr/>
          <p:nvPr/>
        </p:nvGrpSpPr>
        <p:grpSpPr>
          <a:xfrm>
            <a:off x="6481440" y="4020840"/>
            <a:ext cx="2179800" cy="1592640"/>
            <a:chOff x="6481440" y="4020840"/>
            <a:chExt cx="2179800" cy="1592640"/>
          </a:xfrm>
        </p:grpSpPr>
        <p:sp>
          <p:nvSpPr>
            <p:cNvPr id="997" name=""/>
            <p:cNvSpPr/>
            <p:nvPr/>
          </p:nvSpPr>
          <p:spPr>
            <a:xfrm flipV="1" rot="16200000">
              <a:off x="7480800" y="4094280"/>
              <a:ext cx="507960" cy="360360"/>
            </a:xfrm>
            <a:custGeom>
              <a:avLst/>
              <a:gdLst>
                <a:gd name="textAreaLeft" fmla="*/ 79200 w 507960"/>
                <a:gd name="textAreaRight" fmla="*/ 444600 w 50796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2f23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6481080" y="4745160"/>
              <a:ext cx="507960" cy="360360"/>
            </a:xfrm>
            <a:custGeom>
              <a:avLst/>
              <a:gdLst>
                <a:gd name="textAreaLeft" fmla="*/ 79200 w 507960"/>
                <a:gd name="textAreaRight" fmla="*/ 444600 w 50796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2f23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686640" y="4610160"/>
              <a:ext cx="1350720" cy="728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153280" y="4592520"/>
              <a:ext cx="507960" cy="360360"/>
            </a:xfrm>
            <a:custGeom>
              <a:avLst/>
              <a:gdLst>
                <a:gd name="textAreaLeft" fmla="*/ 79200 w 507960"/>
                <a:gd name="textAreaRight" fmla="*/ 444600 w 50796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2f23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5400000">
              <a:off x="7145640" y="5179320"/>
              <a:ext cx="507960" cy="360360"/>
            </a:xfrm>
            <a:custGeom>
              <a:avLst/>
              <a:gdLst>
                <a:gd name="textAreaLeft" fmla="*/ 79200 w 507960"/>
                <a:gd name="textAreaRight" fmla="*/ 444600 w 507960"/>
                <a:gd name="textAreaTop" fmla="*/ 90000 h 360360"/>
                <a:gd name="textAreaBottom" fmla="*/ 27036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2f23"/>
                </a:gs>
                <a:gs pos="100000">
                  <a:srgbClr val="00cc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246480" y="4317480"/>
            <a:ext cx="3198600" cy="979920"/>
            <a:chOff x="3246480" y="4317480"/>
            <a:chExt cx="3198600" cy="979920"/>
          </a:xfrm>
        </p:grpSpPr>
        <p:sp>
          <p:nvSpPr>
            <p:cNvPr id="1003" name=""/>
            <p:cNvSpPr/>
            <p:nvPr/>
          </p:nvSpPr>
          <p:spPr>
            <a:xfrm>
              <a:off x="3246480" y="4367160"/>
              <a:ext cx="3179880" cy="930240"/>
            </a:xfrm>
            <a:custGeom>
              <a:avLst/>
              <a:gdLst/>
              <a:ahLst/>
              <a:rect l="l" t="t" r="r" b="b"/>
              <a:pathLst>
                <a:path w="2003" h="586">
                  <a:moveTo>
                    <a:pt x="267" y="265"/>
                  </a:moveTo>
                  <a:cubicBezTo>
                    <a:pt x="300" y="293"/>
                    <a:pt x="444" y="388"/>
                    <a:pt x="467" y="433"/>
                  </a:cubicBezTo>
                  <a:cubicBezTo>
                    <a:pt x="490" y="478"/>
                    <a:pt x="460" y="518"/>
                    <a:pt x="403" y="537"/>
                  </a:cubicBezTo>
                  <a:cubicBezTo>
                    <a:pt x="346" y="556"/>
                    <a:pt x="171" y="586"/>
                    <a:pt x="123" y="545"/>
                  </a:cubicBezTo>
                  <a:cubicBezTo>
                    <a:pt x="75" y="504"/>
                    <a:pt x="0" y="380"/>
                    <a:pt x="115" y="289"/>
                  </a:cubicBezTo>
                  <a:cubicBezTo>
                    <a:pt x="230" y="198"/>
                    <a:pt x="496" y="0"/>
                    <a:pt x="811" y="1"/>
                  </a:cubicBezTo>
                  <a:cubicBezTo>
                    <a:pt x="1126" y="2"/>
                    <a:pt x="1755" y="235"/>
                    <a:pt x="2003" y="297"/>
                  </a:cubicBezTo>
                </a:path>
              </a:pathLst>
            </a:custGeom>
            <a:noFill/>
            <a:ln w="38160">
              <a:solidFill>
                <a:srgbClr val="00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4546440" y="4317480"/>
              <a:ext cx="1879920" cy="4932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46440" y="4367160"/>
              <a:ext cx="1898640" cy="73836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46440" y="4367160"/>
              <a:ext cx="1879920" cy="162000"/>
            </a:xfrm>
            <a:prstGeom prst="line">
              <a:avLst/>
            </a:prstGeom>
            <a:ln w="38160">
              <a:solidFill>
                <a:srgbClr val="00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5200" y="5308560"/>
                <a:ext cx="249228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t xml:space="preserve">dz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ge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8" name=""/>
          <p:cNvSpPr/>
          <p:nvPr/>
        </p:nvSpPr>
        <p:spPr>
          <a:xfrm>
            <a:off x="2714760" y="5246640"/>
            <a:ext cx="27540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1854360" y="5819760"/>
                <a:ext cx="17319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3865680" y="5767920"/>
            <a:ext cx="5049720" cy="703800"/>
          </a:xfrm>
          <a:prstGeom prst="rect">
            <a:avLst/>
          </a:pr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hange in the normal component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t a boundary is equal to the surface charge d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368960" y="1181160"/>
            <a:ext cx="2076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5468760" y="1012680"/>
                <a:ext cx="36216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3" name=""/>
          <p:cNvSpPr/>
          <p:nvPr/>
        </p:nvSpPr>
        <p:spPr>
          <a:xfrm>
            <a:off x="3695760" y="2463840"/>
            <a:ext cx="212076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1905120" y="1473120"/>
            <a:ext cx="6807240" cy="1117800"/>
          </a:xfrm>
          <a:custGeom>
            <a:avLst/>
            <a:gdLst/>
            <a:ahLst/>
            <a:rect l="l" t="t" r="r" b="b"/>
            <a:pathLst>
              <a:path w="4288" h="704">
                <a:moveTo>
                  <a:pt x="3578" y="704"/>
                </a:moveTo>
                <a:lnTo>
                  <a:pt x="4288" y="0"/>
                </a:lnTo>
                <a:lnTo>
                  <a:pt x="688" y="16"/>
                </a:lnTo>
                <a:lnTo>
                  <a:pt x="0" y="704"/>
                </a:lnTo>
                <a:lnTo>
                  <a:pt x="3578" y="70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695760" y="1943280"/>
            <a:ext cx="2120760" cy="520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62720" y="1824120"/>
            <a:ext cx="0" cy="5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6229440" y="2343240"/>
            <a:ext cx="231840" cy="247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5938560" y="234324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5816520" y="246348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695760" y="246348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67040" y="2392920"/>
            <a:ext cx="109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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84680" y="2107440"/>
            <a:ext cx="109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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181480" y="875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5181480" y="24192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181480" y="1371600"/>
            <a:ext cx="0" cy="12081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4721400" y="736560"/>
                <a:ext cx="43488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4726080" y="3060720"/>
                <a:ext cx="4554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8" name=""/>
          <p:cNvSpPr/>
          <p:nvPr/>
        </p:nvSpPr>
        <p:spPr>
          <a:xfrm>
            <a:off x="3479760" y="1943280"/>
            <a:ext cx="0" cy="104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3308400" y="2313000"/>
                <a:ext cx="334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0" name=""/>
          <p:cNvSpPr/>
          <p:nvPr/>
        </p:nvSpPr>
        <p:spPr>
          <a:xfrm flipH="1">
            <a:off x="3467160" y="1301760"/>
            <a:ext cx="63504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3503520" y="1501920"/>
                <a:ext cx="3621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2" name=""/>
          <p:cNvSpPr/>
          <p:nvPr/>
        </p:nvSpPr>
        <p:spPr>
          <a:xfrm>
            <a:off x="1854360" y="673200"/>
            <a:ext cx="7061040" cy="2749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5009-90F8-47E4-971A-2F63DC4A5B2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253800" y="1396800"/>
            <a:ext cx="8737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an insulator with no static electric charge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3327480" y="987480"/>
                <a:ext cx="17319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5" name="PlaceHolder 2"/>
          <p:cNvSpPr>
            <a:spLocks noGrp="1"/>
          </p:cNvSpPr>
          <p:nvPr>
            <p:ph type="title"/>
          </p:nvPr>
        </p:nvSpPr>
        <p:spPr>
          <a:xfrm>
            <a:off x="-360" y="431280"/>
            <a:ext cx="899172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of of boundary conditions -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6" name=""/>
              <p:cNvSpPr txBox="1"/>
              <p:nvPr/>
            </p:nvSpPr>
            <p:spPr>
              <a:xfrm>
                <a:off x="3701880" y="1930320"/>
                <a:ext cx="1194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7" name=""/>
          <p:cNvSpPr/>
          <p:nvPr/>
        </p:nvSpPr>
        <p:spPr>
          <a:xfrm>
            <a:off x="254160" y="2577960"/>
            <a:ext cx="8737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a conductor all charge flows to the surface and for an infinite, plane surface is uniformly distributed with area charge density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a good conductor,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large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 hence if medium 2 is a good co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3701880" y="5219640"/>
                <a:ext cx="10544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BAF9-05E8-4728-AA7F-A291B5DF208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3835440" y="4165560"/>
            <a:ext cx="1360440" cy="444600"/>
          </a:xfrm>
          <a:prstGeom prst="rect">
            <a:avLst/>
          </a:pr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431640"/>
            <a:ext cx="8991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of of boundary conditions -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B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06440" y="1149480"/>
            <a:ext cx="805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of follows same argument as for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page 4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tegral form of Gauss’ law for magnetostatics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90320" indent="-1886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are no isolated magnetic p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2" name=""/>
              <p:cNvSpPr txBox="1"/>
              <p:nvPr/>
            </p:nvSpPr>
            <p:spPr>
              <a:xfrm>
                <a:off x="2965320" y="2317680"/>
                <a:ext cx="13255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∯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041480" y="3683160"/>
                <a:ext cx="4154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xΔy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xΔ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dg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4" name=""/>
          <p:cNvSpPr/>
          <p:nvPr/>
        </p:nvSpPr>
        <p:spPr>
          <a:xfrm>
            <a:off x="1706400" y="5288400"/>
            <a:ext cx="5050080" cy="703800"/>
          </a:xfrm>
          <a:prstGeom prst="rect">
            <a:avLst/>
          </a:pr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ormal component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t a boundary is always continuous at a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B7A5-FA4D-4A89-89E5-2CD0E19D259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piction of fields propagating from an accelerating point char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58669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92520" indent="-92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elds propagate at c=1/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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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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/s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920" y="2235240"/>
            <a:ext cx="6399360" cy="3557520"/>
            <a:chOff x="304920" y="2235240"/>
            <a:chExt cx="6399360" cy="35575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304920" y="2235240"/>
              <a:ext cx="5333760" cy="355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" name=""/>
            <p:cNvGrpSpPr/>
            <p:nvPr/>
          </p:nvGrpSpPr>
          <p:grpSpPr>
            <a:xfrm>
              <a:off x="981000" y="2743200"/>
              <a:ext cx="5104080" cy="2516040"/>
              <a:chOff x="981000" y="2743200"/>
              <a:chExt cx="5104080" cy="25160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981000" y="2743200"/>
                <a:ext cx="2508480" cy="2516040"/>
                <a:chOff x="981000" y="2743200"/>
                <a:chExt cx="2508480" cy="2516040"/>
              </a:xfrm>
            </p:grpSpPr>
            <p:grpSp>
              <p:nvGrpSpPr>
                <p:cNvPr id="88" name=""/>
                <p:cNvGrpSpPr/>
                <p:nvPr/>
              </p:nvGrpSpPr>
              <p:grpSpPr>
                <a:xfrm>
                  <a:off x="1050840" y="2743200"/>
                  <a:ext cx="2438640" cy="914400"/>
                  <a:chOff x="1050840" y="2743200"/>
                  <a:chExt cx="2438640" cy="91440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1050840" y="2743200"/>
                    <a:ext cx="2438640" cy="9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36" h="576">
                        <a:moveTo>
                          <a:pt x="96" y="240"/>
                        </a:moveTo>
                        <a:cubicBezTo>
                          <a:pt x="192" y="152"/>
                          <a:pt x="480" y="0"/>
                          <a:pt x="672" y="0"/>
                        </a:cubicBezTo>
                        <a:cubicBezTo>
                          <a:pt x="864" y="0"/>
                          <a:pt x="1104" y="152"/>
                          <a:pt x="1248" y="240"/>
                        </a:cubicBezTo>
                        <a:cubicBezTo>
                          <a:pt x="1392" y="328"/>
                          <a:pt x="1532" y="489"/>
                          <a:pt x="1536" y="528"/>
                        </a:cubicBezTo>
                        <a:cubicBezTo>
                          <a:pt x="1536" y="576"/>
                          <a:pt x="1271" y="477"/>
                          <a:pt x="1271" y="477"/>
                        </a:cubicBezTo>
                        <a:cubicBezTo>
                          <a:pt x="1121" y="425"/>
                          <a:pt x="1051" y="353"/>
                          <a:pt x="951" y="353"/>
                        </a:cubicBezTo>
                        <a:cubicBezTo>
                          <a:pt x="851" y="353"/>
                          <a:pt x="814" y="451"/>
                          <a:pt x="672" y="480"/>
                        </a:cubicBezTo>
                        <a:cubicBezTo>
                          <a:pt x="672" y="480"/>
                          <a:pt x="192" y="568"/>
                          <a:pt x="96" y="528"/>
                        </a:cubicBezTo>
                        <a:cubicBezTo>
                          <a:pt x="0" y="488"/>
                          <a:pt x="0" y="328"/>
                          <a:pt x="96" y="240"/>
                        </a:cubicBezTo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 flipH="1">
                    <a:off x="1432080" y="2819520"/>
                    <a:ext cx="380880" cy="152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981000" y="4343400"/>
                  <a:ext cx="2432160" cy="915840"/>
                </a:xfrm>
                <a:custGeom>
                  <a:avLst/>
                  <a:gdLst/>
                  <a:ahLst/>
                  <a:rect l="l" t="t" r="r" b="b"/>
                  <a:pathLst>
                    <a:path w="1532" h="577">
                      <a:moveTo>
                        <a:pt x="167" y="343"/>
                      </a:moveTo>
                      <a:cubicBezTo>
                        <a:pt x="263" y="431"/>
                        <a:pt x="489" y="577"/>
                        <a:pt x="668" y="576"/>
                      </a:cubicBezTo>
                      <a:cubicBezTo>
                        <a:pt x="860" y="576"/>
                        <a:pt x="1100" y="424"/>
                        <a:pt x="1244" y="336"/>
                      </a:cubicBezTo>
                      <a:cubicBezTo>
                        <a:pt x="1388" y="248"/>
                        <a:pt x="1519" y="91"/>
                        <a:pt x="1532" y="48"/>
                      </a:cubicBezTo>
                      <a:cubicBezTo>
                        <a:pt x="1532" y="0"/>
                        <a:pt x="1320" y="78"/>
                        <a:pt x="1320" y="78"/>
                      </a:cubicBezTo>
                      <a:cubicBezTo>
                        <a:pt x="1170" y="130"/>
                        <a:pt x="1133" y="207"/>
                        <a:pt x="1024" y="210"/>
                      </a:cubicBezTo>
                      <a:cubicBezTo>
                        <a:pt x="924" y="212"/>
                        <a:pt x="875" y="120"/>
                        <a:pt x="720" y="93"/>
                      </a:cubicBezTo>
                      <a:cubicBezTo>
                        <a:pt x="720" y="93"/>
                        <a:pt x="184" y="6"/>
                        <a:pt x="92" y="48"/>
                      </a:cubicBezTo>
                      <a:cubicBezTo>
                        <a:pt x="0" y="90"/>
                        <a:pt x="71" y="255"/>
                        <a:pt x="167" y="343"/>
                      </a:cubicBez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 flipV="1">
                  <a:off x="1355760" y="5028840"/>
                  <a:ext cx="380880" cy="15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3566520" y="3275640"/>
                <a:ext cx="2518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E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in plane of p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3871800" y="4494600"/>
              <a:ext cx="283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H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in and out of p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66920" y="4495680"/>
              <a:ext cx="60984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090960" y="4724280"/>
              <a:ext cx="609480" cy="152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A463-CBCA-4CAE-8634-BF4028923B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0" y="44460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6 Conditions at a perfect condu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17520" y="1003320"/>
            <a:ext cx="84456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a perfect conduct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s infi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actical conductors (copper, aluminium silver) have very larg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field solutions assuming infinit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can be accurate enough for many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ite values of conductivity are important in calculating Ohmic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a conducting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init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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nfinit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practically,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very large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very small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)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s fin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C3EC-B02F-4F8E-A956-85B479EFFBB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-360" y="477360"/>
            <a:ext cx="8991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18680" y="1003320"/>
            <a:ext cx="8572680" cy="15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will be shown that at high frequencie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confined to a surface layer with a depth known as the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kin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increasing frequency and conductivity the skin depth, 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ecomes thi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0" y="444600"/>
            <a:ext cx="9144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.6 Conditions at a perfect condu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266040" y="2837520"/>
            <a:ext cx="8404920" cy="2242440"/>
            <a:chOff x="266040" y="2837520"/>
            <a:chExt cx="8404920" cy="2242440"/>
          </a:xfrm>
        </p:grpSpPr>
        <p:sp>
          <p:nvSpPr>
            <p:cNvPr id="1051" name=""/>
            <p:cNvSpPr/>
            <p:nvPr/>
          </p:nvSpPr>
          <p:spPr>
            <a:xfrm>
              <a:off x="1523880" y="3556080"/>
              <a:ext cx="2730600" cy="1320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b0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76840" y="3556080"/>
              <a:ext cx="2730600" cy="253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676840" y="3809880"/>
              <a:ext cx="2730600" cy="1067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295280" y="4052880"/>
              <a:ext cx="321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Times New Roman"/>
                </a:rPr>
                <a:t>Lower frequencies, smaller </a:t>
              </a:r>
              <a:r>
                <a:rPr b="0" lang="en-GB" sz="24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459400" y="4052880"/>
              <a:ext cx="3211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ffff"/>
                  </a:solidFill>
                  <a:latin typeface="Times New Roman"/>
                </a:rPr>
                <a:t>Higher frequencies, larger </a:t>
              </a:r>
              <a:r>
                <a:rPr b="0" lang="en-GB" sz="2400" spc="-1" strike="noStrike">
                  <a:solidFill>
                    <a:srgbClr val="ccffff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295280" y="355608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054080" y="3859560"/>
              <a:ext cx="469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60840" y="323856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flipV="1">
              <a:off x="5459400" y="3758760"/>
              <a:ext cx="144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25880" y="3453480"/>
              <a:ext cx="470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en-GB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66040" y="2837520"/>
              <a:ext cx="181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cc66"/>
                  </a:solidFill>
                  <a:latin typeface="Times New Roman"/>
                </a:rPr>
                <a:t>Current she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133720" y="3097080"/>
              <a:ext cx="736560" cy="293760"/>
            </a:xfrm>
            <a:custGeom>
              <a:avLst/>
              <a:gdLst/>
              <a:ahLst/>
              <a:rect l="l" t="t" r="r" b="b"/>
              <a:pathLst>
                <a:path w="464" h="185">
                  <a:moveTo>
                    <a:pt x="0" y="33"/>
                  </a:moveTo>
                  <a:cubicBezTo>
                    <a:pt x="105" y="16"/>
                    <a:pt x="211" y="0"/>
                    <a:pt x="288" y="25"/>
                  </a:cubicBezTo>
                  <a:cubicBezTo>
                    <a:pt x="365" y="50"/>
                    <a:pt x="433" y="157"/>
                    <a:pt x="464" y="185"/>
                  </a:cubicBezTo>
                </a:path>
              </a:pathLst>
            </a:custGeom>
            <a:noFill/>
            <a:ln w="28440">
              <a:solidFill>
                <a:srgbClr val="00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158920" y="2960640"/>
              <a:ext cx="4305240" cy="506520"/>
            </a:xfrm>
            <a:custGeom>
              <a:avLst/>
              <a:gdLst/>
              <a:ahLst/>
              <a:rect l="l" t="t" r="r" b="b"/>
              <a:pathLst>
                <a:path w="2712" h="319">
                  <a:moveTo>
                    <a:pt x="0" y="87"/>
                  </a:moveTo>
                  <a:cubicBezTo>
                    <a:pt x="730" y="43"/>
                    <a:pt x="1460" y="0"/>
                    <a:pt x="1912" y="39"/>
                  </a:cubicBezTo>
                  <a:cubicBezTo>
                    <a:pt x="2364" y="78"/>
                    <a:pt x="2538" y="198"/>
                    <a:pt x="2712" y="319"/>
                  </a:cubicBezTo>
                </a:path>
              </a:pathLst>
            </a:custGeom>
            <a:noFill/>
            <a:ln w="28440">
              <a:solidFill>
                <a:srgbClr val="00cc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66760" y="2838600"/>
              <a:ext cx="8404200" cy="2241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380880" y="5079960"/>
            <a:ext cx="857268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becomes more appropriate to consider the current density in terms of current per unit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2519280" y="5979960"/>
                <a:ext cx="22417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  <m:r>
                          <m:t xml:space="preserve">Jδ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/m</m:t>
                        </m:r>
                      </m:e>
                      <m:e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D31FC-C26A-4A9E-BC4F-9F0B4262A6F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/>
          </p:nvPr>
        </p:nvSpPr>
        <p:spPr>
          <a:xfrm>
            <a:off x="203040" y="2936880"/>
            <a:ext cx="89409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mpere’s la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3378240" y="3141720"/>
                <a:ext cx="25574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s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155520" y="3995640"/>
                <a:ext cx="8826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Δ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3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4</m:t>
                        </m:r>
                      </m:sub>
                    </m:sSub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Δ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e>
                    </m:d>
                    <m:r>
                      <m:t xml:space="preserve">ΔxΔ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647640" y="4983120"/>
                <a:ext cx="7658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</m:t>
                    </m:r>
                    <m:r>
                      <m:t xml:space="preserve"> </m:t>
                    </m:r>
                    <m:r>
                      <m:t xml:space="preserve">Δy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∂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/</m:t>
                    </m:r>
                    <m:r>
                      <m:t xml:space="preserve">∂</m:t>
                    </m:r>
                    <m:r>
                      <m:t xml:space="preserve">t</m:t>
                    </m:r>
                    <m:r>
                      <m:t xml:space="preserve">ΔxΔy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ΔxΔy</m:t>
                    </m:r>
                    <m:r>
                      <m:t xml:space="preserve">→</m:t>
                    </m:r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1230480" y="5970600"/>
                <a:ext cx="1950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2" name=""/>
          <p:cNvSpPr/>
          <p:nvPr/>
        </p:nvSpPr>
        <p:spPr>
          <a:xfrm>
            <a:off x="3784680" y="5613120"/>
            <a:ext cx="5359320" cy="1191240"/>
          </a:xfrm>
          <a:prstGeom prst="rect">
            <a:avLst/>
          </a:prstGeom>
          <a:solidFill>
            <a:srgbClr val="ffbb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at is, the tangential component of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s discontinuous by an amount equal to the surface current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7682040" y="3402720"/>
            <a:ext cx="1098000" cy="546480"/>
            <a:chOff x="7682040" y="3402720"/>
            <a:chExt cx="1098000" cy="546480"/>
          </a:xfrm>
        </p:grpSpPr>
        <p:sp>
          <p:nvSpPr>
            <p:cNvPr id="1074" name=""/>
            <p:cNvSpPr/>
            <p:nvPr/>
          </p:nvSpPr>
          <p:spPr>
            <a:xfrm flipV="1">
              <a:off x="7682040" y="3695400"/>
              <a:ext cx="372960" cy="253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995960" y="3402720"/>
              <a:ext cx="78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ff3300"/>
                  </a:solidFill>
                  <a:latin typeface="Times New Roman"/>
                </a:rPr>
                <a:t>J</a:t>
              </a:r>
              <a:r>
                <a:rPr b="0" lang="en-GB" sz="2400" spc="-1" strike="noStrike" baseline="-25000">
                  <a:solidFill>
                    <a:srgbClr val="ff3300"/>
                  </a:solidFill>
                  <a:latin typeface="Times New Roman"/>
                </a:rPr>
                <a:t>sz</a:t>
              </a:r>
              <a:r>
                <a:rPr b="0" i="1" lang="en-GB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</a:t>
              </a:r>
              <a:r>
                <a:rPr b="0" i="1" lang="en-GB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914400" y="3630960"/>
            <a:ext cx="669600" cy="522000"/>
            <a:chOff x="914400" y="3630960"/>
            <a:chExt cx="669600" cy="522000"/>
          </a:xfrm>
        </p:grpSpPr>
        <p:sp>
          <p:nvSpPr>
            <p:cNvPr id="1077" name=""/>
            <p:cNvSpPr/>
            <p:nvPr/>
          </p:nvSpPr>
          <p:spPr>
            <a:xfrm flipV="1">
              <a:off x="914400" y="3898800"/>
              <a:ext cx="372960" cy="254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51000" y="363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5397480" y="3527640"/>
            <a:ext cx="669600" cy="521280"/>
            <a:chOff x="5397480" y="3527640"/>
            <a:chExt cx="669600" cy="521280"/>
          </a:xfrm>
        </p:grpSpPr>
        <p:sp>
          <p:nvSpPr>
            <p:cNvPr id="1080" name=""/>
            <p:cNvSpPr/>
            <p:nvPr/>
          </p:nvSpPr>
          <p:spPr>
            <a:xfrm flipV="1">
              <a:off x="5397480" y="3795120"/>
              <a:ext cx="372960" cy="253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34080" y="3527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1976400" y="3580200"/>
            <a:ext cx="669600" cy="522000"/>
            <a:chOff x="1976400" y="3580200"/>
            <a:chExt cx="669600" cy="522000"/>
          </a:xfrm>
        </p:grpSpPr>
        <p:sp>
          <p:nvSpPr>
            <p:cNvPr id="1083" name=""/>
            <p:cNvSpPr/>
            <p:nvPr/>
          </p:nvSpPr>
          <p:spPr>
            <a:xfrm flipV="1">
              <a:off x="1976400" y="3848040"/>
              <a:ext cx="372960" cy="2541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313000" y="3580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4294080" y="4591440"/>
            <a:ext cx="728280" cy="459720"/>
            <a:chOff x="4294080" y="4591440"/>
            <a:chExt cx="728280" cy="459720"/>
          </a:xfrm>
        </p:grpSpPr>
        <p:sp>
          <p:nvSpPr>
            <p:cNvPr id="1086" name=""/>
            <p:cNvSpPr/>
            <p:nvPr/>
          </p:nvSpPr>
          <p:spPr>
            <a:xfrm>
              <a:off x="4294080" y="4643280"/>
              <a:ext cx="431640" cy="152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689360" y="459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1257480" y="673200"/>
            <a:ext cx="7061040" cy="2311200"/>
            <a:chOff x="1257480" y="673200"/>
            <a:chExt cx="7061040" cy="2311200"/>
          </a:xfrm>
        </p:grpSpPr>
        <p:sp>
          <p:nvSpPr>
            <p:cNvPr id="1089" name=""/>
            <p:cNvSpPr/>
            <p:nvPr/>
          </p:nvSpPr>
          <p:spPr>
            <a:xfrm>
              <a:off x="1371600" y="1862280"/>
              <a:ext cx="6794640" cy="1074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073640" y="1739160"/>
              <a:ext cx="109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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073640" y="1324800"/>
              <a:ext cx="109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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689200" y="1384200"/>
              <a:ext cx="3286080" cy="95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784680" y="1384200"/>
              <a:ext cx="1095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3645000" y="2335320"/>
              <a:ext cx="1371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89200" y="1980720"/>
              <a:ext cx="324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689200" y="1503360"/>
              <a:ext cx="324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75280" y="1862280"/>
              <a:ext cx="324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975280" y="1503360"/>
              <a:ext cx="3240" cy="23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38280" y="1384200"/>
              <a:ext cx="0" cy="9558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0" name=""/>
                <p:cNvSpPr txBox="1"/>
                <p:nvPr/>
              </p:nvSpPr>
              <p:spPr>
                <a:xfrm>
                  <a:off x="1825560" y="1560600"/>
                  <a:ext cx="612720" cy="56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01" name=""/>
            <p:cNvSpPr/>
            <p:nvPr/>
          </p:nvSpPr>
          <p:spPr>
            <a:xfrm>
              <a:off x="2692440" y="1181160"/>
              <a:ext cx="32828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2" name=""/>
                <p:cNvSpPr txBox="1"/>
                <p:nvPr/>
              </p:nvSpPr>
              <p:spPr>
                <a:xfrm>
                  <a:off x="3938760" y="865080"/>
                  <a:ext cx="612720" cy="48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3" name=""/>
                <p:cNvSpPr txBox="1"/>
                <p:nvPr/>
              </p:nvSpPr>
              <p:spPr>
                <a:xfrm>
                  <a:off x="2719440" y="1463760"/>
                  <a:ext cx="44748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4" name=""/>
                <p:cNvSpPr txBox="1"/>
                <p:nvPr/>
              </p:nvSpPr>
              <p:spPr>
                <a:xfrm>
                  <a:off x="2735280" y="1882800"/>
                  <a:ext cx="4698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5" name=""/>
                <p:cNvSpPr txBox="1"/>
                <p:nvPr/>
              </p:nvSpPr>
              <p:spPr>
                <a:xfrm>
                  <a:off x="4030560" y="2413080"/>
                  <a:ext cx="4716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6" name=""/>
                <p:cNvSpPr txBox="1"/>
                <p:nvPr/>
              </p:nvSpPr>
              <p:spPr>
                <a:xfrm>
                  <a:off x="4079880" y="1463760"/>
                  <a:ext cx="44928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x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7" name=""/>
                <p:cNvSpPr txBox="1"/>
                <p:nvPr/>
              </p:nvSpPr>
              <p:spPr>
                <a:xfrm>
                  <a:off x="5464080" y="1463760"/>
                  <a:ext cx="4716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5491080" y="1882800"/>
                  <a:ext cx="47160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y</m:t>
                          </m:r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09" name=""/>
            <p:cNvSpPr/>
            <p:nvPr/>
          </p:nvSpPr>
          <p:spPr>
            <a:xfrm>
              <a:off x="1257480" y="673200"/>
              <a:ext cx="7061040" cy="2311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0" y="114480"/>
            <a:ext cx="91440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ditions at a perfect conductor cont. (page 47 revisi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639FC-1345-4781-84BC-85534E2A7A4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/>
          </p:nvPr>
        </p:nvSpPr>
        <p:spPr>
          <a:xfrm>
            <a:off x="177480" y="972720"/>
            <a:ext cx="848340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om Maxwell’s equ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n a conductor E=0 then dE/dT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title"/>
          </p:nvPr>
        </p:nvSpPr>
        <p:spPr>
          <a:xfrm>
            <a:off x="0" y="329760"/>
            <a:ext cx="914400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ditions at a perfect conductor cont. (page 47 revisited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811600" y="2052720"/>
                <a:ext cx="1660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2811600" y="3735360"/>
                <a:ext cx="12031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5" name=""/>
          <p:cNvSpPr/>
          <p:nvPr/>
        </p:nvSpPr>
        <p:spPr>
          <a:xfrm>
            <a:off x="177840" y="2711520"/>
            <a:ext cx="84834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it has no time-varying component and also cannot be established from ze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58720" y="4089240"/>
            <a:ext cx="8483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urrent per unit width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s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long the surface of a perfect conductor is equal to the magnetic field just outside the surf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the surface normal,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are mutually perpendicu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3224160" y="6134040"/>
                <a:ext cx="1317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8363-BCA4-4C99-842C-DD6D0EB7C9C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mmary of Boundary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2000160" y="939960"/>
                <a:ext cx="1170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4572000" y="939960"/>
                <a:ext cx="187164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3842280" y="15357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099440" y="538560"/>
            <a:ext cx="62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t a boundary between non-conducting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3092400" y="3130560"/>
                <a:ext cx="202896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1601640" y="2672280"/>
            <a:ext cx="43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t a metallic boundary (large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1543680" y="471060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t a perfectly conducting bound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3508200" y="5105520"/>
                <a:ext cx="12970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8872B-1CD6-4C98-8A4C-001CFC8DC30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.6.1 The wave equation for a conducting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82400" y="952560"/>
            <a:ext cx="866124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isit page 8 derivation of the wave equation with J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927680" y="1549440"/>
                <a:ext cx="1589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2011320" y="1549440"/>
                <a:ext cx="1873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57200" y="2340000"/>
            <a:ext cx="7480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on page 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447920" y="2638440"/>
                <a:ext cx="56451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447920" y="3625920"/>
                <a:ext cx="3801960" cy="25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σ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ε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4" name=""/>
          <p:cNvSpPr/>
          <p:nvPr/>
        </p:nvSpPr>
        <p:spPr>
          <a:xfrm>
            <a:off x="3246480" y="2260440"/>
            <a:ext cx="3446280" cy="559080"/>
          </a:xfrm>
          <a:custGeom>
            <a:avLst/>
            <a:gdLst/>
            <a:ahLst/>
            <a:rect l="l" t="t" r="r" b="b"/>
            <a:pathLst>
              <a:path w="2171" h="352">
                <a:moveTo>
                  <a:pt x="115" y="0"/>
                </a:moveTo>
                <a:cubicBezTo>
                  <a:pt x="57" y="64"/>
                  <a:pt x="0" y="129"/>
                  <a:pt x="291" y="160"/>
                </a:cubicBezTo>
                <a:cubicBezTo>
                  <a:pt x="582" y="191"/>
                  <a:pt x="1547" y="152"/>
                  <a:pt x="1859" y="184"/>
                </a:cubicBezTo>
                <a:cubicBezTo>
                  <a:pt x="2171" y="216"/>
                  <a:pt x="2167" y="284"/>
                  <a:pt x="2163" y="3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6932520" y="4255920"/>
                <a:ext cx="905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σE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ε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6" name=""/>
          <p:cNvSpPr/>
          <p:nvPr/>
        </p:nvSpPr>
        <p:spPr>
          <a:xfrm>
            <a:off x="3733920" y="4406760"/>
            <a:ext cx="3174840" cy="203400"/>
          </a:xfrm>
          <a:custGeom>
            <a:avLst/>
            <a:gdLst/>
            <a:ahLst/>
            <a:rect l="l" t="t" r="r" b="b"/>
            <a:pathLst>
              <a:path w="2000" h="128">
                <a:moveTo>
                  <a:pt x="2000" y="0"/>
                </a:moveTo>
                <a:cubicBezTo>
                  <a:pt x="1892" y="7"/>
                  <a:pt x="1627" y="35"/>
                  <a:pt x="1360" y="40"/>
                </a:cubicBezTo>
                <a:cubicBezTo>
                  <a:pt x="1093" y="45"/>
                  <a:pt x="627" y="17"/>
                  <a:pt x="400" y="32"/>
                </a:cubicBezTo>
                <a:cubicBezTo>
                  <a:pt x="173" y="47"/>
                  <a:pt x="83" y="108"/>
                  <a:pt x="0" y="1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927680" y="4608360"/>
            <a:ext cx="1968480" cy="166680"/>
          </a:xfrm>
          <a:custGeom>
            <a:avLst/>
            <a:gdLst/>
            <a:ahLst/>
            <a:rect l="l" t="t" r="r" b="b"/>
            <a:pathLst>
              <a:path w="1240" h="105">
                <a:moveTo>
                  <a:pt x="1240" y="105"/>
                </a:moveTo>
                <a:cubicBezTo>
                  <a:pt x="1100" y="89"/>
                  <a:pt x="607" y="2"/>
                  <a:pt x="400" y="1"/>
                </a:cubicBezTo>
                <a:cubicBezTo>
                  <a:pt x="193" y="0"/>
                  <a:pt x="83" y="77"/>
                  <a:pt x="0" y="9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EF08-3E93-4C62-A3B2-76B78383CE8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2755800" y="1143000"/>
            <a:ext cx="4216680" cy="736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/>
          </p:nvPr>
        </p:nvSpPr>
        <p:spPr>
          <a:xfrm>
            <a:off x="685800" y="2789280"/>
            <a:ext cx="7518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the absence of sources                   h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494080" y="1062000"/>
                <a:ext cx="419868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σ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ε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∇</m:t>
                        </m:r>
                        <m:r>
                          <m:t xml:space="preserve">∇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σ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ε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1" name="PlaceHolder 2"/>
          <p:cNvSpPr>
            <a:spLocks noGrp="1"/>
          </p:cNvSpPr>
          <p:nvPr>
            <p:ph type="title"/>
          </p:nvPr>
        </p:nvSpPr>
        <p:spPr>
          <a:xfrm>
            <a:off x="0" y="317520"/>
            <a:ext cx="91440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2.6.1 The wave equation for a conducting medium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994280" y="2919240"/>
                <a:ext cx="16984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2692440" y="3657600"/>
                <a:ext cx="3119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σ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ε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41200" y="4510080"/>
            <a:ext cx="834408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the wave equation for a decaying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be continue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9F66-6009-4A03-8DB9-4DACCE9C9D8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EM waves due to accelerating cha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mstrahlung - “breaking radia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tron e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t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ed current in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usoidal v.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ckbody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CD8B5-094B-4AFE-8E67-A6D675DBBB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257800" y="1600200"/>
            <a:ext cx="2057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ffb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676520"/>
            <a:ext cx="2057400" cy="1600200"/>
          </a:xfrm>
          <a:prstGeom prst="rect">
            <a:avLst/>
          </a:prstGeom>
          <a:solidFill>
            <a:srgbClr val="ccffff"/>
          </a:solidFill>
          <a:ln w="9360">
            <a:solidFill>
              <a:srgbClr val="ffb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2.2 Electromagnetic waves in lossless media - Maxwell’s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5320" y="3048120"/>
            <a:ext cx="3581640" cy="3657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I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mp/ metr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ulomb/metr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mps/me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sla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eber/metr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olt-Second/metre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olt/me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rad/me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nry/me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emen/me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04920" y="2468520"/>
                <a:ext cx="1589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04920" y="1600200"/>
                <a:ext cx="1873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4920" y="3336840"/>
                <a:ext cx="10508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4920" y="3809880"/>
                <a:ext cx="98892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257800" y="1592280"/>
                <a:ext cx="20588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ε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E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μ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H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σ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2240" y="4911840"/>
                <a:ext cx="1590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80880" y="1270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ax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4547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quation of 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2186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stitutive re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555B-B171-444B-BCAA-742C1997C7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5562720"/>
            <a:ext cx="28954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6 Wave equations in free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free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76520" y="2666880"/>
                <a:ext cx="15890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90920" y="1905120"/>
                <a:ext cx="25542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447920" y="3886200"/>
                <a:ext cx="5645160" cy="24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∇</m:t>
                        </m:r>
                        <m:r>
                          <m:t xml:space="preserve">×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ε</m:t>
                        </m:r>
                        <m:f>
                          <m:num>
                            <m:sSup>
                              <m:e>
                                <m:r>
                                  <m:t xml:space="preserve">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648320" y="2325600"/>
            <a:ext cx="3555720" cy="2779920"/>
          </a:xfrm>
          <a:custGeom>
            <a:avLst/>
            <a:gdLst/>
            <a:ahLst/>
            <a:rect l="l" t="t" r="r" b="b"/>
            <a:pathLst>
              <a:path w="2240" h="1751">
                <a:moveTo>
                  <a:pt x="493" y="0"/>
                </a:moveTo>
                <a:cubicBezTo>
                  <a:pt x="636" y="36"/>
                  <a:pt x="1090" y="35"/>
                  <a:pt x="1344" y="215"/>
                </a:cubicBezTo>
                <a:cubicBezTo>
                  <a:pt x="1598" y="395"/>
                  <a:pt x="2240" y="823"/>
                  <a:pt x="2016" y="1079"/>
                </a:cubicBezTo>
                <a:cubicBezTo>
                  <a:pt x="1792" y="1335"/>
                  <a:pt x="336" y="1639"/>
                  <a:pt x="0" y="1751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33526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king curl of both sides of latter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F2DB-240C-4D1A-857D-C9A4DDB373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934320" y="4191120"/>
            <a:ext cx="1066680" cy="609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990720"/>
            <a:ext cx="2895480" cy="838080"/>
          </a:xfrm>
          <a:prstGeom prst="rect">
            <a:avLst/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5029200"/>
            <a:ext cx="25905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ffb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ave equations in free space c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has been shown (last week) that for any vector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                        is th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aplacia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u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971800" y="990720"/>
                <a:ext cx="2610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∇</m:t>
                    </m:r>
                    <m:r>
                      <m:t xml:space="preserve">×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ε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7" name=""/>
          <p:cNvGrpSpPr/>
          <p:nvPr/>
        </p:nvGrpSpPr>
        <p:grpSpPr>
          <a:xfrm>
            <a:off x="2819520" y="2271600"/>
            <a:ext cx="3352680" cy="547920"/>
            <a:chOff x="2819520" y="2271600"/>
            <a:chExt cx="3352680" cy="547920"/>
          </a:xfrm>
        </p:grpSpPr>
        <p:sp>
          <p:nvSpPr>
            <p:cNvPr id="128" name=""/>
            <p:cNvSpPr/>
            <p:nvPr/>
          </p:nvSpPr>
          <p:spPr>
            <a:xfrm>
              <a:off x="2819520" y="2286000"/>
              <a:ext cx="3352680" cy="5335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2895480" y="2271600"/>
                  <a:ext cx="3276720" cy="4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∇</m:t>
                      </m:r>
                      <m:r>
                        <m:t xml:space="preserve">×</m:t>
                      </m:r>
                      <m:r>
                        <m:t xml:space="preserve">∇</m:t>
                      </m:r>
                      <m:r>
                        <m:t xml:space="preserve">×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∇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A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∇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981080" y="2743200"/>
                <a:ext cx="18288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971800" y="3429000"/>
                <a:ext cx="29782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ε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95640" y="5029200"/>
                <a:ext cx="192564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ε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571680" y="4267080"/>
            <a:ext cx="8001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no free charges in free space so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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0 and we 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67880" y="6018840"/>
            <a:ext cx="55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three dimensional wav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www.cee.hw.ac.uk/~arharvey/22.3MB1electromagnetism.zip                     Dr Andy Harve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9055-1D03-47F6-A32B-0DA690B3FA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1:01:17Z</dcterms:created>
  <dc:creator>Dr Andy R Harvey</dc:creator>
  <dc:description/>
  <dc:language>en-US</dc:language>
  <cp:lastModifiedBy>Dr Andy R Harvey</cp:lastModifiedBy>
  <cp:lastPrinted>2001-06-10T13:04:15Z</cp:lastPrinted>
  <dcterms:modified xsi:type="dcterms:W3CDTF">2001-11-13T10:33:33Z</dcterms:modified>
  <cp:revision>43</cp:revision>
  <dc:subject/>
  <dc:title>Electromagnetic Fields and Waves</dc:title>
</cp:coreProperties>
</file>