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A19-C293-4289-A58A-B11E058D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DAC-B30F-4C5E-AA7E-FC41705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6E6-5A15-4BC8-81DD-8FC50F45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FB1-077C-4C9E-A56B-E6AA1189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F1A-46C1-49BA-B17E-41E867A5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136-7952-4D40-A4FC-C989C3CF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234-C58D-48C7-BAF6-F40EBAE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789-E538-4DAF-AD01-BBE7A69A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9880" y="151920"/>
            <a:ext cx="8502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7B8-076C-4F93-90BE-7E6C611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1B3-54D7-4534-BFE8-F5F6B67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E33-71F5-4472-9D47-46C0686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320-13BA-463D-AA26-C08422BB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FT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fld id="{37BE53DE-F7DF-4FEF-931B-D1A9ABC1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Yvan Peti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9E6-5F00-4D4F-B237-DF2D24E74B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:8 points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8pdft11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239240" cy="46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F58-AAB1-4DBB-9E23-14270BAA0F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: gener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1447920"/>
                <a:ext cx="367668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n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even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dd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/2-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k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:</m:t>
                        </m:r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/2-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</m:e>
                        </m:nary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/2-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</m:e>
                        </m:nary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4120" y="1600200"/>
                <a:ext cx="36576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,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81480" y="4419720"/>
                <a:ext cx="38862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/2-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/2-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839-C9A5-45AD-86F9-24FABD599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: gener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neralfft1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6172200" cy="51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355-0636-4161-BCB6-E535C2D579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: general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60384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A2F-2CF0-4592-B1DA-A2918EE859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FFTs for inverse D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ve always been talking about forward DFTs in our discussion about FFTs …. what about the inverse FF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modify FFT algorithm for the inverse DFT computation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          by           wherever it app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final output b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has the disadvantage that it requires modifying the internal code in the FFT sub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19520" y="4038480"/>
                <a:ext cx="426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73600" y="4040280"/>
                <a:ext cx="563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4572000"/>
                <a:ext cx="509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033640" y="2282760"/>
                <a:ext cx="4800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9B1-DAFC-46D2-9E2A-B536CFDEF2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tter way to modify FFT cod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e D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the complex conjugate of both sides of the IDFT equation and multiplying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uggests that we can modify the FFT algorithm for the inverse DFT computation by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conjugate the input DFT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conjugate the output of the FFT and multiply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has the advantage that the internal FFT code is undisturbed; it is wide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19320" y="1905120"/>
                <a:ext cx="74674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∗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/>
                            </m:nary>
                            <m:r>
                              <m:t xml:space="preserve">X</m:t>
                            </m:r>
                            <m:r>
                              <m:t xml:space="preserve">∗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p>
                            </m:sSubSup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86800" y="5029200"/>
                <a:ext cx="4698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866-2B9A-48B8-BA4C-F147EE8C1D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FFT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veloped the basic decimation-in-time (DIT) FFT structure in the last lecture, but other forms are possible simply by rearranging the branches of the signal flow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earranged signal flow diagrams on the following panels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F82-07C3-4BB7-8C77-3A6A4346D0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T FFT structure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T structure with input bit-reversed, output natural (OSB 9.1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60384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074-F115-425A-A05F-0E0B731672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T FFT structure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T structure with input natural, output bit-reversed (OSB 9.1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60384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8FE-8C63-4909-817D-A157C7421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T FFT structure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T structure with both input and output natural (OSB 9.1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60384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A06-2763-4796-A34C-11EF9E786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FT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Cooley and Tukey in 19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utionised signal processing and paved the way for D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forms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istion in Frequency (D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ition in Time (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x-4, Radix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for filtering and con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FB5-0365-4A9F-ABB1-71B55BEAA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T FFT structure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T structure with same structure for each stage (OSB 9.16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60384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297-29D4-44B3-B290-396F25C2B8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s on alternate FFT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to avoid bit-reversal in filtering operation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forward transform using natural input, bit-reversed output (as in OSB 9.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DFT coefficients of input and filter response (both in bit-reversed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inverse transform of product using bit-reversed input and natural output (as in OSB 9/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ter two topologies (as in OSB 9.15 and 9.16) are now rar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95B-65EC-456C-BBFE-41066F555B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cimation-in-frequency (DIF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FT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tion in frequency is an alternate way of developing the FF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different from decimation in time in its development, although it leads to a very simila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914-E3AC-499C-A60E-6922277660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cimation in frequency FFT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original DFT equation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the first half and the second half of time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se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oint DF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76520" y="1523880"/>
                <a:ext cx="20955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76520" y="2819520"/>
                <a:ext cx="6237000" cy="26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917-DFB4-4FD2-A4AD-E60025B202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ng with decimation in frequency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en,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dd,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expressions ar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oint DFTs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62120" y="1219320"/>
                <a:ext cx="47242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24080" y="2209680"/>
                <a:ext cx="6606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2666880"/>
                <a:ext cx="7940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048120" y="3581280"/>
                <a:ext cx="9777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90720" y="4038480"/>
                <a:ext cx="43434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00200" y="5867280"/>
                <a:ext cx="4991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]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20C-8CA2-45DC-9C71-FB16EB9A20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equations describe the following structu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05000" y="1514520"/>
            <a:ext cx="7048440" cy="458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423-3453-4DFE-A2E5-77DA03FF66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ng by decomposing the odd and even output points we obtain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01920" y="1535040"/>
            <a:ext cx="6676920" cy="455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49A-1B17-460B-93A1-EAE1B107A3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placing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/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point DFTs by butterflys we ob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86080" y="1523880"/>
            <a:ext cx="7429320" cy="476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AB1-5FAC-462A-8E84-39D9A7C7CF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 FFT is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the DIT F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flowgraph transpo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direction of flowgraph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change input(s) and outpu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T butterfl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IF butterf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revisit transposed forms again in our discussion of filt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73160" y="3352680"/>
            <a:ext cx="2457360" cy="152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70440" y="3406680"/>
            <a:ext cx="3013200" cy="14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F66-6B92-4B0D-B5D9-9E61EB5977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 FFT is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the DIT F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DIT and DIF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DIT FFT structure: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DIF FFT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e forms for DIF FFTs are similar to those of DIT F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00560" y="2514600"/>
            <a:ext cx="4152960" cy="2665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7800" y="2514600"/>
            <a:ext cx="421020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BB0-4216-4924-AC8F-86C8B5F354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 behind F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838080" y="1523880"/>
                <a:ext cx="701064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0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N-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F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ltiplication and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is be reduced by finding more efficient way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ng X(k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dividing the DFT into smaller DFTs is the solu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B72-07AF-4FD2-AB76-69288645B6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F FFT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 structure with input natural, output bit-reversed (OSB 9.2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603840" cy="42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F03-4EEA-4370-9C57-1C6FBDD45E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F FFT structure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 structure with input bit-reversed, output natural (OSB 9.22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603840" cy="42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F41-7FD0-469B-BF5F-3D14A03A16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F FFT structure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 structure with both input and output natural (OSB 9.23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603840" cy="42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CE7-2B74-4CBD-B5BD-8243EC634A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nate DIF FFT structure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 structure with same structure for each stage (OSB 9.2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86080" y="2057400"/>
            <a:ext cx="6108480" cy="42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37C-7757-4704-B774-F20DD14A89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FT structures for other DFT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do anything when the DFT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n integer power of 2 (the non-radix 2 cas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!  Consider a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 not a power of 2, but that still is highly factorabl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43000" y="3048120"/>
                <a:ext cx="5780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 </m:t>
                    </m:r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t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219320" y="4114800"/>
                <a:ext cx="839628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]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]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0B1-32E4-4040-BB80-48A19F4C67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radix 2 FFT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bitrary term of the sum on the previous panel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, of course, a DFT of size      of points spaced by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219320" y="1828800"/>
                <a:ext cx="52848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sup>
                        </m:sSubSup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  <m:r>
                          <m:t xml:space="preserve">x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]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867280" y="4267080"/>
                <a:ext cx="241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220320" y="4267080"/>
                <a:ext cx="253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91E-808F-4A38-836C-174DF6BD5B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radix 2 FFTs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for the first decomposition w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cedure can be repeated for subsequent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computational savings depends on the extent to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“composite”, able to be factored into small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the smallest factors possible used, with the exception of some use of radix-4 and radix-8 F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889520" y="3295800"/>
                <a:ext cx="1270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1905120"/>
                <a:ext cx="35179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p>
                        </m:sSubSup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r>
                      <m:t xml:space="preserve">x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]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60B-20F2-4FB6-BE3F-906096DC4D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considered a number of alternative ways of computing the FF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e implementation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mation-in-frequenc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Ts for sizes that are non-integer powers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tandard FFT structures for inverse F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F6D-F6C1-45A7-A2E0-48FAD3AFDF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 (D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1600200"/>
                <a:ext cx="5959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0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N-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F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Points DF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03240" y="3200400"/>
                <a:ext cx="4775400" cy="21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" name=""/>
          <p:cNvGrpSpPr/>
          <p:nvPr/>
        </p:nvGrpSpPr>
        <p:grpSpPr>
          <a:xfrm>
            <a:off x="5438520" y="4190040"/>
            <a:ext cx="2845440" cy="1618200"/>
            <a:chOff x="5438520" y="4190040"/>
            <a:chExt cx="2845440" cy="1618200"/>
          </a:xfrm>
        </p:grpSpPr>
        <p:sp>
          <p:nvSpPr>
            <p:cNvPr id="54" name=""/>
            <p:cNvSpPr/>
            <p:nvPr/>
          </p:nvSpPr>
          <p:spPr>
            <a:xfrm>
              <a:off x="5438520" y="434232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6040" y="525672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0120" y="434232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0120" y="525672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4" idx="3"/>
              <a:endCxn id="57" idx="1"/>
            </p:cNvCxnSpPr>
            <p:nvPr/>
          </p:nvCxnSpPr>
          <p:spPr>
            <a:xfrm>
              <a:off x="6044760" y="4541760"/>
              <a:ext cx="157572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4" idx="3"/>
              <a:endCxn id="56" idx="1"/>
            </p:cNvCxnSpPr>
            <p:nvPr/>
          </p:nvCxnSpPr>
          <p:spPr>
            <a:xfrm>
              <a:off x="6044760" y="4541400"/>
              <a:ext cx="1575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5" idx="3"/>
              <a:endCxn id="57" idx="1"/>
            </p:cNvCxnSpPr>
            <p:nvPr/>
          </p:nvCxnSpPr>
          <p:spPr>
            <a:xfrm>
              <a:off x="6093000" y="5455800"/>
              <a:ext cx="1527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5" idx="3"/>
              <a:endCxn id="56" idx="1"/>
            </p:cNvCxnSpPr>
            <p:nvPr/>
          </p:nvCxnSpPr>
          <p:spPr>
            <a:xfrm flipV="1">
              <a:off x="6093000" y="4541400"/>
              <a:ext cx="15278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6630480" y="4190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64000" y="4952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9080" y="4570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88360" y="540936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940000" y="59425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terfly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760" y="5790240"/>
            <a:ext cx="24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 complex multip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F4F-1905-4C40-ABCA-9F5198648A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 4 points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 Points DF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38080" y="1981080"/>
                <a:ext cx="7283520" cy="33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even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DF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dd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and  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97C-AC60-4AAA-9D93-ADCFB2761D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 4 points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 Points DF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8080" y="2133720"/>
                <a:ext cx="2727360" cy="29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4" name=""/>
          <p:cNvGrpSpPr/>
          <p:nvPr/>
        </p:nvGrpSpPr>
        <p:grpSpPr>
          <a:xfrm>
            <a:off x="4117320" y="2289240"/>
            <a:ext cx="4906080" cy="2838240"/>
            <a:chOff x="4117320" y="2289240"/>
            <a:chExt cx="4906080" cy="2838240"/>
          </a:xfrm>
        </p:grpSpPr>
        <p:sp>
          <p:nvSpPr>
            <p:cNvPr id="75" name=""/>
            <p:cNvSpPr/>
            <p:nvPr/>
          </p:nvSpPr>
          <p:spPr>
            <a:xfrm>
              <a:off x="5622120" y="29718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1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8120" y="250020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1(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56520" y="2289240"/>
              <a:ext cx="1752480" cy="283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ecomposition of 2 2-point DFT into one 4 point D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80000" y="2670480"/>
              <a:ext cx="9525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-poi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6840" y="2819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46840" y="3276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634360" y="2805120"/>
              <a:ext cx="711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34360" y="3268800"/>
              <a:ext cx="7221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7320" y="2500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(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49000" y="29718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2040" y="3904200"/>
              <a:ext cx="952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-poi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8520" y="40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8520" y="45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66040" y="4044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66040" y="4502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9000" y="37339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80680" y="42051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50560" y="373392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2(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53800" y="420516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2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670720" y="4032000"/>
              <a:ext cx="7113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70720" y="4495680"/>
              <a:ext cx="7221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109000" y="2590920"/>
              <a:ext cx="914400" cy="337320"/>
              <a:chOff x="8109000" y="2590920"/>
              <a:chExt cx="914400" cy="337320"/>
            </a:xfrm>
          </p:grpSpPr>
          <p:sp>
            <p:nvSpPr>
              <p:cNvPr id="97" name=""/>
              <p:cNvSpPr/>
              <p:nvPr/>
            </p:nvSpPr>
            <p:spPr>
              <a:xfrm>
                <a:off x="8109000" y="28958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41840" y="259092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(0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8109000" y="3149640"/>
              <a:ext cx="914400" cy="337320"/>
              <a:chOff x="8109000" y="3149640"/>
              <a:chExt cx="914400" cy="337320"/>
            </a:xfrm>
          </p:grpSpPr>
          <p:sp>
            <p:nvSpPr>
              <p:cNvPr id="100" name=""/>
              <p:cNvSpPr/>
              <p:nvPr/>
            </p:nvSpPr>
            <p:spPr>
              <a:xfrm>
                <a:off x="8109000" y="3454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41840" y="314964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8109000" y="3708360"/>
              <a:ext cx="914400" cy="337320"/>
              <a:chOff x="8109000" y="3708360"/>
              <a:chExt cx="914400" cy="337320"/>
            </a:xfrm>
          </p:grpSpPr>
          <p:sp>
            <p:nvSpPr>
              <p:cNvPr id="103" name=""/>
              <p:cNvSpPr/>
              <p:nvPr/>
            </p:nvSpPr>
            <p:spPr>
              <a:xfrm>
                <a:off x="8109000" y="4013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241840" y="370836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8109000" y="4267080"/>
              <a:ext cx="914400" cy="337320"/>
              <a:chOff x="8109000" y="4267080"/>
              <a:chExt cx="914400" cy="337320"/>
            </a:xfrm>
          </p:grpSpPr>
          <p:sp>
            <p:nvSpPr>
              <p:cNvPr id="106" name=""/>
              <p:cNvSpPr/>
              <p:nvPr/>
            </p:nvSpPr>
            <p:spPr>
              <a:xfrm>
                <a:off x="8109000" y="45720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241840" y="426708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(3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C54-1798-4ABC-BB1E-E8F26D2B97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: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(n) = [ 0 1 2 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66880" y="1981080"/>
                <a:ext cx="386712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C42-57AC-4297-ADDA-9506212B7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:8 points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0880" y="1066680"/>
                <a:ext cx="8153640" cy="28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,  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7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3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5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6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7</m:t>
                            </m:r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6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8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b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3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p>
                        </m:sSub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4" name="8pfft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600360" cy="344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5CD9-38EF-4FAA-B32D-ED953691A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mation in time:8 points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040" y="1066680"/>
            <a:ext cx="84200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8pdft12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78168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B70-A975-49D8-8D48-AE3F1EF42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09:22:08Z</dcterms:created>
  <dc:creator>Administrator</dc:creator>
  <dc:description/>
  <dc:language>en-US</dc:language>
  <cp:lastModifiedBy>ceeyrp</cp:lastModifiedBy>
  <cp:lastPrinted>2002-10-29T16:31:01Z</cp:lastPrinted>
  <dcterms:modified xsi:type="dcterms:W3CDTF">2004-09-28T17:14:16Z</dcterms:modified>
  <cp:revision>501</cp:revision>
  <dc:subject/>
  <dc:title>Electronic Instrumentation</dc:title>
</cp:coreProperties>
</file>