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308-2B25-42E6-84C0-F7674369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E0C-BE08-4D5A-8B61-81EB07BD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E1B-4268-44E6-B81E-C5196380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CB3-7F84-4196-86C7-52491B6F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ED0-7016-45DA-A781-F4FAF87D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BF8-95AF-48CD-B192-17F59556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240-7162-47A9-B98D-EB6EAC8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947-EDAA-4D3E-B101-18866D6C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9880" y="151920"/>
            <a:ext cx="8502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A87-23DE-4F33-868A-7C68C00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F43-59B2-4F17-9A14-CC35F68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396-B109-450F-88A8-F5734B0E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46E-738A-4F8C-AB38-0A41398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 trans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008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fld id="{F37A09F8-2CAA-43E3-A02C-042266527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00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 Yvan Peti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8D9-51AF-44A5-BFF9-B59A82842E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84A-4570-45B1-8108-EC231FD46A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15000" y="33336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9320" y="32338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457992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 Properties of the z- Trans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11049120"/>
                <a:ext cx="4478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6" name=""/>
          <p:cNvGrpSpPr/>
          <p:nvPr/>
        </p:nvGrpSpPr>
        <p:grpSpPr>
          <a:xfrm>
            <a:off x="2438280" y="1143000"/>
            <a:ext cx="4819680" cy="5127480"/>
            <a:chOff x="2438280" y="1143000"/>
            <a:chExt cx="4819680" cy="5127480"/>
          </a:xfrm>
        </p:grpSpPr>
        <p:grpSp>
          <p:nvGrpSpPr>
            <p:cNvPr id="107" name=""/>
            <p:cNvGrpSpPr/>
            <p:nvPr/>
          </p:nvGrpSpPr>
          <p:grpSpPr>
            <a:xfrm>
              <a:off x="2442960" y="1147680"/>
              <a:ext cx="4809960" cy="5118120"/>
              <a:chOff x="2442960" y="1147680"/>
              <a:chExt cx="4809960" cy="511812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442960" y="1147680"/>
                <a:ext cx="1603440" cy="639720"/>
                <a:chOff x="2442960" y="1147680"/>
                <a:chExt cx="1603440" cy="6397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511360" y="1147680"/>
                  <a:ext cx="14666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Proper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442960" y="114768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046400" y="1147680"/>
                <a:ext cx="1603440" cy="639720"/>
                <a:chOff x="4046400" y="1147680"/>
                <a:chExt cx="1603440" cy="6397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114440" y="114768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Sequ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046400" y="114768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649840" y="1147680"/>
                <a:ext cx="1603080" cy="639720"/>
                <a:chOff x="5649840" y="1147680"/>
                <a:chExt cx="1603080" cy="6397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717880" y="114768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z -Transfo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649840" y="1147680"/>
                  <a:ext cx="160308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442960" y="1787400"/>
                <a:ext cx="1603440" cy="639720"/>
                <a:chOff x="2442960" y="1787400"/>
                <a:chExt cx="1603440" cy="6397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511360" y="1787400"/>
                  <a:ext cx="14666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Linear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42960" y="178740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046400" y="1787400"/>
                <a:ext cx="1603440" cy="639720"/>
                <a:chOff x="4046400" y="1787400"/>
                <a:chExt cx="1603440" cy="6397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114440" y="178740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ax(n) + by(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46400" y="178740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649840" y="1787400"/>
                <a:ext cx="1603080" cy="639720"/>
                <a:chOff x="5649840" y="1787400"/>
                <a:chExt cx="1603080" cy="639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17880" y="178740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aX(z) + bY(z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649840" y="1787400"/>
                  <a:ext cx="160308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442960" y="2427120"/>
                <a:ext cx="1603440" cy="639720"/>
                <a:chOff x="2442960" y="2427120"/>
                <a:chExt cx="1603440" cy="6397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511360" y="2427120"/>
                  <a:ext cx="14666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Sh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442960" y="242712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046400" y="2427120"/>
                <a:ext cx="1603440" cy="639720"/>
                <a:chOff x="4046400" y="2427120"/>
                <a:chExt cx="1603440" cy="6397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114440" y="242712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(n –n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0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046400" y="242712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649840" y="2427120"/>
                <a:ext cx="1603080" cy="639720"/>
                <a:chOff x="5649840" y="2427120"/>
                <a:chExt cx="1603080" cy="6397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717880" y="242712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(z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649840" y="2427120"/>
                  <a:ext cx="160308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442960" y="3066840"/>
                <a:ext cx="1603440" cy="640080"/>
                <a:chOff x="2442960" y="3066840"/>
                <a:chExt cx="1603440" cy="6400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511360" y="3066840"/>
                  <a:ext cx="1466640" cy="640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Time revers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42960" y="3066840"/>
                  <a:ext cx="1603440" cy="640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046400" y="3066840"/>
                <a:ext cx="1603440" cy="640080"/>
                <a:chOff x="4046400" y="3066840"/>
                <a:chExt cx="1603440" cy="6400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114440" y="3066840"/>
                  <a:ext cx="1467000" cy="640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(-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046400" y="3066840"/>
                  <a:ext cx="1603440" cy="640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649840" y="3066840"/>
                <a:ext cx="1603080" cy="640080"/>
                <a:chOff x="5649840" y="3066840"/>
                <a:chExt cx="1603080" cy="6400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717880" y="3066840"/>
                  <a:ext cx="1467000" cy="640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(z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-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649840" y="3066840"/>
                  <a:ext cx="1603080" cy="640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442960" y="3706920"/>
                <a:ext cx="1603440" cy="639720"/>
                <a:chOff x="2442960" y="3706920"/>
                <a:chExt cx="16034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11360" y="3706920"/>
                  <a:ext cx="14666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Exponenti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442960" y="370692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046400" y="3706920"/>
                <a:ext cx="1603440" cy="639720"/>
                <a:chOff x="4046400" y="3706920"/>
                <a:chExt cx="1603440" cy="639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114440" y="370692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α</a:t>
                  </a:r>
                  <a:r>
                    <a:rPr b="0" lang="en-GB" sz="1200" spc="-1" strike="noStrike" baseline="30000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n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(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046400" y="370692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649840" y="3706920"/>
                <a:ext cx="1603080" cy="639720"/>
                <a:chOff x="5649840" y="3706920"/>
                <a:chExt cx="160308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717880" y="370692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(α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-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z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649840" y="3706920"/>
                  <a:ext cx="160308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442960" y="4346640"/>
                <a:ext cx="1603440" cy="639720"/>
                <a:chOff x="2442960" y="4346640"/>
                <a:chExt cx="16034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511360" y="4346640"/>
                  <a:ext cx="14666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Convolu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442960" y="434664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046400" y="4346640"/>
                <a:ext cx="1603440" cy="639720"/>
                <a:chOff x="4046400" y="4346640"/>
                <a:chExt cx="16034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114440" y="434664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(n) * y(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046400" y="434664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649840" y="4346640"/>
                <a:ext cx="1603080" cy="639720"/>
                <a:chOff x="5649840" y="4346640"/>
                <a:chExt cx="1603080" cy="6397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717880" y="434664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(z)Y(z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49840" y="4346640"/>
                  <a:ext cx="160308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442960" y="4986360"/>
                <a:ext cx="1603440" cy="639720"/>
                <a:chOff x="2442960" y="4986360"/>
                <a:chExt cx="1603440" cy="639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511360" y="4986360"/>
                  <a:ext cx="14666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Conjug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42960" y="498636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046400" y="4986360"/>
                <a:ext cx="1603440" cy="639720"/>
                <a:chOff x="4046400" y="4986360"/>
                <a:chExt cx="1603440" cy="6397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114440" y="498636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*(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046400" y="498636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649840" y="4986360"/>
                <a:ext cx="1603080" cy="639720"/>
                <a:chOff x="5649840" y="4986360"/>
                <a:chExt cx="1603080" cy="639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17880" y="498636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X*(z*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649840" y="4986360"/>
                  <a:ext cx="160308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442960" y="5626080"/>
                <a:ext cx="1603440" cy="639720"/>
                <a:chOff x="2442960" y="5626080"/>
                <a:chExt cx="1603440" cy="639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511360" y="5626080"/>
                  <a:ext cx="14666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Derivati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442960" y="562608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046400" y="5626080"/>
                <a:ext cx="1603440" cy="639720"/>
                <a:chOff x="4046400" y="5626080"/>
                <a:chExt cx="1603440" cy="6397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114440" y="562608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nx(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46400" y="5626080"/>
                  <a:ext cx="160344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649840" y="5626080"/>
                <a:ext cx="1603080" cy="639720"/>
                <a:chOff x="5649840" y="5626080"/>
                <a:chExt cx="1603080" cy="6397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717880" y="5626080"/>
                  <a:ext cx="146700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-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649840" y="5626080"/>
                  <a:ext cx="1603080" cy="63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2438280" y="1143000"/>
              <a:ext cx="4819680" cy="5127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248520" y="5638680"/>
                <a:ext cx="761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019920" y="2590920"/>
                <a:ext cx="533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E3D-0816-4267-9071-9B8CF75C90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ver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notice that we didn’t talk about inver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s yet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shown (see the text) that the inver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 can be formally express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 the DTFT, this integral is over a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omplex varia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we need complex residue calculus to evaluate it for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tour of integration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s a circle around the origin that lies inside the 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never need to actually evaluate this integral in this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352680" y="2743200"/>
                <a:ext cx="2946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j</m:t>
                        </m:r>
                      </m:den>
                    </m:f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8B1-C45E-4534-8AC2-F90CC4B873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y  on Z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is based on a generalization of the frequency representation used for the DT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ime functions may have the sa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ransforms; the ROC is needed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C is bounded by one or more circles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e centered at its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LSI system is stable if the ROC includes the unit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ver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can only be evaluated using complex contour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39B-813B-4E1D-914E-261DA24325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, we discussed the discrete-time Fourier transform (DT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 we will begin our discussion of the Z-transform (Z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T can be thought of as a generalization of the DT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T is more complex than DTFT (both literally and figuratively), but provides a great deal of insight into system design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sight into the relationships between frequency using ZT and DTFT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very useful for filter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C15-345E-4165-A33E-48305698A1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crete-Time Fourier Transform (DTFT) an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transform (Z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20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quation asserts that we can represent any tim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[n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a linear combination of complex expon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 equation tells us how to compute the complex weighting fa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             does not always converge for all x[n] (x[n] = u[n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oing from the DTFT to the ZT we replace         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542960" y="1143000"/>
                <a:ext cx="29466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w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w</m:t>
                        </m:r>
                      </m:sup>
                    </m:sSup>
                    <m: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486400" y="1066680"/>
                <a:ext cx="24890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w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=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w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429000" y="2590920"/>
                <a:ext cx="2730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w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w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w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143000" y="3657600"/>
                <a:ext cx="812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w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867280" y="4800600"/>
                <a:ext cx="520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w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738840" y="4757760"/>
                <a:ext cx="26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18160" y="354168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09680" y="4038480"/>
                <a:ext cx="812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w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52480" y="5257800"/>
                <a:ext cx="6172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w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with z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4A8-34A4-4BF4-BB6E-0875B95FC2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ing the Z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transform: 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the tim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238880" y="1143000"/>
                <a:ext cx="1839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46040" y="2044800"/>
            <a:ext cx="7212240" cy="207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133720" y="4419720"/>
                <a:ext cx="3886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α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12880" y="5229360"/>
                <a:ext cx="17528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BDA-E520-4FB7-B475-F3A0CF76A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example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2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consider the tim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948720" cy="215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95280" y="3962520"/>
                <a:ext cx="52578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=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-¥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=-¥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α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28800" y="4952880"/>
                <a:ext cx="380988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=-¥</m:t>
                    </m:r>
                    <m:r>
                      <m:t xml:space="preserve">⇒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=¥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33720" y="5486400"/>
                <a:ext cx="73911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α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α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zα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α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638680" y="1600200"/>
                <a:ext cx="2622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BEE-5FB4-4792-B7E4-369EFD47A7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mportance of the region of converg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d you notice that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ransforms were identical for Examples 1 and 2 even though the time functions were different?  Yes, indeed, very different time functions can have the sa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!  What’s missing in this characterization?  The region of convergence (RO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xample 1, the sum                            converges only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xample 2, the sum                             converges only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in general, we must specify not only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corresponding to a time function, but its ROC as 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519360" y="2709720"/>
                <a:ext cx="18162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346880" y="2938320"/>
                <a:ext cx="67320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463920" y="3463920"/>
                <a:ext cx="19051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=-¥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315200" y="3581280"/>
                <a:ext cx="8380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&g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5EF-AD3D-4509-8E6F-4235294AB8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shapes are ROCs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transfor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xample 1, the ROC was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present this graphically 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486400" y="1219320"/>
                <a:ext cx="8002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gt;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5315040" cy="412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1440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OC is shaded are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8DA-7D75-4813-B655-A4588420E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shapes are ROCs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transfor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xample 2, the ROC was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represent this graphicall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32200" y="2208240"/>
            <a:ext cx="5297400" cy="410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334120" y="1219320"/>
                <a:ext cx="7999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91440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OC is shaded are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312-8E08-4752-8934-82098EA0DC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ility and the R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 be shown that an LSI system is 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 the ROC includes the unit circle (UC), which is the locus of points for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: this is exactly the same condition that is required for the DTFT               to 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400800" y="1447920"/>
                <a:ext cx="533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54280" y="2398680"/>
            <a:ext cx="2654280" cy="206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978-D6AE-476F-BDE4-8159D6922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09:22:08Z</dcterms:created>
  <dc:creator>Administrator</dc:creator>
  <dc:description/>
  <dc:language>en-US</dc:language>
  <cp:lastModifiedBy>ceeyrp</cp:lastModifiedBy>
  <cp:lastPrinted>2001-10-01T15:20:00Z</cp:lastPrinted>
  <dcterms:modified xsi:type="dcterms:W3CDTF">2004-10-05T12:21:12Z</dcterms:modified>
  <cp:revision>451</cp:revision>
  <dc:subject/>
  <dc:title>Electronic Instrumentation</dc:title>
</cp:coreProperties>
</file>