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3.wmf" ContentType="image/x-wmf"/>
  <Override PartName="/ppt/media/image28.jpeg" ContentType="image/jpeg"/>
  <Override PartName="/ppt/media/image30.jpeg" ContentType="image/jpeg"/>
  <Override PartName="/ppt/media/image31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E76-3142-43B2-A815-4B17E76C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395-80E1-4605-96C4-E490E89D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00E-C213-4394-8E3D-703A092C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52D-2C94-4DF0-9284-C1721CD5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613-35B5-44D1-A1B6-BAF36F3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3BC-C557-48EF-8E4E-9676E4DF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BA5-4939-406D-AFA1-44A00D4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ABE-EE72-4547-85AA-CA566BCF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9880" y="15192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67C-093C-457E-ABC7-F5677F26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281-BD72-4C83-8BF6-3A8ADEFB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9B7-EF5A-4EFD-856C-C88EF6D8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8F9-131B-4F04-ABDC-CF267A35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trum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869B8051-663C-49CF-98B5-FCCEF058C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Yvan Peti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900-97D1-4861-B230-A422CB54F5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ogram based spectral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d using D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bout long signals (thousands of samples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8080" y="1828800"/>
                <a:ext cx="6046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841320" y="3864240"/>
            <a:ext cx="68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3"/>
            <a:endCxn id="78" idx="1"/>
          </p:cNvCxnSpPr>
          <p:nvPr/>
        </p:nvCxnSpPr>
        <p:spPr>
          <a:xfrm>
            <a:off x="1527120" y="4084200"/>
            <a:ext cx="6829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2215800" y="3889800"/>
            <a:ext cx="662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3"/>
            <a:endCxn id="80" idx="2"/>
          </p:cNvCxnSpPr>
          <p:nvPr/>
        </p:nvCxnSpPr>
        <p:spPr>
          <a:xfrm flipV="1">
            <a:off x="2883960" y="4086000"/>
            <a:ext cx="5310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3414600" y="3765600"/>
            <a:ext cx="650880" cy="641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</p:cNvCxnSpPr>
          <p:nvPr/>
        </p:nvCxnSpPr>
        <p:spPr>
          <a:xfrm flipV="1">
            <a:off x="4065120" y="4080960"/>
            <a:ext cx="9025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22680" y="3859200"/>
                <a:ext cx="35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67280" y="3705120"/>
                <a:ext cx="21225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E7F-C669-44A9-B7B8-5219C5F652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ogram based spectral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n) is decomposed in M smaller overlapping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ectrum is calculated fo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s stationarity and ergod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752480" y="3124080"/>
                <a:ext cx="2608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E4F-4896-4C97-9744-7437AD214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85800" y="2362320"/>
                <a:ext cx="41720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64560" y="3732840"/>
            <a:ext cx="84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autocorrelation with extra 1/N term as summation done only on N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5800" y="1143000"/>
                <a:ext cx="5484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748920" y="13705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o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79520" y="27421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rrel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536-827B-4A91-863C-60D90F2CA2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fig28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587840" cy="503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9CE-7549-48FE-8CDC-CC7515C806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3040" y="1066320"/>
            <a:ext cx="3828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z trans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show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14400" y="1600200"/>
                <a:ext cx="335268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87320" y="4487760"/>
                <a:ext cx="34560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181480" y="1752480"/>
                <a:ext cx="318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181480" y="3124080"/>
                <a:ext cx="2799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105520" y="1143000"/>
            <a:ext cx="3828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(see Not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95C-7299-4F56-8C3D-BD18823D56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ogram versus Correl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fig2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86800" cy="37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1F1-80CF-4BCB-A7B6-CB4761D4E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rte on power d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use power spectral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linear time invariant system 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1828800"/>
                <a:ext cx="417816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N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gna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rui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ν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</m:e>
                        </m:nary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514600" y="4423320"/>
            <a:ext cx="838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185080"/>
            <a:ext cx="838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185080"/>
            <a:ext cx="838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185080"/>
            <a:ext cx="83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5105520"/>
            <a:ext cx="1600200" cy="609480"/>
            <a:chOff x="3733920" y="5105520"/>
            <a:chExt cx="1600200" cy="609480"/>
          </a:xfrm>
        </p:grpSpPr>
        <p:sp>
          <p:nvSpPr>
            <p:cNvPr id="112" name=""/>
            <p:cNvSpPr/>
            <p:nvPr/>
          </p:nvSpPr>
          <p:spPr>
            <a:xfrm>
              <a:off x="3733920" y="5105520"/>
              <a:ext cx="16002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59160" y="5211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4" name=""/>
          <p:cNvCxnSpPr>
            <a:stCxn id="108" idx="3"/>
            <a:endCxn id="109" idx="1"/>
          </p:cNvCxnSpPr>
          <p:nvPr/>
        </p:nvCxnSpPr>
        <p:spPr>
          <a:xfrm>
            <a:off x="1981080" y="5384520"/>
            <a:ext cx="5342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9" idx="3"/>
            <a:endCxn id="112" idx="2"/>
          </p:cNvCxnSpPr>
          <p:nvPr/>
        </p:nvCxnSpPr>
        <p:spPr>
          <a:xfrm>
            <a:off x="3352320" y="5384880"/>
            <a:ext cx="381960" cy="2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7" idx="2"/>
            <a:endCxn id="109" idx="0"/>
          </p:cNvCxnSpPr>
          <p:nvPr/>
        </p:nvCxnSpPr>
        <p:spPr>
          <a:xfrm>
            <a:off x="2933280" y="4825800"/>
            <a:ext cx="1080" cy="35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2" idx="6"/>
            <a:endCxn id="110" idx="1"/>
          </p:cNvCxnSpPr>
          <p:nvPr/>
        </p:nvCxnSpPr>
        <p:spPr>
          <a:xfrm flipV="1">
            <a:off x="5334120" y="5384520"/>
            <a:ext cx="305280" cy="2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29000" y="4876920"/>
                <a:ext cx="30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268960" y="4876920"/>
                <a:ext cx="284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094-9EC4-4CFF-BE99-E3144656E3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rte on power den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ed filteri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zes SNR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 noise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38080" y="1676520"/>
                <a:ext cx="20163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ν</m:t>
                        </m:r>
                        <m:r>
                          <m:t xml:space="preserve">T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1066680"/>
                <a:ext cx="352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3048120"/>
                <a:ext cx="19353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ν</m:t>
                            </m:r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665440" y="38091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68F-7805-4D50-87F1-EE60A592A1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fig30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698920" cy="4495680"/>
          </a:xfrm>
          <a:prstGeom prst="rect">
            <a:avLst/>
          </a:prstGeom>
          <a:ln w="0">
            <a:noFill/>
          </a:ln>
        </p:spPr>
      </p:pic>
      <p:pic>
        <p:nvPicPr>
          <p:cNvPr id="129" name="fig31a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3267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40360" y="545508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FT Record Length of 1 period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10 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880" y="6094800"/>
            <a:ext cx="460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Hz signal sampled at 40 Hz analysed using a 0.1 s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01E-CFE5-4EB9-B3D4-833AEF6C0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fig31b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2795400"/>
          </a:xfrm>
          <a:prstGeom prst="rect">
            <a:avLst/>
          </a:prstGeom>
          <a:ln w="0">
            <a:noFill/>
          </a:ln>
        </p:spPr>
      </p:pic>
      <p:pic>
        <p:nvPicPr>
          <p:cNvPr id="135" name="fig32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3295440" cy="5110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69000" y="6094800"/>
            <a:ext cx="45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FT Record Length of 1 period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3.33 Hz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0.5Hz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840" y="5256720"/>
            <a:ext cx="48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Hz signal sampled at 40 Hz analysed using a 0.3 / 2 s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832-B58B-4CBE-A476-CDF8DB13E6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tion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ing and spectrum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3A4-F168-4F24-9024-3C0C8CE502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fig3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881440" cy="4495680"/>
          </a:xfrm>
          <a:prstGeom prst="rect">
            <a:avLst/>
          </a:prstGeom>
          <a:ln w="0">
            <a:noFill/>
          </a:ln>
        </p:spPr>
      </p:pic>
      <p:pic>
        <p:nvPicPr>
          <p:cNvPr id="141" name="fig34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298764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777000" y="2970720"/>
            <a:ext cx="28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requency cont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3680" y="5256720"/>
            <a:ext cx="217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ibbs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943240" y="5562720"/>
            <a:ext cx="10666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286000" y="5410080"/>
            <a:ext cx="4648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8280" y="6018840"/>
            <a:ext cx="45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FT Record Length of 1 period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4 Hz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0.513Hz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5240" y="1141920"/>
            <a:ext cx="515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Hz signal sampled at 40 Hz analysed using a 0.25 /  1.95s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F3F-D4D2-4ED3-A123-E3036407E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lue: think about what a Discrete Fourier domain means in the time doma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cl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onsider a integer number of periods what happe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it is a rational number of peri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DBA-7477-4F66-9B74-9FB15E1424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inder: Discreteness and period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1040" y="1295280"/>
            <a:ext cx="4258800" cy="1306440"/>
            <a:chOff x="761040" y="1295280"/>
            <a:chExt cx="4258800" cy="1306440"/>
          </a:xfrm>
        </p:grpSpPr>
        <p:sp>
          <p:nvSpPr>
            <p:cNvPr id="153" name=""/>
            <p:cNvSpPr/>
            <p:nvPr/>
          </p:nvSpPr>
          <p:spPr>
            <a:xfrm>
              <a:off x="1184040" y="1449000"/>
              <a:ext cx="287316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95200" y="1406160"/>
              <a:ext cx="0" cy="11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04920" y="2003040"/>
              <a:ext cx="30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6920" y="18763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23440" y="19000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1040" y="12952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57913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14600" y="44953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0" y="5257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57880" y="4897440"/>
            <a:ext cx="1321200" cy="1370520"/>
            <a:chOff x="1757880" y="4897440"/>
            <a:chExt cx="1321200" cy="1370520"/>
          </a:xfrm>
        </p:grpSpPr>
        <p:grpSp>
          <p:nvGrpSpPr>
            <p:cNvPr id="163" name=""/>
            <p:cNvGrpSpPr/>
            <p:nvPr/>
          </p:nvGrpSpPr>
          <p:grpSpPr>
            <a:xfrm>
              <a:off x="2057400" y="4897440"/>
              <a:ext cx="914400" cy="925560"/>
              <a:chOff x="2057400" y="4897440"/>
              <a:chExt cx="914400" cy="92556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7400" y="4897440"/>
                <a:ext cx="447840" cy="912960"/>
              </a:xfrm>
              <a:custGeom>
                <a:avLst/>
                <a:gdLst/>
                <a:ahLst/>
                <a:rect l="l" t="t" r="r" b="b"/>
                <a:pathLst>
                  <a:path w="721" h="607">
                    <a:moveTo>
                      <a:pt x="0" y="606"/>
                    </a:moveTo>
                    <a:lnTo>
                      <a:pt x="34" y="541"/>
                    </a:lnTo>
                    <a:lnTo>
                      <a:pt x="72" y="477"/>
                    </a:lnTo>
                    <a:lnTo>
                      <a:pt x="118" y="416"/>
                    </a:lnTo>
                    <a:lnTo>
                      <a:pt x="144" y="386"/>
                    </a:lnTo>
                    <a:lnTo>
                      <a:pt x="173" y="359"/>
                    </a:lnTo>
                    <a:lnTo>
                      <a:pt x="241" y="307"/>
                    </a:lnTo>
                    <a:lnTo>
                      <a:pt x="313" y="259"/>
                    </a:lnTo>
                    <a:lnTo>
                      <a:pt x="385" y="215"/>
                    </a:lnTo>
                    <a:lnTo>
                      <a:pt x="417" y="193"/>
                    </a:lnTo>
                    <a:lnTo>
                      <a:pt x="447" y="171"/>
                    </a:lnTo>
                    <a:lnTo>
                      <a:pt x="474" y="149"/>
                    </a:lnTo>
                    <a:lnTo>
                      <a:pt x="495" y="129"/>
                    </a:lnTo>
                    <a:lnTo>
                      <a:pt x="533" y="88"/>
                    </a:lnTo>
                    <a:lnTo>
                      <a:pt x="561" y="55"/>
                    </a:lnTo>
                    <a:lnTo>
                      <a:pt x="589" y="27"/>
                    </a:lnTo>
                    <a:lnTo>
                      <a:pt x="620" y="11"/>
                    </a:lnTo>
                    <a:lnTo>
                      <a:pt x="652" y="3"/>
                    </a:lnTo>
                    <a:lnTo>
                      <a:pt x="684" y="0"/>
                    </a:lnTo>
                    <a:lnTo>
                      <a:pt x="72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96960" y="4908600"/>
                <a:ext cx="474840" cy="914400"/>
              </a:xfrm>
              <a:custGeom>
                <a:avLst/>
                <a:gdLst/>
                <a:ahLst/>
                <a:rect l="l" t="t" r="r" b="b"/>
                <a:pathLst>
                  <a:path w="720" h="608">
                    <a:moveTo>
                      <a:pt x="719" y="607"/>
                    </a:moveTo>
                    <a:lnTo>
                      <a:pt x="683" y="542"/>
                    </a:lnTo>
                    <a:lnTo>
                      <a:pt x="645" y="479"/>
                    </a:lnTo>
                    <a:lnTo>
                      <a:pt x="600" y="419"/>
                    </a:lnTo>
                    <a:lnTo>
                      <a:pt x="573" y="389"/>
                    </a:lnTo>
                    <a:lnTo>
                      <a:pt x="545" y="362"/>
                    </a:lnTo>
                    <a:lnTo>
                      <a:pt x="513" y="336"/>
                    </a:lnTo>
                    <a:lnTo>
                      <a:pt x="479" y="310"/>
                    </a:lnTo>
                    <a:lnTo>
                      <a:pt x="407" y="262"/>
                    </a:lnTo>
                    <a:lnTo>
                      <a:pt x="335" y="216"/>
                    </a:lnTo>
                    <a:lnTo>
                      <a:pt x="303" y="194"/>
                    </a:lnTo>
                    <a:lnTo>
                      <a:pt x="272" y="172"/>
                    </a:lnTo>
                    <a:lnTo>
                      <a:pt x="246" y="150"/>
                    </a:lnTo>
                    <a:lnTo>
                      <a:pt x="225" y="129"/>
                    </a:lnTo>
                    <a:lnTo>
                      <a:pt x="187" y="89"/>
                    </a:lnTo>
                    <a:lnTo>
                      <a:pt x="157" y="56"/>
                    </a:lnTo>
                    <a:lnTo>
                      <a:pt x="128" y="28"/>
                    </a:lnTo>
                    <a:lnTo>
                      <a:pt x="98" y="11"/>
                    </a:lnTo>
                    <a:lnTo>
                      <a:pt x="68" y="4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757880" y="58672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8240" y="5867280"/>
              <a:ext cx="330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467440" y="45943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4949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058840" y="3048120"/>
            <a:ext cx="608040" cy="990360"/>
            <a:chOff x="2058840" y="3048120"/>
            <a:chExt cx="608040" cy="990360"/>
          </a:xfrm>
        </p:grpSpPr>
        <p:sp>
          <p:nvSpPr>
            <p:cNvPr id="171" name=""/>
            <p:cNvSpPr/>
            <p:nvPr/>
          </p:nvSpPr>
          <p:spPr>
            <a:xfrm>
              <a:off x="2666880" y="30481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8840" y="327564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668240" y="2656440"/>
            <a:ext cx="202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0760" y="4037400"/>
            <a:ext cx="182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011560" y="1255680"/>
            <a:ext cx="4765680" cy="5162040"/>
            <a:chOff x="5011560" y="1255680"/>
            <a:chExt cx="4765680" cy="5162040"/>
          </a:xfrm>
        </p:grpSpPr>
        <p:sp>
          <p:nvSpPr>
            <p:cNvPr id="176" name=""/>
            <p:cNvSpPr/>
            <p:nvPr/>
          </p:nvSpPr>
          <p:spPr>
            <a:xfrm>
              <a:off x="5011560" y="581832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91520" y="4495320"/>
              <a:ext cx="0" cy="132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44360" y="459432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634800" y="4876920"/>
              <a:ext cx="1321200" cy="1370520"/>
              <a:chOff x="6634800" y="4876920"/>
              <a:chExt cx="1321200" cy="137052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34320" y="4876920"/>
                <a:ext cx="914400" cy="925560"/>
                <a:chOff x="6934320" y="4876920"/>
                <a:chExt cx="914400" cy="9255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34320" y="487692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73880" y="488808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634800" y="584676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5160" y="584676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930080" y="4890960"/>
              <a:ext cx="1321200" cy="1370520"/>
              <a:chOff x="7930080" y="4890960"/>
              <a:chExt cx="1321200" cy="13705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229600" y="4890960"/>
                <a:ext cx="914400" cy="925560"/>
                <a:chOff x="8229600" y="4890960"/>
                <a:chExt cx="914400" cy="9255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8229600" y="489096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669160" y="490212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930080" y="586080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20440" y="586080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339160" y="4876920"/>
              <a:ext cx="1321200" cy="1370520"/>
              <a:chOff x="5339160" y="4876920"/>
              <a:chExt cx="1321200" cy="13705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5638680" y="4876920"/>
                <a:ext cx="913680" cy="925560"/>
                <a:chOff x="5638680" y="4876920"/>
                <a:chExt cx="913680" cy="9255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638680" y="4876920"/>
                  <a:ext cx="44748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077880" y="4888080"/>
                  <a:ext cx="47448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5339160" y="584676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29520" y="584676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8658360" y="42991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5880" y="42670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67640" y="6018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58920" y="60188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00680" y="1409760"/>
              <a:ext cx="287352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1840" y="1366920"/>
              <a:ext cx="0" cy="11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21200" y="196380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3840" y="172260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8360" y="16160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8200" y="153972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99200" y="1465200"/>
              <a:ext cx="0" cy="48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83440" y="143352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56520" y="146520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42200" y="152712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32560" y="16081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07080" y="17226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99240" y="189216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6360" y="184140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1520" y="198108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29280" y="198108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12080" y="1971720"/>
              <a:ext cx="0" cy="333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95960" y="197172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74080" y="197172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1840" y="1971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4560" y="197172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02680" y="197172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198108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9640" y="197172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48560" y="1971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08760" y="184140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400" y="170496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7000" y="160812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34480" y="153504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18360" y="1455840"/>
              <a:ext cx="0" cy="501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6120" y="143352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80360" y="146520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58120" y="151920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40560" y="16160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24800" y="174636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01120" y="188280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33920" y="18367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40440" y="1860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77320" y="12556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707160" y="2971800"/>
              <a:ext cx="608040" cy="990360"/>
              <a:chOff x="6707160" y="2971800"/>
              <a:chExt cx="608040" cy="990360"/>
            </a:xfrm>
          </p:grpSpPr>
          <p:sp>
            <p:nvSpPr>
              <p:cNvPr id="241" name=""/>
              <p:cNvSpPr/>
              <p:nvPr/>
            </p:nvSpPr>
            <p:spPr>
              <a:xfrm>
                <a:off x="7315200" y="29718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07160" y="319932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511680" y="2580120"/>
              <a:ext cx="16437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crete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26720" y="3961080"/>
              <a:ext cx="1800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ic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1D7-38F4-4CD6-ADEA-82F1DB0AA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inder: Discreteness and period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42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95560" y="1406520"/>
            <a:ext cx="0" cy="119556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4920" y="2003400"/>
            <a:ext cx="30081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17280" y="1876320"/>
            <a:ext cx="50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23800" y="19000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1040" y="129528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7913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14600" y="44953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0" y="5257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057400" y="4897440"/>
            <a:ext cx="914400" cy="925560"/>
            <a:chOff x="2057400" y="4897440"/>
            <a:chExt cx="914400" cy="925560"/>
          </a:xfrm>
        </p:grpSpPr>
        <p:sp>
          <p:nvSpPr>
            <p:cNvPr id="256" name=""/>
            <p:cNvSpPr/>
            <p:nvPr/>
          </p:nvSpPr>
          <p:spPr>
            <a:xfrm>
              <a:off x="2057400" y="4897440"/>
              <a:ext cx="447840" cy="912960"/>
            </a:xfrm>
            <a:custGeom>
              <a:avLst/>
              <a:gdLst/>
              <a:ahLst/>
              <a:rect l="l" t="t" r="r" b="b"/>
              <a:pathLst>
                <a:path w="721" h="607">
                  <a:moveTo>
                    <a:pt x="0" y="606"/>
                  </a:moveTo>
                  <a:lnTo>
                    <a:pt x="34" y="541"/>
                  </a:lnTo>
                  <a:lnTo>
                    <a:pt x="72" y="477"/>
                  </a:lnTo>
                  <a:lnTo>
                    <a:pt x="118" y="416"/>
                  </a:lnTo>
                  <a:lnTo>
                    <a:pt x="144" y="386"/>
                  </a:lnTo>
                  <a:lnTo>
                    <a:pt x="173" y="359"/>
                  </a:lnTo>
                  <a:lnTo>
                    <a:pt x="241" y="307"/>
                  </a:lnTo>
                  <a:lnTo>
                    <a:pt x="313" y="259"/>
                  </a:lnTo>
                  <a:lnTo>
                    <a:pt x="385" y="215"/>
                  </a:lnTo>
                  <a:lnTo>
                    <a:pt x="417" y="193"/>
                  </a:lnTo>
                  <a:lnTo>
                    <a:pt x="447" y="171"/>
                  </a:lnTo>
                  <a:lnTo>
                    <a:pt x="474" y="149"/>
                  </a:lnTo>
                  <a:lnTo>
                    <a:pt x="495" y="129"/>
                  </a:lnTo>
                  <a:lnTo>
                    <a:pt x="533" y="88"/>
                  </a:lnTo>
                  <a:lnTo>
                    <a:pt x="561" y="55"/>
                  </a:lnTo>
                  <a:lnTo>
                    <a:pt x="589" y="27"/>
                  </a:lnTo>
                  <a:lnTo>
                    <a:pt x="620" y="11"/>
                  </a:lnTo>
                  <a:lnTo>
                    <a:pt x="652" y="3"/>
                  </a:lnTo>
                  <a:lnTo>
                    <a:pt x="684" y="0"/>
                  </a:lnTo>
                  <a:lnTo>
                    <a:pt x="72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96960" y="4908600"/>
              <a:ext cx="474840" cy="914400"/>
            </a:xfrm>
            <a:custGeom>
              <a:avLst/>
              <a:gdLst/>
              <a:ahLst/>
              <a:rect l="l" t="t" r="r" b="b"/>
              <a:pathLst>
                <a:path w="720" h="608">
                  <a:moveTo>
                    <a:pt x="719" y="607"/>
                  </a:moveTo>
                  <a:lnTo>
                    <a:pt x="683" y="542"/>
                  </a:lnTo>
                  <a:lnTo>
                    <a:pt x="645" y="479"/>
                  </a:lnTo>
                  <a:lnTo>
                    <a:pt x="600" y="419"/>
                  </a:lnTo>
                  <a:lnTo>
                    <a:pt x="573" y="389"/>
                  </a:lnTo>
                  <a:lnTo>
                    <a:pt x="545" y="362"/>
                  </a:lnTo>
                  <a:lnTo>
                    <a:pt x="513" y="336"/>
                  </a:lnTo>
                  <a:lnTo>
                    <a:pt x="479" y="310"/>
                  </a:lnTo>
                  <a:lnTo>
                    <a:pt x="407" y="262"/>
                  </a:lnTo>
                  <a:lnTo>
                    <a:pt x="335" y="216"/>
                  </a:lnTo>
                  <a:lnTo>
                    <a:pt x="303" y="194"/>
                  </a:lnTo>
                  <a:lnTo>
                    <a:pt x="272" y="172"/>
                  </a:lnTo>
                  <a:lnTo>
                    <a:pt x="246" y="150"/>
                  </a:lnTo>
                  <a:lnTo>
                    <a:pt x="225" y="129"/>
                  </a:lnTo>
                  <a:lnTo>
                    <a:pt x="187" y="89"/>
                  </a:lnTo>
                  <a:lnTo>
                    <a:pt x="157" y="56"/>
                  </a:lnTo>
                  <a:lnTo>
                    <a:pt x="128" y="28"/>
                  </a:lnTo>
                  <a:lnTo>
                    <a:pt x="98" y="11"/>
                  </a:lnTo>
                  <a:lnTo>
                    <a:pt x="68" y="4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57880" y="58672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8240" y="5867280"/>
            <a:ext cx="330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67440" y="45943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4949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058840" y="3048120"/>
            <a:ext cx="608040" cy="990360"/>
            <a:chOff x="2058840" y="3048120"/>
            <a:chExt cx="608040" cy="990360"/>
          </a:xfrm>
        </p:grpSpPr>
        <p:sp>
          <p:nvSpPr>
            <p:cNvPr id="263" name=""/>
            <p:cNvSpPr/>
            <p:nvPr/>
          </p:nvSpPr>
          <p:spPr>
            <a:xfrm>
              <a:off x="2666880" y="30481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58840" y="327564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933200" y="2656440"/>
            <a:ext cx="1503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5680" y="4037400"/>
            <a:ext cx="229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1536840"/>
            <a:ext cx="1523880" cy="812520"/>
          </a:xfrm>
          <a:custGeom>
            <a:avLst/>
            <a:gdLst/>
            <a:ahLst/>
            <a:rect l="l" t="t" r="r" b="b"/>
            <a:pathLst>
              <a:path w="960" h="512">
                <a:moveTo>
                  <a:pt x="0" y="280"/>
                </a:moveTo>
                <a:cubicBezTo>
                  <a:pt x="56" y="164"/>
                  <a:pt x="112" y="48"/>
                  <a:pt x="192" y="40"/>
                </a:cubicBezTo>
                <a:cubicBezTo>
                  <a:pt x="272" y="32"/>
                  <a:pt x="408" y="232"/>
                  <a:pt x="480" y="232"/>
                </a:cubicBezTo>
                <a:cubicBezTo>
                  <a:pt x="552" y="232"/>
                  <a:pt x="568" y="0"/>
                  <a:pt x="624" y="40"/>
                </a:cubicBezTo>
                <a:cubicBezTo>
                  <a:pt x="680" y="80"/>
                  <a:pt x="760" y="432"/>
                  <a:pt x="816" y="472"/>
                </a:cubicBezTo>
                <a:cubicBezTo>
                  <a:pt x="872" y="512"/>
                  <a:pt x="916" y="396"/>
                  <a:pt x="960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011560" y="1255680"/>
            <a:ext cx="4765680" cy="4991760"/>
            <a:chOff x="5011560" y="1255680"/>
            <a:chExt cx="4765680" cy="4991760"/>
          </a:xfrm>
        </p:grpSpPr>
        <p:sp>
          <p:nvSpPr>
            <p:cNvPr id="269" name=""/>
            <p:cNvSpPr/>
            <p:nvPr/>
          </p:nvSpPr>
          <p:spPr>
            <a:xfrm>
              <a:off x="5011560" y="581832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391520" y="4495320"/>
              <a:ext cx="0" cy="132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44360" y="459432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34800" y="4876920"/>
              <a:ext cx="1321200" cy="1370520"/>
              <a:chOff x="6634800" y="4876920"/>
              <a:chExt cx="1321200" cy="13705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934320" y="4876920"/>
                <a:ext cx="914400" cy="925560"/>
                <a:chOff x="6934320" y="4876920"/>
                <a:chExt cx="914400" cy="9255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934320" y="487692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373880" y="488808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634800" y="584676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25160" y="584676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811840" y="1366920"/>
              <a:ext cx="0" cy="11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1200" y="196380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33920" y="18367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40440" y="1860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77320" y="12556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6707160" y="2971800"/>
              <a:ext cx="608040" cy="990360"/>
              <a:chOff x="6707160" y="2971800"/>
              <a:chExt cx="608040" cy="99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7315200" y="29718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07160" y="319932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485760" y="2580120"/>
              <a:ext cx="1701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ic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8360" y="3961080"/>
              <a:ext cx="2026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crete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91320" y="1523880"/>
              <a:ext cx="1523880" cy="812880"/>
            </a:xfrm>
            <a:custGeom>
              <a:avLst/>
              <a:gdLst/>
              <a:ahLst/>
              <a:rect l="l" t="t" r="r" b="b"/>
              <a:pathLst>
                <a:path w="960" h="512">
                  <a:moveTo>
                    <a:pt x="0" y="280"/>
                  </a:moveTo>
                  <a:cubicBezTo>
                    <a:pt x="56" y="164"/>
                    <a:pt x="112" y="48"/>
                    <a:pt x="192" y="40"/>
                  </a:cubicBezTo>
                  <a:cubicBezTo>
                    <a:pt x="272" y="32"/>
                    <a:pt x="408" y="232"/>
                    <a:pt x="480" y="232"/>
                  </a:cubicBezTo>
                  <a:cubicBezTo>
                    <a:pt x="552" y="232"/>
                    <a:pt x="568" y="0"/>
                    <a:pt x="624" y="40"/>
                  </a:cubicBezTo>
                  <a:cubicBezTo>
                    <a:pt x="680" y="80"/>
                    <a:pt x="760" y="432"/>
                    <a:pt x="816" y="472"/>
                  </a:cubicBezTo>
                  <a:cubicBezTo>
                    <a:pt x="872" y="512"/>
                    <a:pt x="916" y="396"/>
                    <a:pt x="960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1523880"/>
              <a:ext cx="1523880" cy="812880"/>
            </a:xfrm>
            <a:custGeom>
              <a:avLst/>
              <a:gdLst/>
              <a:ahLst/>
              <a:rect l="l" t="t" r="r" b="b"/>
              <a:pathLst>
                <a:path w="960" h="512">
                  <a:moveTo>
                    <a:pt x="0" y="280"/>
                  </a:moveTo>
                  <a:cubicBezTo>
                    <a:pt x="56" y="164"/>
                    <a:pt x="112" y="48"/>
                    <a:pt x="192" y="40"/>
                  </a:cubicBezTo>
                  <a:cubicBezTo>
                    <a:pt x="272" y="32"/>
                    <a:pt x="408" y="232"/>
                    <a:pt x="480" y="232"/>
                  </a:cubicBezTo>
                  <a:cubicBezTo>
                    <a:pt x="552" y="232"/>
                    <a:pt x="568" y="0"/>
                    <a:pt x="624" y="40"/>
                  </a:cubicBezTo>
                  <a:cubicBezTo>
                    <a:pt x="680" y="80"/>
                    <a:pt x="760" y="432"/>
                    <a:pt x="816" y="472"/>
                  </a:cubicBezTo>
                  <a:cubicBezTo>
                    <a:pt x="872" y="512"/>
                    <a:pt x="916" y="396"/>
                    <a:pt x="960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7086600" y="4952880"/>
              <a:ext cx="609480" cy="879480"/>
              <a:chOff x="7086600" y="4952880"/>
              <a:chExt cx="609480" cy="879480"/>
            </a:xfrm>
          </p:grpSpPr>
          <p:sp>
            <p:nvSpPr>
              <p:cNvPr id="291" name=""/>
              <p:cNvSpPr/>
              <p:nvPr/>
            </p:nvSpPr>
            <p:spPr>
              <a:xfrm>
                <a:off x="7086600" y="5334120"/>
                <a:ext cx="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96080" y="5334120"/>
                <a:ext cx="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43800" y="51814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38880" y="5029200"/>
                <a:ext cx="0" cy="80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520" y="49528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B71-5F1E-4266-AD53-4E95BF32AE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ig35a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343400" cy="3695760"/>
          </a:xfrm>
          <a:prstGeom prst="rect">
            <a:avLst/>
          </a:prstGeom>
          <a:ln w="0">
            <a:noFill/>
          </a:ln>
        </p:spPr>
      </p:pic>
      <p:pic>
        <p:nvPicPr>
          <p:cNvPr id="299" name="fig35b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800600" cy="34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25C-984F-4C35-9D62-0F8B681DCF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e of real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eri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kage is bound to happen unless the signal is the same on both side of the window of 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 not happen naturally for all signals and all window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 restrict the choice of windows / frequency resoluti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s unpractical for averaged periodogram estimatio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AE1-3870-42AC-A8E9-AD75DC4677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for 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is windowing the signals so that each end of th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the same val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window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919080" y="4343400"/>
                <a:ext cx="25099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495680"/>
                <a:ext cx="1447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990720" y="5181480"/>
                <a:ext cx="25826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403880" y="5334120"/>
                <a:ext cx="1927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 rot="16200000">
            <a:off x="5715000" y="540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3360" y="5942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42F-EC7C-45CE-9543-B11BBE1B4E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124080" y="3429000"/>
                <a:ext cx="19274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 rot="16200000">
            <a:off x="4435200" y="3504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23560" y="4037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2847960" cy="2135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flipV="1">
            <a:off x="4267080" y="1828440"/>
            <a:ext cx="11430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04920" y="4495680"/>
            <a:ext cx="26668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1449360" y="3429000"/>
            <a:ext cx="561960" cy="990360"/>
            <a:chOff x="1449360" y="3429000"/>
            <a:chExt cx="561960" cy="990360"/>
          </a:xfrm>
        </p:grpSpPr>
        <p:sp>
          <p:nvSpPr>
            <p:cNvPr id="319" name=""/>
            <p:cNvSpPr/>
            <p:nvPr/>
          </p:nvSpPr>
          <p:spPr>
            <a:xfrm>
              <a:off x="2011320" y="342900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9360" y="36565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969640" y="5286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429000" y="4648320"/>
            <a:ext cx="2162160" cy="1620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860800" y="5333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088040" y="3124080"/>
            <a:ext cx="561960" cy="990360"/>
            <a:chOff x="7088040" y="3124080"/>
            <a:chExt cx="561960" cy="990360"/>
          </a:xfrm>
        </p:grpSpPr>
        <p:sp>
          <p:nvSpPr>
            <p:cNvPr id="326" name=""/>
            <p:cNvSpPr/>
            <p:nvPr/>
          </p:nvSpPr>
          <p:spPr>
            <a:xfrm>
              <a:off x="7650000" y="31240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88040" y="3351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352680" y="1066680"/>
            <a:ext cx="5410440" cy="2059200"/>
            <a:chOff x="3352680" y="1066680"/>
            <a:chExt cx="5410440" cy="2059200"/>
          </a:xfrm>
        </p:grpSpPr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3352680" y="1066680"/>
              <a:ext cx="5410440" cy="205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5486040" y="1218960"/>
              <a:ext cx="1219320" cy="928080"/>
              <a:chOff x="5486040" y="1218960"/>
              <a:chExt cx="1219320" cy="9280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6678720" y="123300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86040" y="121932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5486400" y="12189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201-178F-4189-ACAA-6D0876501F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ised classical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1847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286000" y="1447920"/>
                <a:ext cx="3311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*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228600" y="2286000"/>
            <a:ext cx="4894200" cy="36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63640" y="2563920"/>
            <a:ext cx="3771720" cy="29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3640" y="2563920"/>
            <a:ext cx="3771720" cy="2968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3640" y="2563920"/>
            <a:ext cx="377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3640" y="2563920"/>
            <a:ext cx="3771720" cy="2968560"/>
          </a:xfrm>
          <a:custGeom>
            <a:avLst/>
            <a:gdLst/>
            <a:ahLst/>
            <a:rect l="l" t="t" r="r" b="b"/>
            <a:pathLst>
              <a:path w="433" h="341">
                <a:moveTo>
                  <a:pt x="0" y="341"/>
                </a:moveTo>
                <a:lnTo>
                  <a:pt x="433" y="341"/>
                </a:lnTo>
                <a:lnTo>
                  <a:pt x="4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63640" y="2563920"/>
            <a:ext cx="1440" cy="296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3640" y="5532480"/>
            <a:ext cx="377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63640" y="2563920"/>
            <a:ext cx="1440" cy="296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3640" y="54972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63640" y="2563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6184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405080" y="54972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05080" y="2563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0184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944720" y="54972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44720" y="2563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4148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484360" y="54972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84360" y="2563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8112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014640" y="54972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14640" y="2563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1320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556080" y="54972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6080" y="2563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5284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095720" y="54972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95720" y="2563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9248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635360" y="54972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35360" y="2563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32480" y="556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63640" y="55324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600080" y="55324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2000" y="5462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63640" y="52372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600080" y="52372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7320" y="5167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63640" y="49402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600080" y="49402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7320" y="4871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63640" y="46450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600080" y="46450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7320" y="45752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3640" y="4349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600080" y="4349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7320" y="42800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3640" y="4052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600080" y="4052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7320" y="39830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3640" y="37479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00080" y="37479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7320" y="36781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63640" y="34527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600080" y="34527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7320" y="33829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3640" y="31561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600080" y="31561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7320" y="3086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63640" y="28605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600080" y="28605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7320" y="2790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63640" y="25639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600080" y="25639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2000" y="24955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3640" y="2563920"/>
            <a:ext cx="377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63640" y="2563920"/>
            <a:ext cx="3771720" cy="2968560"/>
          </a:xfrm>
          <a:custGeom>
            <a:avLst/>
            <a:gdLst/>
            <a:ahLst/>
            <a:rect l="l" t="t" r="r" b="b"/>
            <a:pathLst>
              <a:path w="433" h="341">
                <a:moveTo>
                  <a:pt x="0" y="341"/>
                </a:moveTo>
                <a:lnTo>
                  <a:pt x="433" y="341"/>
                </a:lnTo>
                <a:lnTo>
                  <a:pt x="43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863640" y="2563920"/>
            <a:ext cx="1440" cy="296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0160" y="5262480"/>
            <a:ext cx="77760" cy="795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70160" y="4749840"/>
            <a:ext cx="77760" cy="777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9800" y="3592440"/>
            <a:ext cx="77760" cy="777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49440" y="2668680"/>
            <a:ext cx="77760" cy="7920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9720" y="2668680"/>
            <a:ext cx="79560" cy="7920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21160" y="3592440"/>
            <a:ext cx="77760" cy="777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60800" y="4749840"/>
            <a:ext cx="77760" cy="777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00440" y="5262480"/>
            <a:ext cx="77760" cy="795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863640" y="5297040"/>
            <a:ext cx="1440" cy="235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405080" y="4784400"/>
            <a:ext cx="1440" cy="747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44720" y="3625920"/>
            <a:ext cx="1440" cy="19065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484360" y="2703600"/>
            <a:ext cx="1800" cy="2828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014640" y="2703600"/>
            <a:ext cx="1440" cy="2828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556080" y="3625920"/>
            <a:ext cx="1440" cy="19065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095720" y="4784400"/>
            <a:ext cx="1440" cy="747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635360" y="5297040"/>
            <a:ext cx="1800" cy="235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22600" y="5715000"/>
            <a:ext cx="219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mming window for N=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364680" y="3886560"/>
            <a:ext cx="37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(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4647960" cy="34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FB4-2832-4CD9-91B3-2FBDA4FC66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ised classical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1847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286000" y="1447920"/>
                <a:ext cx="3311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*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5029200" cy="37702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4800600" cy="35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F5D-A361-4927-8D9E-7EF40C0F09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of signals (rad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rem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rmine the correlation between elements of a signal to enable modeling, compression. Determine power spectral content of the signal to enable noise removal, detection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91C-62E3-49E7-A1A6-6BEB878AA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ised classical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3040" y="1066680"/>
            <a:ext cx="7867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 between window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371600" y="1676520"/>
          <a:ext cx="6705720" cy="494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70572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 flipH="1">
            <a:off x="8070840" y="1676520"/>
            <a:ext cx="6480" cy="453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79A-F735-40AD-AA15-AF9946709B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fig38a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14800" cy="3441600"/>
          </a:xfrm>
          <a:prstGeom prst="rect">
            <a:avLst/>
          </a:prstGeom>
          <a:ln w="0">
            <a:noFill/>
          </a:ln>
        </p:spPr>
      </p:pic>
      <p:pic>
        <p:nvPicPr>
          <p:cNvPr id="436" name="fig38b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4343400" cy="3435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26320" y="5029200"/>
            <a:ext cx="431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 points sequence multiplied by hamming wind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27920" y="5029200"/>
            <a:ext cx="42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5 points sequence multiplied by hanning wind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64A-5656-40E7-A7D1-42A33560A7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fig39a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200400" cy="2527560"/>
          </a:xfrm>
          <a:prstGeom prst="rect">
            <a:avLst/>
          </a:prstGeom>
          <a:ln w="0">
            <a:noFill/>
          </a:ln>
        </p:spPr>
      </p:pic>
      <p:pic>
        <p:nvPicPr>
          <p:cNvPr id="441" name="fig39b" descr=""/>
          <p:cNvPicPr/>
          <p:nvPr/>
        </p:nvPicPr>
        <p:blipFill>
          <a:blip r:embed="rId2"/>
          <a:stretch/>
        </p:blipFill>
        <p:spPr>
          <a:xfrm>
            <a:off x="5257800" y="1066680"/>
            <a:ext cx="3200400" cy="2490840"/>
          </a:xfrm>
          <a:prstGeom prst="rect">
            <a:avLst/>
          </a:prstGeom>
          <a:ln w="0">
            <a:noFill/>
          </a:ln>
        </p:spPr>
      </p:pic>
      <p:pic>
        <p:nvPicPr>
          <p:cNvPr id="442" name="fig40a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3048120" cy="2439720"/>
          </a:xfrm>
          <a:prstGeom prst="rect">
            <a:avLst/>
          </a:prstGeom>
          <a:ln w="0">
            <a:noFill/>
          </a:ln>
        </p:spPr>
      </p:pic>
      <p:pic>
        <p:nvPicPr>
          <p:cNvPr id="443" name="fig40b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2819520" cy="2500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855360" y="3657600"/>
            <a:ext cx="396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 points DFT for Hamming window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4 Hz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99760" y="3657600"/>
            <a:ext cx="385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 points DFT for Hanning window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4 Hz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8400" y="6172200"/>
            <a:ext cx="427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5 points DFT for Hamming window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0.513 Hz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74640" y="6172200"/>
            <a:ext cx="4170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5 points DFT for Hanning window 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0.513 Hz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1F5-F78A-4C34-9ED2-E56EAA3523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to statistical description of signals (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d to the Power Spectral Density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17720" y="3200400"/>
                <a:ext cx="54846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080840" y="34279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o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5181480"/>
                <a:ext cx="39261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01760" y="5409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wer spectral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6400" y="4266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E86-5C6D-455E-AC17-F8D64A13F9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spectrum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ing is a convolution in spectral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representation in the spectral domain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interp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visu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oncent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natural (audio frequen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A2B-01AA-4F4D-A68C-EBBAC644A7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800600" cy="3598920"/>
          </a:xfrm>
          <a:prstGeom prst="rect">
            <a:avLst/>
          </a:prstGeom>
          <a:ln w="0">
            <a:noFill/>
          </a:ln>
        </p:spPr>
      </p:pic>
      <p:pic>
        <p:nvPicPr>
          <p:cNvPr id="61" name="LinearChirp" descr=""/>
          <p:cNvPicPr/>
          <p:nvPr/>
        </p:nvPicPr>
        <p:blipFill>
          <a:blip r:embed="rId2"/>
          <a:stretch/>
        </p:blipFill>
        <p:spPr>
          <a:xfrm>
            <a:off x="0" y="1676520"/>
            <a:ext cx="533556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522-466D-4335-8DB6-96B70D0E6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800600" cy="3598920"/>
          </a:xfrm>
          <a:prstGeom prst="rect">
            <a:avLst/>
          </a:prstGeom>
          <a:ln w="0">
            <a:noFill/>
          </a:ln>
        </p:spPr>
      </p:pic>
      <p:pic>
        <p:nvPicPr>
          <p:cNvPr id="65" name="QuadaraticChirp" descr=""/>
          <p:cNvPicPr/>
          <p:nvPr/>
        </p:nvPicPr>
        <p:blipFill>
          <a:blip r:embed="rId2"/>
          <a:stretch/>
        </p:blipFill>
        <p:spPr>
          <a:xfrm>
            <a:off x="0" y="1676520"/>
            <a:ext cx="533556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A2B-A0E2-4755-B4A6-7CC86DF8A0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ixtureChirp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3541680"/>
          </a:xfrm>
          <a:prstGeom prst="rect">
            <a:avLst/>
          </a:prstGeom>
          <a:ln w="0">
            <a:noFill/>
          </a:ln>
        </p:spPr>
      </p:pic>
      <p:pic>
        <p:nvPicPr>
          <p:cNvPr id="69" name="MixtureSpec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72464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AF8-2D6B-413E-B9C8-9C7980B5A4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trum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fig1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90032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169-894F-4013-ABD1-9AC280A91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09:22:08Z</dcterms:created>
  <dc:creator>Administrator</dc:creator>
  <dc:description/>
  <dc:language>en-US</dc:language>
  <cp:lastModifiedBy>ceeyrp</cp:lastModifiedBy>
  <cp:lastPrinted>2001-10-01T15:20:00Z</cp:lastPrinted>
  <dcterms:modified xsi:type="dcterms:W3CDTF">2004-10-05T12:20:35Z</dcterms:modified>
  <cp:revision>483</cp:revision>
  <dc:subject/>
  <dc:title>Electronic Instrumentation</dc:title>
</cp:coreProperties>
</file>