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3.wmf" ContentType="image/x-wmf"/>
  <Override PartName="/ppt/media/image26.wmf" ContentType="image/x-wmf"/>
  <Override PartName="/ppt/media/image10.png" ContentType="image/png"/>
  <Override PartName="/ppt/media/image2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907588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242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696600" y="744120"/>
            <a:ext cx="536724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416520"/>
            <a:ext cx="292428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22840" y="9416520"/>
            <a:ext cx="292392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41BABB-9C3A-4EB5-B2DD-4797ED7EBD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"/>
          <p:cNvSpPr txBox="1"/>
          <p:nvPr/>
        </p:nvSpPr>
        <p:spPr>
          <a:xfrm>
            <a:off x="3822840" y="9416520"/>
            <a:ext cx="292392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44E2CF-4641-4AD4-AEDB-A01A909B09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-360" y="9416520"/>
            <a:ext cx="292428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-360" y="0"/>
            <a:ext cx="29242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822840" y="0"/>
            <a:ext cx="2923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822840" y="9447120"/>
            <a:ext cx="2923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0" y="9447120"/>
            <a:ext cx="29242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0" y="0"/>
            <a:ext cx="2924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735120" y="795240"/>
            <a:ext cx="5278320" cy="365436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899640" y="4712760"/>
            <a:ext cx="49467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"/>
          <p:cNvSpPr txBox="1"/>
          <p:nvPr/>
        </p:nvSpPr>
        <p:spPr>
          <a:xfrm>
            <a:off x="3822840" y="9416520"/>
            <a:ext cx="292392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4F5E8A-76C7-409D-AA44-13073DE594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-360" y="9416520"/>
            <a:ext cx="292428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-360" y="0"/>
            <a:ext cx="29242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822840" y="0"/>
            <a:ext cx="2923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822840" y="9447120"/>
            <a:ext cx="2923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0" y="9447120"/>
            <a:ext cx="29242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0" y="0"/>
            <a:ext cx="2924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735120" y="795240"/>
            <a:ext cx="5278320" cy="365436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899640" y="4712760"/>
            <a:ext cx="49467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 txBox="1"/>
          <p:nvPr/>
        </p:nvSpPr>
        <p:spPr>
          <a:xfrm>
            <a:off x="3822840" y="9416520"/>
            <a:ext cx="292392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533BFB-894F-426E-BBBA-2771D63509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-360" y="9416520"/>
            <a:ext cx="292428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-360" y="0"/>
            <a:ext cx="29242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822840" y="0"/>
            <a:ext cx="2923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822840" y="9447120"/>
            <a:ext cx="2923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0" y="9447120"/>
            <a:ext cx="29242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0" y="0"/>
            <a:ext cx="2924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735120" y="795240"/>
            <a:ext cx="5278320" cy="365436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899640" y="4712760"/>
            <a:ext cx="49467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 txBox="1"/>
          <p:nvPr/>
        </p:nvSpPr>
        <p:spPr>
          <a:xfrm>
            <a:off x="3822840" y="9416520"/>
            <a:ext cx="292392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924642-D174-498D-995C-A236B120B5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-360" y="9416520"/>
            <a:ext cx="292428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-360" y="0"/>
            <a:ext cx="29242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3822840" y="0"/>
            <a:ext cx="2923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822840" y="9447120"/>
            <a:ext cx="2923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0" y="9447120"/>
            <a:ext cx="29242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0" y="0"/>
            <a:ext cx="2924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735120" y="795240"/>
            <a:ext cx="5278320" cy="365436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899640" y="4712760"/>
            <a:ext cx="49467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"/>
          <p:cNvSpPr txBox="1"/>
          <p:nvPr/>
        </p:nvSpPr>
        <p:spPr>
          <a:xfrm>
            <a:off x="3822840" y="9416520"/>
            <a:ext cx="292392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C6CF7D-BD35-4989-983C-658511325F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-360" y="9416520"/>
            <a:ext cx="292428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-360" y="0"/>
            <a:ext cx="29242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822840" y="0"/>
            <a:ext cx="2923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822840" y="9447120"/>
            <a:ext cx="2923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0" y="9447120"/>
            <a:ext cx="29242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0" y="0"/>
            <a:ext cx="2924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735120" y="795240"/>
            <a:ext cx="5278320" cy="365436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899640" y="4712760"/>
            <a:ext cx="49467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"/>
          <p:cNvSpPr txBox="1"/>
          <p:nvPr/>
        </p:nvSpPr>
        <p:spPr>
          <a:xfrm>
            <a:off x="3822840" y="9416520"/>
            <a:ext cx="292392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2D432A-EBC2-458A-8D77-4B62644ED9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-360" y="9416520"/>
            <a:ext cx="292428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-360" y="0"/>
            <a:ext cx="29242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822840" y="0"/>
            <a:ext cx="2923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822840" y="9447120"/>
            <a:ext cx="2923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0" y="9447120"/>
            <a:ext cx="29242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0" y="0"/>
            <a:ext cx="2924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735120" y="795240"/>
            <a:ext cx="5278320" cy="365436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899640" y="4712760"/>
            <a:ext cx="49467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"/>
          <p:cNvSpPr txBox="1"/>
          <p:nvPr/>
        </p:nvSpPr>
        <p:spPr>
          <a:xfrm>
            <a:off x="3822840" y="9416520"/>
            <a:ext cx="292392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E56411-6E34-4989-9005-71A889125F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-360" y="9416520"/>
            <a:ext cx="292428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-360" y="0"/>
            <a:ext cx="29242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822840" y="0"/>
            <a:ext cx="2923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822840" y="9447120"/>
            <a:ext cx="2923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0" y="9447120"/>
            <a:ext cx="29242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0" y="0"/>
            <a:ext cx="2924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735120" y="795240"/>
            <a:ext cx="5278320" cy="365436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899640" y="4712760"/>
            <a:ext cx="49467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 txBox="1"/>
          <p:nvPr/>
        </p:nvSpPr>
        <p:spPr>
          <a:xfrm>
            <a:off x="3822840" y="9416520"/>
            <a:ext cx="292392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FDAA94-0C1D-48C0-BA32-D654D47A8A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-360" y="9416520"/>
            <a:ext cx="292428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-360" y="0"/>
            <a:ext cx="29242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822840" y="0"/>
            <a:ext cx="2923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22840" y="9447120"/>
            <a:ext cx="2923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0" y="9447120"/>
            <a:ext cx="29242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0" y="0"/>
            <a:ext cx="2924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735120" y="795240"/>
            <a:ext cx="5278320" cy="365436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899640" y="4712760"/>
            <a:ext cx="49467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 txBox="1"/>
          <p:nvPr/>
        </p:nvSpPr>
        <p:spPr>
          <a:xfrm>
            <a:off x="3822840" y="9416520"/>
            <a:ext cx="292392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453B8F-34F1-4845-950B-A24BF4454B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-360" y="9416520"/>
            <a:ext cx="292428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-360" y="0"/>
            <a:ext cx="29242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822840" y="0"/>
            <a:ext cx="2923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822840" y="9447120"/>
            <a:ext cx="2923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0" y="9447120"/>
            <a:ext cx="29242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0" y="0"/>
            <a:ext cx="2924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735120" y="795240"/>
            <a:ext cx="5278320" cy="365436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899640" y="4712760"/>
            <a:ext cx="49467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"/>
          <p:cNvSpPr txBox="1"/>
          <p:nvPr/>
        </p:nvSpPr>
        <p:spPr>
          <a:xfrm>
            <a:off x="3822840" y="9416520"/>
            <a:ext cx="292392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5B083D-4814-44C2-A782-D8D558A010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-360" y="9416520"/>
            <a:ext cx="292428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-360" y="0"/>
            <a:ext cx="29242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22840" y="0"/>
            <a:ext cx="2923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822840" y="9447120"/>
            <a:ext cx="2923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9447120"/>
            <a:ext cx="29242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0" y="0"/>
            <a:ext cx="2924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735120" y="795240"/>
            <a:ext cx="5278320" cy="36543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899640" y="4712760"/>
            <a:ext cx="49467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22840" y="9416520"/>
            <a:ext cx="292392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EA089B-1D1C-4C11-949F-D38D989A2E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-360" y="9416520"/>
            <a:ext cx="292428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-360" y="0"/>
            <a:ext cx="29242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822840" y="0"/>
            <a:ext cx="2923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822840" y="9447120"/>
            <a:ext cx="2923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0" y="9447120"/>
            <a:ext cx="29242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0" y="0"/>
            <a:ext cx="2924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735120" y="795240"/>
            <a:ext cx="5278320" cy="365436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899640" y="4712760"/>
            <a:ext cx="49467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"/>
          <p:cNvSpPr txBox="1"/>
          <p:nvPr/>
        </p:nvSpPr>
        <p:spPr>
          <a:xfrm>
            <a:off x="3822840" y="9416520"/>
            <a:ext cx="292392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E3B435-8160-4A0F-9985-68A9B19FBB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-360" y="9416520"/>
            <a:ext cx="292428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-360" y="0"/>
            <a:ext cx="29242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822840" y="0"/>
            <a:ext cx="2923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22840" y="9447120"/>
            <a:ext cx="2923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0" y="9447120"/>
            <a:ext cx="29242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0" y="0"/>
            <a:ext cx="2924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735120" y="795240"/>
            <a:ext cx="5278320" cy="36543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899640" y="4712760"/>
            <a:ext cx="49467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22840" y="9416520"/>
            <a:ext cx="292392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257F25-276A-4267-9732-8F0A1EF433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-360" y="9416520"/>
            <a:ext cx="292428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-360" y="0"/>
            <a:ext cx="292428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822840" y="0"/>
            <a:ext cx="2923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822840" y="9447120"/>
            <a:ext cx="2923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0" y="9447120"/>
            <a:ext cx="29242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0" y="0"/>
            <a:ext cx="2924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735120" y="795240"/>
            <a:ext cx="5278320" cy="365436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899640" y="4712760"/>
            <a:ext cx="49467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04E-E1CB-403E-AB7E-FF9C0F93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3892320"/>
            <a:ext cx="842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214C-303A-4603-99C2-C7A05ACA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3892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7280" y="3892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519-01E5-40A8-9FC0-478D98B6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920" y="1066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6800" y="1066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3892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920" y="3892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6800" y="3892320"/>
            <a:ext cx="2711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27BF-9F4B-430F-82A0-69CA451E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4F18-1A90-48DC-BEB2-689A89E8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49D-3CB3-48A1-85C5-963BC903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824C-E758-49BC-B8E7-E8C04BF7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CB02-DB3D-487A-BF7F-4508D540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9880" y="151920"/>
            <a:ext cx="8502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B224-8096-4696-B334-2D770A18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3892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FEE-D9AC-49CC-A696-0486224B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7280" y="3892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14B-AABC-4840-AE19-94D19B56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066320"/>
            <a:ext cx="4108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3892320"/>
            <a:ext cx="842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32B-2BC3-48D7-AA8E-3F01A442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40080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mpling  and discret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008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240" y="640044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fld id="{C2F03B51-7D04-420A-A00F-F63907340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4008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6.wmf"/><Relationship Id="rId5" Type="http://schemas.openxmlformats.org/officeDocument/2006/relationships/image" Target="../media/image27.png"/><Relationship Id="rId6" Type="http://schemas.openxmlformats.org/officeDocument/2006/relationships/image" Target="../media/image29.wmf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Signal Proces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 Yvan Petill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D27-A073-4682-82A3-3007F21281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phical interpre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523880" y="4191120"/>
            <a:ext cx="6738840" cy="457200"/>
            <a:chOff x="1523880" y="4191120"/>
            <a:chExt cx="6738840" cy="457200"/>
          </a:xfrm>
        </p:grpSpPr>
        <p:sp>
          <p:nvSpPr>
            <p:cNvPr id="194" name=""/>
            <p:cNvSpPr/>
            <p:nvPr/>
          </p:nvSpPr>
          <p:spPr>
            <a:xfrm>
              <a:off x="3676680" y="4191120"/>
              <a:ext cx="21333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</a:rPr>
                <a:t>h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4237200"/>
              <a:ext cx="1189080" cy="33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Times New Roman"/>
                </a:rPr>
                <a:t>x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6" name=""/>
            <p:cNvCxnSpPr>
              <a:stCxn id="195" idx="3"/>
              <a:endCxn id="194" idx="1"/>
            </p:cNvCxnSpPr>
            <p:nvPr/>
          </p:nvCxnSpPr>
          <p:spPr>
            <a:xfrm>
              <a:off x="2698200" y="4419360"/>
              <a:ext cx="9788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7" name=""/>
            <p:cNvSpPr/>
            <p:nvPr/>
          </p:nvSpPr>
          <p:spPr>
            <a:xfrm>
              <a:off x="6646680" y="4248360"/>
              <a:ext cx="1616040" cy="33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Times New Roman"/>
                </a:rPr>
                <a:t>y(t)=h(t)*x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8" name=""/>
            <p:cNvCxnSpPr>
              <a:stCxn id="194" idx="3"/>
              <a:endCxn id="197" idx="1"/>
            </p:cNvCxnSpPr>
            <p:nvPr/>
          </p:nvCxnSpPr>
          <p:spPr>
            <a:xfrm>
              <a:off x="5810040" y="4419360"/>
              <a:ext cx="851760" cy="11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9" name=""/>
          <p:cNvGrpSpPr/>
          <p:nvPr/>
        </p:nvGrpSpPr>
        <p:grpSpPr>
          <a:xfrm>
            <a:off x="1281240" y="1295280"/>
            <a:ext cx="6738840" cy="457200"/>
            <a:chOff x="1281240" y="1295280"/>
            <a:chExt cx="6738840" cy="457200"/>
          </a:xfrm>
        </p:grpSpPr>
        <p:sp>
          <p:nvSpPr>
            <p:cNvPr id="200" name=""/>
            <p:cNvSpPr/>
            <p:nvPr/>
          </p:nvSpPr>
          <p:spPr>
            <a:xfrm>
              <a:off x="3434040" y="1295280"/>
              <a:ext cx="21333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</a:rPr>
                <a:t>h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81240" y="1341360"/>
              <a:ext cx="1189080" cy="33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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2" name=""/>
            <p:cNvCxnSpPr>
              <a:stCxn id="201" idx="3"/>
              <a:endCxn id="200" idx="1"/>
            </p:cNvCxnSpPr>
            <p:nvPr/>
          </p:nvCxnSpPr>
          <p:spPr>
            <a:xfrm>
              <a:off x="2455560" y="1523520"/>
              <a:ext cx="9788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3" name=""/>
            <p:cNvSpPr/>
            <p:nvPr/>
          </p:nvSpPr>
          <p:spPr>
            <a:xfrm>
              <a:off x="6404040" y="1352520"/>
              <a:ext cx="1616040" cy="33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Times New Roman"/>
                </a:rPr>
                <a:t>y(t)=h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4" name=""/>
            <p:cNvCxnSpPr>
              <a:stCxn id="200" idx="3"/>
              <a:endCxn id="203" idx="1"/>
            </p:cNvCxnSpPr>
            <p:nvPr/>
          </p:nvCxnSpPr>
          <p:spPr>
            <a:xfrm>
              <a:off x="5567400" y="1523520"/>
              <a:ext cx="851760" cy="11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05" name=""/>
          <p:cNvSpPr/>
          <p:nvPr/>
        </p:nvSpPr>
        <p:spPr>
          <a:xfrm>
            <a:off x="1905120" y="2286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304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9000" y="25135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82160" y="1980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560" y="304704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57600" y="30481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513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535240" y="26661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880" y="319932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1320" y="21326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55308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53080" y="2413080"/>
            <a:ext cx="1752840" cy="1028520"/>
          </a:xfrm>
          <a:custGeom>
            <a:avLst/>
            <a:gdLst/>
            <a:ahLst/>
            <a:rect l="l" t="t" r="r" b="b"/>
            <a:pathLst>
              <a:path w="1104" h="648">
                <a:moveTo>
                  <a:pt x="0" y="496"/>
                </a:moveTo>
                <a:cubicBezTo>
                  <a:pt x="44" y="264"/>
                  <a:pt x="88" y="32"/>
                  <a:pt x="144" y="16"/>
                </a:cubicBezTo>
                <a:cubicBezTo>
                  <a:pt x="200" y="0"/>
                  <a:pt x="248" y="296"/>
                  <a:pt x="336" y="400"/>
                </a:cubicBezTo>
                <a:cubicBezTo>
                  <a:pt x="424" y="504"/>
                  <a:pt x="584" y="632"/>
                  <a:pt x="672" y="640"/>
                </a:cubicBezTo>
                <a:cubicBezTo>
                  <a:pt x="760" y="648"/>
                  <a:pt x="792" y="472"/>
                  <a:pt x="864" y="448"/>
                </a:cubicBezTo>
                <a:cubicBezTo>
                  <a:pt x="936" y="424"/>
                  <a:pt x="1020" y="460"/>
                  <a:pt x="1104" y="4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69800" y="350424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 im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5600" y="358056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ulse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46720" y="596808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48758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990720" y="5029200"/>
            <a:ext cx="3382200" cy="982080"/>
            <a:chOff x="990720" y="5029200"/>
            <a:chExt cx="3382200" cy="982080"/>
          </a:xfrm>
        </p:grpSpPr>
        <p:sp>
          <p:nvSpPr>
            <p:cNvPr id="223" name=""/>
            <p:cNvSpPr/>
            <p:nvPr/>
          </p:nvSpPr>
          <p:spPr>
            <a:xfrm>
              <a:off x="990720" y="59436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41120" y="5612400"/>
              <a:ext cx="63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6002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06680" y="5155920"/>
              <a:ext cx="1828800" cy="787680"/>
            </a:xfrm>
            <a:custGeom>
              <a:avLst/>
              <a:gdLst/>
              <a:ahLst/>
              <a:rect l="l" t="t" r="r" b="b"/>
              <a:pathLst>
                <a:path w="1152" h="496">
                  <a:moveTo>
                    <a:pt x="0" y="496"/>
                  </a:moveTo>
                  <a:cubicBezTo>
                    <a:pt x="72" y="388"/>
                    <a:pt x="144" y="280"/>
                    <a:pt x="240" y="208"/>
                  </a:cubicBezTo>
                  <a:cubicBezTo>
                    <a:pt x="336" y="136"/>
                    <a:pt x="480" y="80"/>
                    <a:pt x="576" y="64"/>
                  </a:cubicBezTo>
                  <a:cubicBezTo>
                    <a:pt x="672" y="48"/>
                    <a:pt x="736" y="120"/>
                    <a:pt x="816" y="112"/>
                  </a:cubicBezTo>
                  <a:cubicBezTo>
                    <a:pt x="896" y="104"/>
                    <a:pt x="1000" y="32"/>
                    <a:pt x="1056" y="16"/>
                  </a:cubicBezTo>
                  <a:cubicBezTo>
                    <a:pt x="1112" y="0"/>
                    <a:pt x="1128" y="16"/>
                    <a:pt x="1152" y="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40200" y="5410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92480" y="533376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44760" y="5257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97400" y="52578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324840" y="594252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867280" y="4875840"/>
            <a:ext cx="3375720" cy="1308960"/>
            <a:chOff x="5867280" y="4875840"/>
            <a:chExt cx="3375720" cy="1308960"/>
          </a:xfrm>
        </p:grpSpPr>
        <p:sp>
          <p:nvSpPr>
            <p:cNvPr id="233" name=""/>
            <p:cNvSpPr/>
            <p:nvPr/>
          </p:nvSpPr>
          <p:spPr>
            <a:xfrm>
              <a:off x="6019920" y="59436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611200" y="5409360"/>
              <a:ext cx="63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67280" y="487584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6629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9400" y="5486400"/>
              <a:ext cx="1752480" cy="698400"/>
            </a:xfrm>
            <a:custGeom>
              <a:avLst/>
              <a:gdLst/>
              <a:ahLst/>
              <a:rect l="l" t="t" r="r" b="b"/>
              <a:pathLst>
                <a:path w="1104" h="648">
                  <a:moveTo>
                    <a:pt x="0" y="496"/>
                  </a:moveTo>
                  <a:cubicBezTo>
                    <a:pt x="44" y="264"/>
                    <a:pt x="88" y="32"/>
                    <a:pt x="144" y="16"/>
                  </a:cubicBezTo>
                  <a:cubicBezTo>
                    <a:pt x="200" y="0"/>
                    <a:pt x="248" y="296"/>
                    <a:pt x="336" y="400"/>
                  </a:cubicBezTo>
                  <a:cubicBezTo>
                    <a:pt x="424" y="504"/>
                    <a:pt x="584" y="632"/>
                    <a:pt x="672" y="640"/>
                  </a:cubicBezTo>
                  <a:cubicBezTo>
                    <a:pt x="760" y="648"/>
                    <a:pt x="792" y="472"/>
                    <a:pt x="864" y="448"/>
                  </a:cubicBezTo>
                  <a:cubicBezTo>
                    <a:pt x="936" y="424"/>
                    <a:pt x="1020" y="460"/>
                    <a:pt x="1104" y="4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88160" y="5410080"/>
              <a:ext cx="1752480" cy="771480"/>
            </a:xfrm>
            <a:custGeom>
              <a:avLst/>
              <a:gdLst/>
              <a:ahLst/>
              <a:rect l="l" t="t" r="r" b="b"/>
              <a:pathLst>
                <a:path w="1104" h="648">
                  <a:moveTo>
                    <a:pt x="0" y="496"/>
                  </a:moveTo>
                  <a:cubicBezTo>
                    <a:pt x="44" y="264"/>
                    <a:pt x="88" y="32"/>
                    <a:pt x="144" y="16"/>
                  </a:cubicBezTo>
                  <a:cubicBezTo>
                    <a:pt x="200" y="0"/>
                    <a:pt x="248" y="296"/>
                    <a:pt x="336" y="400"/>
                  </a:cubicBezTo>
                  <a:cubicBezTo>
                    <a:pt x="424" y="504"/>
                    <a:pt x="584" y="632"/>
                    <a:pt x="672" y="640"/>
                  </a:cubicBezTo>
                  <a:cubicBezTo>
                    <a:pt x="760" y="648"/>
                    <a:pt x="792" y="472"/>
                    <a:pt x="864" y="448"/>
                  </a:cubicBezTo>
                  <a:cubicBezTo>
                    <a:pt x="936" y="424"/>
                    <a:pt x="1020" y="460"/>
                    <a:pt x="1104" y="4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54840" y="5334120"/>
              <a:ext cx="1752480" cy="844560"/>
            </a:xfrm>
            <a:custGeom>
              <a:avLst/>
              <a:gdLst/>
              <a:ahLst/>
              <a:rect l="l" t="t" r="r" b="b"/>
              <a:pathLst>
                <a:path w="1104" h="648">
                  <a:moveTo>
                    <a:pt x="0" y="496"/>
                  </a:moveTo>
                  <a:cubicBezTo>
                    <a:pt x="44" y="264"/>
                    <a:pt x="88" y="32"/>
                    <a:pt x="144" y="16"/>
                  </a:cubicBezTo>
                  <a:cubicBezTo>
                    <a:pt x="200" y="0"/>
                    <a:pt x="248" y="296"/>
                    <a:pt x="336" y="400"/>
                  </a:cubicBezTo>
                  <a:cubicBezTo>
                    <a:pt x="424" y="504"/>
                    <a:pt x="584" y="632"/>
                    <a:pt x="672" y="640"/>
                  </a:cubicBezTo>
                  <a:cubicBezTo>
                    <a:pt x="760" y="648"/>
                    <a:pt x="792" y="472"/>
                    <a:pt x="864" y="448"/>
                  </a:cubicBezTo>
                  <a:cubicBezTo>
                    <a:pt x="936" y="424"/>
                    <a:pt x="1020" y="460"/>
                    <a:pt x="1104" y="4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07120" y="5410080"/>
              <a:ext cx="1752840" cy="765360"/>
            </a:xfrm>
            <a:custGeom>
              <a:avLst/>
              <a:gdLst/>
              <a:ahLst/>
              <a:rect l="l" t="t" r="r" b="b"/>
              <a:pathLst>
                <a:path w="1104" h="648">
                  <a:moveTo>
                    <a:pt x="0" y="496"/>
                  </a:moveTo>
                  <a:cubicBezTo>
                    <a:pt x="44" y="264"/>
                    <a:pt x="88" y="32"/>
                    <a:pt x="144" y="16"/>
                  </a:cubicBezTo>
                  <a:cubicBezTo>
                    <a:pt x="200" y="0"/>
                    <a:pt x="248" y="296"/>
                    <a:pt x="336" y="400"/>
                  </a:cubicBezTo>
                  <a:cubicBezTo>
                    <a:pt x="424" y="504"/>
                    <a:pt x="584" y="632"/>
                    <a:pt x="672" y="640"/>
                  </a:cubicBezTo>
                  <a:cubicBezTo>
                    <a:pt x="760" y="648"/>
                    <a:pt x="792" y="472"/>
                    <a:pt x="864" y="448"/>
                  </a:cubicBezTo>
                  <a:cubicBezTo>
                    <a:pt x="936" y="424"/>
                    <a:pt x="1020" y="460"/>
                    <a:pt x="1104" y="4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ABD-2C96-427C-ACDD-2905B13656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volution theor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838080" y="3962520"/>
                <a:ext cx="5200920" cy="21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j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f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645840" y="1370520"/>
            <a:ext cx="21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urier Trans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85800" y="1828800"/>
                <a:ext cx="43894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j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681120" y="3504240"/>
            <a:ext cx="24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volution theor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095880" y="1828800"/>
                <a:ext cx="30974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2BD-5173-4BEF-B7D3-4E69FC16FB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volution theorem and L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447920" y="1295280"/>
            <a:ext cx="6710400" cy="457200"/>
            <a:chOff x="1447920" y="1295280"/>
            <a:chExt cx="6710400" cy="457200"/>
          </a:xfrm>
        </p:grpSpPr>
        <p:sp>
          <p:nvSpPr>
            <p:cNvPr id="249" name=""/>
            <p:cNvSpPr/>
            <p:nvPr/>
          </p:nvSpPr>
          <p:spPr>
            <a:xfrm>
              <a:off x="3586320" y="1295280"/>
              <a:ext cx="2133360" cy="457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</a:rPr>
                <a:t>h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47920" y="1355760"/>
              <a:ext cx="116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Times New Roman"/>
                </a:rPr>
                <a:t>x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3"/>
              <a:endCxn id="249" idx="1"/>
            </p:cNvCxnSpPr>
            <p:nvPr/>
          </p:nvCxnSpPr>
          <p:spPr>
            <a:xfrm>
              <a:off x="2607840" y="152352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2" name=""/>
            <p:cNvSpPr/>
            <p:nvPr/>
          </p:nvSpPr>
          <p:spPr>
            <a:xfrm>
              <a:off x="6570720" y="1366920"/>
              <a:ext cx="158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Times New Roman"/>
                </a:rPr>
                <a:t>y(t)=h(t)*x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3" name=""/>
            <p:cNvCxnSpPr>
              <a:stCxn id="249" idx="3"/>
              <a:endCxn id="252" idx="1"/>
            </p:cNvCxnSpPr>
            <p:nvPr/>
          </p:nvCxnSpPr>
          <p:spPr>
            <a:xfrm>
              <a:off x="5719680" y="1523520"/>
              <a:ext cx="851760" cy="1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54" name=""/>
          <p:cNvSpPr/>
          <p:nvPr/>
        </p:nvSpPr>
        <p:spPr>
          <a:xfrm>
            <a:off x="1746360" y="322596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37640" y="2691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21582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355840" y="23115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62320" y="2438280"/>
            <a:ext cx="1828800" cy="787680"/>
          </a:xfrm>
          <a:custGeom>
            <a:avLst/>
            <a:gdLst/>
            <a:ahLst/>
            <a:rect l="l" t="t" r="r" b="b"/>
            <a:pathLst>
              <a:path w="1152" h="496">
                <a:moveTo>
                  <a:pt x="0" y="496"/>
                </a:moveTo>
                <a:cubicBezTo>
                  <a:pt x="72" y="388"/>
                  <a:pt x="144" y="280"/>
                  <a:pt x="240" y="208"/>
                </a:cubicBezTo>
                <a:cubicBezTo>
                  <a:pt x="336" y="136"/>
                  <a:pt x="480" y="80"/>
                  <a:pt x="576" y="64"/>
                </a:cubicBezTo>
                <a:cubicBezTo>
                  <a:pt x="672" y="48"/>
                  <a:pt x="736" y="120"/>
                  <a:pt x="816" y="112"/>
                </a:cubicBezTo>
                <a:cubicBezTo>
                  <a:pt x="896" y="104"/>
                  <a:pt x="1000" y="32"/>
                  <a:pt x="1056" y="16"/>
                </a:cubicBezTo>
                <a:cubicBezTo>
                  <a:pt x="1112" y="0"/>
                  <a:pt x="1128" y="16"/>
                  <a:pt x="115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6924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261612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2540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52680" y="2540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3640" y="1984680"/>
            <a:ext cx="1229400" cy="703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606680" y="4089240"/>
            <a:ext cx="6710400" cy="457200"/>
            <a:chOff x="1606680" y="4089240"/>
            <a:chExt cx="6710400" cy="457200"/>
          </a:xfrm>
        </p:grpSpPr>
        <p:sp>
          <p:nvSpPr>
            <p:cNvPr id="265" name=""/>
            <p:cNvSpPr/>
            <p:nvPr/>
          </p:nvSpPr>
          <p:spPr>
            <a:xfrm>
              <a:off x="3745080" y="4089240"/>
              <a:ext cx="2133360" cy="457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</a:rPr>
                <a:t>H(f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06680" y="4149720"/>
              <a:ext cx="116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Times New Roman"/>
                </a:rPr>
                <a:t>X(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3"/>
              <a:endCxn id="265" idx="1"/>
            </p:cNvCxnSpPr>
            <p:nvPr/>
          </p:nvCxnSpPr>
          <p:spPr>
            <a:xfrm>
              <a:off x="2766600" y="431748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"/>
            <p:cNvSpPr/>
            <p:nvPr/>
          </p:nvSpPr>
          <p:spPr>
            <a:xfrm>
              <a:off x="6729480" y="4160880"/>
              <a:ext cx="158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Times New Roman"/>
                </a:rPr>
                <a:t>Y(f) = H(f)X(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stCxn id="265" idx="3"/>
              <a:endCxn id="268" idx="1"/>
            </p:cNvCxnSpPr>
            <p:nvPr/>
          </p:nvCxnSpPr>
          <p:spPr>
            <a:xfrm>
              <a:off x="5878440" y="4317480"/>
              <a:ext cx="851760" cy="1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70" name=""/>
          <p:cNvSpPr/>
          <p:nvPr/>
        </p:nvSpPr>
        <p:spPr>
          <a:xfrm>
            <a:off x="1905120" y="5943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14880" y="540936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66800" y="48758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514600" y="5029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21080" y="5156280"/>
            <a:ext cx="1828800" cy="787320"/>
          </a:xfrm>
          <a:custGeom>
            <a:avLst/>
            <a:gdLst/>
            <a:ahLst/>
            <a:rect l="l" t="t" r="r" b="b"/>
            <a:pathLst>
              <a:path w="1152" h="496">
                <a:moveTo>
                  <a:pt x="0" y="496"/>
                </a:moveTo>
                <a:cubicBezTo>
                  <a:pt x="72" y="388"/>
                  <a:pt x="144" y="280"/>
                  <a:pt x="240" y="208"/>
                </a:cubicBezTo>
                <a:cubicBezTo>
                  <a:pt x="336" y="136"/>
                  <a:pt x="480" y="80"/>
                  <a:pt x="576" y="64"/>
                </a:cubicBezTo>
                <a:cubicBezTo>
                  <a:pt x="672" y="48"/>
                  <a:pt x="736" y="120"/>
                  <a:pt x="816" y="112"/>
                </a:cubicBezTo>
                <a:cubicBezTo>
                  <a:pt x="896" y="104"/>
                  <a:pt x="1000" y="32"/>
                  <a:pt x="1056" y="16"/>
                </a:cubicBezTo>
                <a:cubicBezTo>
                  <a:pt x="1112" y="0"/>
                  <a:pt x="1128" y="16"/>
                  <a:pt x="115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83240" y="591804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705880" y="540936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45280" y="48506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(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093080" y="50036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720" y="5204160"/>
            <a:ext cx="1709280" cy="703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42200" y="106596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gration (s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09560" y="380916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6600" y="5003640"/>
            <a:ext cx="1523880" cy="939960"/>
          </a:xfrm>
          <a:custGeom>
            <a:avLst/>
            <a:gdLst/>
            <a:ahLst/>
            <a:rect l="l" t="t" r="r" b="b"/>
            <a:pathLst>
              <a:path w="960" h="592">
                <a:moveTo>
                  <a:pt x="0" y="592"/>
                </a:moveTo>
                <a:cubicBezTo>
                  <a:pt x="24" y="472"/>
                  <a:pt x="48" y="352"/>
                  <a:pt x="96" y="304"/>
                </a:cubicBezTo>
                <a:cubicBezTo>
                  <a:pt x="144" y="256"/>
                  <a:pt x="248" y="288"/>
                  <a:pt x="288" y="304"/>
                </a:cubicBezTo>
                <a:cubicBezTo>
                  <a:pt x="328" y="320"/>
                  <a:pt x="320" y="416"/>
                  <a:pt x="336" y="400"/>
                </a:cubicBezTo>
                <a:cubicBezTo>
                  <a:pt x="352" y="384"/>
                  <a:pt x="352" y="256"/>
                  <a:pt x="384" y="208"/>
                </a:cubicBezTo>
                <a:cubicBezTo>
                  <a:pt x="416" y="160"/>
                  <a:pt x="496" y="144"/>
                  <a:pt x="528" y="112"/>
                </a:cubicBezTo>
                <a:cubicBezTo>
                  <a:pt x="560" y="80"/>
                  <a:pt x="544" y="32"/>
                  <a:pt x="576" y="16"/>
                </a:cubicBezTo>
                <a:cubicBezTo>
                  <a:pt x="608" y="0"/>
                  <a:pt x="672" y="8"/>
                  <a:pt x="720" y="16"/>
                </a:cubicBezTo>
                <a:cubicBezTo>
                  <a:pt x="768" y="24"/>
                  <a:pt x="840" y="32"/>
                  <a:pt x="864" y="64"/>
                </a:cubicBezTo>
                <a:cubicBezTo>
                  <a:pt x="888" y="96"/>
                  <a:pt x="848" y="120"/>
                  <a:pt x="864" y="208"/>
                </a:cubicBezTo>
                <a:cubicBezTo>
                  <a:pt x="880" y="296"/>
                  <a:pt x="920" y="444"/>
                  <a:pt x="960" y="5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095880" y="2208600"/>
            <a:ext cx="3375720" cy="1308960"/>
            <a:chOff x="6095880" y="2208600"/>
            <a:chExt cx="3375720" cy="1308960"/>
          </a:xfrm>
        </p:grpSpPr>
        <p:sp>
          <p:nvSpPr>
            <p:cNvPr id="284" name=""/>
            <p:cNvSpPr/>
            <p:nvPr/>
          </p:nvSpPr>
          <p:spPr>
            <a:xfrm>
              <a:off x="6248520" y="327636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839800" y="2742120"/>
              <a:ext cx="63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95880" y="22086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858000" y="23619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58000" y="2819160"/>
              <a:ext cx="1752480" cy="698400"/>
            </a:xfrm>
            <a:custGeom>
              <a:avLst/>
              <a:gdLst/>
              <a:ahLst/>
              <a:rect l="l" t="t" r="r" b="b"/>
              <a:pathLst>
                <a:path w="1104" h="648">
                  <a:moveTo>
                    <a:pt x="0" y="496"/>
                  </a:moveTo>
                  <a:cubicBezTo>
                    <a:pt x="44" y="264"/>
                    <a:pt x="88" y="32"/>
                    <a:pt x="144" y="16"/>
                  </a:cubicBezTo>
                  <a:cubicBezTo>
                    <a:pt x="200" y="0"/>
                    <a:pt x="248" y="296"/>
                    <a:pt x="336" y="400"/>
                  </a:cubicBezTo>
                  <a:cubicBezTo>
                    <a:pt x="424" y="504"/>
                    <a:pt x="584" y="632"/>
                    <a:pt x="672" y="640"/>
                  </a:cubicBezTo>
                  <a:cubicBezTo>
                    <a:pt x="760" y="648"/>
                    <a:pt x="792" y="472"/>
                    <a:pt x="864" y="448"/>
                  </a:cubicBezTo>
                  <a:cubicBezTo>
                    <a:pt x="936" y="424"/>
                    <a:pt x="1020" y="460"/>
                    <a:pt x="1104" y="4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16760" y="2742840"/>
              <a:ext cx="1752480" cy="771480"/>
            </a:xfrm>
            <a:custGeom>
              <a:avLst/>
              <a:gdLst/>
              <a:ahLst/>
              <a:rect l="l" t="t" r="r" b="b"/>
              <a:pathLst>
                <a:path w="1104" h="648">
                  <a:moveTo>
                    <a:pt x="0" y="496"/>
                  </a:moveTo>
                  <a:cubicBezTo>
                    <a:pt x="44" y="264"/>
                    <a:pt x="88" y="32"/>
                    <a:pt x="144" y="16"/>
                  </a:cubicBezTo>
                  <a:cubicBezTo>
                    <a:pt x="200" y="0"/>
                    <a:pt x="248" y="296"/>
                    <a:pt x="336" y="400"/>
                  </a:cubicBezTo>
                  <a:cubicBezTo>
                    <a:pt x="424" y="504"/>
                    <a:pt x="584" y="632"/>
                    <a:pt x="672" y="640"/>
                  </a:cubicBezTo>
                  <a:cubicBezTo>
                    <a:pt x="760" y="648"/>
                    <a:pt x="792" y="472"/>
                    <a:pt x="864" y="448"/>
                  </a:cubicBezTo>
                  <a:cubicBezTo>
                    <a:pt x="936" y="424"/>
                    <a:pt x="1020" y="460"/>
                    <a:pt x="1104" y="4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83440" y="2666880"/>
              <a:ext cx="1752480" cy="844560"/>
            </a:xfrm>
            <a:custGeom>
              <a:avLst/>
              <a:gdLst/>
              <a:ahLst/>
              <a:rect l="l" t="t" r="r" b="b"/>
              <a:pathLst>
                <a:path w="1104" h="648">
                  <a:moveTo>
                    <a:pt x="0" y="496"/>
                  </a:moveTo>
                  <a:cubicBezTo>
                    <a:pt x="44" y="264"/>
                    <a:pt x="88" y="32"/>
                    <a:pt x="144" y="16"/>
                  </a:cubicBezTo>
                  <a:cubicBezTo>
                    <a:pt x="200" y="0"/>
                    <a:pt x="248" y="296"/>
                    <a:pt x="336" y="400"/>
                  </a:cubicBezTo>
                  <a:cubicBezTo>
                    <a:pt x="424" y="504"/>
                    <a:pt x="584" y="632"/>
                    <a:pt x="672" y="640"/>
                  </a:cubicBezTo>
                  <a:cubicBezTo>
                    <a:pt x="760" y="648"/>
                    <a:pt x="792" y="472"/>
                    <a:pt x="864" y="448"/>
                  </a:cubicBezTo>
                  <a:cubicBezTo>
                    <a:pt x="936" y="424"/>
                    <a:pt x="1020" y="460"/>
                    <a:pt x="1104" y="4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35720" y="2742840"/>
              <a:ext cx="1752840" cy="765360"/>
            </a:xfrm>
            <a:custGeom>
              <a:avLst/>
              <a:gdLst/>
              <a:ahLst/>
              <a:rect l="l" t="t" r="r" b="b"/>
              <a:pathLst>
                <a:path w="1104" h="648">
                  <a:moveTo>
                    <a:pt x="0" y="496"/>
                  </a:moveTo>
                  <a:cubicBezTo>
                    <a:pt x="44" y="264"/>
                    <a:pt x="88" y="32"/>
                    <a:pt x="144" y="16"/>
                  </a:cubicBezTo>
                  <a:cubicBezTo>
                    <a:pt x="200" y="0"/>
                    <a:pt x="248" y="296"/>
                    <a:pt x="336" y="400"/>
                  </a:cubicBezTo>
                  <a:cubicBezTo>
                    <a:pt x="424" y="504"/>
                    <a:pt x="584" y="632"/>
                    <a:pt x="672" y="640"/>
                  </a:cubicBezTo>
                  <a:cubicBezTo>
                    <a:pt x="760" y="648"/>
                    <a:pt x="792" y="472"/>
                    <a:pt x="864" y="448"/>
                  </a:cubicBezTo>
                  <a:cubicBezTo>
                    <a:pt x="936" y="424"/>
                    <a:pt x="1020" y="460"/>
                    <a:pt x="1104" y="4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A73C-75C8-422A-9410-78A5BCA73A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volution theorem and L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Fourier Transform is KEY to signal processing and LTI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F1D-EFE5-47F8-8C2F-F03AE7AECE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volution theorem and L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Graphical conv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499320" y="229968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ulse response h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733920" y="1295280"/>
                <a:ext cx="35812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</m:e>
                    </m:nary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dτ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459000" y="3096720"/>
            <a:ext cx="33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 reversed and trans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ulse response h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20574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46680" y="5028120"/>
            <a:ext cx="6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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67280" y="2057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21360" y="50281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7680" y="397584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function x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6240" y="466164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867120" y="2971800"/>
            <a:ext cx="3962520" cy="685800"/>
            <a:chOff x="3867120" y="2971800"/>
            <a:chExt cx="3962520" cy="685800"/>
          </a:xfrm>
        </p:grpSpPr>
        <p:sp>
          <p:nvSpPr>
            <p:cNvPr id="306" name=""/>
            <p:cNvSpPr/>
            <p:nvPr/>
          </p:nvSpPr>
          <p:spPr>
            <a:xfrm flipH="1">
              <a:off x="4648320" y="2971800"/>
              <a:ext cx="1218960" cy="685800"/>
            </a:xfrm>
            <a:custGeom>
              <a:avLst/>
              <a:gdLst/>
              <a:ahLst/>
              <a:rect l="l" t="t" r="r" b="b"/>
              <a:pathLst>
                <a:path w="1344" h="680">
                  <a:moveTo>
                    <a:pt x="0" y="496"/>
                  </a:moveTo>
                  <a:cubicBezTo>
                    <a:pt x="48" y="248"/>
                    <a:pt x="96" y="0"/>
                    <a:pt x="192" y="16"/>
                  </a:cubicBezTo>
                  <a:cubicBezTo>
                    <a:pt x="288" y="32"/>
                    <a:pt x="440" y="504"/>
                    <a:pt x="576" y="592"/>
                  </a:cubicBezTo>
                  <a:cubicBezTo>
                    <a:pt x="712" y="680"/>
                    <a:pt x="880" y="568"/>
                    <a:pt x="1008" y="544"/>
                  </a:cubicBezTo>
                  <a:cubicBezTo>
                    <a:pt x="1136" y="520"/>
                    <a:pt x="1288" y="464"/>
                    <a:pt x="1344" y="4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67120" y="3492360"/>
              <a:ext cx="396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73880" y="3062880"/>
              <a:ext cx="29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886200" y="4523400"/>
            <a:ext cx="3962520" cy="455040"/>
            <a:chOff x="3886200" y="4523400"/>
            <a:chExt cx="3962520" cy="455040"/>
          </a:xfrm>
        </p:grpSpPr>
        <p:sp>
          <p:nvSpPr>
            <p:cNvPr id="310" name=""/>
            <p:cNvSpPr/>
            <p:nvPr/>
          </p:nvSpPr>
          <p:spPr>
            <a:xfrm>
              <a:off x="4038480" y="4572000"/>
              <a:ext cx="1828800" cy="406440"/>
            </a:xfrm>
            <a:custGeom>
              <a:avLst/>
              <a:gdLst/>
              <a:ahLst/>
              <a:rect l="l" t="t" r="r" b="b"/>
              <a:pathLst>
                <a:path w="1152" h="256">
                  <a:moveTo>
                    <a:pt x="0" y="0"/>
                  </a:moveTo>
                  <a:cubicBezTo>
                    <a:pt x="216" y="112"/>
                    <a:pt x="432" y="224"/>
                    <a:pt x="576" y="240"/>
                  </a:cubicBezTo>
                  <a:cubicBezTo>
                    <a:pt x="720" y="256"/>
                    <a:pt x="768" y="96"/>
                    <a:pt x="864" y="96"/>
                  </a:cubicBezTo>
                  <a:cubicBezTo>
                    <a:pt x="960" y="96"/>
                    <a:pt x="1056" y="168"/>
                    <a:pt x="1152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86200" y="4952880"/>
              <a:ext cx="396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92960" y="4523400"/>
              <a:ext cx="29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74480" y="565236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ear Con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886200" y="2086560"/>
            <a:ext cx="3962520" cy="808920"/>
            <a:chOff x="3886200" y="2086560"/>
            <a:chExt cx="3962520" cy="808920"/>
          </a:xfrm>
        </p:grpSpPr>
        <p:sp>
          <p:nvSpPr>
            <p:cNvPr id="315" name=""/>
            <p:cNvSpPr/>
            <p:nvPr/>
          </p:nvSpPr>
          <p:spPr>
            <a:xfrm>
              <a:off x="4876920" y="2209680"/>
              <a:ext cx="1218960" cy="685800"/>
            </a:xfrm>
            <a:custGeom>
              <a:avLst/>
              <a:gdLst/>
              <a:ahLst/>
              <a:rect l="l" t="t" r="r" b="b"/>
              <a:pathLst>
                <a:path w="1344" h="680">
                  <a:moveTo>
                    <a:pt x="0" y="496"/>
                  </a:moveTo>
                  <a:cubicBezTo>
                    <a:pt x="48" y="248"/>
                    <a:pt x="96" y="0"/>
                    <a:pt x="192" y="16"/>
                  </a:cubicBezTo>
                  <a:cubicBezTo>
                    <a:pt x="288" y="32"/>
                    <a:pt x="440" y="504"/>
                    <a:pt x="576" y="592"/>
                  </a:cubicBezTo>
                  <a:cubicBezTo>
                    <a:pt x="712" y="680"/>
                    <a:pt x="880" y="568"/>
                    <a:pt x="1008" y="544"/>
                  </a:cubicBezTo>
                  <a:cubicBezTo>
                    <a:pt x="1136" y="520"/>
                    <a:pt x="1288" y="464"/>
                    <a:pt x="1344" y="4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86200" y="2714760"/>
              <a:ext cx="396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2960" y="2284920"/>
              <a:ext cx="29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76920" y="21337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27560" y="20865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733920" y="3685320"/>
            <a:ext cx="4114800" cy="979920"/>
            <a:chOff x="3733920" y="3685320"/>
            <a:chExt cx="4114800" cy="979920"/>
          </a:xfrm>
        </p:grpSpPr>
        <p:sp>
          <p:nvSpPr>
            <p:cNvPr id="321" name=""/>
            <p:cNvSpPr/>
            <p:nvPr/>
          </p:nvSpPr>
          <p:spPr>
            <a:xfrm flipH="1" flipV="1">
              <a:off x="4876920" y="3733920"/>
              <a:ext cx="167616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92960" y="3685320"/>
              <a:ext cx="29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3733920" y="3733920"/>
              <a:ext cx="4114800" cy="931320"/>
              <a:chOff x="3733920" y="3733920"/>
              <a:chExt cx="4114800" cy="93132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3733920" y="3733920"/>
                <a:ext cx="4114800" cy="520560"/>
                <a:chOff x="3733920" y="3733920"/>
                <a:chExt cx="4114800" cy="52056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733920" y="4114800"/>
                  <a:ext cx="1143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53080" y="411480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V="1">
                  <a:off x="4876920" y="373392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886200" y="4114800"/>
                  <a:ext cx="3962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08600" y="4251240"/>
                  <a:ext cx="156348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5410080" y="4266360"/>
                <a:ext cx="368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3886200" y="5308560"/>
            <a:ext cx="4357080" cy="978120"/>
            <a:chOff x="3886200" y="5308560"/>
            <a:chExt cx="4357080" cy="978120"/>
          </a:xfrm>
        </p:grpSpPr>
        <p:sp>
          <p:nvSpPr>
            <p:cNvPr id="332" name=""/>
            <p:cNvSpPr/>
            <p:nvPr/>
          </p:nvSpPr>
          <p:spPr>
            <a:xfrm>
              <a:off x="3886200" y="6172200"/>
              <a:ext cx="396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76920" y="5308560"/>
              <a:ext cx="2057400" cy="978120"/>
            </a:xfrm>
            <a:custGeom>
              <a:avLst/>
              <a:gdLst/>
              <a:ahLst/>
              <a:rect l="l" t="t" r="r" b="b"/>
              <a:pathLst>
                <a:path w="1296" h="616">
                  <a:moveTo>
                    <a:pt x="0" y="544"/>
                  </a:moveTo>
                  <a:cubicBezTo>
                    <a:pt x="72" y="336"/>
                    <a:pt x="144" y="128"/>
                    <a:pt x="192" y="64"/>
                  </a:cubicBezTo>
                  <a:cubicBezTo>
                    <a:pt x="240" y="0"/>
                    <a:pt x="256" y="128"/>
                    <a:pt x="288" y="160"/>
                  </a:cubicBezTo>
                  <a:cubicBezTo>
                    <a:pt x="320" y="192"/>
                    <a:pt x="328" y="216"/>
                    <a:pt x="384" y="256"/>
                  </a:cubicBezTo>
                  <a:cubicBezTo>
                    <a:pt x="440" y="296"/>
                    <a:pt x="552" y="344"/>
                    <a:pt x="624" y="400"/>
                  </a:cubicBezTo>
                  <a:cubicBezTo>
                    <a:pt x="696" y="456"/>
                    <a:pt x="760" y="568"/>
                    <a:pt x="816" y="592"/>
                  </a:cubicBezTo>
                  <a:cubicBezTo>
                    <a:pt x="872" y="616"/>
                    <a:pt x="912" y="560"/>
                    <a:pt x="960" y="544"/>
                  </a:cubicBezTo>
                  <a:cubicBezTo>
                    <a:pt x="1008" y="528"/>
                    <a:pt x="1048" y="496"/>
                    <a:pt x="1104" y="496"/>
                  </a:cubicBezTo>
                  <a:cubicBezTo>
                    <a:pt x="1160" y="496"/>
                    <a:pt x="1228" y="520"/>
                    <a:pt x="1296" y="5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880" y="5713920"/>
              <a:ext cx="85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ime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76920" y="55627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38680" y="5516280"/>
              <a:ext cx="117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 +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E9B-D292-4302-9D49-8C1A20A769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855200" cy="53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Digitizing the Sig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576000" y="917640"/>
            <a:ext cx="41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52120" y="234936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59440" y="996840"/>
            <a:ext cx="795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85200" y="101772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04840" y="99540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67760" y="2363760"/>
            <a:ext cx="3063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05400" y="2386080"/>
            <a:ext cx="4053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42040" y="2374920"/>
            <a:ext cx="4053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82960" y="1352520"/>
            <a:ext cx="462132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im is to obtain 1, 0 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gnal period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old sampled value until next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assify new signal into levels (quantize the sig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ore levels means more accu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39120" y="5386320"/>
            <a:ext cx="261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gnal = 10 10 01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00 00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7760" y="4071960"/>
            <a:ext cx="3063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703960" y="4097160"/>
            <a:ext cx="4053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42040" y="4084560"/>
            <a:ext cx="4053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971640" y="2730600"/>
            <a:ext cx="0" cy="13111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79560" y="4025880"/>
            <a:ext cx="36273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79560" y="376380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90720" y="3008160"/>
            <a:ext cx="2728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3247920"/>
            <a:ext cx="2728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3506760"/>
            <a:ext cx="2728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01360" y="409896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6000" y="2643120"/>
            <a:ext cx="41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40760" y="363708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65600" y="338292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740760" y="311472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756600" y="28670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54720" y="4500720"/>
            <a:ext cx="903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nt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067760" y="5899320"/>
            <a:ext cx="3063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03960" y="5923080"/>
            <a:ext cx="4053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42040" y="5910120"/>
            <a:ext cx="4053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974880" y="4560480"/>
            <a:ext cx="0" cy="131148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84240" y="5856120"/>
            <a:ext cx="3625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84240" y="5594400"/>
            <a:ext cx="2728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93600" y="483876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93600" y="507852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93600" y="533700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98200" y="588816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6000" y="4468680"/>
            <a:ext cx="41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93960" y="549900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98640" y="520848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65520" y="495792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62280" y="469260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32320" y="4829040"/>
            <a:ext cx="289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85680" y="2305080"/>
            <a:ext cx="36356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98560" y="1244520"/>
            <a:ext cx="3141720" cy="900360"/>
          </a:xfrm>
          <a:custGeom>
            <a:avLst/>
            <a:gdLst/>
            <a:ahLst/>
            <a:rect l="l" t="t" r="r" b="b"/>
            <a:pathLst>
              <a:path w="1788" h="598">
                <a:moveTo>
                  <a:pt x="0" y="597"/>
                </a:moveTo>
                <a:lnTo>
                  <a:pt x="0" y="576"/>
                </a:lnTo>
                <a:lnTo>
                  <a:pt x="2" y="557"/>
                </a:lnTo>
                <a:lnTo>
                  <a:pt x="2" y="538"/>
                </a:lnTo>
                <a:lnTo>
                  <a:pt x="4" y="520"/>
                </a:lnTo>
                <a:lnTo>
                  <a:pt x="6" y="501"/>
                </a:lnTo>
                <a:lnTo>
                  <a:pt x="8" y="484"/>
                </a:lnTo>
                <a:lnTo>
                  <a:pt x="10" y="469"/>
                </a:lnTo>
                <a:lnTo>
                  <a:pt x="12" y="453"/>
                </a:lnTo>
                <a:lnTo>
                  <a:pt x="15" y="438"/>
                </a:lnTo>
                <a:lnTo>
                  <a:pt x="17" y="423"/>
                </a:lnTo>
                <a:lnTo>
                  <a:pt x="21" y="409"/>
                </a:lnTo>
                <a:lnTo>
                  <a:pt x="25" y="396"/>
                </a:lnTo>
                <a:lnTo>
                  <a:pt x="29" y="382"/>
                </a:lnTo>
                <a:lnTo>
                  <a:pt x="35" y="371"/>
                </a:lnTo>
                <a:lnTo>
                  <a:pt x="38" y="359"/>
                </a:lnTo>
                <a:lnTo>
                  <a:pt x="44" y="350"/>
                </a:lnTo>
                <a:lnTo>
                  <a:pt x="48" y="338"/>
                </a:lnTo>
                <a:lnTo>
                  <a:pt x="54" y="329"/>
                </a:lnTo>
                <a:lnTo>
                  <a:pt x="61" y="321"/>
                </a:lnTo>
                <a:lnTo>
                  <a:pt x="67" y="311"/>
                </a:lnTo>
                <a:lnTo>
                  <a:pt x="73" y="304"/>
                </a:lnTo>
                <a:lnTo>
                  <a:pt x="81" y="298"/>
                </a:lnTo>
                <a:lnTo>
                  <a:pt x="88" y="292"/>
                </a:lnTo>
                <a:lnTo>
                  <a:pt x="96" y="286"/>
                </a:lnTo>
                <a:lnTo>
                  <a:pt x="104" y="281"/>
                </a:lnTo>
                <a:lnTo>
                  <a:pt x="111" y="277"/>
                </a:lnTo>
                <a:lnTo>
                  <a:pt x="119" y="273"/>
                </a:lnTo>
                <a:lnTo>
                  <a:pt x="129" y="269"/>
                </a:lnTo>
                <a:lnTo>
                  <a:pt x="138" y="267"/>
                </a:lnTo>
                <a:lnTo>
                  <a:pt x="148" y="265"/>
                </a:lnTo>
                <a:lnTo>
                  <a:pt x="157" y="263"/>
                </a:lnTo>
                <a:lnTo>
                  <a:pt x="167" y="263"/>
                </a:lnTo>
                <a:lnTo>
                  <a:pt x="177" y="263"/>
                </a:lnTo>
                <a:lnTo>
                  <a:pt x="188" y="265"/>
                </a:lnTo>
                <a:lnTo>
                  <a:pt x="200" y="271"/>
                </a:lnTo>
                <a:lnTo>
                  <a:pt x="211" y="277"/>
                </a:lnTo>
                <a:lnTo>
                  <a:pt x="223" y="284"/>
                </a:lnTo>
                <a:lnTo>
                  <a:pt x="236" y="294"/>
                </a:lnTo>
                <a:lnTo>
                  <a:pt x="250" y="304"/>
                </a:lnTo>
                <a:lnTo>
                  <a:pt x="263" y="315"/>
                </a:lnTo>
                <a:lnTo>
                  <a:pt x="278" y="329"/>
                </a:lnTo>
                <a:lnTo>
                  <a:pt x="292" y="342"/>
                </a:lnTo>
                <a:lnTo>
                  <a:pt x="307" y="355"/>
                </a:lnTo>
                <a:lnTo>
                  <a:pt x="323" y="371"/>
                </a:lnTo>
                <a:lnTo>
                  <a:pt x="338" y="386"/>
                </a:lnTo>
                <a:lnTo>
                  <a:pt x="353" y="401"/>
                </a:lnTo>
                <a:lnTo>
                  <a:pt x="369" y="417"/>
                </a:lnTo>
                <a:lnTo>
                  <a:pt x="386" y="432"/>
                </a:lnTo>
                <a:lnTo>
                  <a:pt x="401" y="449"/>
                </a:lnTo>
                <a:lnTo>
                  <a:pt x="418" y="465"/>
                </a:lnTo>
                <a:lnTo>
                  <a:pt x="434" y="478"/>
                </a:lnTo>
                <a:lnTo>
                  <a:pt x="451" y="494"/>
                </a:lnTo>
                <a:lnTo>
                  <a:pt x="468" y="507"/>
                </a:lnTo>
                <a:lnTo>
                  <a:pt x="484" y="520"/>
                </a:lnTo>
                <a:lnTo>
                  <a:pt x="501" y="534"/>
                </a:lnTo>
                <a:lnTo>
                  <a:pt x="518" y="545"/>
                </a:lnTo>
                <a:lnTo>
                  <a:pt x="536" y="555"/>
                </a:lnTo>
                <a:lnTo>
                  <a:pt x="553" y="563"/>
                </a:lnTo>
                <a:lnTo>
                  <a:pt x="570" y="570"/>
                </a:lnTo>
                <a:lnTo>
                  <a:pt x="587" y="576"/>
                </a:lnTo>
                <a:lnTo>
                  <a:pt x="603" y="580"/>
                </a:lnTo>
                <a:lnTo>
                  <a:pt x="620" y="582"/>
                </a:lnTo>
                <a:lnTo>
                  <a:pt x="637" y="584"/>
                </a:lnTo>
                <a:lnTo>
                  <a:pt x="655" y="582"/>
                </a:lnTo>
                <a:lnTo>
                  <a:pt x="670" y="576"/>
                </a:lnTo>
                <a:lnTo>
                  <a:pt x="687" y="570"/>
                </a:lnTo>
                <a:lnTo>
                  <a:pt x="705" y="563"/>
                </a:lnTo>
                <a:lnTo>
                  <a:pt x="720" y="553"/>
                </a:lnTo>
                <a:lnTo>
                  <a:pt x="737" y="542"/>
                </a:lnTo>
                <a:lnTo>
                  <a:pt x="754" y="528"/>
                </a:lnTo>
                <a:lnTo>
                  <a:pt x="772" y="515"/>
                </a:lnTo>
                <a:lnTo>
                  <a:pt x="789" y="499"/>
                </a:lnTo>
                <a:lnTo>
                  <a:pt x="806" y="482"/>
                </a:lnTo>
                <a:lnTo>
                  <a:pt x="825" y="465"/>
                </a:lnTo>
                <a:lnTo>
                  <a:pt x="843" y="446"/>
                </a:lnTo>
                <a:lnTo>
                  <a:pt x="860" y="426"/>
                </a:lnTo>
                <a:lnTo>
                  <a:pt x="877" y="407"/>
                </a:lnTo>
                <a:lnTo>
                  <a:pt x="896" y="386"/>
                </a:lnTo>
                <a:lnTo>
                  <a:pt x="914" y="365"/>
                </a:lnTo>
                <a:lnTo>
                  <a:pt x="931" y="344"/>
                </a:lnTo>
                <a:lnTo>
                  <a:pt x="950" y="323"/>
                </a:lnTo>
                <a:lnTo>
                  <a:pt x="968" y="302"/>
                </a:lnTo>
                <a:lnTo>
                  <a:pt x="987" y="281"/>
                </a:lnTo>
                <a:lnTo>
                  <a:pt x="1004" y="259"/>
                </a:lnTo>
                <a:lnTo>
                  <a:pt x="1023" y="238"/>
                </a:lnTo>
                <a:lnTo>
                  <a:pt x="1040" y="217"/>
                </a:lnTo>
                <a:lnTo>
                  <a:pt x="1058" y="198"/>
                </a:lnTo>
                <a:lnTo>
                  <a:pt x="1077" y="179"/>
                </a:lnTo>
                <a:lnTo>
                  <a:pt x="1094" y="162"/>
                </a:lnTo>
                <a:lnTo>
                  <a:pt x="1113" y="144"/>
                </a:lnTo>
                <a:lnTo>
                  <a:pt x="1131" y="127"/>
                </a:lnTo>
                <a:lnTo>
                  <a:pt x="1148" y="112"/>
                </a:lnTo>
                <a:lnTo>
                  <a:pt x="1167" y="98"/>
                </a:lnTo>
                <a:lnTo>
                  <a:pt x="1184" y="87"/>
                </a:lnTo>
                <a:lnTo>
                  <a:pt x="1202" y="75"/>
                </a:lnTo>
                <a:lnTo>
                  <a:pt x="1221" y="67"/>
                </a:lnTo>
                <a:lnTo>
                  <a:pt x="1238" y="60"/>
                </a:lnTo>
                <a:lnTo>
                  <a:pt x="1255" y="52"/>
                </a:lnTo>
                <a:lnTo>
                  <a:pt x="1275" y="44"/>
                </a:lnTo>
                <a:lnTo>
                  <a:pt x="1292" y="39"/>
                </a:lnTo>
                <a:lnTo>
                  <a:pt x="1309" y="33"/>
                </a:lnTo>
                <a:lnTo>
                  <a:pt x="1326" y="27"/>
                </a:lnTo>
                <a:lnTo>
                  <a:pt x="1346" y="21"/>
                </a:lnTo>
                <a:lnTo>
                  <a:pt x="1363" y="18"/>
                </a:lnTo>
                <a:lnTo>
                  <a:pt x="1380" y="14"/>
                </a:lnTo>
                <a:lnTo>
                  <a:pt x="1398" y="10"/>
                </a:lnTo>
                <a:lnTo>
                  <a:pt x="1415" y="8"/>
                </a:lnTo>
                <a:lnTo>
                  <a:pt x="1434" y="4"/>
                </a:lnTo>
                <a:lnTo>
                  <a:pt x="1451" y="2"/>
                </a:lnTo>
                <a:lnTo>
                  <a:pt x="1469" y="0"/>
                </a:lnTo>
                <a:lnTo>
                  <a:pt x="1486" y="0"/>
                </a:lnTo>
                <a:lnTo>
                  <a:pt x="1505" y="0"/>
                </a:lnTo>
                <a:lnTo>
                  <a:pt x="1522" y="0"/>
                </a:lnTo>
                <a:lnTo>
                  <a:pt x="1540" y="0"/>
                </a:lnTo>
                <a:lnTo>
                  <a:pt x="1557" y="0"/>
                </a:lnTo>
                <a:lnTo>
                  <a:pt x="1574" y="2"/>
                </a:lnTo>
                <a:lnTo>
                  <a:pt x="1593" y="4"/>
                </a:lnTo>
                <a:lnTo>
                  <a:pt x="1611" y="6"/>
                </a:lnTo>
                <a:lnTo>
                  <a:pt x="1628" y="10"/>
                </a:lnTo>
                <a:lnTo>
                  <a:pt x="1645" y="14"/>
                </a:lnTo>
                <a:lnTo>
                  <a:pt x="1662" y="18"/>
                </a:lnTo>
                <a:lnTo>
                  <a:pt x="1682" y="21"/>
                </a:lnTo>
                <a:lnTo>
                  <a:pt x="1699" y="25"/>
                </a:lnTo>
                <a:lnTo>
                  <a:pt x="1716" y="31"/>
                </a:lnTo>
                <a:lnTo>
                  <a:pt x="1733" y="37"/>
                </a:lnTo>
                <a:lnTo>
                  <a:pt x="1753" y="44"/>
                </a:lnTo>
                <a:lnTo>
                  <a:pt x="1770" y="50"/>
                </a:lnTo>
                <a:lnTo>
                  <a:pt x="1787" y="5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182600" y="1636560"/>
            <a:ext cx="0" cy="66528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449360" y="1805040"/>
            <a:ext cx="0" cy="504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1677960" y="1986120"/>
            <a:ext cx="0" cy="32544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914480" y="2104560"/>
            <a:ext cx="0" cy="20484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2160720" y="2071800"/>
            <a:ext cx="0" cy="23976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2398680" y="189504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644920" y="1650600"/>
            <a:ext cx="0" cy="66060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882880" y="1431720"/>
            <a:ext cx="0" cy="87948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3110040" y="1326960"/>
            <a:ext cx="0" cy="98244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348000" y="1270080"/>
            <a:ext cx="0" cy="103176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368360" y="1012680"/>
            <a:ext cx="0" cy="30960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70000" y="2766960"/>
            <a:ext cx="0" cy="3119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13000" y="2766960"/>
            <a:ext cx="0" cy="3119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17720" y="2757600"/>
            <a:ext cx="0" cy="3119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74720" y="2757600"/>
            <a:ext cx="0" cy="3119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60720" y="2766960"/>
            <a:ext cx="0" cy="3119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95440" y="2779560"/>
            <a:ext cx="0" cy="3119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65440" y="2776680"/>
            <a:ext cx="0" cy="3119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87560" y="2757600"/>
            <a:ext cx="0" cy="3119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08240" y="2749680"/>
            <a:ext cx="0" cy="3119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40080" y="2749680"/>
            <a:ext cx="0" cy="3119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53000" y="4838760"/>
            <a:ext cx="289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84840" y="4838760"/>
            <a:ext cx="289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31880" y="1660680"/>
            <a:ext cx="247680" cy="53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976320" y="1000080"/>
            <a:ext cx="0" cy="131760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69840" y="1327320"/>
            <a:ext cx="2374920" cy="780840"/>
          </a:xfrm>
          <a:custGeom>
            <a:avLst/>
            <a:gdLst/>
            <a:ahLst/>
            <a:rect l="l" t="t" r="r" b="b"/>
            <a:pathLst>
              <a:path w="1352" h="520">
                <a:moveTo>
                  <a:pt x="0" y="296"/>
                </a:moveTo>
                <a:lnTo>
                  <a:pt x="114" y="296"/>
                </a:lnTo>
                <a:lnTo>
                  <a:pt x="114" y="202"/>
                </a:lnTo>
                <a:lnTo>
                  <a:pt x="256" y="202"/>
                </a:lnTo>
                <a:lnTo>
                  <a:pt x="256" y="324"/>
                </a:lnTo>
                <a:lnTo>
                  <a:pt x="396" y="324"/>
                </a:lnTo>
                <a:lnTo>
                  <a:pt x="396" y="432"/>
                </a:lnTo>
                <a:lnTo>
                  <a:pt x="534" y="432"/>
                </a:lnTo>
                <a:lnTo>
                  <a:pt x="534" y="520"/>
                </a:lnTo>
                <a:lnTo>
                  <a:pt x="672" y="520"/>
                </a:lnTo>
                <a:lnTo>
                  <a:pt x="672" y="496"/>
                </a:lnTo>
                <a:lnTo>
                  <a:pt x="808" y="496"/>
                </a:lnTo>
                <a:lnTo>
                  <a:pt x="808" y="382"/>
                </a:lnTo>
                <a:lnTo>
                  <a:pt x="948" y="382"/>
                </a:lnTo>
                <a:lnTo>
                  <a:pt x="948" y="228"/>
                </a:lnTo>
                <a:lnTo>
                  <a:pt x="1086" y="228"/>
                </a:lnTo>
                <a:lnTo>
                  <a:pt x="1086" y="76"/>
                </a:lnTo>
                <a:lnTo>
                  <a:pt x="1214" y="76"/>
                </a:lnTo>
                <a:lnTo>
                  <a:pt x="1214" y="0"/>
                </a:lnTo>
                <a:lnTo>
                  <a:pt x="135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689200" y="1150920"/>
            <a:ext cx="26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69840" y="3041640"/>
            <a:ext cx="2370240" cy="811080"/>
          </a:xfrm>
          <a:custGeom>
            <a:avLst/>
            <a:gdLst/>
            <a:ahLst/>
            <a:rect l="l" t="t" r="r" b="b"/>
            <a:pathLst>
              <a:path w="1350" h="540">
                <a:moveTo>
                  <a:pt x="0" y="294"/>
                </a:moveTo>
                <a:lnTo>
                  <a:pt x="112" y="294"/>
                </a:lnTo>
                <a:lnTo>
                  <a:pt x="112" y="180"/>
                </a:lnTo>
                <a:lnTo>
                  <a:pt x="250" y="180"/>
                </a:lnTo>
                <a:lnTo>
                  <a:pt x="250" y="330"/>
                </a:lnTo>
                <a:lnTo>
                  <a:pt x="400" y="330"/>
                </a:lnTo>
                <a:lnTo>
                  <a:pt x="400" y="456"/>
                </a:lnTo>
                <a:lnTo>
                  <a:pt x="538" y="456"/>
                </a:lnTo>
                <a:lnTo>
                  <a:pt x="536" y="540"/>
                </a:lnTo>
                <a:lnTo>
                  <a:pt x="678" y="540"/>
                </a:lnTo>
                <a:lnTo>
                  <a:pt x="678" y="504"/>
                </a:lnTo>
                <a:lnTo>
                  <a:pt x="810" y="504"/>
                </a:lnTo>
                <a:lnTo>
                  <a:pt x="810" y="402"/>
                </a:lnTo>
                <a:lnTo>
                  <a:pt x="964" y="402"/>
                </a:lnTo>
                <a:lnTo>
                  <a:pt x="964" y="232"/>
                </a:lnTo>
                <a:lnTo>
                  <a:pt x="1092" y="232"/>
                </a:lnTo>
                <a:lnTo>
                  <a:pt x="1092" y="88"/>
                </a:lnTo>
                <a:lnTo>
                  <a:pt x="1218" y="88"/>
                </a:lnTo>
                <a:lnTo>
                  <a:pt x="1218" y="0"/>
                </a:lnTo>
                <a:lnTo>
                  <a:pt x="135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76320" y="5076720"/>
            <a:ext cx="1685880" cy="517680"/>
          </a:xfrm>
          <a:custGeom>
            <a:avLst/>
            <a:gdLst/>
            <a:ahLst/>
            <a:rect l="l" t="t" r="r" b="b"/>
            <a:pathLst>
              <a:path w="960" h="344">
                <a:moveTo>
                  <a:pt x="0" y="0"/>
                </a:moveTo>
                <a:lnTo>
                  <a:pt x="244" y="0"/>
                </a:lnTo>
                <a:lnTo>
                  <a:pt x="244" y="168"/>
                </a:lnTo>
                <a:lnTo>
                  <a:pt x="536" y="172"/>
                </a:lnTo>
                <a:lnTo>
                  <a:pt x="536" y="344"/>
                </a:lnTo>
                <a:lnTo>
                  <a:pt x="808" y="344"/>
                </a:lnTo>
                <a:lnTo>
                  <a:pt x="804" y="172"/>
                </a:lnTo>
                <a:lnTo>
                  <a:pt x="960" y="1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76320"/>
            <a:ext cx="90057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 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igit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ignal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64FC-090F-42FF-98F3-972A8685BA8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02880" y="185760"/>
            <a:ext cx="7923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antizatio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811080" y="1814400"/>
            <a:ext cx="2874960" cy="862200"/>
          </a:xfrm>
          <a:custGeom>
            <a:avLst/>
            <a:gdLst/>
            <a:ahLst/>
            <a:rect l="l" t="t" r="r" b="b"/>
            <a:pathLst>
              <a:path w="1637" h="573">
                <a:moveTo>
                  <a:pt x="0" y="572"/>
                </a:moveTo>
                <a:lnTo>
                  <a:pt x="0" y="551"/>
                </a:lnTo>
                <a:lnTo>
                  <a:pt x="2" y="532"/>
                </a:lnTo>
                <a:lnTo>
                  <a:pt x="2" y="513"/>
                </a:lnTo>
                <a:lnTo>
                  <a:pt x="4" y="494"/>
                </a:lnTo>
                <a:lnTo>
                  <a:pt x="5" y="477"/>
                </a:lnTo>
                <a:lnTo>
                  <a:pt x="7" y="460"/>
                </a:lnTo>
                <a:lnTo>
                  <a:pt x="9" y="444"/>
                </a:lnTo>
                <a:lnTo>
                  <a:pt x="11" y="427"/>
                </a:lnTo>
                <a:lnTo>
                  <a:pt x="14" y="412"/>
                </a:lnTo>
                <a:lnTo>
                  <a:pt x="16" y="399"/>
                </a:lnTo>
                <a:lnTo>
                  <a:pt x="19" y="383"/>
                </a:lnTo>
                <a:lnTo>
                  <a:pt x="23" y="370"/>
                </a:lnTo>
                <a:lnTo>
                  <a:pt x="26" y="359"/>
                </a:lnTo>
                <a:lnTo>
                  <a:pt x="32" y="345"/>
                </a:lnTo>
                <a:lnTo>
                  <a:pt x="35" y="336"/>
                </a:lnTo>
                <a:lnTo>
                  <a:pt x="40" y="324"/>
                </a:lnTo>
                <a:lnTo>
                  <a:pt x="44" y="315"/>
                </a:lnTo>
                <a:lnTo>
                  <a:pt x="49" y="305"/>
                </a:lnTo>
                <a:lnTo>
                  <a:pt x="56" y="296"/>
                </a:lnTo>
                <a:lnTo>
                  <a:pt x="61" y="288"/>
                </a:lnTo>
                <a:lnTo>
                  <a:pt x="67" y="280"/>
                </a:lnTo>
                <a:lnTo>
                  <a:pt x="74" y="273"/>
                </a:lnTo>
                <a:lnTo>
                  <a:pt x="81" y="267"/>
                </a:lnTo>
                <a:lnTo>
                  <a:pt x="88" y="261"/>
                </a:lnTo>
                <a:lnTo>
                  <a:pt x="95" y="256"/>
                </a:lnTo>
                <a:lnTo>
                  <a:pt x="102" y="252"/>
                </a:lnTo>
                <a:lnTo>
                  <a:pt x="109" y="248"/>
                </a:lnTo>
                <a:lnTo>
                  <a:pt x="117" y="244"/>
                </a:lnTo>
                <a:lnTo>
                  <a:pt x="126" y="242"/>
                </a:lnTo>
                <a:lnTo>
                  <a:pt x="135" y="240"/>
                </a:lnTo>
                <a:lnTo>
                  <a:pt x="144" y="238"/>
                </a:lnTo>
                <a:lnTo>
                  <a:pt x="152" y="238"/>
                </a:lnTo>
                <a:lnTo>
                  <a:pt x="161" y="238"/>
                </a:lnTo>
                <a:lnTo>
                  <a:pt x="172" y="240"/>
                </a:lnTo>
                <a:lnTo>
                  <a:pt x="182" y="246"/>
                </a:lnTo>
                <a:lnTo>
                  <a:pt x="193" y="252"/>
                </a:lnTo>
                <a:lnTo>
                  <a:pt x="203" y="259"/>
                </a:lnTo>
                <a:lnTo>
                  <a:pt x="215" y="269"/>
                </a:lnTo>
                <a:lnTo>
                  <a:pt x="228" y="278"/>
                </a:lnTo>
                <a:lnTo>
                  <a:pt x="240" y="290"/>
                </a:lnTo>
                <a:lnTo>
                  <a:pt x="254" y="303"/>
                </a:lnTo>
                <a:lnTo>
                  <a:pt x="266" y="317"/>
                </a:lnTo>
                <a:lnTo>
                  <a:pt x="280" y="330"/>
                </a:lnTo>
                <a:lnTo>
                  <a:pt x="294" y="345"/>
                </a:lnTo>
                <a:lnTo>
                  <a:pt x="308" y="360"/>
                </a:lnTo>
                <a:lnTo>
                  <a:pt x="322" y="376"/>
                </a:lnTo>
                <a:lnTo>
                  <a:pt x="336" y="391"/>
                </a:lnTo>
                <a:lnTo>
                  <a:pt x="352" y="406"/>
                </a:lnTo>
                <a:lnTo>
                  <a:pt x="366" y="421"/>
                </a:lnTo>
                <a:lnTo>
                  <a:pt x="382" y="437"/>
                </a:lnTo>
                <a:lnTo>
                  <a:pt x="396" y="452"/>
                </a:lnTo>
                <a:lnTo>
                  <a:pt x="412" y="467"/>
                </a:lnTo>
                <a:lnTo>
                  <a:pt x="427" y="481"/>
                </a:lnTo>
                <a:lnTo>
                  <a:pt x="441" y="494"/>
                </a:lnTo>
                <a:lnTo>
                  <a:pt x="457" y="507"/>
                </a:lnTo>
                <a:lnTo>
                  <a:pt x="473" y="517"/>
                </a:lnTo>
                <a:lnTo>
                  <a:pt x="489" y="528"/>
                </a:lnTo>
                <a:lnTo>
                  <a:pt x="504" y="536"/>
                </a:lnTo>
                <a:lnTo>
                  <a:pt x="520" y="544"/>
                </a:lnTo>
                <a:lnTo>
                  <a:pt x="536" y="549"/>
                </a:lnTo>
                <a:lnTo>
                  <a:pt x="550" y="553"/>
                </a:lnTo>
                <a:lnTo>
                  <a:pt x="566" y="555"/>
                </a:lnTo>
                <a:lnTo>
                  <a:pt x="581" y="557"/>
                </a:lnTo>
                <a:lnTo>
                  <a:pt x="597" y="555"/>
                </a:lnTo>
                <a:lnTo>
                  <a:pt x="611" y="549"/>
                </a:lnTo>
                <a:lnTo>
                  <a:pt x="627" y="544"/>
                </a:lnTo>
                <a:lnTo>
                  <a:pt x="643" y="536"/>
                </a:lnTo>
                <a:lnTo>
                  <a:pt x="657" y="526"/>
                </a:lnTo>
                <a:lnTo>
                  <a:pt x="673" y="515"/>
                </a:lnTo>
                <a:lnTo>
                  <a:pt x="688" y="502"/>
                </a:lnTo>
                <a:lnTo>
                  <a:pt x="704" y="486"/>
                </a:lnTo>
                <a:lnTo>
                  <a:pt x="720" y="471"/>
                </a:lnTo>
                <a:lnTo>
                  <a:pt x="736" y="454"/>
                </a:lnTo>
                <a:lnTo>
                  <a:pt x="753" y="437"/>
                </a:lnTo>
                <a:lnTo>
                  <a:pt x="769" y="418"/>
                </a:lnTo>
                <a:lnTo>
                  <a:pt x="785" y="399"/>
                </a:lnTo>
                <a:lnTo>
                  <a:pt x="800" y="380"/>
                </a:lnTo>
                <a:lnTo>
                  <a:pt x="818" y="359"/>
                </a:lnTo>
                <a:lnTo>
                  <a:pt x="834" y="338"/>
                </a:lnTo>
                <a:lnTo>
                  <a:pt x="849" y="317"/>
                </a:lnTo>
                <a:lnTo>
                  <a:pt x="867" y="294"/>
                </a:lnTo>
                <a:lnTo>
                  <a:pt x="883" y="273"/>
                </a:lnTo>
                <a:lnTo>
                  <a:pt x="898" y="252"/>
                </a:lnTo>
                <a:lnTo>
                  <a:pt x="916" y="231"/>
                </a:lnTo>
                <a:lnTo>
                  <a:pt x="932" y="210"/>
                </a:lnTo>
                <a:lnTo>
                  <a:pt x="949" y="191"/>
                </a:lnTo>
                <a:lnTo>
                  <a:pt x="965" y="170"/>
                </a:lnTo>
                <a:lnTo>
                  <a:pt x="983" y="153"/>
                </a:lnTo>
                <a:lnTo>
                  <a:pt x="998" y="134"/>
                </a:lnTo>
                <a:lnTo>
                  <a:pt x="1014" y="116"/>
                </a:lnTo>
                <a:lnTo>
                  <a:pt x="1032" y="101"/>
                </a:lnTo>
                <a:lnTo>
                  <a:pt x="1047" y="88"/>
                </a:lnTo>
                <a:lnTo>
                  <a:pt x="1065" y="74"/>
                </a:lnTo>
                <a:lnTo>
                  <a:pt x="1081" y="63"/>
                </a:lnTo>
                <a:lnTo>
                  <a:pt x="1096" y="54"/>
                </a:lnTo>
                <a:lnTo>
                  <a:pt x="1114" y="46"/>
                </a:lnTo>
                <a:lnTo>
                  <a:pt x="1130" y="38"/>
                </a:lnTo>
                <a:lnTo>
                  <a:pt x="1147" y="33"/>
                </a:lnTo>
                <a:lnTo>
                  <a:pt x="1163" y="27"/>
                </a:lnTo>
                <a:lnTo>
                  <a:pt x="1179" y="21"/>
                </a:lnTo>
                <a:lnTo>
                  <a:pt x="1194" y="17"/>
                </a:lnTo>
                <a:lnTo>
                  <a:pt x="1212" y="13"/>
                </a:lnTo>
                <a:lnTo>
                  <a:pt x="1228" y="10"/>
                </a:lnTo>
                <a:lnTo>
                  <a:pt x="1243" y="6"/>
                </a:lnTo>
                <a:lnTo>
                  <a:pt x="1261" y="4"/>
                </a:lnTo>
                <a:lnTo>
                  <a:pt x="1277" y="2"/>
                </a:lnTo>
                <a:lnTo>
                  <a:pt x="1293" y="0"/>
                </a:lnTo>
                <a:lnTo>
                  <a:pt x="1308" y="0"/>
                </a:lnTo>
                <a:lnTo>
                  <a:pt x="1326" y="0"/>
                </a:lnTo>
                <a:lnTo>
                  <a:pt x="1342" y="0"/>
                </a:lnTo>
                <a:lnTo>
                  <a:pt x="1357" y="0"/>
                </a:lnTo>
                <a:lnTo>
                  <a:pt x="1375" y="2"/>
                </a:lnTo>
                <a:lnTo>
                  <a:pt x="1391" y="4"/>
                </a:lnTo>
                <a:lnTo>
                  <a:pt x="1406" y="6"/>
                </a:lnTo>
                <a:lnTo>
                  <a:pt x="1424" y="10"/>
                </a:lnTo>
                <a:lnTo>
                  <a:pt x="1440" y="13"/>
                </a:lnTo>
                <a:lnTo>
                  <a:pt x="1455" y="17"/>
                </a:lnTo>
                <a:lnTo>
                  <a:pt x="1473" y="23"/>
                </a:lnTo>
                <a:lnTo>
                  <a:pt x="1489" y="27"/>
                </a:lnTo>
                <a:lnTo>
                  <a:pt x="1504" y="33"/>
                </a:lnTo>
                <a:lnTo>
                  <a:pt x="1522" y="40"/>
                </a:lnTo>
                <a:lnTo>
                  <a:pt x="1538" y="46"/>
                </a:lnTo>
                <a:lnTo>
                  <a:pt x="1553" y="54"/>
                </a:lnTo>
                <a:lnTo>
                  <a:pt x="1571" y="61"/>
                </a:lnTo>
                <a:lnTo>
                  <a:pt x="1587" y="71"/>
                </a:lnTo>
                <a:lnTo>
                  <a:pt x="1602" y="80"/>
                </a:lnTo>
                <a:lnTo>
                  <a:pt x="1620" y="90"/>
                </a:lnTo>
                <a:lnTo>
                  <a:pt x="1636" y="99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80920" y="2833560"/>
            <a:ext cx="33181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85960" y="2571840"/>
            <a:ext cx="2493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90640" y="1814400"/>
            <a:ext cx="2494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90640" y="2055960"/>
            <a:ext cx="2494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90640" y="2314440"/>
            <a:ext cx="2494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49200" y="161604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55760" y="161604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322280" y="161604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82680" y="161604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96760" y="2058840"/>
            <a:ext cx="1800" cy="211320"/>
          </a:xfrm>
          <a:custGeom>
            <a:avLst/>
            <a:gdLst/>
            <a:ahLst/>
            <a:rect l="l" t="t" r="r" b="b"/>
            <a:pathLst>
              <a:path w="1" h="140">
                <a:moveTo>
                  <a:pt x="0" y="0"/>
                </a:moveTo>
                <a:lnTo>
                  <a:pt x="0" y="139"/>
                </a:lnTo>
                <a:lnTo>
                  <a:pt x="0" y="1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22320" y="2055960"/>
            <a:ext cx="1440" cy="179280"/>
          </a:xfrm>
          <a:custGeom>
            <a:avLst/>
            <a:gdLst/>
            <a:ahLst/>
            <a:rect l="l" t="t" r="r" b="b"/>
            <a:pathLst>
              <a:path w="1" h="119">
                <a:moveTo>
                  <a:pt x="0" y="0"/>
                </a:moveTo>
                <a:lnTo>
                  <a:pt x="0" y="118"/>
                </a:lnTo>
                <a:lnTo>
                  <a:pt x="0" y="1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54000" y="2063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87480" y="206064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17720" y="206388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49400" y="2063880"/>
            <a:ext cx="0" cy="10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85760" y="20638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19240" y="2063880"/>
            <a:ext cx="0" cy="10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58840" y="2063880"/>
            <a:ext cx="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92320" y="20638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20760" y="2063880"/>
            <a:ext cx="0" cy="16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257480" y="2066760"/>
            <a:ext cx="0" cy="1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90600" y="2063880"/>
            <a:ext cx="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339920" y="2322360"/>
            <a:ext cx="0" cy="1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84200" y="231948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14440" y="2322360"/>
            <a:ext cx="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49360" y="232236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82840" y="231948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515960" y="2328840"/>
            <a:ext cx="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47640" y="2322360"/>
            <a:ext cx="0" cy="2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81120" y="232884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14600" y="232884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50960" y="2579760"/>
            <a:ext cx="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728720" y="2585880"/>
            <a:ext cx="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768320" y="2587680"/>
            <a:ext cx="0" cy="5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95320" y="257976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832040" y="257976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60480" y="257976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892160" y="2579760"/>
            <a:ext cx="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925640" y="257976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90560" y="257976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59120" y="257976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127240" y="231732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090880" y="2320560"/>
            <a:ext cx="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2058840" y="2317320"/>
            <a:ext cx="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2025720" y="232056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198520" y="2314080"/>
            <a:ext cx="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227320" y="23158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2260440" y="2308320"/>
            <a:ext cx="0" cy="3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38560" y="2060640"/>
            <a:ext cx="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376360" y="2057400"/>
            <a:ext cx="0" cy="1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2413080" y="205092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448000" y="204948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481120" y="2049480"/>
            <a:ext cx="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644920" y="181440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685960" y="180936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722680" y="181296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20960" y="1811160"/>
            <a:ext cx="0" cy="6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54440" y="18255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87560" y="1816200"/>
            <a:ext cx="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33640" y="182232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55800" y="182232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789280" y="1822320"/>
            <a:ext cx="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93720" y="1309680"/>
            <a:ext cx="50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079520" y="2943360"/>
            <a:ext cx="25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00200" y="1295280"/>
            <a:ext cx="2209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Quantization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789440" y="1557360"/>
            <a:ext cx="441324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0040" indent="-230040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antization introduces 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creasing the number of quantization levels is not always the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06480" y="5156280"/>
            <a:ext cx="32940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90640" y="3860640"/>
            <a:ext cx="512640" cy="1287720"/>
          </a:xfrm>
          <a:custGeom>
            <a:avLst/>
            <a:gdLst/>
            <a:ahLst/>
            <a:rect l="l" t="t" r="r" b="b"/>
            <a:pathLst>
              <a:path w="292" h="856">
                <a:moveTo>
                  <a:pt x="7" y="804"/>
                </a:moveTo>
                <a:lnTo>
                  <a:pt x="7" y="794"/>
                </a:lnTo>
                <a:lnTo>
                  <a:pt x="9" y="788"/>
                </a:lnTo>
                <a:lnTo>
                  <a:pt x="9" y="781"/>
                </a:lnTo>
                <a:lnTo>
                  <a:pt x="11" y="775"/>
                </a:lnTo>
                <a:lnTo>
                  <a:pt x="11" y="767"/>
                </a:lnTo>
                <a:lnTo>
                  <a:pt x="12" y="764"/>
                </a:lnTo>
                <a:lnTo>
                  <a:pt x="12" y="758"/>
                </a:lnTo>
                <a:lnTo>
                  <a:pt x="14" y="754"/>
                </a:lnTo>
                <a:lnTo>
                  <a:pt x="14" y="752"/>
                </a:lnTo>
                <a:lnTo>
                  <a:pt x="16" y="748"/>
                </a:lnTo>
                <a:lnTo>
                  <a:pt x="16" y="744"/>
                </a:lnTo>
                <a:lnTo>
                  <a:pt x="18" y="743"/>
                </a:lnTo>
                <a:lnTo>
                  <a:pt x="18" y="739"/>
                </a:lnTo>
                <a:lnTo>
                  <a:pt x="19" y="737"/>
                </a:lnTo>
                <a:lnTo>
                  <a:pt x="19" y="733"/>
                </a:lnTo>
                <a:lnTo>
                  <a:pt x="21" y="731"/>
                </a:lnTo>
                <a:lnTo>
                  <a:pt x="19" y="729"/>
                </a:lnTo>
                <a:lnTo>
                  <a:pt x="21" y="729"/>
                </a:lnTo>
                <a:lnTo>
                  <a:pt x="23" y="727"/>
                </a:lnTo>
                <a:lnTo>
                  <a:pt x="19" y="724"/>
                </a:lnTo>
                <a:lnTo>
                  <a:pt x="19" y="741"/>
                </a:lnTo>
                <a:lnTo>
                  <a:pt x="21" y="743"/>
                </a:lnTo>
                <a:lnTo>
                  <a:pt x="21" y="754"/>
                </a:lnTo>
                <a:lnTo>
                  <a:pt x="23" y="758"/>
                </a:lnTo>
                <a:lnTo>
                  <a:pt x="23" y="769"/>
                </a:lnTo>
                <a:lnTo>
                  <a:pt x="25" y="771"/>
                </a:lnTo>
                <a:lnTo>
                  <a:pt x="25" y="779"/>
                </a:lnTo>
                <a:lnTo>
                  <a:pt x="26" y="783"/>
                </a:lnTo>
                <a:lnTo>
                  <a:pt x="26" y="790"/>
                </a:lnTo>
                <a:lnTo>
                  <a:pt x="28" y="792"/>
                </a:lnTo>
                <a:lnTo>
                  <a:pt x="28" y="798"/>
                </a:lnTo>
                <a:lnTo>
                  <a:pt x="32" y="800"/>
                </a:lnTo>
                <a:lnTo>
                  <a:pt x="30" y="800"/>
                </a:lnTo>
                <a:lnTo>
                  <a:pt x="30" y="798"/>
                </a:lnTo>
                <a:lnTo>
                  <a:pt x="30" y="802"/>
                </a:lnTo>
                <a:lnTo>
                  <a:pt x="35" y="807"/>
                </a:lnTo>
                <a:lnTo>
                  <a:pt x="35" y="809"/>
                </a:lnTo>
                <a:lnTo>
                  <a:pt x="49" y="825"/>
                </a:lnTo>
                <a:lnTo>
                  <a:pt x="51" y="825"/>
                </a:lnTo>
                <a:lnTo>
                  <a:pt x="54" y="828"/>
                </a:lnTo>
                <a:lnTo>
                  <a:pt x="56" y="828"/>
                </a:lnTo>
                <a:lnTo>
                  <a:pt x="58" y="830"/>
                </a:lnTo>
                <a:lnTo>
                  <a:pt x="61" y="830"/>
                </a:lnTo>
                <a:lnTo>
                  <a:pt x="63" y="832"/>
                </a:lnTo>
                <a:lnTo>
                  <a:pt x="73" y="832"/>
                </a:lnTo>
                <a:lnTo>
                  <a:pt x="77" y="828"/>
                </a:lnTo>
                <a:lnTo>
                  <a:pt x="77" y="827"/>
                </a:lnTo>
                <a:lnTo>
                  <a:pt x="77" y="828"/>
                </a:lnTo>
                <a:lnTo>
                  <a:pt x="80" y="827"/>
                </a:lnTo>
                <a:lnTo>
                  <a:pt x="80" y="821"/>
                </a:lnTo>
                <a:lnTo>
                  <a:pt x="82" y="819"/>
                </a:lnTo>
                <a:lnTo>
                  <a:pt x="82" y="788"/>
                </a:lnTo>
                <a:lnTo>
                  <a:pt x="80" y="785"/>
                </a:lnTo>
                <a:lnTo>
                  <a:pt x="80" y="764"/>
                </a:lnTo>
                <a:lnTo>
                  <a:pt x="79" y="758"/>
                </a:lnTo>
                <a:lnTo>
                  <a:pt x="79" y="737"/>
                </a:lnTo>
                <a:lnTo>
                  <a:pt x="77" y="731"/>
                </a:lnTo>
                <a:lnTo>
                  <a:pt x="77" y="703"/>
                </a:lnTo>
                <a:lnTo>
                  <a:pt x="79" y="699"/>
                </a:lnTo>
                <a:lnTo>
                  <a:pt x="79" y="693"/>
                </a:lnTo>
                <a:lnTo>
                  <a:pt x="80" y="693"/>
                </a:lnTo>
                <a:lnTo>
                  <a:pt x="80" y="687"/>
                </a:lnTo>
                <a:lnTo>
                  <a:pt x="82" y="685"/>
                </a:lnTo>
                <a:lnTo>
                  <a:pt x="82" y="682"/>
                </a:lnTo>
                <a:lnTo>
                  <a:pt x="84" y="680"/>
                </a:lnTo>
                <a:lnTo>
                  <a:pt x="82" y="678"/>
                </a:lnTo>
                <a:lnTo>
                  <a:pt x="84" y="678"/>
                </a:lnTo>
                <a:lnTo>
                  <a:pt x="84" y="674"/>
                </a:lnTo>
                <a:lnTo>
                  <a:pt x="85" y="674"/>
                </a:lnTo>
                <a:lnTo>
                  <a:pt x="85" y="672"/>
                </a:lnTo>
                <a:lnTo>
                  <a:pt x="89" y="672"/>
                </a:lnTo>
                <a:lnTo>
                  <a:pt x="89" y="670"/>
                </a:lnTo>
                <a:lnTo>
                  <a:pt x="87" y="670"/>
                </a:lnTo>
                <a:lnTo>
                  <a:pt x="87" y="672"/>
                </a:lnTo>
                <a:lnTo>
                  <a:pt x="91" y="672"/>
                </a:lnTo>
                <a:lnTo>
                  <a:pt x="91" y="674"/>
                </a:lnTo>
                <a:lnTo>
                  <a:pt x="92" y="674"/>
                </a:lnTo>
                <a:lnTo>
                  <a:pt x="92" y="676"/>
                </a:lnTo>
                <a:lnTo>
                  <a:pt x="94" y="676"/>
                </a:lnTo>
                <a:lnTo>
                  <a:pt x="92" y="678"/>
                </a:lnTo>
                <a:lnTo>
                  <a:pt x="94" y="680"/>
                </a:lnTo>
                <a:lnTo>
                  <a:pt x="94" y="682"/>
                </a:lnTo>
                <a:lnTo>
                  <a:pt x="96" y="683"/>
                </a:lnTo>
                <a:lnTo>
                  <a:pt x="96" y="685"/>
                </a:lnTo>
                <a:lnTo>
                  <a:pt x="99" y="687"/>
                </a:lnTo>
                <a:lnTo>
                  <a:pt x="98" y="687"/>
                </a:lnTo>
                <a:lnTo>
                  <a:pt x="98" y="685"/>
                </a:lnTo>
                <a:lnTo>
                  <a:pt x="98" y="756"/>
                </a:lnTo>
                <a:lnTo>
                  <a:pt x="96" y="760"/>
                </a:lnTo>
                <a:lnTo>
                  <a:pt x="96" y="807"/>
                </a:lnTo>
                <a:lnTo>
                  <a:pt x="98" y="811"/>
                </a:lnTo>
                <a:lnTo>
                  <a:pt x="98" y="815"/>
                </a:lnTo>
                <a:lnTo>
                  <a:pt x="96" y="817"/>
                </a:lnTo>
                <a:lnTo>
                  <a:pt x="96" y="832"/>
                </a:lnTo>
                <a:lnTo>
                  <a:pt x="94" y="834"/>
                </a:lnTo>
                <a:lnTo>
                  <a:pt x="94" y="851"/>
                </a:lnTo>
                <a:lnTo>
                  <a:pt x="101" y="855"/>
                </a:lnTo>
                <a:lnTo>
                  <a:pt x="101" y="849"/>
                </a:lnTo>
                <a:lnTo>
                  <a:pt x="103" y="849"/>
                </a:lnTo>
                <a:lnTo>
                  <a:pt x="105" y="846"/>
                </a:lnTo>
                <a:lnTo>
                  <a:pt x="105" y="828"/>
                </a:lnTo>
                <a:lnTo>
                  <a:pt x="106" y="823"/>
                </a:lnTo>
                <a:lnTo>
                  <a:pt x="106" y="811"/>
                </a:lnTo>
                <a:lnTo>
                  <a:pt x="108" y="806"/>
                </a:lnTo>
                <a:lnTo>
                  <a:pt x="108" y="792"/>
                </a:lnTo>
                <a:lnTo>
                  <a:pt x="110" y="786"/>
                </a:lnTo>
                <a:lnTo>
                  <a:pt x="110" y="779"/>
                </a:lnTo>
                <a:lnTo>
                  <a:pt x="112" y="773"/>
                </a:lnTo>
                <a:lnTo>
                  <a:pt x="112" y="765"/>
                </a:lnTo>
                <a:lnTo>
                  <a:pt x="113" y="758"/>
                </a:lnTo>
                <a:lnTo>
                  <a:pt x="113" y="752"/>
                </a:lnTo>
                <a:lnTo>
                  <a:pt x="115" y="744"/>
                </a:lnTo>
                <a:lnTo>
                  <a:pt x="115" y="739"/>
                </a:lnTo>
                <a:lnTo>
                  <a:pt x="117" y="733"/>
                </a:lnTo>
                <a:lnTo>
                  <a:pt x="117" y="725"/>
                </a:lnTo>
                <a:lnTo>
                  <a:pt x="119" y="720"/>
                </a:lnTo>
                <a:lnTo>
                  <a:pt x="119" y="716"/>
                </a:lnTo>
                <a:lnTo>
                  <a:pt x="120" y="710"/>
                </a:lnTo>
                <a:lnTo>
                  <a:pt x="120" y="706"/>
                </a:lnTo>
                <a:lnTo>
                  <a:pt x="122" y="703"/>
                </a:lnTo>
                <a:lnTo>
                  <a:pt x="122" y="697"/>
                </a:lnTo>
                <a:lnTo>
                  <a:pt x="124" y="695"/>
                </a:lnTo>
                <a:lnTo>
                  <a:pt x="122" y="693"/>
                </a:lnTo>
                <a:lnTo>
                  <a:pt x="122" y="695"/>
                </a:lnTo>
                <a:lnTo>
                  <a:pt x="119" y="691"/>
                </a:lnTo>
                <a:lnTo>
                  <a:pt x="119" y="697"/>
                </a:lnTo>
                <a:lnTo>
                  <a:pt x="120" y="699"/>
                </a:lnTo>
                <a:lnTo>
                  <a:pt x="120" y="725"/>
                </a:lnTo>
                <a:lnTo>
                  <a:pt x="122" y="733"/>
                </a:lnTo>
                <a:lnTo>
                  <a:pt x="122" y="809"/>
                </a:lnTo>
                <a:lnTo>
                  <a:pt x="124" y="815"/>
                </a:lnTo>
                <a:lnTo>
                  <a:pt x="124" y="836"/>
                </a:lnTo>
                <a:lnTo>
                  <a:pt x="125" y="838"/>
                </a:lnTo>
                <a:lnTo>
                  <a:pt x="127" y="844"/>
                </a:lnTo>
                <a:lnTo>
                  <a:pt x="131" y="846"/>
                </a:lnTo>
                <a:lnTo>
                  <a:pt x="134" y="844"/>
                </a:lnTo>
                <a:lnTo>
                  <a:pt x="134" y="750"/>
                </a:lnTo>
                <a:lnTo>
                  <a:pt x="136" y="741"/>
                </a:lnTo>
                <a:lnTo>
                  <a:pt x="136" y="689"/>
                </a:lnTo>
                <a:lnTo>
                  <a:pt x="138" y="683"/>
                </a:lnTo>
                <a:lnTo>
                  <a:pt x="138" y="670"/>
                </a:lnTo>
                <a:lnTo>
                  <a:pt x="139" y="664"/>
                </a:lnTo>
                <a:lnTo>
                  <a:pt x="139" y="659"/>
                </a:lnTo>
                <a:lnTo>
                  <a:pt x="141" y="655"/>
                </a:lnTo>
                <a:lnTo>
                  <a:pt x="141" y="653"/>
                </a:lnTo>
                <a:lnTo>
                  <a:pt x="143" y="651"/>
                </a:lnTo>
                <a:lnTo>
                  <a:pt x="141" y="649"/>
                </a:lnTo>
                <a:lnTo>
                  <a:pt x="141" y="651"/>
                </a:lnTo>
                <a:lnTo>
                  <a:pt x="143" y="651"/>
                </a:lnTo>
                <a:lnTo>
                  <a:pt x="141" y="651"/>
                </a:lnTo>
                <a:lnTo>
                  <a:pt x="141" y="649"/>
                </a:lnTo>
                <a:lnTo>
                  <a:pt x="139" y="651"/>
                </a:lnTo>
                <a:lnTo>
                  <a:pt x="141" y="653"/>
                </a:lnTo>
                <a:lnTo>
                  <a:pt x="141" y="655"/>
                </a:lnTo>
                <a:lnTo>
                  <a:pt x="143" y="659"/>
                </a:lnTo>
                <a:lnTo>
                  <a:pt x="143" y="664"/>
                </a:lnTo>
                <a:lnTo>
                  <a:pt x="146" y="676"/>
                </a:lnTo>
                <a:lnTo>
                  <a:pt x="146" y="683"/>
                </a:lnTo>
                <a:lnTo>
                  <a:pt x="148" y="689"/>
                </a:lnTo>
                <a:lnTo>
                  <a:pt x="148" y="697"/>
                </a:lnTo>
                <a:lnTo>
                  <a:pt x="152" y="712"/>
                </a:lnTo>
                <a:lnTo>
                  <a:pt x="152" y="722"/>
                </a:lnTo>
                <a:lnTo>
                  <a:pt x="155" y="737"/>
                </a:lnTo>
                <a:lnTo>
                  <a:pt x="155" y="744"/>
                </a:lnTo>
                <a:lnTo>
                  <a:pt x="157" y="754"/>
                </a:lnTo>
                <a:lnTo>
                  <a:pt x="159" y="762"/>
                </a:lnTo>
                <a:lnTo>
                  <a:pt x="159" y="769"/>
                </a:lnTo>
                <a:lnTo>
                  <a:pt x="160" y="779"/>
                </a:lnTo>
                <a:lnTo>
                  <a:pt x="162" y="783"/>
                </a:lnTo>
                <a:lnTo>
                  <a:pt x="162" y="790"/>
                </a:lnTo>
                <a:lnTo>
                  <a:pt x="165" y="802"/>
                </a:lnTo>
                <a:lnTo>
                  <a:pt x="165" y="806"/>
                </a:lnTo>
                <a:lnTo>
                  <a:pt x="169" y="813"/>
                </a:lnTo>
                <a:lnTo>
                  <a:pt x="171" y="819"/>
                </a:lnTo>
                <a:lnTo>
                  <a:pt x="172" y="821"/>
                </a:lnTo>
                <a:lnTo>
                  <a:pt x="174" y="821"/>
                </a:lnTo>
                <a:lnTo>
                  <a:pt x="178" y="823"/>
                </a:lnTo>
                <a:lnTo>
                  <a:pt x="179" y="819"/>
                </a:lnTo>
                <a:lnTo>
                  <a:pt x="179" y="809"/>
                </a:lnTo>
                <a:lnTo>
                  <a:pt x="181" y="806"/>
                </a:lnTo>
                <a:lnTo>
                  <a:pt x="181" y="769"/>
                </a:lnTo>
                <a:lnTo>
                  <a:pt x="183" y="762"/>
                </a:lnTo>
                <a:lnTo>
                  <a:pt x="183" y="724"/>
                </a:lnTo>
                <a:lnTo>
                  <a:pt x="185" y="714"/>
                </a:lnTo>
                <a:lnTo>
                  <a:pt x="185" y="693"/>
                </a:lnTo>
                <a:lnTo>
                  <a:pt x="186" y="685"/>
                </a:lnTo>
                <a:lnTo>
                  <a:pt x="186" y="672"/>
                </a:lnTo>
                <a:lnTo>
                  <a:pt x="188" y="666"/>
                </a:lnTo>
                <a:lnTo>
                  <a:pt x="188" y="657"/>
                </a:lnTo>
                <a:lnTo>
                  <a:pt x="190" y="651"/>
                </a:lnTo>
                <a:lnTo>
                  <a:pt x="190" y="649"/>
                </a:lnTo>
                <a:lnTo>
                  <a:pt x="192" y="645"/>
                </a:lnTo>
                <a:lnTo>
                  <a:pt x="190" y="645"/>
                </a:lnTo>
                <a:lnTo>
                  <a:pt x="190" y="647"/>
                </a:lnTo>
                <a:lnTo>
                  <a:pt x="192" y="647"/>
                </a:lnTo>
                <a:lnTo>
                  <a:pt x="186" y="643"/>
                </a:lnTo>
                <a:lnTo>
                  <a:pt x="186" y="647"/>
                </a:lnTo>
                <a:lnTo>
                  <a:pt x="188" y="649"/>
                </a:lnTo>
                <a:lnTo>
                  <a:pt x="188" y="653"/>
                </a:lnTo>
                <a:lnTo>
                  <a:pt x="190" y="659"/>
                </a:lnTo>
                <a:lnTo>
                  <a:pt x="192" y="664"/>
                </a:lnTo>
                <a:lnTo>
                  <a:pt x="192" y="670"/>
                </a:lnTo>
                <a:lnTo>
                  <a:pt x="193" y="678"/>
                </a:lnTo>
                <a:lnTo>
                  <a:pt x="195" y="687"/>
                </a:lnTo>
                <a:lnTo>
                  <a:pt x="197" y="695"/>
                </a:lnTo>
                <a:lnTo>
                  <a:pt x="199" y="704"/>
                </a:lnTo>
                <a:lnTo>
                  <a:pt x="199" y="714"/>
                </a:lnTo>
                <a:lnTo>
                  <a:pt x="209" y="771"/>
                </a:lnTo>
                <a:lnTo>
                  <a:pt x="214" y="796"/>
                </a:lnTo>
                <a:lnTo>
                  <a:pt x="216" y="802"/>
                </a:lnTo>
                <a:lnTo>
                  <a:pt x="221" y="811"/>
                </a:lnTo>
                <a:lnTo>
                  <a:pt x="223" y="815"/>
                </a:lnTo>
                <a:lnTo>
                  <a:pt x="228" y="817"/>
                </a:lnTo>
                <a:lnTo>
                  <a:pt x="232" y="813"/>
                </a:lnTo>
                <a:lnTo>
                  <a:pt x="235" y="804"/>
                </a:lnTo>
                <a:lnTo>
                  <a:pt x="235" y="796"/>
                </a:lnTo>
                <a:lnTo>
                  <a:pt x="237" y="788"/>
                </a:lnTo>
                <a:lnTo>
                  <a:pt x="237" y="762"/>
                </a:lnTo>
                <a:lnTo>
                  <a:pt x="238" y="743"/>
                </a:lnTo>
                <a:lnTo>
                  <a:pt x="238" y="139"/>
                </a:lnTo>
                <a:lnTo>
                  <a:pt x="240" y="115"/>
                </a:lnTo>
                <a:lnTo>
                  <a:pt x="240" y="50"/>
                </a:lnTo>
                <a:lnTo>
                  <a:pt x="242" y="35"/>
                </a:lnTo>
                <a:lnTo>
                  <a:pt x="242" y="21"/>
                </a:lnTo>
                <a:lnTo>
                  <a:pt x="244" y="12"/>
                </a:lnTo>
                <a:lnTo>
                  <a:pt x="244" y="6"/>
                </a:lnTo>
                <a:lnTo>
                  <a:pt x="244" y="8"/>
                </a:lnTo>
                <a:lnTo>
                  <a:pt x="238" y="6"/>
                </a:lnTo>
                <a:lnTo>
                  <a:pt x="240" y="10"/>
                </a:lnTo>
                <a:lnTo>
                  <a:pt x="240" y="17"/>
                </a:lnTo>
                <a:lnTo>
                  <a:pt x="242" y="29"/>
                </a:lnTo>
                <a:lnTo>
                  <a:pt x="242" y="42"/>
                </a:lnTo>
                <a:lnTo>
                  <a:pt x="244" y="59"/>
                </a:lnTo>
                <a:lnTo>
                  <a:pt x="245" y="78"/>
                </a:lnTo>
                <a:lnTo>
                  <a:pt x="245" y="99"/>
                </a:lnTo>
                <a:lnTo>
                  <a:pt x="247" y="122"/>
                </a:lnTo>
                <a:lnTo>
                  <a:pt x="249" y="147"/>
                </a:lnTo>
                <a:lnTo>
                  <a:pt x="251" y="174"/>
                </a:lnTo>
                <a:lnTo>
                  <a:pt x="251" y="202"/>
                </a:lnTo>
                <a:lnTo>
                  <a:pt x="256" y="294"/>
                </a:lnTo>
                <a:lnTo>
                  <a:pt x="258" y="327"/>
                </a:lnTo>
                <a:lnTo>
                  <a:pt x="258" y="357"/>
                </a:lnTo>
                <a:lnTo>
                  <a:pt x="263" y="454"/>
                </a:lnTo>
                <a:lnTo>
                  <a:pt x="268" y="546"/>
                </a:lnTo>
                <a:lnTo>
                  <a:pt x="270" y="575"/>
                </a:lnTo>
                <a:lnTo>
                  <a:pt x="272" y="601"/>
                </a:lnTo>
                <a:lnTo>
                  <a:pt x="273" y="626"/>
                </a:lnTo>
                <a:lnTo>
                  <a:pt x="277" y="672"/>
                </a:lnTo>
                <a:lnTo>
                  <a:pt x="278" y="691"/>
                </a:lnTo>
                <a:lnTo>
                  <a:pt x="280" y="708"/>
                </a:lnTo>
                <a:lnTo>
                  <a:pt x="282" y="722"/>
                </a:lnTo>
                <a:lnTo>
                  <a:pt x="284" y="733"/>
                </a:lnTo>
                <a:lnTo>
                  <a:pt x="284" y="741"/>
                </a:lnTo>
                <a:lnTo>
                  <a:pt x="285" y="748"/>
                </a:lnTo>
                <a:lnTo>
                  <a:pt x="291" y="741"/>
                </a:lnTo>
                <a:lnTo>
                  <a:pt x="291" y="733"/>
                </a:lnTo>
                <a:lnTo>
                  <a:pt x="289" y="722"/>
                </a:lnTo>
                <a:lnTo>
                  <a:pt x="287" y="708"/>
                </a:lnTo>
                <a:lnTo>
                  <a:pt x="285" y="691"/>
                </a:lnTo>
                <a:lnTo>
                  <a:pt x="284" y="672"/>
                </a:lnTo>
                <a:lnTo>
                  <a:pt x="280" y="626"/>
                </a:lnTo>
                <a:lnTo>
                  <a:pt x="278" y="601"/>
                </a:lnTo>
                <a:lnTo>
                  <a:pt x="277" y="575"/>
                </a:lnTo>
                <a:lnTo>
                  <a:pt x="275" y="546"/>
                </a:lnTo>
                <a:lnTo>
                  <a:pt x="270" y="454"/>
                </a:lnTo>
                <a:lnTo>
                  <a:pt x="265" y="357"/>
                </a:lnTo>
                <a:lnTo>
                  <a:pt x="265" y="327"/>
                </a:lnTo>
                <a:lnTo>
                  <a:pt x="263" y="294"/>
                </a:lnTo>
                <a:lnTo>
                  <a:pt x="258" y="202"/>
                </a:lnTo>
                <a:lnTo>
                  <a:pt x="258" y="174"/>
                </a:lnTo>
                <a:lnTo>
                  <a:pt x="256" y="147"/>
                </a:lnTo>
                <a:lnTo>
                  <a:pt x="254" y="122"/>
                </a:lnTo>
                <a:lnTo>
                  <a:pt x="252" y="99"/>
                </a:lnTo>
                <a:lnTo>
                  <a:pt x="252" y="78"/>
                </a:lnTo>
                <a:lnTo>
                  <a:pt x="251" y="59"/>
                </a:lnTo>
                <a:lnTo>
                  <a:pt x="249" y="42"/>
                </a:lnTo>
                <a:lnTo>
                  <a:pt x="249" y="29"/>
                </a:lnTo>
                <a:lnTo>
                  <a:pt x="247" y="17"/>
                </a:lnTo>
                <a:lnTo>
                  <a:pt x="247" y="10"/>
                </a:lnTo>
                <a:lnTo>
                  <a:pt x="245" y="2"/>
                </a:lnTo>
                <a:lnTo>
                  <a:pt x="240" y="2"/>
                </a:lnTo>
                <a:lnTo>
                  <a:pt x="240" y="0"/>
                </a:lnTo>
                <a:lnTo>
                  <a:pt x="240" y="2"/>
                </a:lnTo>
                <a:lnTo>
                  <a:pt x="237" y="4"/>
                </a:lnTo>
                <a:lnTo>
                  <a:pt x="237" y="12"/>
                </a:lnTo>
                <a:lnTo>
                  <a:pt x="235" y="21"/>
                </a:lnTo>
                <a:lnTo>
                  <a:pt x="235" y="35"/>
                </a:lnTo>
                <a:lnTo>
                  <a:pt x="233" y="50"/>
                </a:lnTo>
                <a:lnTo>
                  <a:pt x="233" y="115"/>
                </a:lnTo>
                <a:lnTo>
                  <a:pt x="232" y="139"/>
                </a:lnTo>
                <a:lnTo>
                  <a:pt x="232" y="743"/>
                </a:lnTo>
                <a:lnTo>
                  <a:pt x="230" y="762"/>
                </a:lnTo>
                <a:lnTo>
                  <a:pt x="230" y="788"/>
                </a:lnTo>
                <a:lnTo>
                  <a:pt x="228" y="796"/>
                </a:lnTo>
                <a:lnTo>
                  <a:pt x="228" y="804"/>
                </a:lnTo>
                <a:lnTo>
                  <a:pt x="225" y="809"/>
                </a:lnTo>
                <a:lnTo>
                  <a:pt x="226" y="811"/>
                </a:lnTo>
                <a:lnTo>
                  <a:pt x="228" y="811"/>
                </a:lnTo>
                <a:lnTo>
                  <a:pt x="223" y="798"/>
                </a:lnTo>
                <a:lnTo>
                  <a:pt x="221" y="792"/>
                </a:lnTo>
                <a:lnTo>
                  <a:pt x="216" y="771"/>
                </a:lnTo>
                <a:lnTo>
                  <a:pt x="205" y="714"/>
                </a:lnTo>
                <a:lnTo>
                  <a:pt x="205" y="704"/>
                </a:lnTo>
                <a:lnTo>
                  <a:pt x="204" y="695"/>
                </a:lnTo>
                <a:lnTo>
                  <a:pt x="202" y="687"/>
                </a:lnTo>
                <a:lnTo>
                  <a:pt x="200" y="678"/>
                </a:lnTo>
                <a:lnTo>
                  <a:pt x="199" y="670"/>
                </a:lnTo>
                <a:lnTo>
                  <a:pt x="199" y="664"/>
                </a:lnTo>
                <a:lnTo>
                  <a:pt x="197" y="655"/>
                </a:lnTo>
                <a:lnTo>
                  <a:pt x="195" y="653"/>
                </a:lnTo>
                <a:lnTo>
                  <a:pt x="195" y="645"/>
                </a:lnTo>
                <a:lnTo>
                  <a:pt x="193" y="643"/>
                </a:lnTo>
                <a:lnTo>
                  <a:pt x="188" y="640"/>
                </a:lnTo>
                <a:lnTo>
                  <a:pt x="190" y="640"/>
                </a:lnTo>
                <a:lnTo>
                  <a:pt x="186" y="641"/>
                </a:lnTo>
                <a:lnTo>
                  <a:pt x="185" y="645"/>
                </a:lnTo>
                <a:lnTo>
                  <a:pt x="183" y="649"/>
                </a:lnTo>
                <a:lnTo>
                  <a:pt x="183" y="651"/>
                </a:lnTo>
                <a:lnTo>
                  <a:pt x="181" y="657"/>
                </a:lnTo>
                <a:lnTo>
                  <a:pt x="181" y="666"/>
                </a:lnTo>
                <a:lnTo>
                  <a:pt x="179" y="672"/>
                </a:lnTo>
                <a:lnTo>
                  <a:pt x="179" y="685"/>
                </a:lnTo>
                <a:lnTo>
                  <a:pt x="178" y="693"/>
                </a:lnTo>
                <a:lnTo>
                  <a:pt x="178" y="714"/>
                </a:lnTo>
                <a:lnTo>
                  <a:pt x="176" y="724"/>
                </a:lnTo>
                <a:lnTo>
                  <a:pt x="176" y="762"/>
                </a:lnTo>
                <a:lnTo>
                  <a:pt x="174" y="769"/>
                </a:lnTo>
                <a:lnTo>
                  <a:pt x="174" y="806"/>
                </a:lnTo>
                <a:lnTo>
                  <a:pt x="172" y="809"/>
                </a:lnTo>
                <a:lnTo>
                  <a:pt x="172" y="819"/>
                </a:lnTo>
                <a:lnTo>
                  <a:pt x="172" y="817"/>
                </a:lnTo>
                <a:lnTo>
                  <a:pt x="176" y="815"/>
                </a:lnTo>
                <a:lnTo>
                  <a:pt x="178" y="817"/>
                </a:lnTo>
                <a:lnTo>
                  <a:pt x="176" y="813"/>
                </a:lnTo>
                <a:lnTo>
                  <a:pt x="174" y="815"/>
                </a:lnTo>
                <a:lnTo>
                  <a:pt x="176" y="813"/>
                </a:lnTo>
                <a:lnTo>
                  <a:pt x="172" y="806"/>
                </a:lnTo>
                <a:lnTo>
                  <a:pt x="172" y="802"/>
                </a:lnTo>
                <a:lnTo>
                  <a:pt x="169" y="790"/>
                </a:lnTo>
                <a:lnTo>
                  <a:pt x="169" y="783"/>
                </a:lnTo>
                <a:lnTo>
                  <a:pt x="167" y="775"/>
                </a:lnTo>
                <a:lnTo>
                  <a:pt x="165" y="769"/>
                </a:lnTo>
                <a:lnTo>
                  <a:pt x="165" y="762"/>
                </a:lnTo>
                <a:lnTo>
                  <a:pt x="164" y="754"/>
                </a:lnTo>
                <a:lnTo>
                  <a:pt x="162" y="744"/>
                </a:lnTo>
                <a:lnTo>
                  <a:pt x="162" y="737"/>
                </a:lnTo>
                <a:lnTo>
                  <a:pt x="159" y="722"/>
                </a:lnTo>
                <a:lnTo>
                  <a:pt x="159" y="712"/>
                </a:lnTo>
                <a:lnTo>
                  <a:pt x="155" y="697"/>
                </a:lnTo>
                <a:lnTo>
                  <a:pt x="155" y="689"/>
                </a:lnTo>
                <a:lnTo>
                  <a:pt x="153" y="683"/>
                </a:lnTo>
                <a:lnTo>
                  <a:pt x="153" y="676"/>
                </a:lnTo>
                <a:lnTo>
                  <a:pt x="150" y="664"/>
                </a:lnTo>
                <a:lnTo>
                  <a:pt x="150" y="659"/>
                </a:lnTo>
                <a:lnTo>
                  <a:pt x="148" y="655"/>
                </a:lnTo>
                <a:lnTo>
                  <a:pt x="148" y="649"/>
                </a:lnTo>
                <a:lnTo>
                  <a:pt x="145" y="645"/>
                </a:lnTo>
                <a:lnTo>
                  <a:pt x="141" y="643"/>
                </a:lnTo>
                <a:lnTo>
                  <a:pt x="139" y="643"/>
                </a:lnTo>
                <a:lnTo>
                  <a:pt x="141" y="643"/>
                </a:lnTo>
                <a:lnTo>
                  <a:pt x="138" y="645"/>
                </a:lnTo>
                <a:lnTo>
                  <a:pt x="134" y="649"/>
                </a:lnTo>
                <a:lnTo>
                  <a:pt x="134" y="655"/>
                </a:lnTo>
                <a:lnTo>
                  <a:pt x="132" y="659"/>
                </a:lnTo>
                <a:lnTo>
                  <a:pt x="132" y="664"/>
                </a:lnTo>
                <a:lnTo>
                  <a:pt x="131" y="670"/>
                </a:lnTo>
                <a:lnTo>
                  <a:pt x="131" y="683"/>
                </a:lnTo>
                <a:lnTo>
                  <a:pt x="129" y="689"/>
                </a:lnTo>
                <a:lnTo>
                  <a:pt x="129" y="741"/>
                </a:lnTo>
                <a:lnTo>
                  <a:pt x="127" y="750"/>
                </a:lnTo>
                <a:lnTo>
                  <a:pt x="127" y="842"/>
                </a:lnTo>
                <a:lnTo>
                  <a:pt x="129" y="838"/>
                </a:lnTo>
                <a:lnTo>
                  <a:pt x="131" y="838"/>
                </a:lnTo>
                <a:lnTo>
                  <a:pt x="131" y="840"/>
                </a:lnTo>
                <a:lnTo>
                  <a:pt x="132" y="834"/>
                </a:lnTo>
                <a:lnTo>
                  <a:pt x="131" y="832"/>
                </a:lnTo>
                <a:lnTo>
                  <a:pt x="131" y="815"/>
                </a:lnTo>
                <a:lnTo>
                  <a:pt x="129" y="809"/>
                </a:lnTo>
                <a:lnTo>
                  <a:pt x="129" y="733"/>
                </a:lnTo>
                <a:lnTo>
                  <a:pt x="127" y="725"/>
                </a:lnTo>
                <a:lnTo>
                  <a:pt x="127" y="695"/>
                </a:lnTo>
                <a:lnTo>
                  <a:pt x="125" y="693"/>
                </a:lnTo>
                <a:lnTo>
                  <a:pt x="125" y="691"/>
                </a:lnTo>
                <a:lnTo>
                  <a:pt x="120" y="687"/>
                </a:lnTo>
                <a:lnTo>
                  <a:pt x="124" y="687"/>
                </a:lnTo>
                <a:lnTo>
                  <a:pt x="122" y="687"/>
                </a:lnTo>
                <a:lnTo>
                  <a:pt x="119" y="689"/>
                </a:lnTo>
                <a:lnTo>
                  <a:pt x="115" y="693"/>
                </a:lnTo>
                <a:lnTo>
                  <a:pt x="115" y="703"/>
                </a:lnTo>
                <a:lnTo>
                  <a:pt x="113" y="706"/>
                </a:lnTo>
                <a:lnTo>
                  <a:pt x="113" y="710"/>
                </a:lnTo>
                <a:lnTo>
                  <a:pt x="112" y="716"/>
                </a:lnTo>
                <a:lnTo>
                  <a:pt x="112" y="720"/>
                </a:lnTo>
                <a:lnTo>
                  <a:pt x="110" y="725"/>
                </a:lnTo>
                <a:lnTo>
                  <a:pt x="110" y="733"/>
                </a:lnTo>
                <a:lnTo>
                  <a:pt x="108" y="739"/>
                </a:lnTo>
                <a:lnTo>
                  <a:pt x="108" y="744"/>
                </a:lnTo>
                <a:lnTo>
                  <a:pt x="106" y="752"/>
                </a:lnTo>
                <a:lnTo>
                  <a:pt x="106" y="758"/>
                </a:lnTo>
                <a:lnTo>
                  <a:pt x="105" y="765"/>
                </a:lnTo>
                <a:lnTo>
                  <a:pt x="105" y="773"/>
                </a:lnTo>
                <a:lnTo>
                  <a:pt x="103" y="779"/>
                </a:lnTo>
                <a:lnTo>
                  <a:pt x="103" y="786"/>
                </a:lnTo>
                <a:lnTo>
                  <a:pt x="101" y="792"/>
                </a:lnTo>
                <a:lnTo>
                  <a:pt x="101" y="806"/>
                </a:lnTo>
                <a:lnTo>
                  <a:pt x="99" y="811"/>
                </a:lnTo>
                <a:lnTo>
                  <a:pt x="99" y="823"/>
                </a:lnTo>
                <a:lnTo>
                  <a:pt x="98" y="828"/>
                </a:lnTo>
                <a:lnTo>
                  <a:pt x="98" y="846"/>
                </a:lnTo>
                <a:lnTo>
                  <a:pt x="99" y="846"/>
                </a:lnTo>
                <a:lnTo>
                  <a:pt x="98" y="846"/>
                </a:lnTo>
                <a:lnTo>
                  <a:pt x="98" y="848"/>
                </a:lnTo>
                <a:lnTo>
                  <a:pt x="101" y="848"/>
                </a:lnTo>
                <a:lnTo>
                  <a:pt x="101" y="838"/>
                </a:lnTo>
                <a:lnTo>
                  <a:pt x="103" y="836"/>
                </a:lnTo>
                <a:lnTo>
                  <a:pt x="103" y="821"/>
                </a:lnTo>
                <a:lnTo>
                  <a:pt x="105" y="819"/>
                </a:lnTo>
                <a:lnTo>
                  <a:pt x="105" y="811"/>
                </a:lnTo>
                <a:lnTo>
                  <a:pt x="103" y="807"/>
                </a:lnTo>
                <a:lnTo>
                  <a:pt x="103" y="760"/>
                </a:lnTo>
                <a:lnTo>
                  <a:pt x="105" y="756"/>
                </a:lnTo>
                <a:lnTo>
                  <a:pt x="105" y="683"/>
                </a:lnTo>
                <a:lnTo>
                  <a:pt x="103" y="683"/>
                </a:lnTo>
                <a:lnTo>
                  <a:pt x="103" y="680"/>
                </a:lnTo>
                <a:lnTo>
                  <a:pt x="101" y="678"/>
                </a:lnTo>
                <a:lnTo>
                  <a:pt x="101" y="676"/>
                </a:lnTo>
                <a:lnTo>
                  <a:pt x="98" y="672"/>
                </a:lnTo>
                <a:lnTo>
                  <a:pt x="96" y="672"/>
                </a:lnTo>
                <a:lnTo>
                  <a:pt x="96" y="670"/>
                </a:lnTo>
                <a:lnTo>
                  <a:pt x="94" y="670"/>
                </a:lnTo>
                <a:lnTo>
                  <a:pt x="94" y="668"/>
                </a:lnTo>
                <a:lnTo>
                  <a:pt x="91" y="668"/>
                </a:lnTo>
                <a:lnTo>
                  <a:pt x="91" y="666"/>
                </a:lnTo>
                <a:lnTo>
                  <a:pt x="85" y="666"/>
                </a:lnTo>
                <a:lnTo>
                  <a:pt x="85" y="668"/>
                </a:lnTo>
                <a:lnTo>
                  <a:pt x="82" y="668"/>
                </a:lnTo>
                <a:lnTo>
                  <a:pt x="82" y="670"/>
                </a:lnTo>
                <a:lnTo>
                  <a:pt x="80" y="670"/>
                </a:lnTo>
                <a:lnTo>
                  <a:pt x="80" y="674"/>
                </a:lnTo>
                <a:lnTo>
                  <a:pt x="79" y="674"/>
                </a:lnTo>
                <a:lnTo>
                  <a:pt x="75" y="678"/>
                </a:lnTo>
                <a:lnTo>
                  <a:pt x="75" y="682"/>
                </a:lnTo>
                <a:lnTo>
                  <a:pt x="73" y="683"/>
                </a:lnTo>
                <a:lnTo>
                  <a:pt x="73" y="691"/>
                </a:lnTo>
                <a:lnTo>
                  <a:pt x="73" y="689"/>
                </a:lnTo>
                <a:lnTo>
                  <a:pt x="75" y="689"/>
                </a:lnTo>
                <a:lnTo>
                  <a:pt x="72" y="691"/>
                </a:lnTo>
                <a:lnTo>
                  <a:pt x="72" y="699"/>
                </a:lnTo>
                <a:lnTo>
                  <a:pt x="70" y="703"/>
                </a:lnTo>
                <a:lnTo>
                  <a:pt x="70" y="731"/>
                </a:lnTo>
                <a:lnTo>
                  <a:pt x="72" y="737"/>
                </a:lnTo>
                <a:lnTo>
                  <a:pt x="72" y="758"/>
                </a:lnTo>
                <a:lnTo>
                  <a:pt x="73" y="764"/>
                </a:lnTo>
                <a:lnTo>
                  <a:pt x="73" y="785"/>
                </a:lnTo>
                <a:lnTo>
                  <a:pt x="75" y="788"/>
                </a:lnTo>
                <a:lnTo>
                  <a:pt x="75" y="815"/>
                </a:lnTo>
                <a:lnTo>
                  <a:pt x="73" y="817"/>
                </a:lnTo>
                <a:lnTo>
                  <a:pt x="73" y="825"/>
                </a:lnTo>
                <a:lnTo>
                  <a:pt x="73" y="823"/>
                </a:lnTo>
                <a:lnTo>
                  <a:pt x="77" y="821"/>
                </a:lnTo>
                <a:lnTo>
                  <a:pt x="73" y="823"/>
                </a:lnTo>
                <a:lnTo>
                  <a:pt x="73" y="825"/>
                </a:lnTo>
                <a:lnTo>
                  <a:pt x="72" y="823"/>
                </a:lnTo>
                <a:lnTo>
                  <a:pt x="70" y="825"/>
                </a:lnTo>
                <a:lnTo>
                  <a:pt x="66" y="825"/>
                </a:lnTo>
                <a:lnTo>
                  <a:pt x="65" y="823"/>
                </a:lnTo>
                <a:lnTo>
                  <a:pt x="61" y="823"/>
                </a:lnTo>
                <a:lnTo>
                  <a:pt x="59" y="821"/>
                </a:lnTo>
                <a:lnTo>
                  <a:pt x="58" y="821"/>
                </a:lnTo>
                <a:lnTo>
                  <a:pt x="54" y="817"/>
                </a:lnTo>
                <a:lnTo>
                  <a:pt x="52" y="817"/>
                </a:lnTo>
                <a:lnTo>
                  <a:pt x="42" y="806"/>
                </a:lnTo>
                <a:lnTo>
                  <a:pt x="42" y="804"/>
                </a:lnTo>
                <a:lnTo>
                  <a:pt x="39" y="800"/>
                </a:lnTo>
                <a:lnTo>
                  <a:pt x="37" y="802"/>
                </a:lnTo>
                <a:lnTo>
                  <a:pt x="39" y="800"/>
                </a:lnTo>
                <a:lnTo>
                  <a:pt x="37" y="798"/>
                </a:lnTo>
                <a:lnTo>
                  <a:pt x="37" y="796"/>
                </a:lnTo>
                <a:lnTo>
                  <a:pt x="35" y="796"/>
                </a:lnTo>
                <a:lnTo>
                  <a:pt x="35" y="788"/>
                </a:lnTo>
                <a:lnTo>
                  <a:pt x="33" y="786"/>
                </a:lnTo>
                <a:lnTo>
                  <a:pt x="33" y="783"/>
                </a:lnTo>
                <a:lnTo>
                  <a:pt x="32" y="779"/>
                </a:lnTo>
                <a:lnTo>
                  <a:pt x="32" y="767"/>
                </a:lnTo>
                <a:lnTo>
                  <a:pt x="30" y="765"/>
                </a:lnTo>
                <a:lnTo>
                  <a:pt x="30" y="758"/>
                </a:lnTo>
                <a:lnTo>
                  <a:pt x="28" y="754"/>
                </a:lnTo>
                <a:lnTo>
                  <a:pt x="28" y="739"/>
                </a:lnTo>
                <a:lnTo>
                  <a:pt x="26" y="737"/>
                </a:lnTo>
                <a:lnTo>
                  <a:pt x="26" y="724"/>
                </a:lnTo>
                <a:lnTo>
                  <a:pt x="23" y="720"/>
                </a:lnTo>
                <a:lnTo>
                  <a:pt x="19" y="720"/>
                </a:lnTo>
                <a:lnTo>
                  <a:pt x="16" y="724"/>
                </a:lnTo>
                <a:lnTo>
                  <a:pt x="18" y="725"/>
                </a:lnTo>
                <a:lnTo>
                  <a:pt x="16" y="725"/>
                </a:lnTo>
                <a:lnTo>
                  <a:pt x="12" y="729"/>
                </a:lnTo>
                <a:lnTo>
                  <a:pt x="12" y="733"/>
                </a:lnTo>
                <a:lnTo>
                  <a:pt x="11" y="735"/>
                </a:lnTo>
                <a:lnTo>
                  <a:pt x="11" y="739"/>
                </a:lnTo>
                <a:lnTo>
                  <a:pt x="9" y="741"/>
                </a:lnTo>
                <a:lnTo>
                  <a:pt x="9" y="748"/>
                </a:lnTo>
                <a:lnTo>
                  <a:pt x="7" y="752"/>
                </a:lnTo>
                <a:lnTo>
                  <a:pt x="7" y="754"/>
                </a:lnTo>
                <a:lnTo>
                  <a:pt x="6" y="758"/>
                </a:lnTo>
                <a:lnTo>
                  <a:pt x="6" y="764"/>
                </a:lnTo>
                <a:lnTo>
                  <a:pt x="4" y="767"/>
                </a:lnTo>
                <a:lnTo>
                  <a:pt x="4" y="775"/>
                </a:lnTo>
                <a:lnTo>
                  <a:pt x="2" y="781"/>
                </a:lnTo>
                <a:lnTo>
                  <a:pt x="2" y="788"/>
                </a:lnTo>
                <a:lnTo>
                  <a:pt x="0" y="794"/>
                </a:lnTo>
                <a:lnTo>
                  <a:pt x="0" y="804"/>
                </a:lnTo>
                <a:lnTo>
                  <a:pt x="7" y="80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90680" y="4005360"/>
            <a:ext cx="873000" cy="1089000"/>
          </a:xfrm>
          <a:custGeom>
            <a:avLst/>
            <a:gdLst/>
            <a:ahLst/>
            <a:rect l="l" t="t" r="r" b="b"/>
            <a:pathLst>
              <a:path w="497" h="724">
                <a:moveTo>
                  <a:pt x="0" y="652"/>
                </a:moveTo>
                <a:lnTo>
                  <a:pt x="2" y="654"/>
                </a:lnTo>
                <a:lnTo>
                  <a:pt x="4" y="660"/>
                </a:lnTo>
                <a:lnTo>
                  <a:pt x="9" y="662"/>
                </a:lnTo>
                <a:lnTo>
                  <a:pt x="13" y="658"/>
                </a:lnTo>
                <a:lnTo>
                  <a:pt x="13" y="654"/>
                </a:lnTo>
                <a:lnTo>
                  <a:pt x="14" y="650"/>
                </a:lnTo>
                <a:lnTo>
                  <a:pt x="14" y="645"/>
                </a:lnTo>
                <a:lnTo>
                  <a:pt x="16" y="639"/>
                </a:lnTo>
                <a:lnTo>
                  <a:pt x="16" y="633"/>
                </a:lnTo>
                <a:lnTo>
                  <a:pt x="18" y="626"/>
                </a:lnTo>
                <a:lnTo>
                  <a:pt x="18" y="608"/>
                </a:lnTo>
                <a:lnTo>
                  <a:pt x="20" y="601"/>
                </a:lnTo>
                <a:lnTo>
                  <a:pt x="20" y="591"/>
                </a:lnTo>
                <a:lnTo>
                  <a:pt x="21" y="582"/>
                </a:lnTo>
                <a:lnTo>
                  <a:pt x="21" y="574"/>
                </a:lnTo>
                <a:lnTo>
                  <a:pt x="23" y="565"/>
                </a:lnTo>
                <a:lnTo>
                  <a:pt x="23" y="555"/>
                </a:lnTo>
                <a:lnTo>
                  <a:pt x="25" y="545"/>
                </a:lnTo>
                <a:lnTo>
                  <a:pt x="25" y="538"/>
                </a:lnTo>
                <a:lnTo>
                  <a:pt x="27" y="530"/>
                </a:lnTo>
                <a:lnTo>
                  <a:pt x="27" y="523"/>
                </a:lnTo>
                <a:lnTo>
                  <a:pt x="28" y="517"/>
                </a:lnTo>
                <a:lnTo>
                  <a:pt x="28" y="511"/>
                </a:lnTo>
                <a:lnTo>
                  <a:pt x="30" y="507"/>
                </a:lnTo>
                <a:lnTo>
                  <a:pt x="32" y="502"/>
                </a:lnTo>
                <a:lnTo>
                  <a:pt x="30" y="500"/>
                </a:lnTo>
                <a:lnTo>
                  <a:pt x="30" y="503"/>
                </a:lnTo>
                <a:lnTo>
                  <a:pt x="32" y="507"/>
                </a:lnTo>
                <a:lnTo>
                  <a:pt x="32" y="511"/>
                </a:lnTo>
                <a:lnTo>
                  <a:pt x="33" y="515"/>
                </a:lnTo>
                <a:lnTo>
                  <a:pt x="33" y="521"/>
                </a:lnTo>
                <a:lnTo>
                  <a:pt x="35" y="526"/>
                </a:lnTo>
                <a:lnTo>
                  <a:pt x="35" y="532"/>
                </a:lnTo>
                <a:lnTo>
                  <a:pt x="37" y="538"/>
                </a:lnTo>
                <a:lnTo>
                  <a:pt x="37" y="545"/>
                </a:lnTo>
                <a:lnTo>
                  <a:pt x="39" y="551"/>
                </a:lnTo>
                <a:lnTo>
                  <a:pt x="39" y="559"/>
                </a:lnTo>
                <a:lnTo>
                  <a:pt x="40" y="568"/>
                </a:lnTo>
                <a:lnTo>
                  <a:pt x="42" y="572"/>
                </a:lnTo>
                <a:lnTo>
                  <a:pt x="42" y="580"/>
                </a:lnTo>
                <a:lnTo>
                  <a:pt x="44" y="587"/>
                </a:lnTo>
                <a:lnTo>
                  <a:pt x="44" y="593"/>
                </a:lnTo>
                <a:lnTo>
                  <a:pt x="46" y="601"/>
                </a:lnTo>
                <a:lnTo>
                  <a:pt x="46" y="607"/>
                </a:lnTo>
                <a:lnTo>
                  <a:pt x="47" y="614"/>
                </a:lnTo>
                <a:lnTo>
                  <a:pt x="49" y="620"/>
                </a:lnTo>
                <a:lnTo>
                  <a:pt x="49" y="624"/>
                </a:lnTo>
                <a:lnTo>
                  <a:pt x="51" y="629"/>
                </a:lnTo>
                <a:lnTo>
                  <a:pt x="51" y="633"/>
                </a:lnTo>
                <a:lnTo>
                  <a:pt x="53" y="639"/>
                </a:lnTo>
                <a:lnTo>
                  <a:pt x="53" y="641"/>
                </a:lnTo>
                <a:lnTo>
                  <a:pt x="54" y="647"/>
                </a:lnTo>
                <a:lnTo>
                  <a:pt x="58" y="650"/>
                </a:lnTo>
                <a:lnTo>
                  <a:pt x="61" y="652"/>
                </a:lnTo>
                <a:lnTo>
                  <a:pt x="63" y="652"/>
                </a:lnTo>
                <a:lnTo>
                  <a:pt x="65" y="648"/>
                </a:lnTo>
                <a:lnTo>
                  <a:pt x="67" y="647"/>
                </a:lnTo>
                <a:lnTo>
                  <a:pt x="67" y="643"/>
                </a:lnTo>
                <a:lnTo>
                  <a:pt x="68" y="641"/>
                </a:lnTo>
                <a:lnTo>
                  <a:pt x="68" y="633"/>
                </a:lnTo>
                <a:lnTo>
                  <a:pt x="70" y="629"/>
                </a:lnTo>
                <a:lnTo>
                  <a:pt x="70" y="624"/>
                </a:lnTo>
                <a:lnTo>
                  <a:pt x="73" y="612"/>
                </a:lnTo>
                <a:lnTo>
                  <a:pt x="73" y="605"/>
                </a:lnTo>
                <a:lnTo>
                  <a:pt x="75" y="599"/>
                </a:lnTo>
                <a:lnTo>
                  <a:pt x="75" y="591"/>
                </a:lnTo>
                <a:lnTo>
                  <a:pt x="77" y="584"/>
                </a:lnTo>
                <a:lnTo>
                  <a:pt x="77" y="578"/>
                </a:lnTo>
                <a:lnTo>
                  <a:pt x="79" y="570"/>
                </a:lnTo>
                <a:lnTo>
                  <a:pt x="79" y="563"/>
                </a:lnTo>
                <a:lnTo>
                  <a:pt x="80" y="555"/>
                </a:lnTo>
                <a:lnTo>
                  <a:pt x="80" y="547"/>
                </a:lnTo>
                <a:lnTo>
                  <a:pt x="82" y="542"/>
                </a:lnTo>
                <a:lnTo>
                  <a:pt x="84" y="534"/>
                </a:lnTo>
                <a:lnTo>
                  <a:pt x="84" y="526"/>
                </a:lnTo>
                <a:lnTo>
                  <a:pt x="87" y="515"/>
                </a:lnTo>
                <a:lnTo>
                  <a:pt x="87" y="509"/>
                </a:lnTo>
                <a:lnTo>
                  <a:pt x="89" y="505"/>
                </a:lnTo>
                <a:lnTo>
                  <a:pt x="91" y="500"/>
                </a:lnTo>
                <a:lnTo>
                  <a:pt x="91" y="496"/>
                </a:lnTo>
                <a:lnTo>
                  <a:pt x="94" y="492"/>
                </a:lnTo>
                <a:lnTo>
                  <a:pt x="96" y="492"/>
                </a:lnTo>
                <a:lnTo>
                  <a:pt x="94" y="492"/>
                </a:lnTo>
                <a:lnTo>
                  <a:pt x="93" y="490"/>
                </a:lnTo>
                <a:lnTo>
                  <a:pt x="94" y="494"/>
                </a:lnTo>
                <a:lnTo>
                  <a:pt x="96" y="496"/>
                </a:lnTo>
                <a:lnTo>
                  <a:pt x="96" y="498"/>
                </a:lnTo>
                <a:lnTo>
                  <a:pt x="98" y="505"/>
                </a:lnTo>
                <a:lnTo>
                  <a:pt x="100" y="507"/>
                </a:lnTo>
                <a:lnTo>
                  <a:pt x="100" y="515"/>
                </a:lnTo>
                <a:lnTo>
                  <a:pt x="101" y="523"/>
                </a:lnTo>
                <a:lnTo>
                  <a:pt x="108" y="551"/>
                </a:lnTo>
                <a:lnTo>
                  <a:pt x="108" y="561"/>
                </a:lnTo>
                <a:lnTo>
                  <a:pt x="110" y="568"/>
                </a:lnTo>
                <a:lnTo>
                  <a:pt x="113" y="587"/>
                </a:lnTo>
                <a:lnTo>
                  <a:pt x="115" y="595"/>
                </a:lnTo>
                <a:lnTo>
                  <a:pt x="119" y="614"/>
                </a:lnTo>
                <a:lnTo>
                  <a:pt x="120" y="622"/>
                </a:lnTo>
                <a:lnTo>
                  <a:pt x="122" y="631"/>
                </a:lnTo>
                <a:lnTo>
                  <a:pt x="129" y="664"/>
                </a:lnTo>
                <a:lnTo>
                  <a:pt x="134" y="681"/>
                </a:lnTo>
                <a:lnTo>
                  <a:pt x="140" y="692"/>
                </a:lnTo>
                <a:lnTo>
                  <a:pt x="143" y="694"/>
                </a:lnTo>
                <a:lnTo>
                  <a:pt x="143" y="696"/>
                </a:lnTo>
                <a:lnTo>
                  <a:pt x="146" y="694"/>
                </a:lnTo>
                <a:lnTo>
                  <a:pt x="148" y="694"/>
                </a:lnTo>
                <a:lnTo>
                  <a:pt x="150" y="692"/>
                </a:lnTo>
                <a:lnTo>
                  <a:pt x="152" y="689"/>
                </a:lnTo>
                <a:lnTo>
                  <a:pt x="153" y="687"/>
                </a:lnTo>
                <a:lnTo>
                  <a:pt x="155" y="679"/>
                </a:lnTo>
                <a:lnTo>
                  <a:pt x="155" y="675"/>
                </a:lnTo>
                <a:lnTo>
                  <a:pt x="159" y="664"/>
                </a:lnTo>
                <a:lnTo>
                  <a:pt x="159" y="658"/>
                </a:lnTo>
                <a:lnTo>
                  <a:pt x="160" y="650"/>
                </a:lnTo>
                <a:lnTo>
                  <a:pt x="160" y="645"/>
                </a:lnTo>
                <a:lnTo>
                  <a:pt x="164" y="629"/>
                </a:lnTo>
                <a:lnTo>
                  <a:pt x="164" y="622"/>
                </a:lnTo>
                <a:lnTo>
                  <a:pt x="167" y="607"/>
                </a:lnTo>
                <a:lnTo>
                  <a:pt x="167" y="599"/>
                </a:lnTo>
                <a:lnTo>
                  <a:pt x="171" y="584"/>
                </a:lnTo>
                <a:lnTo>
                  <a:pt x="171" y="578"/>
                </a:lnTo>
                <a:lnTo>
                  <a:pt x="173" y="572"/>
                </a:lnTo>
                <a:lnTo>
                  <a:pt x="176" y="559"/>
                </a:lnTo>
                <a:lnTo>
                  <a:pt x="176" y="553"/>
                </a:lnTo>
                <a:lnTo>
                  <a:pt x="178" y="551"/>
                </a:lnTo>
                <a:lnTo>
                  <a:pt x="180" y="545"/>
                </a:lnTo>
                <a:lnTo>
                  <a:pt x="181" y="544"/>
                </a:lnTo>
                <a:lnTo>
                  <a:pt x="181" y="540"/>
                </a:lnTo>
                <a:lnTo>
                  <a:pt x="183" y="540"/>
                </a:lnTo>
                <a:lnTo>
                  <a:pt x="181" y="540"/>
                </a:lnTo>
                <a:lnTo>
                  <a:pt x="183" y="540"/>
                </a:lnTo>
                <a:lnTo>
                  <a:pt x="181" y="538"/>
                </a:lnTo>
                <a:lnTo>
                  <a:pt x="183" y="542"/>
                </a:lnTo>
                <a:lnTo>
                  <a:pt x="183" y="544"/>
                </a:lnTo>
                <a:lnTo>
                  <a:pt x="185" y="551"/>
                </a:lnTo>
                <a:lnTo>
                  <a:pt x="186" y="553"/>
                </a:lnTo>
                <a:lnTo>
                  <a:pt x="186" y="559"/>
                </a:lnTo>
                <a:lnTo>
                  <a:pt x="190" y="576"/>
                </a:lnTo>
                <a:lnTo>
                  <a:pt x="192" y="582"/>
                </a:lnTo>
                <a:lnTo>
                  <a:pt x="193" y="589"/>
                </a:lnTo>
                <a:lnTo>
                  <a:pt x="193" y="597"/>
                </a:lnTo>
                <a:lnTo>
                  <a:pt x="195" y="605"/>
                </a:lnTo>
                <a:lnTo>
                  <a:pt x="197" y="614"/>
                </a:lnTo>
                <a:lnTo>
                  <a:pt x="199" y="622"/>
                </a:lnTo>
                <a:lnTo>
                  <a:pt x="202" y="641"/>
                </a:lnTo>
                <a:lnTo>
                  <a:pt x="204" y="648"/>
                </a:lnTo>
                <a:lnTo>
                  <a:pt x="206" y="658"/>
                </a:lnTo>
                <a:lnTo>
                  <a:pt x="213" y="690"/>
                </a:lnTo>
                <a:lnTo>
                  <a:pt x="218" y="708"/>
                </a:lnTo>
                <a:lnTo>
                  <a:pt x="225" y="719"/>
                </a:lnTo>
                <a:lnTo>
                  <a:pt x="230" y="723"/>
                </a:lnTo>
                <a:lnTo>
                  <a:pt x="235" y="723"/>
                </a:lnTo>
                <a:lnTo>
                  <a:pt x="235" y="721"/>
                </a:lnTo>
                <a:lnTo>
                  <a:pt x="239" y="719"/>
                </a:lnTo>
                <a:lnTo>
                  <a:pt x="240" y="715"/>
                </a:lnTo>
                <a:lnTo>
                  <a:pt x="244" y="704"/>
                </a:lnTo>
                <a:lnTo>
                  <a:pt x="247" y="696"/>
                </a:lnTo>
                <a:lnTo>
                  <a:pt x="251" y="679"/>
                </a:lnTo>
                <a:lnTo>
                  <a:pt x="253" y="671"/>
                </a:lnTo>
                <a:lnTo>
                  <a:pt x="256" y="662"/>
                </a:lnTo>
                <a:lnTo>
                  <a:pt x="258" y="648"/>
                </a:lnTo>
                <a:lnTo>
                  <a:pt x="261" y="637"/>
                </a:lnTo>
                <a:lnTo>
                  <a:pt x="263" y="626"/>
                </a:lnTo>
                <a:lnTo>
                  <a:pt x="266" y="614"/>
                </a:lnTo>
                <a:lnTo>
                  <a:pt x="268" y="603"/>
                </a:lnTo>
                <a:lnTo>
                  <a:pt x="272" y="589"/>
                </a:lnTo>
                <a:lnTo>
                  <a:pt x="273" y="578"/>
                </a:lnTo>
                <a:lnTo>
                  <a:pt x="277" y="565"/>
                </a:lnTo>
                <a:lnTo>
                  <a:pt x="279" y="553"/>
                </a:lnTo>
                <a:lnTo>
                  <a:pt x="282" y="542"/>
                </a:lnTo>
                <a:lnTo>
                  <a:pt x="284" y="530"/>
                </a:lnTo>
                <a:lnTo>
                  <a:pt x="287" y="521"/>
                </a:lnTo>
                <a:lnTo>
                  <a:pt x="289" y="511"/>
                </a:lnTo>
                <a:lnTo>
                  <a:pt x="293" y="500"/>
                </a:lnTo>
                <a:lnTo>
                  <a:pt x="294" y="492"/>
                </a:lnTo>
                <a:lnTo>
                  <a:pt x="298" y="482"/>
                </a:lnTo>
                <a:lnTo>
                  <a:pt x="299" y="475"/>
                </a:lnTo>
                <a:lnTo>
                  <a:pt x="303" y="467"/>
                </a:lnTo>
                <a:lnTo>
                  <a:pt x="305" y="461"/>
                </a:lnTo>
                <a:lnTo>
                  <a:pt x="308" y="458"/>
                </a:lnTo>
                <a:lnTo>
                  <a:pt x="310" y="454"/>
                </a:lnTo>
                <a:lnTo>
                  <a:pt x="312" y="454"/>
                </a:lnTo>
                <a:lnTo>
                  <a:pt x="313" y="458"/>
                </a:lnTo>
                <a:lnTo>
                  <a:pt x="317" y="469"/>
                </a:lnTo>
                <a:lnTo>
                  <a:pt x="319" y="477"/>
                </a:lnTo>
                <a:lnTo>
                  <a:pt x="319" y="486"/>
                </a:lnTo>
                <a:lnTo>
                  <a:pt x="320" y="496"/>
                </a:lnTo>
                <a:lnTo>
                  <a:pt x="324" y="519"/>
                </a:lnTo>
                <a:lnTo>
                  <a:pt x="324" y="530"/>
                </a:lnTo>
                <a:lnTo>
                  <a:pt x="327" y="557"/>
                </a:lnTo>
                <a:lnTo>
                  <a:pt x="327" y="570"/>
                </a:lnTo>
                <a:lnTo>
                  <a:pt x="333" y="610"/>
                </a:lnTo>
                <a:lnTo>
                  <a:pt x="333" y="624"/>
                </a:lnTo>
                <a:lnTo>
                  <a:pt x="339" y="669"/>
                </a:lnTo>
                <a:lnTo>
                  <a:pt x="341" y="677"/>
                </a:lnTo>
                <a:lnTo>
                  <a:pt x="343" y="689"/>
                </a:lnTo>
                <a:lnTo>
                  <a:pt x="346" y="700"/>
                </a:lnTo>
                <a:lnTo>
                  <a:pt x="352" y="710"/>
                </a:lnTo>
                <a:lnTo>
                  <a:pt x="355" y="710"/>
                </a:lnTo>
                <a:lnTo>
                  <a:pt x="360" y="708"/>
                </a:lnTo>
                <a:lnTo>
                  <a:pt x="364" y="704"/>
                </a:lnTo>
                <a:lnTo>
                  <a:pt x="367" y="698"/>
                </a:lnTo>
                <a:lnTo>
                  <a:pt x="367" y="696"/>
                </a:lnTo>
                <a:lnTo>
                  <a:pt x="369" y="687"/>
                </a:lnTo>
                <a:lnTo>
                  <a:pt x="371" y="675"/>
                </a:lnTo>
                <a:lnTo>
                  <a:pt x="374" y="660"/>
                </a:lnTo>
                <a:lnTo>
                  <a:pt x="378" y="643"/>
                </a:lnTo>
                <a:lnTo>
                  <a:pt x="379" y="624"/>
                </a:lnTo>
                <a:lnTo>
                  <a:pt x="383" y="603"/>
                </a:lnTo>
                <a:lnTo>
                  <a:pt x="386" y="580"/>
                </a:lnTo>
                <a:lnTo>
                  <a:pt x="390" y="555"/>
                </a:lnTo>
                <a:lnTo>
                  <a:pt x="393" y="528"/>
                </a:lnTo>
                <a:lnTo>
                  <a:pt x="404" y="442"/>
                </a:lnTo>
                <a:lnTo>
                  <a:pt x="411" y="381"/>
                </a:lnTo>
                <a:lnTo>
                  <a:pt x="416" y="351"/>
                </a:lnTo>
                <a:lnTo>
                  <a:pt x="423" y="290"/>
                </a:lnTo>
                <a:lnTo>
                  <a:pt x="426" y="261"/>
                </a:lnTo>
                <a:lnTo>
                  <a:pt x="430" y="231"/>
                </a:lnTo>
                <a:lnTo>
                  <a:pt x="433" y="202"/>
                </a:lnTo>
                <a:lnTo>
                  <a:pt x="439" y="175"/>
                </a:lnTo>
                <a:lnTo>
                  <a:pt x="442" y="148"/>
                </a:lnTo>
                <a:lnTo>
                  <a:pt x="446" y="124"/>
                </a:lnTo>
                <a:lnTo>
                  <a:pt x="449" y="101"/>
                </a:lnTo>
                <a:lnTo>
                  <a:pt x="453" y="80"/>
                </a:lnTo>
                <a:lnTo>
                  <a:pt x="454" y="61"/>
                </a:lnTo>
                <a:lnTo>
                  <a:pt x="461" y="32"/>
                </a:lnTo>
                <a:lnTo>
                  <a:pt x="465" y="21"/>
                </a:lnTo>
                <a:lnTo>
                  <a:pt x="466" y="13"/>
                </a:lnTo>
                <a:lnTo>
                  <a:pt x="468" y="7"/>
                </a:lnTo>
                <a:lnTo>
                  <a:pt x="470" y="7"/>
                </a:lnTo>
                <a:lnTo>
                  <a:pt x="468" y="7"/>
                </a:lnTo>
                <a:lnTo>
                  <a:pt x="468" y="11"/>
                </a:lnTo>
                <a:lnTo>
                  <a:pt x="470" y="17"/>
                </a:lnTo>
                <a:lnTo>
                  <a:pt x="472" y="26"/>
                </a:lnTo>
                <a:lnTo>
                  <a:pt x="473" y="40"/>
                </a:lnTo>
                <a:lnTo>
                  <a:pt x="473" y="55"/>
                </a:lnTo>
                <a:lnTo>
                  <a:pt x="475" y="72"/>
                </a:lnTo>
                <a:lnTo>
                  <a:pt x="477" y="93"/>
                </a:lnTo>
                <a:lnTo>
                  <a:pt x="477" y="114"/>
                </a:lnTo>
                <a:lnTo>
                  <a:pt x="479" y="137"/>
                </a:lnTo>
                <a:lnTo>
                  <a:pt x="480" y="162"/>
                </a:lnTo>
                <a:lnTo>
                  <a:pt x="480" y="187"/>
                </a:lnTo>
                <a:lnTo>
                  <a:pt x="482" y="215"/>
                </a:lnTo>
                <a:lnTo>
                  <a:pt x="482" y="242"/>
                </a:lnTo>
                <a:lnTo>
                  <a:pt x="484" y="271"/>
                </a:lnTo>
                <a:lnTo>
                  <a:pt x="484" y="299"/>
                </a:lnTo>
                <a:lnTo>
                  <a:pt x="486" y="328"/>
                </a:lnTo>
                <a:lnTo>
                  <a:pt x="486" y="387"/>
                </a:lnTo>
                <a:lnTo>
                  <a:pt x="487" y="416"/>
                </a:lnTo>
                <a:lnTo>
                  <a:pt x="487" y="444"/>
                </a:lnTo>
                <a:lnTo>
                  <a:pt x="489" y="471"/>
                </a:lnTo>
                <a:lnTo>
                  <a:pt x="489" y="498"/>
                </a:lnTo>
                <a:lnTo>
                  <a:pt x="491" y="523"/>
                </a:lnTo>
                <a:lnTo>
                  <a:pt x="496" y="498"/>
                </a:lnTo>
                <a:lnTo>
                  <a:pt x="496" y="471"/>
                </a:lnTo>
                <a:lnTo>
                  <a:pt x="494" y="444"/>
                </a:lnTo>
                <a:lnTo>
                  <a:pt x="494" y="416"/>
                </a:lnTo>
                <a:lnTo>
                  <a:pt x="492" y="387"/>
                </a:lnTo>
                <a:lnTo>
                  <a:pt x="492" y="328"/>
                </a:lnTo>
                <a:lnTo>
                  <a:pt x="491" y="299"/>
                </a:lnTo>
                <a:lnTo>
                  <a:pt x="491" y="271"/>
                </a:lnTo>
                <a:lnTo>
                  <a:pt x="489" y="242"/>
                </a:lnTo>
                <a:lnTo>
                  <a:pt x="489" y="215"/>
                </a:lnTo>
                <a:lnTo>
                  <a:pt x="487" y="187"/>
                </a:lnTo>
                <a:lnTo>
                  <a:pt x="487" y="162"/>
                </a:lnTo>
                <a:lnTo>
                  <a:pt x="486" y="137"/>
                </a:lnTo>
                <a:lnTo>
                  <a:pt x="484" y="114"/>
                </a:lnTo>
                <a:lnTo>
                  <a:pt x="484" y="93"/>
                </a:lnTo>
                <a:lnTo>
                  <a:pt x="482" y="72"/>
                </a:lnTo>
                <a:lnTo>
                  <a:pt x="480" y="55"/>
                </a:lnTo>
                <a:lnTo>
                  <a:pt x="480" y="40"/>
                </a:lnTo>
                <a:lnTo>
                  <a:pt x="479" y="26"/>
                </a:lnTo>
                <a:lnTo>
                  <a:pt x="477" y="17"/>
                </a:lnTo>
                <a:lnTo>
                  <a:pt x="475" y="7"/>
                </a:lnTo>
                <a:lnTo>
                  <a:pt x="472" y="0"/>
                </a:lnTo>
                <a:lnTo>
                  <a:pt x="466" y="0"/>
                </a:lnTo>
                <a:lnTo>
                  <a:pt x="461" y="3"/>
                </a:lnTo>
                <a:lnTo>
                  <a:pt x="459" y="9"/>
                </a:lnTo>
                <a:lnTo>
                  <a:pt x="458" y="17"/>
                </a:lnTo>
                <a:lnTo>
                  <a:pt x="454" y="28"/>
                </a:lnTo>
                <a:lnTo>
                  <a:pt x="447" y="61"/>
                </a:lnTo>
                <a:lnTo>
                  <a:pt x="446" y="80"/>
                </a:lnTo>
                <a:lnTo>
                  <a:pt x="442" y="101"/>
                </a:lnTo>
                <a:lnTo>
                  <a:pt x="439" y="124"/>
                </a:lnTo>
                <a:lnTo>
                  <a:pt x="435" y="148"/>
                </a:lnTo>
                <a:lnTo>
                  <a:pt x="432" y="175"/>
                </a:lnTo>
                <a:lnTo>
                  <a:pt x="426" y="202"/>
                </a:lnTo>
                <a:lnTo>
                  <a:pt x="423" y="231"/>
                </a:lnTo>
                <a:lnTo>
                  <a:pt x="419" y="261"/>
                </a:lnTo>
                <a:lnTo>
                  <a:pt x="416" y="290"/>
                </a:lnTo>
                <a:lnTo>
                  <a:pt x="409" y="351"/>
                </a:lnTo>
                <a:lnTo>
                  <a:pt x="404" y="381"/>
                </a:lnTo>
                <a:lnTo>
                  <a:pt x="397" y="442"/>
                </a:lnTo>
                <a:lnTo>
                  <a:pt x="386" y="528"/>
                </a:lnTo>
                <a:lnTo>
                  <a:pt x="383" y="555"/>
                </a:lnTo>
                <a:lnTo>
                  <a:pt x="379" y="580"/>
                </a:lnTo>
                <a:lnTo>
                  <a:pt x="376" y="603"/>
                </a:lnTo>
                <a:lnTo>
                  <a:pt x="373" y="624"/>
                </a:lnTo>
                <a:lnTo>
                  <a:pt x="371" y="643"/>
                </a:lnTo>
                <a:lnTo>
                  <a:pt x="367" y="660"/>
                </a:lnTo>
                <a:lnTo>
                  <a:pt x="364" y="675"/>
                </a:lnTo>
                <a:lnTo>
                  <a:pt x="362" y="687"/>
                </a:lnTo>
                <a:lnTo>
                  <a:pt x="360" y="696"/>
                </a:lnTo>
                <a:lnTo>
                  <a:pt x="360" y="694"/>
                </a:lnTo>
                <a:lnTo>
                  <a:pt x="357" y="700"/>
                </a:lnTo>
                <a:lnTo>
                  <a:pt x="355" y="702"/>
                </a:lnTo>
                <a:lnTo>
                  <a:pt x="353" y="696"/>
                </a:lnTo>
                <a:lnTo>
                  <a:pt x="350" y="685"/>
                </a:lnTo>
                <a:lnTo>
                  <a:pt x="348" y="677"/>
                </a:lnTo>
                <a:lnTo>
                  <a:pt x="346" y="669"/>
                </a:lnTo>
                <a:lnTo>
                  <a:pt x="339" y="624"/>
                </a:lnTo>
                <a:lnTo>
                  <a:pt x="339" y="610"/>
                </a:lnTo>
                <a:lnTo>
                  <a:pt x="334" y="570"/>
                </a:lnTo>
                <a:lnTo>
                  <a:pt x="334" y="557"/>
                </a:lnTo>
                <a:lnTo>
                  <a:pt x="331" y="530"/>
                </a:lnTo>
                <a:lnTo>
                  <a:pt x="331" y="519"/>
                </a:lnTo>
                <a:lnTo>
                  <a:pt x="327" y="496"/>
                </a:lnTo>
                <a:lnTo>
                  <a:pt x="326" y="486"/>
                </a:lnTo>
                <a:lnTo>
                  <a:pt x="326" y="477"/>
                </a:lnTo>
                <a:lnTo>
                  <a:pt x="324" y="465"/>
                </a:lnTo>
                <a:lnTo>
                  <a:pt x="320" y="454"/>
                </a:lnTo>
                <a:lnTo>
                  <a:pt x="319" y="450"/>
                </a:lnTo>
                <a:lnTo>
                  <a:pt x="315" y="446"/>
                </a:lnTo>
                <a:lnTo>
                  <a:pt x="306" y="446"/>
                </a:lnTo>
                <a:lnTo>
                  <a:pt x="303" y="450"/>
                </a:lnTo>
                <a:lnTo>
                  <a:pt x="301" y="454"/>
                </a:lnTo>
                <a:lnTo>
                  <a:pt x="298" y="458"/>
                </a:lnTo>
                <a:lnTo>
                  <a:pt x="296" y="463"/>
                </a:lnTo>
                <a:lnTo>
                  <a:pt x="293" y="471"/>
                </a:lnTo>
                <a:lnTo>
                  <a:pt x="291" y="479"/>
                </a:lnTo>
                <a:lnTo>
                  <a:pt x="287" y="488"/>
                </a:lnTo>
                <a:lnTo>
                  <a:pt x="286" y="496"/>
                </a:lnTo>
                <a:lnTo>
                  <a:pt x="282" y="507"/>
                </a:lnTo>
                <a:lnTo>
                  <a:pt x="280" y="517"/>
                </a:lnTo>
                <a:lnTo>
                  <a:pt x="277" y="530"/>
                </a:lnTo>
                <a:lnTo>
                  <a:pt x="275" y="542"/>
                </a:lnTo>
                <a:lnTo>
                  <a:pt x="272" y="553"/>
                </a:lnTo>
                <a:lnTo>
                  <a:pt x="270" y="565"/>
                </a:lnTo>
                <a:lnTo>
                  <a:pt x="266" y="578"/>
                </a:lnTo>
                <a:lnTo>
                  <a:pt x="265" y="589"/>
                </a:lnTo>
                <a:lnTo>
                  <a:pt x="261" y="603"/>
                </a:lnTo>
                <a:lnTo>
                  <a:pt x="260" y="614"/>
                </a:lnTo>
                <a:lnTo>
                  <a:pt x="256" y="626"/>
                </a:lnTo>
                <a:lnTo>
                  <a:pt x="254" y="637"/>
                </a:lnTo>
                <a:lnTo>
                  <a:pt x="251" y="648"/>
                </a:lnTo>
                <a:lnTo>
                  <a:pt x="249" y="658"/>
                </a:lnTo>
                <a:lnTo>
                  <a:pt x="246" y="668"/>
                </a:lnTo>
                <a:lnTo>
                  <a:pt x="244" y="679"/>
                </a:lnTo>
                <a:lnTo>
                  <a:pt x="240" y="692"/>
                </a:lnTo>
                <a:lnTo>
                  <a:pt x="237" y="700"/>
                </a:lnTo>
                <a:lnTo>
                  <a:pt x="233" y="711"/>
                </a:lnTo>
                <a:lnTo>
                  <a:pt x="232" y="715"/>
                </a:lnTo>
                <a:lnTo>
                  <a:pt x="232" y="717"/>
                </a:lnTo>
                <a:lnTo>
                  <a:pt x="232" y="715"/>
                </a:lnTo>
                <a:lnTo>
                  <a:pt x="233" y="715"/>
                </a:lnTo>
                <a:lnTo>
                  <a:pt x="228" y="715"/>
                </a:lnTo>
                <a:lnTo>
                  <a:pt x="225" y="704"/>
                </a:lnTo>
                <a:lnTo>
                  <a:pt x="220" y="687"/>
                </a:lnTo>
                <a:lnTo>
                  <a:pt x="213" y="658"/>
                </a:lnTo>
                <a:lnTo>
                  <a:pt x="211" y="648"/>
                </a:lnTo>
                <a:lnTo>
                  <a:pt x="209" y="641"/>
                </a:lnTo>
                <a:lnTo>
                  <a:pt x="206" y="622"/>
                </a:lnTo>
                <a:lnTo>
                  <a:pt x="204" y="614"/>
                </a:lnTo>
                <a:lnTo>
                  <a:pt x="202" y="605"/>
                </a:lnTo>
                <a:lnTo>
                  <a:pt x="200" y="597"/>
                </a:lnTo>
                <a:lnTo>
                  <a:pt x="200" y="589"/>
                </a:lnTo>
                <a:lnTo>
                  <a:pt x="199" y="578"/>
                </a:lnTo>
                <a:lnTo>
                  <a:pt x="197" y="572"/>
                </a:lnTo>
                <a:lnTo>
                  <a:pt x="193" y="559"/>
                </a:lnTo>
                <a:lnTo>
                  <a:pt x="193" y="553"/>
                </a:lnTo>
                <a:lnTo>
                  <a:pt x="192" y="547"/>
                </a:lnTo>
                <a:lnTo>
                  <a:pt x="190" y="544"/>
                </a:lnTo>
                <a:lnTo>
                  <a:pt x="190" y="538"/>
                </a:lnTo>
                <a:lnTo>
                  <a:pt x="185" y="534"/>
                </a:lnTo>
                <a:lnTo>
                  <a:pt x="183" y="532"/>
                </a:lnTo>
                <a:lnTo>
                  <a:pt x="185" y="532"/>
                </a:lnTo>
                <a:lnTo>
                  <a:pt x="178" y="532"/>
                </a:lnTo>
                <a:lnTo>
                  <a:pt x="174" y="536"/>
                </a:lnTo>
                <a:lnTo>
                  <a:pt x="174" y="540"/>
                </a:lnTo>
                <a:lnTo>
                  <a:pt x="173" y="542"/>
                </a:lnTo>
                <a:lnTo>
                  <a:pt x="171" y="547"/>
                </a:lnTo>
                <a:lnTo>
                  <a:pt x="169" y="553"/>
                </a:lnTo>
                <a:lnTo>
                  <a:pt x="169" y="559"/>
                </a:lnTo>
                <a:lnTo>
                  <a:pt x="166" y="568"/>
                </a:lnTo>
                <a:lnTo>
                  <a:pt x="164" y="578"/>
                </a:lnTo>
                <a:lnTo>
                  <a:pt x="164" y="584"/>
                </a:lnTo>
                <a:lnTo>
                  <a:pt x="160" y="599"/>
                </a:lnTo>
                <a:lnTo>
                  <a:pt x="160" y="607"/>
                </a:lnTo>
                <a:lnTo>
                  <a:pt x="157" y="622"/>
                </a:lnTo>
                <a:lnTo>
                  <a:pt x="157" y="629"/>
                </a:lnTo>
                <a:lnTo>
                  <a:pt x="153" y="645"/>
                </a:lnTo>
                <a:lnTo>
                  <a:pt x="153" y="650"/>
                </a:lnTo>
                <a:lnTo>
                  <a:pt x="152" y="658"/>
                </a:lnTo>
                <a:lnTo>
                  <a:pt x="152" y="664"/>
                </a:lnTo>
                <a:lnTo>
                  <a:pt x="148" y="675"/>
                </a:lnTo>
                <a:lnTo>
                  <a:pt x="148" y="679"/>
                </a:lnTo>
                <a:lnTo>
                  <a:pt x="146" y="683"/>
                </a:lnTo>
                <a:lnTo>
                  <a:pt x="145" y="685"/>
                </a:lnTo>
                <a:lnTo>
                  <a:pt x="146" y="689"/>
                </a:lnTo>
                <a:lnTo>
                  <a:pt x="145" y="687"/>
                </a:lnTo>
                <a:lnTo>
                  <a:pt x="143" y="690"/>
                </a:lnTo>
                <a:lnTo>
                  <a:pt x="146" y="689"/>
                </a:lnTo>
                <a:lnTo>
                  <a:pt x="146" y="690"/>
                </a:lnTo>
                <a:lnTo>
                  <a:pt x="146" y="689"/>
                </a:lnTo>
                <a:lnTo>
                  <a:pt x="141" y="677"/>
                </a:lnTo>
                <a:lnTo>
                  <a:pt x="136" y="660"/>
                </a:lnTo>
                <a:lnTo>
                  <a:pt x="129" y="631"/>
                </a:lnTo>
                <a:lnTo>
                  <a:pt x="127" y="622"/>
                </a:lnTo>
                <a:lnTo>
                  <a:pt x="126" y="614"/>
                </a:lnTo>
                <a:lnTo>
                  <a:pt x="122" y="595"/>
                </a:lnTo>
                <a:lnTo>
                  <a:pt x="120" y="587"/>
                </a:lnTo>
                <a:lnTo>
                  <a:pt x="117" y="568"/>
                </a:lnTo>
                <a:lnTo>
                  <a:pt x="115" y="561"/>
                </a:lnTo>
                <a:lnTo>
                  <a:pt x="115" y="551"/>
                </a:lnTo>
                <a:lnTo>
                  <a:pt x="108" y="519"/>
                </a:lnTo>
                <a:lnTo>
                  <a:pt x="107" y="515"/>
                </a:lnTo>
                <a:lnTo>
                  <a:pt x="107" y="507"/>
                </a:lnTo>
                <a:lnTo>
                  <a:pt x="105" y="502"/>
                </a:lnTo>
                <a:lnTo>
                  <a:pt x="103" y="498"/>
                </a:lnTo>
                <a:lnTo>
                  <a:pt x="103" y="492"/>
                </a:lnTo>
                <a:lnTo>
                  <a:pt x="101" y="490"/>
                </a:lnTo>
                <a:lnTo>
                  <a:pt x="100" y="486"/>
                </a:lnTo>
                <a:lnTo>
                  <a:pt x="98" y="484"/>
                </a:lnTo>
                <a:lnTo>
                  <a:pt x="91" y="484"/>
                </a:lnTo>
                <a:lnTo>
                  <a:pt x="86" y="490"/>
                </a:lnTo>
                <a:lnTo>
                  <a:pt x="84" y="496"/>
                </a:lnTo>
                <a:lnTo>
                  <a:pt x="84" y="500"/>
                </a:lnTo>
                <a:lnTo>
                  <a:pt x="82" y="502"/>
                </a:lnTo>
                <a:lnTo>
                  <a:pt x="80" y="509"/>
                </a:lnTo>
                <a:lnTo>
                  <a:pt x="80" y="515"/>
                </a:lnTo>
                <a:lnTo>
                  <a:pt x="77" y="526"/>
                </a:lnTo>
                <a:lnTo>
                  <a:pt x="77" y="534"/>
                </a:lnTo>
                <a:lnTo>
                  <a:pt x="75" y="538"/>
                </a:lnTo>
                <a:lnTo>
                  <a:pt x="73" y="547"/>
                </a:lnTo>
                <a:lnTo>
                  <a:pt x="73" y="555"/>
                </a:lnTo>
                <a:lnTo>
                  <a:pt x="72" y="563"/>
                </a:lnTo>
                <a:lnTo>
                  <a:pt x="72" y="570"/>
                </a:lnTo>
                <a:lnTo>
                  <a:pt x="70" y="578"/>
                </a:lnTo>
                <a:lnTo>
                  <a:pt x="70" y="584"/>
                </a:lnTo>
                <a:lnTo>
                  <a:pt x="68" y="591"/>
                </a:lnTo>
                <a:lnTo>
                  <a:pt x="68" y="599"/>
                </a:lnTo>
                <a:lnTo>
                  <a:pt x="67" y="605"/>
                </a:lnTo>
                <a:lnTo>
                  <a:pt x="67" y="612"/>
                </a:lnTo>
                <a:lnTo>
                  <a:pt x="63" y="624"/>
                </a:lnTo>
                <a:lnTo>
                  <a:pt x="63" y="629"/>
                </a:lnTo>
                <a:lnTo>
                  <a:pt x="61" y="633"/>
                </a:lnTo>
                <a:lnTo>
                  <a:pt x="61" y="637"/>
                </a:lnTo>
                <a:lnTo>
                  <a:pt x="60" y="639"/>
                </a:lnTo>
                <a:lnTo>
                  <a:pt x="60" y="643"/>
                </a:lnTo>
                <a:lnTo>
                  <a:pt x="58" y="645"/>
                </a:lnTo>
                <a:lnTo>
                  <a:pt x="58" y="648"/>
                </a:lnTo>
                <a:lnTo>
                  <a:pt x="60" y="645"/>
                </a:lnTo>
                <a:lnTo>
                  <a:pt x="61" y="645"/>
                </a:lnTo>
                <a:lnTo>
                  <a:pt x="61" y="647"/>
                </a:lnTo>
                <a:lnTo>
                  <a:pt x="63" y="645"/>
                </a:lnTo>
                <a:lnTo>
                  <a:pt x="60" y="641"/>
                </a:lnTo>
                <a:lnTo>
                  <a:pt x="60" y="639"/>
                </a:lnTo>
                <a:lnTo>
                  <a:pt x="58" y="633"/>
                </a:lnTo>
                <a:lnTo>
                  <a:pt x="58" y="629"/>
                </a:lnTo>
                <a:lnTo>
                  <a:pt x="56" y="624"/>
                </a:lnTo>
                <a:lnTo>
                  <a:pt x="56" y="620"/>
                </a:lnTo>
                <a:lnTo>
                  <a:pt x="54" y="610"/>
                </a:lnTo>
                <a:lnTo>
                  <a:pt x="53" y="607"/>
                </a:lnTo>
                <a:lnTo>
                  <a:pt x="53" y="601"/>
                </a:lnTo>
                <a:lnTo>
                  <a:pt x="51" y="593"/>
                </a:lnTo>
                <a:lnTo>
                  <a:pt x="51" y="587"/>
                </a:lnTo>
                <a:lnTo>
                  <a:pt x="49" y="580"/>
                </a:lnTo>
                <a:lnTo>
                  <a:pt x="49" y="572"/>
                </a:lnTo>
                <a:lnTo>
                  <a:pt x="47" y="565"/>
                </a:lnTo>
                <a:lnTo>
                  <a:pt x="46" y="559"/>
                </a:lnTo>
                <a:lnTo>
                  <a:pt x="46" y="551"/>
                </a:lnTo>
                <a:lnTo>
                  <a:pt x="44" y="545"/>
                </a:lnTo>
                <a:lnTo>
                  <a:pt x="44" y="538"/>
                </a:lnTo>
                <a:lnTo>
                  <a:pt x="42" y="532"/>
                </a:lnTo>
                <a:lnTo>
                  <a:pt x="42" y="526"/>
                </a:lnTo>
                <a:lnTo>
                  <a:pt x="40" y="521"/>
                </a:lnTo>
                <a:lnTo>
                  <a:pt x="40" y="515"/>
                </a:lnTo>
                <a:lnTo>
                  <a:pt x="39" y="511"/>
                </a:lnTo>
                <a:lnTo>
                  <a:pt x="39" y="507"/>
                </a:lnTo>
                <a:lnTo>
                  <a:pt x="37" y="503"/>
                </a:lnTo>
                <a:lnTo>
                  <a:pt x="37" y="498"/>
                </a:lnTo>
                <a:lnTo>
                  <a:pt x="33" y="496"/>
                </a:lnTo>
                <a:lnTo>
                  <a:pt x="32" y="494"/>
                </a:lnTo>
                <a:lnTo>
                  <a:pt x="33" y="494"/>
                </a:lnTo>
                <a:lnTo>
                  <a:pt x="28" y="494"/>
                </a:lnTo>
                <a:lnTo>
                  <a:pt x="25" y="498"/>
                </a:lnTo>
                <a:lnTo>
                  <a:pt x="25" y="502"/>
                </a:lnTo>
                <a:lnTo>
                  <a:pt x="23" y="503"/>
                </a:lnTo>
                <a:lnTo>
                  <a:pt x="21" y="511"/>
                </a:lnTo>
                <a:lnTo>
                  <a:pt x="21" y="517"/>
                </a:lnTo>
                <a:lnTo>
                  <a:pt x="20" y="523"/>
                </a:lnTo>
                <a:lnTo>
                  <a:pt x="20" y="530"/>
                </a:lnTo>
                <a:lnTo>
                  <a:pt x="18" y="538"/>
                </a:lnTo>
                <a:lnTo>
                  <a:pt x="18" y="545"/>
                </a:lnTo>
                <a:lnTo>
                  <a:pt x="16" y="555"/>
                </a:lnTo>
                <a:lnTo>
                  <a:pt x="16" y="565"/>
                </a:lnTo>
                <a:lnTo>
                  <a:pt x="14" y="574"/>
                </a:lnTo>
                <a:lnTo>
                  <a:pt x="14" y="582"/>
                </a:lnTo>
                <a:lnTo>
                  <a:pt x="13" y="591"/>
                </a:lnTo>
                <a:lnTo>
                  <a:pt x="13" y="601"/>
                </a:lnTo>
                <a:lnTo>
                  <a:pt x="11" y="608"/>
                </a:lnTo>
                <a:lnTo>
                  <a:pt x="11" y="626"/>
                </a:lnTo>
                <a:lnTo>
                  <a:pt x="9" y="633"/>
                </a:lnTo>
                <a:lnTo>
                  <a:pt x="9" y="639"/>
                </a:lnTo>
                <a:lnTo>
                  <a:pt x="7" y="645"/>
                </a:lnTo>
                <a:lnTo>
                  <a:pt x="7" y="650"/>
                </a:lnTo>
                <a:lnTo>
                  <a:pt x="6" y="654"/>
                </a:lnTo>
                <a:lnTo>
                  <a:pt x="7" y="656"/>
                </a:lnTo>
                <a:lnTo>
                  <a:pt x="9" y="654"/>
                </a:lnTo>
                <a:lnTo>
                  <a:pt x="7" y="648"/>
                </a:lnTo>
                <a:lnTo>
                  <a:pt x="6" y="645"/>
                </a:lnTo>
                <a:lnTo>
                  <a:pt x="0" y="65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52520" y="4694400"/>
            <a:ext cx="338400" cy="439560"/>
          </a:xfrm>
          <a:custGeom>
            <a:avLst/>
            <a:gdLst/>
            <a:ahLst/>
            <a:rect l="l" t="t" r="r" b="b"/>
            <a:pathLst>
              <a:path w="192" h="293">
                <a:moveTo>
                  <a:pt x="0" y="65"/>
                </a:moveTo>
                <a:lnTo>
                  <a:pt x="0" y="112"/>
                </a:lnTo>
                <a:lnTo>
                  <a:pt x="1" y="133"/>
                </a:lnTo>
                <a:lnTo>
                  <a:pt x="1" y="152"/>
                </a:lnTo>
                <a:lnTo>
                  <a:pt x="3" y="170"/>
                </a:lnTo>
                <a:lnTo>
                  <a:pt x="5" y="183"/>
                </a:lnTo>
                <a:lnTo>
                  <a:pt x="5" y="196"/>
                </a:lnTo>
                <a:lnTo>
                  <a:pt x="7" y="206"/>
                </a:lnTo>
                <a:lnTo>
                  <a:pt x="8" y="221"/>
                </a:lnTo>
                <a:lnTo>
                  <a:pt x="14" y="221"/>
                </a:lnTo>
                <a:lnTo>
                  <a:pt x="15" y="213"/>
                </a:lnTo>
                <a:lnTo>
                  <a:pt x="17" y="210"/>
                </a:lnTo>
                <a:lnTo>
                  <a:pt x="17" y="198"/>
                </a:lnTo>
                <a:lnTo>
                  <a:pt x="19" y="190"/>
                </a:lnTo>
                <a:lnTo>
                  <a:pt x="19" y="173"/>
                </a:lnTo>
                <a:lnTo>
                  <a:pt x="21" y="164"/>
                </a:lnTo>
                <a:lnTo>
                  <a:pt x="21" y="145"/>
                </a:lnTo>
                <a:lnTo>
                  <a:pt x="22" y="135"/>
                </a:lnTo>
                <a:lnTo>
                  <a:pt x="22" y="114"/>
                </a:lnTo>
                <a:lnTo>
                  <a:pt x="24" y="105"/>
                </a:lnTo>
                <a:lnTo>
                  <a:pt x="24" y="95"/>
                </a:lnTo>
                <a:lnTo>
                  <a:pt x="26" y="86"/>
                </a:lnTo>
                <a:lnTo>
                  <a:pt x="26" y="76"/>
                </a:lnTo>
                <a:lnTo>
                  <a:pt x="28" y="68"/>
                </a:lnTo>
                <a:lnTo>
                  <a:pt x="28" y="61"/>
                </a:lnTo>
                <a:lnTo>
                  <a:pt x="29" y="53"/>
                </a:lnTo>
                <a:lnTo>
                  <a:pt x="29" y="47"/>
                </a:lnTo>
                <a:lnTo>
                  <a:pt x="31" y="42"/>
                </a:lnTo>
                <a:lnTo>
                  <a:pt x="31" y="40"/>
                </a:lnTo>
                <a:lnTo>
                  <a:pt x="33" y="38"/>
                </a:lnTo>
                <a:lnTo>
                  <a:pt x="31" y="36"/>
                </a:lnTo>
                <a:lnTo>
                  <a:pt x="31" y="38"/>
                </a:lnTo>
                <a:lnTo>
                  <a:pt x="29" y="38"/>
                </a:lnTo>
                <a:lnTo>
                  <a:pt x="29" y="36"/>
                </a:lnTo>
                <a:lnTo>
                  <a:pt x="29" y="38"/>
                </a:lnTo>
                <a:lnTo>
                  <a:pt x="33" y="44"/>
                </a:lnTo>
                <a:lnTo>
                  <a:pt x="33" y="47"/>
                </a:lnTo>
                <a:lnTo>
                  <a:pt x="35" y="55"/>
                </a:lnTo>
                <a:lnTo>
                  <a:pt x="36" y="63"/>
                </a:lnTo>
                <a:lnTo>
                  <a:pt x="38" y="68"/>
                </a:lnTo>
                <a:lnTo>
                  <a:pt x="41" y="82"/>
                </a:lnTo>
                <a:lnTo>
                  <a:pt x="43" y="91"/>
                </a:lnTo>
                <a:lnTo>
                  <a:pt x="45" y="99"/>
                </a:lnTo>
                <a:lnTo>
                  <a:pt x="47" y="108"/>
                </a:lnTo>
                <a:lnTo>
                  <a:pt x="47" y="118"/>
                </a:lnTo>
                <a:lnTo>
                  <a:pt x="55" y="166"/>
                </a:lnTo>
                <a:lnTo>
                  <a:pt x="57" y="173"/>
                </a:lnTo>
                <a:lnTo>
                  <a:pt x="59" y="183"/>
                </a:lnTo>
                <a:lnTo>
                  <a:pt x="66" y="215"/>
                </a:lnTo>
                <a:lnTo>
                  <a:pt x="69" y="227"/>
                </a:lnTo>
                <a:lnTo>
                  <a:pt x="71" y="229"/>
                </a:lnTo>
                <a:lnTo>
                  <a:pt x="71" y="232"/>
                </a:lnTo>
                <a:lnTo>
                  <a:pt x="75" y="240"/>
                </a:lnTo>
                <a:lnTo>
                  <a:pt x="78" y="240"/>
                </a:lnTo>
                <a:lnTo>
                  <a:pt x="81" y="242"/>
                </a:lnTo>
                <a:lnTo>
                  <a:pt x="83" y="238"/>
                </a:lnTo>
                <a:lnTo>
                  <a:pt x="83" y="225"/>
                </a:lnTo>
                <a:lnTo>
                  <a:pt x="85" y="219"/>
                </a:lnTo>
                <a:lnTo>
                  <a:pt x="85" y="168"/>
                </a:lnTo>
                <a:lnTo>
                  <a:pt x="87" y="158"/>
                </a:lnTo>
                <a:lnTo>
                  <a:pt x="87" y="103"/>
                </a:lnTo>
                <a:lnTo>
                  <a:pt x="88" y="91"/>
                </a:lnTo>
                <a:lnTo>
                  <a:pt x="88" y="61"/>
                </a:lnTo>
                <a:lnTo>
                  <a:pt x="90" y="51"/>
                </a:lnTo>
                <a:lnTo>
                  <a:pt x="90" y="34"/>
                </a:lnTo>
                <a:lnTo>
                  <a:pt x="92" y="26"/>
                </a:lnTo>
                <a:lnTo>
                  <a:pt x="92" y="15"/>
                </a:lnTo>
                <a:lnTo>
                  <a:pt x="94" y="9"/>
                </a:lnTo>
                <a:lnTo>
                  <a:pt x="94" y="7"/>
                </a:lnTo>
                <a:lnTo>
                  <a:pt x="92" y="5"/>
                </a:lnTo>
                <a:lnTo>
                  <a:pt x="92" y="7"/>
                </a:lnTo>
                <a:lnTo>
                  <a:pt x="90" y="3"/>
                </a:lnTo>
                <a:lnTo>
                  <a:pt x="90" y="7"/>
                </a:lnTo>
                <a:lnTo>
                  <a:pt x="92" y="9"/>
                </a:lnTo>
                <a:lnTo>
                  <a:pt x="97" y="26"/>
                </a:lnTo>
                <a:lnTo>
                  <a:pt x="99" y="32"/>
                </a:lnTo>
                <a:lnTo>
                  <a:pt x="101" y="44"/>
                </a:lnTo>
                <a:lnTo>
                  <a:pt x="104" y="53"/>
                </a:lnTo>
                <a:lnTo>
                  <a:pt x="106" y="61"/>
                </a:lnTo>
                <a:lnTo>
                  <a:pt x="108" y="72"/>
                </a:lnTo>
                <a:lnTo>
                  <a:pt x="111" y="84"/>
                </a:lnTo>
                <a:lnTo>
                  <a:pt x="115" y="107"/>
                </a:lnTo>
                <a:lnTo>
                  <a:pt x="118" y="120"/>
                </a:lnTo>
                <a:lnTo>
                  <a:pt x="120" y="131"/>
                </a:lnTo>
                <a:lnTo>
                  <a:pt x="123" y="145"/>
                </a:lnTo>
                <a:lnTo>
                  <a:pt x="125" y="158"/>
                </a:lnTo>
                <a:lnTo>
                  <a:pt x="128" y="170"/>
                </a:lnTo>
                <a:lnTo>
                  <a:pt x="130" y="183"/>
                </a:lnTo>
                <a:lnTo>
                  <a:pt x="137" y="206"/>
                </a:lnTo>
                <a:lnTo>
                  <a:pt x="139" y="217"/>
                </a:lnTo>
                <a:lnTo>
                  <a:pt x="142" y="231"/>
                </a:lnTo>
                <a:lnTo>
                  <a:pt x="144" y="240"/>
                </a:lnTo>
                <a:lnTo>
                  <a:pt x="148" y="250"/>
                </a:lnTo>
                <a:lnTo>
                  <a:pt x="149" y="257"/>
                </a:lnTo>
                <a:lnTo>
                  <a:pt x="151" y="267"/>
                </a:lnTo>
                <a:lnTo>
                  <a:pt x="155" y="274"/>
                </a:lnTo>
                <a:lnTo>
                  <a:pt x="156" y="280"/>
                </a:lnTo>
                <a:lnTo>
                  <a:pt x="158" y="284"/>
                </a:lnTo>
                <a:lnTo>
                  <a:pt x="165" y="290"/>
                </a:lnTo>
                <a:lnTo>
                  <a:pt x="165" y="292"/>
                </a:lnTo>
                <a:lnTo>
                  <a:pt x="170" y="292"/>
                </a:lnTo>
                <a:lnTo>
                  <a:pt x="175" y="286"/>
                </a:lnTo>
                <a:lnTo>
                  <a:pt x="177" y="280"/>
                </a:lnTo>
                <a:lnTo>
                  <a:pt x="177" y="278"/>
                </a:lnTo>
                <a:lnTo>
                  <a:pt x="181" y="271"/>
                </a:lnTo>
                <a:lnTo>
                  <a:pt x="181" y="267"/>
                </a:lnTo>
                <a:lnTo>
                  <a:pt x="182" y="261"/>
                </a:lnTo>
                <a:lnTo>
                  <a:pt x="182" y="257"/>
                </a:lnTo>
                <a:lnTo>
                  <a:pt x="184" y="252"/>
                </a:lnTo>
                <a:lnTo>
                  <a:pt x="184" y="238"/>
                </a:lnTo>
                <a:lnTo>
                  <a:pt x="186" y="231"/>
                </a:lnTo>
                <a:lnTo>
                  <a:pt x="186" y="215"/>
                </a:lnTo>
                <a:lnTo>
                  <a:pt x="188" y="206"/>
                </a:lnTo>
                <a:lnTo>
                  <a:pt x="188" y="187"/>
                </a:lnTo>
                <a:lnTo>
                  <a:pt x="189" y="177"/>
                </a:lnTo>
                <a:lnTo>
                  <a:pt x="189" y="118"/>
                </a:lnTo>
                <a:lnTo>
                  <a:pt x="191" y="105"/>
                </a:lnTo>
                <a:lnTo>
                  <a:pt x="191" y="45"/>
                </a:lnTo>
                <a:lnTo>
                  <a:pt x="184" y="45"/>
                </a:lnTo>
                <a:lnTo>
                  <a:pt x="184" y="105"/>
                </a:lnTo>
                <a:lnTo>
                  <a:pt x="182" y="118"/>
                </a:lnTo>
                <a:lnTo>
                  <a:pt x="182" y="177"/>
                </a:lnTo>
                <a:lnTo>
                  <a:pt x="181" y="187"/>
                </a:lnTo>
                <a:lnTo>
                  <a:pt x="181" y="206"/>
                </a:lnTo>
                <a:lnTo>
                  <a:pt x="179" y="215"/>
                </a:lnTo>
                <a:lnTo>
                  <a:pt x="179" y="231"/>
                </a:lnTo>
                <a:lnTo>
                  <a:pt x="177" y="238"/>
                </a:lnTo>
                <a:lnTo>
                  <a:pt x="177" y="252"/>
                </a:lnTo>
                <a:lnTo>
                  <a:pt x="175" y="257"/>
                </a:lnTo>
                <a:lnTo>
                  <a:pt x="175" y="261"/>
                </a:lnTo>
                <a:lnTo>
                  <a:pt x="174" y="267"/>
                </a:lnTo>
                <a:lnTo>
                  <a:pt x="174" y="271"/>
                </a:lnTo>
                <a:lnTo>
                  <a:pt x="170" y="278"/>
                </a:lnTo>
                <a:lnTo>
                  <a:pt x="170" y="280"/>
                </a:lnTo>
                <a:lnTo>
                  <a:pt x="167" y="284"/>
                </a:lnTo>
                <a:lnTo>
                  <a:pt x="168" y="284"/>
                </a:lnTo>
                <a:lnTo>
                  <a:pt x="168" y="286"/>
                </a:lnTo>
                <a:lnTo>
                  <a:pt x="165" y="280"/>
                </a:lnTo>
                <a:lnTo>
                  <a:pt x="163" y="276"/>
                </a:lnTo>
                <a:lnTo>
                  <a:pt x="161" y="271"/>
                </a:lnTo>
                <a:lnTo>
                  <a:pt x="158" y="263"/>
                </a:lnTo>
                <a:lnTo>
                  <a:pt x="156" y="257"/>
                </a:lnTo>
                <a:lnTo>
                  <a:pt x="155" y="246"/>
                </a:lnTo>
                <a:lnTo>
                  <a:pt x="151" y="236"/>
                </a:lnTo>
                <a:lnTo>
                  <a:pt x="149" y="227"/>
                </a:lnTo>
                <a:lnTo>
                  <a:pt x="146" y="217"/>
                </a:lnTo>
                <a:lnTo>
                  <a:pt x="144" y="206"/>
                </a:lnTo>
                <a:lnTo>
                  <a:pt x="137" y="183"/>
                </a:lnTo>
                <a:lnTo>
                  <a:pt x="135" y="170"/>
                </a:lnTo>
                <a:lnTo>
                  <a:pt x="132" y="158"/>
                </a:lnTo>
                <a:lnTo>
                  <a:pt x="130" y="145"/>
                </a:lnTo>
                <a:lnTo>
                  <a:pt x="127" y="131"/>
                </a:lnTo>
                <a:lnTo>
                  <a:pt x="125" y="120"/>
                </a:lnTo>
                <a:lnTo>
                  <a:pt x="121" y="107"/>
                </a:lnTo>
                <a:lnTo>
                  <a:pt x="118" y="84"/>
                </a:lnTo>
                <a:lnTo>
                  <a:pt x="115" y="72"/>
                </a:lnTo>
                <a:lnTo>
                  <a:pt x="113" y="61"/>
                </a:lnTo>
                <a:lnTo>
                  <a:pt x="111" y="49"/>
                </a:lnTo>
                <a:lnTo>
                  <a:pt x="108" y="40"/>
                </a:lnTo>
                <a:lnTo>
                  <a:pt x="106" y="32"/>
                </a:lnTo>
                <a:lnTo>
                  <a:pt x="104" y="23"/>
                </a:lnTo>
                <a:lnTo>
                  <a:pt x="99" y="5"/>
                </a:lnTo>
                <a:lnTo>
                  <a:pt x="97" y="3"/>
                </a:lnTo>
                <a:lnTo>
                  <a:pt x="95" y="0"/>
                </a:lnTo>
                <a:lnTo>
                  <a:pt x="95" y="2"/>
                </a:lnTo>
                <a:lnTo>
                  <a:pt x="94" y="0"/>
                </a:lnTo>
                <a:lnTo>
                  <a:pt x="90" y="0"/>
                </a:lnTo>
                <a:lnTo>
                  <a:pt x="87" y="3"/>
                </a:lnTo>
                <a:lnTo>
                  <a:pt x="87" y="9"/>
                </a:lnTo>
                <a:lnTo>
                  <a:pt x="85" y="15"/>
                </a:lnTo>
                <a:lnTo>
                  <a:pt x="85" y="26"/>
                </a:lnTo>
                <a:lnTo>
                  <a:pt x="83" y="34"/>
                </a:lnTo>
                <a:lnTo>
                  <a:pt x="83" y="51"/>
                </a:lnTo>
                <a:lnTo>
                  <a:pt x="81" y="61"/>
                </a:lnTo>
                <a:lnTo>
                  <a:pt x="81" y="91"/>
                </a:lnTo>
                <a:lnTo>
                  <a:pt x="80" y="103"/>
                </a:lnTo>
                <a:lnTo>
                  <a:pt x="80" y="158"/>
                </a:lnTo>
                <a:lnTo>
                  <a:pt x="78" y="168"/>
                </a:lnTo>
                <a:lnTo>
                  <a:pt x="78" y="219"/>
                </a:lnTo>
                <a:lnTo>
                  <a:pt x="76" y="225"/>
                </a:lnTo>
                <a:lnTo>
                  <a:pt x="76" y="238"/>
                </a:lnTo>
                <a:lnTo>
                  <a:pt x="76" y="236"/>
                </a:lnTo>
                <a:lnTo>
                  <a:pt x="80" y="234"/>
                </a:lnTo>
                <a:lnTo>
                  <a:pt x="81" y="236"/>
                </a:lnTo>
                <a:lnTo>
                  <a:pt x="80" y="232"/>
                </a:lnTo>
                <a:lnTo>
                  <a:pt x="78" y="232"/>
                </a:lnTo>
                <a:lnTo>
                  <a:pt x="78" y="229"/>
                </a:lnTo>
                <a:lnTo>
                  <a:pt x="76" y="223"/>
                </a:lnTo>
                <a:lnTo>
                  <a:pt x="73" y="211"/>
                </a:lnTo>
                <a:lnTo>
                  <a:pt x="66" y="183"/>
                </a:lnTo>
                <a:lnTo>
                  <a:pt x="64" y="173"/>
                </a:lnTo>
                <a:lnTo>
                  <a:pt x="62" y="166"/>
                </a:lnTo>
                <a:lnTo>
                  <a:pt x="54" y="118"/>
                </a:lnTo>
                <a:lnTo>
                  <a:pt x="54" y="108"/>
                </a:lnTo>
                <a:lnTo>
                  <a:pt x="52" y="99"/>
                </a:lnTo>
                <a:lnTo>
                  <a:pt x="50" y="91"/>
                </a:lnTo>
                <a:lnTo>
                  <a:pt x="48" y="82"/>
                </a:lnTo>
                <a:lnTo>
                  <a:pt x="45" y="65"/>
                </a:lnTo>
                <a:lnTo>
                  <a:pt x="43" y="59"/>
                </a:lnTo>
                <a:lnTo>
                  <a:pt x="41" y="51"/>
                </a:lnTo>
                <a:lnTo>
                  <a:pt x="40" y="47"/>
                </a:lnTo>
                <a:lnTo>
                  <a:pt x="40" y="44"/>
                </a:lnTo>
                <a:lnTo>
                  <a:pt x="36" y="34"/>
                </a:lnTo>
                <a:lnTo>
                  <a:pt x="33" y="32"/>
                </a:lnTo>
                <a:lnTo>
                  <a:pt x="33" y="30"/>
                </a:lnTo>
                <a:lnTo>
                  <a:pt x="31" y="30"/>
                </a:lnTo>
                <a:lnTo>
                  <a:pt x="28" y="32"/>
                </a:lnTo>
                <a:lnTo>
                  <a:pt x="24" y="36"/>
                </a:lnTo>
                <a:lnTo>
                  <a:pt x="24" y="42"/>
                </a:lnTo>
                <a:lnTo>
                  <a:pt x="22" y="47"/>
                </a:lnTo>
                <a:lnTo>
                  <a:pt x="22" y="53"/>
                </a:lnTo>
                <a:lnTo>
                  <a:pt x="21" y="61"/>
                </a:lnTo>
                <a:lnTo>
                  <a:pt x="21" y="68"/>
                </a:lnTo>
                <a:lnTo>
                  <a:pt x="19" y="76"/>
                </a:lnTo>
                <a:lnTo>
                  <a:pt x="19" y="86"/>
                </a:lnTo>
                <a:lnTo>
                  <a:pt x="17" y="95"/>
                </a:lnTo>
                <a:lnTo>
                  <a:pt x="17" y="105"/>
                </a:lnTo>
                <a:lnTo>
                  <a:pt x="15" y="114"/>
                </a:lnTo>
                <a:lnTo>
                  <a:pt x="15" y="135"/>
                </a:lnTo>
                <a:lnTo>
                  <a:pt x="14" y="145"/>
                </a:lnTo>
                <a:lnTo>
                  <a:pt x="14" y="164"/>
                </a:lnTo>
                <a:lnTo>
                  <a:pt x="12" y="173"/>
                </a:lnTo>
                <a:lnTo>
                  <a:pt x="12" y="190"/>
                </a:lnTo>
                <a:lnTo>
                  <a:pt x="10" y="198"/>
                </a:lnTo>
                <a:lnTo>
                  <a:pt x="10" y="210"/>
                </a:lnTo>
                <a:lnTo>
                  <a:pt x="8" y="213"/>
                </a:lnTo>
                <a:lnTo>
                  <a:pt x="10" y="217"/>
                </a:lnTo>
                <a:lnTo>
                  <a:pt x="12" y="217"/>
                </a:lnTo>
                <a:lnTo>
                  <a:pt x="14" y="206"/>
                </a:lnTo>
                <a:lnTo>
                  <a:pt x="12" y="196"/>
                </a:lnTo>
                <a:lnTo>
                  <a:pt x="12" y="183"/>
                </a:lnTo>
                <a:lnTo>
                  <a:pt x="10" y="170"/>
                </a:lnTo>
                <a:lnTo>
                  <a:pt x="8" y="152"/>
                </a:lnTo>
                <a:lnTo>
                  <a:pt x="8" y="133"/>
                </a:lnTo>
                <a:lnTo>
                  <a:pt x="7" y="112"/>
                </a:lnTo>
                <a:lnTo>
                  <a:pt x="7" y="65"/>
                </a:lnTo>
                <a:lnTo>
                  <a:pt x="5" y="40"/>
                </a:lnTo>
                <a:lnTo>
                  <a:pt x="0" y="6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06480" y="4675320"/>
            <a:ext cx="3181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23760" y="4443480"/>
            <a:ext cx="3171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14400" y="4170240"/>
            <a:ext cx="3197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23760" y="3867120"/>
            <a:ext cx="318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06480" y="5079960"/>
            <a:ext cx="3171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14400" y="4983120"/>
            <a:ext cx="3173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4400" y="4843440"/>
            <a:ext cx="3173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893880" y="3703320"/>
            <a:ext cx="0" cy="145404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18920" y="3457440"/>
            <a:ext cx="50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79520" y="5299200"/>
            <a:ext cx="25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11320" y="5119560"/>
            <a:ext cx="60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2995560" y="4997520"/>
            <a:ext cx="0" cy="13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011400" y="5014800"/>
            <a:ext cx="7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097080" y="485604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12920" y="4871880"/>
            <a:ext cx="9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219480" y="4677840"/>
            <a:ext cx="0" cy="204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235320" y="4691160"/>
            <a:ext cx="79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328920" y="4438440"/>
            <a:ext cx="0" cy="26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44760" y="4448160"/>
            <a:ext cx="93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452760" y="4140360"/>
            <a:ext cx="0" cy="31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468600" y="4157640"/>
            <a:ext cx="117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605040" y="3825360"/>
            <a:ext cx="0" cy="34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21240" y="3838680"/>
            <a:ext cx="117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89440" y="3616200"/>
            <a:ext cx="441324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0040" indent="-230040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n-uniform Quant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35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se more levels where there are more vari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35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se fewer levels where there are fewer vari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8880" y="2228760"/>
            <a:ext cx="127080" cy="514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873000" y="1538280"/>
            <a:ext cx="0" cy="130968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2158920" y="231768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306520" y="2065320"/>
            <a:ext cx="0" cy="2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79520" y="205596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79760" y="1820880"/>
            <a:ext cx="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548080" y="1825560"/>
            <a:ext cx="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22520" y="181620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612880" y="1827360"/>
            <a:ext cx="0" cy="12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B21-817E-46E3-A6CC-0036F0E7A94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02880" y="185760"/>
            <a:ext cx="7923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antization Error (uniform quantiz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811080" y="1814400"/>
            <a:ext cx="2874960" cy="862200"/>
          </a:xfrm>
          <a:custGeom>
            <a:avLst/>
            <a:gdLst/>
            <a:ahLst/>
            <a:rect l="l" t="t" r="r" b="b"/>
            <a:pathLst>
              <a:path w="1637" h="573">
                <a:moveTo>
                  <a:pt x="0" y="572"/>
                </a:moveTo>
                <a:lnTo>
                  <a:pt x="0" y="551"/>
                </a:lnTo>
                <a:lnTo>
                  <a:pt x="2" y="532"/>
                </a:lnTo>
                <a:lnTo>
                  <a:pt x="2" y="513"/>
                </a:lnTo>
                <a:lnTo>
                  <a:pt x="4" y="494"/>
                </a:lnTo>
                <a:lnTo>
                  <a:pt x="5" y="477"/>
                </a:lnTo>
                <a:lnTo>
                  <a:pt x="7" y="460"/>
                </a:lnTo>
                <a:lnTo>
                  <a:pt x="9" y="444"/>
                </a:lnTo>
                <a:lnTo>
                  <a:pt x="11" y="427"/>
                </a:lnTo>
                <a:lnTo>
                  <a:pt x="14" y="412"/>
                </a:lnTo>
                <a:lnTo>
                  <a:pt x="16" y="399"/>
                </a:lnTo>
                <a:lnTo>
                  <a:pt x="19" y="383"/>
                </a:lnTo>
                <a:lnTo>
                  <a:pt x="23" y="370"/>
                </a:lnTo>
                <a:lnTo>
                  <a:pt x="26" y="359"/>
                </a:lnTo>
                <a:lnTo>
                  <a:pt x="32" y="345"/>
                </a:lnTo>
                <a:lnTo>
                  <a:pt x="35" y="336"/>
                </a:lnTo>
                <a:lnTo>
                  <a:pt x="40" y="324"/>
                </a:lnTo>
                <a:lnTo>
                  <a:pt x="44" y="315"/>
                </a:lnTo>
                <a:lnTo>
                  <a:pt x="49" y="305"/>
                </a:lnTo>
                <a:lnTo>
                  <a:pt x="56" y="296"/>
                </a:lnTo>
                <a:lnTo>
                  <a:pt x="61" y="288"/>
                </a:lnTo>
                <a:lnTo>
                  <a:pt x="67" y="280"/>
                </a:lnTo>
                <a:lnTo>
                  <a:pt x="74" y="273"/>
                </a:lnTo>
                <a:lnTo>
                  <a:pt x="81" y="267"/>
                </a:lnTo>
                <a:lnTo>
                  <a:pt x="88" y="261"/>
                </a:lnTo>
                <a:lnTo>
                  <a:pt x="95" y="256"/>
                </a:lnTo>
                <a:lnTo>
                  <a:pt x="102" y="252"/>
                </a:lnTo>
                <a:lnTo>
                  <a:pt x="109" y="248"/>
                </a:lnTo>
                <a:lnTo>
                  <a:pt x="117" y="244"/>
                </a:lnTo>
                <a:lnTo>
                  <a:pt x="126" y="242"/>
                </a:lnTo>
                <a:lnTo>
                  <a:pt x="135" y="240"/>
                </a:lnTo>
                <a:lnTo>
                  <a:pt x="144" y="238"/>
                </a:lnTo>
                <a:lnTo>
                  <a:pt x="152" y="238"/>
                </a:lnTo>
                <a:lnTo>
                  <a:pt x="161" y="238"/>
                </a:lnTo>
                <a:lnTo>
                  <a:pt x="172" y="240"/>
                </a:lnTo>
                <a:lnTo>
                  <a:pt x="182" y="246"/>
                </a:lnTo>
                <a:lnTo>
                  <a:pt x="193" y="252"/>
                </a:lnTo>
                <a:lnTo>
                  <a:pt x="203" y="259"/>
                </a:lnTo>
                <a:lnTo>
                  <a:pt x="215" y="269"/>
                </a:lnTo>
                <a:lnTo>
                  <a:pt x="228" y="278"/>
                </a:lnTo>
                <a:lnTo>
                  <a:pt x="240" y="290"/>
                </a:lnTo>
                <a:lnTo>
                  <a:pt x="254" y="303"/>
                </a:lnTo>
                <a:lnTo>
                  <a:pt x="266" y="317"/>
                </a:lnTo>
                <a:lnTo>
                  <a:pt x="280" y="330"/>
                </a:lnTo>
                <a:lnTo>
                  <a:pt x="294" y="345"/>
                </a:lnTo>
                <a:lnTo>
                  <a:pt x="308" y="360"/>
                </a:lnTo>
                <a:lnTo>
                  <a:pt x="322" y="376"/>
                </a:lnTo>
                <a:lnTo>
                  <a:pt x="336" y="391"/>
                </a:lnTo>
                <a:lnTo>
                  <a:pt x="352" y="406"/>
                </a:lnTo>
                <a:lnTo>
                  <a:pt x="366" y="421"/>
                </a:lnTo>
                <a:lnTo>
                  <a:pt x="382" y="437"/>
                </a:lnTo>
                <a:lnTo>
                  <a:pt x="396" y="452"/>
                </a:lnTo>
                <a:lnTo>
                  <a:pt x="412" y="467"/>
                </a:lnTo>
                <a:lnTo>
                  <a:pt x="427" y="481"/>
                </a:lnTo>
                <a:lnTo>
                  <a:pt x="441" y="494"/>
                </a:lnTo>
                <a:lnTo>
                  <a:pt x="457" y="507"/>
                </a:lnTo>
                <a:lnTo>
                  <a:pt x="473" y="517"/>
                </a:lnTo>
                <a:lnTo>
                  <a:pt x="489" y="528"/>
                </a:lnTo>
                <a:lnTo>
                  <a:pt x="504" y="536"/>
                </a:lnTo>
                <a:lnTo>
                  <a:pt x="520" y="544"/>
                </a:lnTo>
                <a:lnTo>
                  <a:pt x="536" y="549"/>
                </a:lnTo>
                <a:lnTo>
                  <a:pt x="550" y="553"/>
                </a:lnTo>
                <a:lnTo>
                  <a:pt x="566" y="555"/>
                </a:lnTo>
                <a:lnTo>
                  <a:pt x="581" y="557"/>
                </a:lnTo>
                <a:lnTo>
                  <a:pt x="597" y="555"/>
                </a:lnTo>
                <a:lnTo>
                  <a:pt x="611" y="549"/>
                </a:lnTo>
                <a:lnTo>
                  <a:pt x="627" y="544"/>
                </a:lnTo>
                <a:lnTo>
                  <a:pt x="643" y="536"/>
                </a:lnTo>
                <a:lnTo>
                  <a:pt x="657" y="526"/>
                </a:lnTo>
                <a:lnTo>
                  <a:pt x="673" y="515"/>
                </a:lnTo>
                <a:lnTo>
                  <a:pt x="688" y="502"/>
                </a:lnTo>
                <a:lnTo>
                  <a:pt x="704" y="486"/>
                </a:lnTo>
                <a:lnTo>
                  <a:pt x="720" y="471"/>
                </a:lnTo>
                <a:lnTo>
                  <a:pt x="736" y="454"/>
                </a:lnTo>
                <a:lnTo>
                  <a:pt x="753" y="437"/>
                </a:lnTo>
                <a:lnTo>
                  <a:pt x="769" y="418"/>
                </a:lnTo>
                <a:lnTo>
                  <a:pt x="785" y="399"/>
                </a:lnTo>
                <a:lnTo>
                  <a:pt x="800" y="380"/>
                </a:lnTo>
                <a:lnTo>
                  <a:pt x="818" y="359"/>
                </a:lnTo>
                <a:lnTo>
                  <a:pt x="834" y="338"/>
                </a:lnTo>
                <a:lnTo>
                  <a:pt x="849" y="317"/>
                </a:lnTo>
                <a:lnTo>
                  <a:pt x="867" y="294"/>
                </a:lnTo>
                <a:lnTo>
                  <a:pt x="883" y="273"/>
                </a:lnTo>
                <a:lnTo>
                  <a:pt x="898" y="252"/>
                </a:lnTo>
                <a:lnTo>
                  <a:pt x="916" y="231"/>
                </a:lnTo>
                <a:lnTo>
                  <a:pt x="932" y="210"/>
                </a:lnTo>
                <a:lnTo>
                  <a:pt x="949" y="191"/>
                </a:lnTo>
                <a:lnTo>
                  <a:pt x="965" y="170"/>
                </a:lnTo>
                <a:lnTo>
                  <a:pt x="983" y="153"/>
                </a:lnTo>
                <a:lnTo>
                  <a:pt x="998" y="134"/>
                </a:lnTo>
                <a:lnTo>
                  <a:pt x="1014" y="116"/>
                </a:lnTo>
                <a:lnTo>
                  <a:pt x="1032" y="101"/>
                </a:lnTo>
                <a:lnTo>
                  <a:pt x="1047" y="88"/>
                </a:lnTo>
                <a:lnTo>
                  <a:pt x="1065" y="74"/>
                </a:lnTo>
                <a:lnTo>
                  <a:pt x="1081" y="63"/>
                </a:lnTo>
                <a:lnTo>
                  <a:pt x="1096" y="54"/>
                </a:lnTo>
                <a:lnTo>
                  <a:pt x="1114" y="46"/>
                </a:lnTo>
                <a:lnTo>
                  <a:pt x="1130" y="38"/>
                </a:lnTo>
                <a:lnTo>
                  <a:pt x="1147" y="33"/>
                </a:lnTo>
                <a:lnTo>
                  <a:pt x="1163" y="27"/>
                </a:lnTo>
                <a:lnTo>
                  <a:pt x="1179" y="21"/>
                </a:lnTo>
                <a:lnTo>
                  <a:pt x="1194" y="17"/>
                </a:lnTo>
                <a:lnTo>
                  <a:pt x="1212" y="13"/>
                </a:lnTo>
                <a:lnTo>
                  <a:pt x="1228" y="10"/>
                </a:lnTo>
                <a:lnTo>
                  <a:pt x="1243" y="6"/>
                </a:lnTo>
                <a:lnTo>
                  <a:pt x="1261" y="4"/>
                </a:lnTo>
                <a:lnTo>
                  <a:pt x="1277" y="2"/>
                </a:lnTo>
                <a:lnTo>
                  <a:pt x="1293" y="0"/>
                </a:lnTo>
                <a:lnTo>
                  <a:pt x="1308" y="0"/>
                </a:lnTo>
                <a:lnTo>
                  <a:pt x="1326" y="0"/>
                </a:lnTo>
                <a:lnTo>
                  <a:pt x="1342" y="0"/>
                </a:lnTo>
                <a:lnTo>
                  <a:pt x="1357" y="0"/>
                </a:lnTo>
                <a:lnTo>
                  <a:pt x="1375" y="2"/>
                </a:lnTo>
                <a:lnTo>
                  <a:pt x="1391" y="4"/>
                </a:lnTo>
                <a:lnTo>
                  <a:pt x="1406" y="6"/>
                </a:lnTo>
                <a:lnTo>
                  <a:pt x="1424" y="10"/>
                </a:lnTo>
                <a:lnTo>
                  <a:pt x="1440" y="13"/>
                </a:lnTo>
                <a:lnTo>
                  <a:pt x="1455" y="17"/>
                </a:lnTo>
                <a:lnTo>
                  <a:pt x="1473" y="23"/>
                </a:lnTo>
                <a:lnTo>
                  <a:pt x="1489" y="27"/>
                </a:lnTo>
                <a:lnTo>
                  <a:pt x="1504" y="33"/>
                </a:lnTo>
                <a:lnTo>
                  <a:pt x="1522" y="40"/>
                </a:lnTo>
                <a:lnTo>
                  <a:pt x="1538" y="46"/>
                </a:lnTo>
                <a:lnTo>
                  <a:pt x="1553" y="54"/>
                </a:lnTo>
                <a:lnTo>
                  <a:pt x="1571" y="61"/>
                </a:lnTo>
                <a:lnTo>
                  <a:pt x="1587" y="71"/>
                </a:lnTo>
                <a:lnTo>
                  <a:pt x="1602" y="80"/>
                </a:lnTo>
                <a:lnTo>
                  <a:pt x="1620" y="90"/>
                </a:lnTo>
                <a:lnTo>
                  <a:pt x="1636" y="99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80920" y="2833560"/>
            <a:ext cx="33181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85960" y="2571840"/>
            <a:ext cx="2493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90640" y="1814400"/>
            <a:ext cx="2494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90640" y="2055960"/>
            <a:ext cx="2494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90640" y="2314440"/>
            <a:ext cx="2494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49200" y="161604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355760" y="161604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22280" y="161604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282680" y="161604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96760" y="2058840"/>
            <a:ext cx="1800" cy="211320"/>
          </a:xfrm>
          <a:custGeom>
            <a:avLst/>
            <a:gdLst/>
            <a:ahLst/>
            <a:rect l="l" t="t" r="r" b="b"/>
            <a:pathLst>
              <a:path w="1" h="140">
                <a:moveTo>
                  <a:pt x="0" y="0"/>
                </a:moveTo>
                <a:lnTo>
                  <a:pt x="0" y="139"/>
                </a:lnTo>
                <a:lnTo>
                  <a:pt x="0" y="1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22320" y="2055960"/>
            <a:ext cx="1440" cy="179280"/>
          </a:xfrm>
          <a:custGeom>
            <a:avLst/>
            <a:gdLst/>
            <a:ahLst/>
            <a:rect l="l" t="t" r="r" b="b"/>
            <a:pathLst>
              <a:path w="1" h="119">
                <a:moveTo>
                  <a:pt x="0" y="0"/>
                </a:moveTo>
                <a:lnTo>
                  <a:pt x="0" y="118"/>
                </a:lnTo>
                <a:lnTo>
                  <a:pt x="0" y="1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54000" y="2063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87480" y="206064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017720" y="206388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49400" y="2063880"/>
            <a:ext cx="0" cy="10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085760" y="20638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19240" y="2063880"/>
            <a:ext cx="0" cy="10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158840" y="2063880"/>
            <a:ext cx="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92320" y="20638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220760" y="2063880"/>
            <a:ext cx="0" cy="16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57480" y="2066760"/>
            <a:ext cx="0" cy="1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290600" y="2063880"/>
            <a:ext cx="0" cy="22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339920" y="2322360"/>
            <a:ext cx="0" cy="1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84200" y="231948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414440" y="2322360"/>
            <a:ext cx="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49360" y="232236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482840" y="231948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15960" y="2328840"/>
            <a:ext cx="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547640" y="2322360"/>
            <a:ext cx="0" cy="2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81120" y="232884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14600" y="232884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650960" y="2579760"/>
            <a:ext cx="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28720" y="2585880"/>
            <a:ext cx="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768320" y="2587680"/>
            <a:ext cx="0" cy="5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795320" y="257976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832040" y="257976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860480" y="257976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892160" y="2579760"/>
            <a:ext cx="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25640" y="257976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90560" y="257976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59120" y="257976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2127240" y="231732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090880" y="2320560"/>
            <a:ext cx="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058840" y="2317320"/>
            <a:ext cx="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025720" y="232056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2198520" y="2314080"/>
            <a:ext cx="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2227320" y="23158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2260440" y="2308320"/>
            <a:ext cx="0" cy="3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38560" y="2060640"/>
            <a:ext cx="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76360" y="2057400"/>
            <a:ext cx="0" cy="1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413080" y="205092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448000" y="204948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2481120" y="2049480"/>
            <a:ext cx="0" cy="5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2644920" y="181440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685960" y="180936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722680" y="181296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2820960" y="1811160"/>
            <a:ext cx="0" cy="6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854440" y="18255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887560" y="1816200"/>
            <a:ext cx="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933640" y="1822320"/>
            <a:ext cx="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55800" y="182232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789280" y="1822320"/>
            <a:ext cx="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93720" y="1309680"/>
            <a:ext cx="50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079520" y="2943360"/>
            <a:ext cx="25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36840" y="1477800"/>
            <a:ext cx="2209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Quantization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58880" y="2228760"/>
            <a:ext cx="127080" cy="514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873000" y="1538280"/>
            <a:ext cx="0" cy="130968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2158920" y="231768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306520" y="2065320"/>
            <a:ext cx="0" cy="2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279520" y="205596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579760" y="1820880"/>
            <a:ext cx="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548080" y="1825560"/>
            <a:ext cx="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22520" y="181620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612880" y="1827360"/>
            <a:ext cx="0" cy="12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42900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83800" y="19803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086600" y="9907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562720" y="2438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943600" y="1523880"/>
            <a:ext cx="2209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086240" y="79128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95760" y="2513520"/>
            <a:ext cx="8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V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746480" y="2513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V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236880" y="22089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17280" y="2970720"/>
            <a:ext cx="352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ability density fun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a point in any int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050840" y="46782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914400" y="3962520"/>
                <a:ext cx="4876920" cy="20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an Square Error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V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ΔV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ΔV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ΔV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MS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ΔV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8559-5C74-4669-A095-2F46741CF13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22280" y="360360"/>
            <a:ext cx="900576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mp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1211400" y="1730520"/>
            <a:ext cx="2751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79920" y="1731960"/>
            <a:ext cx="345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71400" y="3108240"/>
            <a:ext cx="4232520" cy="392040"/>
          </a:xfrm>
          <a:custGeom>
            <a:avLst/>
            <a:gdLst/>
            <a:ahLst/>
            <a:rect l="l" t="t" r="r" b="b"/>
            <a:pathLst>
              <a:path w="2410" h="260">
                <a:moveTo>
                  <a:pt x="0" y="0"/>
                </a:moveTo>
                <a:lnTo>
                  <a:pt x="7" y="15"/>
                </a:lnTo>
                <a:lnTo>
                  <a:pt x="17" y="31"/>
                </a:lnTo>
                <a:lnTo>
                  <a:pt x="25" y="46"/>
                </a:lnTo>
                <a:lnTo>
                  <a:pt x="34" y="61"/>
                </a:lnTo>
                <a:lnTo>
                  <a:pt x="42" y="75"/>
                </a:lnTo>
                <a:lnTo>
                  <a:pt x="52" y="88"/>
                </a:lnTo>
                <a:lnTo>
                  <a:pt x="59" y="102"/>
                </a:lnTo>
                <a:lnTo>
                  <a:pt x="69" y="113"/>
                </a:lnTo>
                <a:lnTo>
                  <a:pt x="77" y="125"/>
                </a:lnTo>
                <a:lnTo>
                  <a:pt x="86" y="136"/>
                </a:lnTo>
                <a:lnTo>
                  <a:pt x="94" y="148"/>
                </a:lnTo>
                <a:lnTo>
                  <a:pt x="103" y="157"/>
                </a:lnTo>
                <a:lnTo>
                  <a:pt x="111" y="167"/>
                </a:lnTo>
                <a:lnTo>
                  <a:pt x="121" y="176"/>
                </a:lnTo>
                <a:lnTo>
                  <a:pt x="128" y="186"/>
                </a:lnTo>
                <a:lnTo>
                  <a:pt x="138" y="194"/>
                </a:lnTo>
                <a:lnTo>
                  <a:pt x="146" y="201"/>
                </a:lnTo>
                <a:lnTo>
                  <a:pt x="155" y="209"/>
                </a:lnTo>
                <a:lnTo>
                  <a:pt x="163" y="217"/>
                </a:lnTo>
                <a:lnTo>
                  <a:pt x="173" y="222"/>
                </a:lnTo>
                <a:lnTo>
                  <a:pt x="180" y="228"/>
                </a:lnTo>
                <a:lnTo>
                  <a:pt x="190" y="234"/>
                </a:lnTo>
                <a:lnTo>
                  <a:pt x="197" y="238"/>
                </a:lnTo>
                <a:lnTo>
                  <a:pt x="205" y="244"/>
                </a:lnTo>
                <a:lnTo>
                  <a:pt x="215" y="247"/>
                </a:lnTo>
                <a:lnTo>
                  <a:pt x="222" y="249"/>
                </a:lnTo>
                <a:lnTo>
                  <a:pt x="232" y="253"/>
                </a:lnTo>
                <a:lnTo>
                  <a:pt x="240" y="255"/>
                </a:lnTo>
                <a:lnTo>
                  <a:pt x="249" y="257"/>
                </a:lnTo>
                <a:lnTo>
                  <a:pt x="257" y="257"/>
                </a:lnTo>
                <a:lnTo>
                  <a:pt x="267" y="259"/>
                </a:lnTo>
                <a:lnTo>
                  <a:pt x="274" y="259"/>
                </a:lnTo>
                <a:lnTo>
                  <a:pt x="282" y="257"/>
                </a:lnTo>
                <a:lnTo>
                  <a:pt x="290" y="255"/>
                </a:lnTo>
                <a:lnTo>
                  <a:pt x="299" y="251"/>
                </a:lnTo>
                <a:lnTo>
                  <a:pt x="307" y="247"/>
                </a:lnTo>
                <a:lnTo>
                  <a:pt x="316" y="242"/>
                </a:lnTo>
                <a:lnTo>
                  <a:pt x="324" y="234"/>
                </a:lnTo>
                <a:lnTo>
                  <a:pt x="332" y="226"/>
                </a:lnTo>
                <a:lnTo>
                  <a:pt x="341" y="217"/>
                </a:lnTo>
                <a:lnTo>
                  <a:pt x="349" y="207"/>
                </a:lnTo>
                <a:lnTo>
                  <a:pt x="359" y="197"/>
                </a:lnTo>
                <a:lnTo>
                  <a:pt x="366" y="188"/>
                </a:lnTo>
                <a:lnTo>
                  <a:pt x="374" y="176"/>
                </a:lnTo>
                <a:lnTo>
                  <a:pt x="384" y="165"/>
                </a:lnTo>
                <a:lnTo>
                  <a:pt x="391" y="153"/>
                </a:lnTo>
                <a:lnTo>
                  <a:pt x="401" y="140"/>
                </a:lnTo>
                <a:lnTo>
                  <a:pt x="409" y="128"/>
                </a:lnTo>
                <a:lnTo>
                  <a:pt x="416" y="117"/>
                </a:lnTo>
                <a:lnTo>
                  <a:pt x="426" y="103"/>
                </a:lnTo>
                <a:lnTo>
                  <a:pt x="434" y="92"/>
                </a:lnTo>
                <a:lnTo>
                  <a:pt x="441" y="80"/>
                </a:lnTo>
                <a:lnTo>
                  <a:pt x="451" y="69"/>
                </a:lnTo>
                <a:lnTo>
                  <a:pt x="459" y="59"/>
                </a:lnTo>
                <a:lnTo>
                  <a:pt x="468" y="50"/>
                </a:lnTo>
                <a:lnTo>
                  <a:pt x="476" y="40"/>
                </a:lnTo>
                <a:lnTo>
                  <a:pt x="483" y="31"/>
                </a:lnTo>
                <a:lnTo>
                  <a:pt x="493" y="23"/>
                </a:lnTo>
                <a:lnTo>
                  <a:pt x="501" y="15"/>
                </a:lnTo>
                <a:lnTo>
                  <a:pt x="510" y="9"/>
                </a:lnTo>
                <a:lnTo>
                  <a:pt x="518" y="6"/>
                </a:lnTo>
                <a:lnTo>
                  <a:pt x="528" y="2"/>
                </a:lnTo>
                <a:lnTo>
                  <a:pt x="535" y="0"/>
                </a:lnTo>
                <a:lnTo>
                  <a:pt x="545" y="0"/>
                </a:lnTo>
                <a:lnTo>
                  <a:pt x="553" y="0"/>
                </a:lnTo>
                <a:lnTo>
                  <a:pt x="560" y="2"/>
                </a:lnTo>
                <a:lnTo>
                  <a:pt x="570" y="6"/>
                </a:lnTo>
                <a:lnTo>
                  <a:pt x="578" y="9"/>
                </a:lnTo>
                <a:lnTo>
                  <a:pt x="587" y="15"/>
                </a:lnTo>
                <a:lnTo>
                  <a:pt x="595" y="23"/>
                </a:lnTo>
                <a:lnTo>
                  <a:pt x="604" y="31"/>
                </a:lnTo>
                <a:lnTo>
                  <a:pt x="612" y="40"/>
                </a:lnTo>
                <a:lnTo>
                  <a:pt x="622" y="50"/>
                </a:lnTo>
                <a:lnTo>
                  <a:pt x="629" y="59"/>
                </a:lnTo>
                <a:lnTo>
                  <a:pt x="639" y="69"/>
                </a:lnTo>
                <a:lnTo>
                  <a:pt x="647" y="80"/>
                </a:lnTo>
                <a:lnTo>
                  <a:pt x="656" y="92"/>
                </a:lnTo>
                <a:lnTo>
                  <a:pt x="664" y="103"/>
                </a:lnTo>
                <a:lnTo>
                  <a:pt x="674" y="117"/>
                </a:lnTo>
                <a:lnTo>
                  <a:pt x="681" y="128"/>
                </a:lnTo>
                <a:lnTo>
                  <a:pt x="691" y="140"/>
                </a:lnTo>
                <a:lnTo>
                  <a:pt x="698" y="153"/>
                </a:lnTo>
                <a:lnTo>
                  <a:pt x="708" y="165"/>
                </a:lnTo>
                <a:lnTo>
                  <a:pt x="716" y="176"/>
                </a:lnTo>
                <a:lnTo>
                  <a:pt x="725" y="188"/>
                </a:lnTo>
                <a:lnTo>
                  <a:pt x="733" y="197"/>
                </a:lnTo>
                <a:lnTo>
                  <a:pt x="743" y="207"/>
                </a:lnTo>
                <a:lnTo>
                  <a:pt x="752" y="217"/>
                </a:lnTo>
                <a:lnTo>
                  <a:pt x="760" y="226"/>
                </a:lnTo>
                <a:lnTo>
                  <a:pt x="769" y="234"/>
                </a:lnTo>
                <a:lnTo>
                  <a:pt x="777" y="242"/>
                </a:lnTo>
                <a:lnTo>
                  <a:pt x="787" y="247"/>
                </a:lnTo>
                <a:lnTo>
                  <a:pt x="794" y="251"/>
                </a:lnTo>
                <a:lnTo>
                  <a:pt x="804" y="255"/>
                </a:lnTo>
                <a:lnTo>
                  <a:pt x="812" y="257"/>
                </a:lnTo>
                <a:lnTo>
                  <a:pt x="821" y="259"/>
                </a:lnTo>
                <a:lnTo>
                  <a:pt x="829" y="257"/>
                </a:lnTo>
                <a:lnTo>
                  <a:pt x="837" y="255"/>
                </a:lnTo>
                <a:lnTo>
                  <a:pt x="846" y="251"/>
                </a:lnTo>
                <a:lnTo>
                  <a:pt x="854" y="247"/>
                </a:lnTo>
                <a:lnTo>
                  <a:pt x="864" y="242"/>
                </a:lnTo>
                <a:lnTo>
                  <a:pt x="871" y="234"/>
                </a:lnTo>
                <a:lnTo>
                  <a:pt x="881" y="226"/>
                </a:lnTo>
                <a:lnTo>
                  <a:pt x="889" y="217"/>
                </a:lnTo>
                <a:lnTo>
                  <a:pt x="898" y="207"/>
                </a:lnTo>
                <a:lnTo>
                  <a:pt x="906" y="197"/>
                </a:lnTo>
                <a:lnTo>
                  <a:pt x="915" y="188"/>
                </a:lnTo>
                <a:lnTo>
                  <a:pt x="923" y="176"/>
                </a:lnTo>
                <a:lnTo>
                  <a:pt x="933" y="165"/>
                </a:lnTo>
                <a:lnTo>
                  <a:pt x="940" y="153"/>
                </a:lnTo>
                <a:lnTo>
                  <a:pt x="950" y="140"/>
                </a:lnTo>
                <a:lnTo>
                  <a:pt x="958" y="128"/>
                </a:lnTo>
                <a:lnTo>
                  <a:pt x="967" y="117"/>
                </a:lnTo>
                <a:lnTo>
                  <a:pt x="975" y="103"/>
                </a:lnTo>
                <a:lnTo>
                  <a:pt x="984" y="92"/>
                </a:lnTo>
                <a:lnTo>
                  <a:pt x="992" y="80"/>
                </a:lnTo>
                <a:lnTo>
                  <a:pt x="1002" y="69"/>
                </a:lnTo>
                <a:lnTo>
                  <a:pt x="1009" y="59"/>
                </a:lnTo>
                <a:lnTo>
                  <a:pt x="1019" y="50"/>
                </a:lnTo>
                <a:lnTo>
                  <a:pt x="1027" y="40"/>
                </a:lnTo>
                <a:lnTo>
                  <a:pt x="1036" y="31"/>
                </a:lnTo>
                <a:lnTo>
                  <a:pt x="1044" y="23"/>
                </a:lnTo>
                <a:lnTo>
                  <a:pt x="1052" y="15"/>
                </a:lnTo>
                <a:lnTo>
                  <a:pt x="1061" y="9"/>
                </a:lnTo>
                <a:lnTo>
                  <a:pt x="1069" y="6"/>
                </a:lnTo>
                <a:lnTo>
                  <a:pt x="1079" y="2"/>
                </a:lnTo>
                <a:lnTo>
                  <a:pt x="1086" y="0"/>
                </a:lnTo>
                <a:lnTo>
                  <a:pt x="1096" y="0"/>
                </a:lnTo>
                <a:lnTo>
                  <a:pt x="1103" y="0"/>
                </a:lnTo>
                <a:lnTo>
                  <a:pt x="1111" y="2"/>
                </a:lnTo>
                <a:lnTo>
                  <a:pt x="1121" y="6"/>
                </a:lnTo>
                <a:lnTo>
                  <a:pt x="1128" y="9"/>
                </a:lnTo>
                <a:lnTo>
                  <a:pt x="1136" y="15"/>
                </a:lnTo>
                <a:lnTo>
                  <a:pt x="1146" y="23"/>
                </a:lnTo>
                <a:lnTo>
                  <a:pt x="1153" y="31"/>
                </a:lnTo>
                <a:lnTo>
                  <a:pt x="1161" y="40"/>
                </a:lnTo>
                <a:lnTo>
                  <a:pt x="1171" y="50"/>
                </a:lnTo>
                <a:lnTo>
                  <a:pt x="1178" y="59"/>
                </a:lnTo>
                <a:lnTo>
                  <a:pt x="1186" y="69"/>
                </a:lnTo>
                <a:lnTo>
                  <a:pt x="1194" y="80"/>
                </a:lnTo>
                <a:lnTo>
                  <a:pt x="1203" y="92"/>
                </a:lnTo>
                <a:lnTo>
                  <a:pt x="1211" y="103"/>
                </a:lnTo>
                <a:lnTo>
                  <a:pt x="1219" y="117"/>
                </a:lnTo>
                <a:lnTo>
                  <a:pt x="1228" y="128"/>
                </a:lnTo>
                <a:lnTo>
                  <a:pt x="1236" y="140"/>
                </a:lnTo>
                <a:lnTo>
                  <a:pt x="1244" y="153"/>
                </a:lnTo>
                <a:lnTo>
                  <a:pt x="1251" y="165"/>
                </a:lnTo>
                <a:lnTo>
                  <a:pt x="1261" y="176"/>
                </a:lnTo>
                <a:lnTo>
                  <a:pt x="1269" y="188"/>
                </a:lnTo>
                <a:lnTo>
                  <a:pt x="1276" y="197"/>
                </a:lnTo>
                <a:lnTo>
                  <a:pt x="1284" y="207"/>
                </a:lnTo>
                <a:lnTo>
                  <a:pt x="1294" y="217"/>
                </a:lnTo>
                <a:lnTo>
                  <a:pt x="1301" y="226"/>
                </a:lnTo>
                <a:lnTo>
                  <a:pt x="1309" y="234"/>
                </a:lnTo>
                <a:lnTo>
                  <a:pt x="1318" y="242"/>
                </a:lnTo>
                <a:lnTo>
                  <a:pt x="1326" y="247"/>
                </a:lnTo>
                <a:lnTo>
                  <a:pt x="1334" y="251"/>
                </a:lnTo>
                <a:lnTo>
                  <a:pt x="1343" y="255"/>
                </a:lnTo>
                <a:lnTo>
                  <a:pt x="1351" y="257"/>
                </a:lnTo>
                <a:lnTo>
                  <a:pt x="1361" y="259"/>
                </a:lnTo>
                <a:lnTo>
                  <a:pt x="1368" y="257"/>
                </a:lnTo>
                <a:lnTo>
                  <a:pt x="1376" y="255"/>
                </a:lnTo>
                <a:lnTo>
                  <a:pt x="1386" y="251"/>
                </a:lnTo>
                <a:lnTo>
                  <a:pt x="1393" y="247"/>
                </a:lnTo>
                <a:lnTo>
                  <a:pt x="1403" y="242"/>
                </a:lnTo>
                <a:lnTo>
                  <a:pt x="1411" y="234"/>
                </a:lnTo>
                <a:lnTo>
                  <a:pt x="1418" y="226"/>
                </a:lnTo>
                <a:lnTo>
                  <a:pt x="1428" y="217"/>
                </a:lnTo>
                <a:lnTo>
                  <a:pt x="1436" y="207"/>
                </a:lnTo>
                <a:lnTo>
                  <a:pt x="1445" y="197"/>
                </a:lnTo>
                <a:lnTo>
                  <a:pt x="1453" y="188"/>
                </a:lnTo>
                <a:lnTo>
                  <a:pt x="1462" y="176"/>
                </a:lnTo>
                <a:lnTo>
                  <a:pt x="1470" y="165"/>
                </a:lnTo>
                <a:lnTo>
                  <a:pt x="1480" y="153"/>
                </a:lnTo>
                <a:lnTo>
                  <a:pt x="1487" y="140"/>
                </a:lnTo>
                <a:lnTo>
                  <a:pt x="1497" y="128"/>
                </a:lnTo>
                <a:lnTo>
                  <a:pt x="1505" y="117"/>
                </a:lnTo>
                <a:lnTo>
                  <a:pt x="1514" y="103"/>
                </a:lnTo>
                <a:lnTo>
                  <a:pt x="1522" y="92"/>
                </a:lnTo>
                <a:lnTo>
                  <a:pt x="1532" y="80"/>
                </a:lnTo>
                <a:lnTo>
                  <a:pt x="1539" y="69"/>
                </a:lnTo>
                <a:lnTo>
                  <a:pt x="1549" y="59"/>
                </a:lnTo>
                <a:lnTo>
                  <a:pt x="1556" y="50"/>
                </a:lnTo>
                <a:lnTo>
                  <a:pt x="1566" y="40"/>
                </a:lnTo>
                <a:lnTo>
                  <a:pt x="1574" y="31"/>
                </a:lnTo>
                <a:lnTo>
                  <a:pt x="1583" y="23"/>
                </a:lnTo>
                <a:lnTo>
                  <a:pt x="1591" y="15"/>
                </a:lnTo>
                <a:lnTo>
                  <a:pt x="1601" y="9"/>
                </a:lnTo>
                <a:lnTo>
                  <a:pt x="1608" y="6"/>
                </a:lnTo>
                <a:lnTo>
                  <a:pt x="1618" y="2"/>
                </a:lnTo>
                <a:lnTo>
                  <a:pt x="1626" y="0"/>
                </a:lnTo>
                <a:lnTo>
                  <a:pt x="1635" y="0"/>
                </a:lnTo>
                <a:lnTo>
                  <a:pt x="1643" y="0"/>
                </a:lnTo>
                <a:lnTo>
                  <a:pt x="1651" y="2"/>
                </a:lnTo>
                <a:lnTo>
                  <a:pt x="1660" y="6"/>
                </a:lnTo>
                <a:lnTo>
                  <a:pt x="1668" y="9"/>
                </a:lnTo>
                <a:lnTo>
                  <a:pt x="1677" y="15"/>
                </a:lnTo>
                <a:lnTo>
                  <a:pt x="1685" y="23"/>
                </a:lnTo>
                <a:lnTo>
                  <a:pt x="1693" y="31"/>
                </a:lnTo>
                <a:lnTo>
                  <a:pt x="1702" y="40"/>
                </a:lnTo>
                <a:lnTo>
                  <a:pt x="1710" y="50"/>
                </a:lnTo>
                <a:lnTo>
                  <a:pt x="1720" y="59"/>
                </a:lnTo>
                <a:lnTo>
                  <a:pt x="1727" y="69"/>
                </a:lnTo>
                <a:lnTo>
                  <a:pt x="1735" y="80"/>
                </a:lnTo>
                <a:lnTo>
                  <a:pt x="1745" y="92"/>
                </a:lnTo>
                <a:lnTo>
                  <a:pt x="1752" y="103"/>
                </a:lnTo>
                <a:lnTo>
                  <a:pt x="1762" y="117"/>
                </a:lnTo>
                <a:lnTo>
                  <a:pt x="1770" y="128"/>
                </a:lnTo>
                <a:lnTo>
                  <a:pt x="1777" y="140"/>
                </a:lnTo>
                <a:lnTo>
                  <a:pt x="1787" y="153"/>
                </a:lnTo>
                <a:lnTo>
                  <a:pt x="1795" y="165"/>
                </a:lnTo>
                <a:lnTo>
                  <a:pt x="1802" y="176"/>
                </a:lnTo>
                <a:lnTo>
                  <a:pt x="1812" y="188"/>
                </a:lnTo>
                <a:lnTo>
                  <a:pt x="1819" y="197"/>
                </a:lnTo>
                <a:lnTo>
                  <a:pt x="1829" y="207"/>
                </a:lnTo>
                <a:lnTo>
                  <a:pt x="1837" y="217"/>
                </a:lnTo>
                <a:lnTo>
                  <a:pt x="1844" y="226"/>
                </a:lnTo>
                <a:lnTo>
                  <a:pt x="1854" y="234"/>
                </a:lnTo>
                <a:lnTo>
                  <a:pt x="1862" y="242"/>
                </a:lnTo>
                <a:lnTo>
                  <a:pt x="1871" y="247"/>
                </a:lnTo>
                <a:lnTo>
                  <a:pt x="1879" y="251"/>
                </a:lnTo>
                <a:lnTo>
                  <a:pt x="1889" y="255"/>
                </a:lnTo>
                <a:lnTo>
                  <a:pt x="1896" y="257"/>
                </a:lnTo>
                <a:lnTo>
                  <a:pt x="1906" y="259"/>
                </a:lnTo>
                <a:lnTo>
                  <a:pt x="1914" y="257"/>
                </a:lnTo>
                <a:lnTo>
                  <a:pt x="1921" y="255"/>
                </a:lnTo>
                <a:lnTo>
                  <a:pt x="1931" y="251"/>
                </a:lnTo>
                <a:lnTo>
                  <a:pt x="1940" y="247"/>
                </a:lnTo>
                <a:lnTo>
                  <a:pt x="1948" y="242"/>
                </a:lnTo>
                <a:lnTo>
                  <a:pt x="1958" y="234"/>
                </a:lnTo>
                <a:lnTo>
                  <a:pt x="1965" y="226"/>
                </a:lnTo>
                <a:lnTo>
                  <a:pt x="1975" y="217"/>
                </a:lnTo>
                <a:lnTo>
                  <a:pt x="1985" y="207"/>
                </a:lnTo>
                <a:lnTo>
                  <a:pt x="1992" y="197"/>
                </a:lnTo>
                <a:lnTo>
                  <a:pt x="2002" y="188"/>
                </a:lnTo>
                <a:lnTo>
                  <a:pt x="2010" y="176"/>
                </a:lnTo>
                <a:lnTo>
                  <a:pt x="2019" y="165"/>
                </a:lnTo>
                <a:lnTo>
                  <a:pt x="2029" y="153"/>
                </a:lnTo>
                <a:lnTo>
                  <a:pt x="2036" y="140"/>
                </a:lnTo>
                <a:lnTo>
                  <a:pt x="2046" y="128"/>
                </a:lnTo>
                <a:lnTo>
                  <a:pt x="2056" y="117"/>
                </a:lnTo>
                <a:lnTo>
                  <a:pt x="2063" y="103"/>
                </a:lnTo>
                <a:lnTo>
                  <a:pt x="2073" y="92"/>
                </a:lnTo>
                <a:lnTo>
                  <a:pt x="2081" y="80"/>
                </a:lnTo>
                <a:lnTo>
                  <a:pt x="2090" y="69"/>
                </a:lnTo>
                <a:lnTo>
                  <a:pt x="2098" y="59"/>
                </a:lnTo>
                <a:lnTo>
                  <a:pt x="2107" y="50"/>
                </a:lnTo>
                <a:lnTo>
                  <a:pt x="2115" y="40"/>
                </a:lnTo>
                <a:lnTo>
                  <a:pt x="2125" y="31"/>
                </a:lnTo>
                <a:lnTo>
                  <a:pt x="2132" y="23"/>
                </a:lnTo>
                <a:lnTo>
                  <a:pt x="2140" y="15"/>
                </a:lnTo>
                <a:lnTo>
                  <a:pt x="2150" y="9"/>
                </a:lnTo>
                <a:lnTo>
                  <a:pt x="2157" y="6"/>
                </a:lnTo>
                <a:lnTo>
                  <a:pt x="2165" y="2"/>
                </a:lnTo>
                <a:lnTo>
                  <a:pt x="2173" y="0"/>
                </a:lnTo>
                <a:lnTo>
                  <a:pt x="2182" y="0"/>
                </a:lnTo>
                <a:lnTo>
                  <a:pt x="2190" y="0"/>
                </a:lnTo>
                <a:lnTo>
                  <a:pt x="2198" y="2"/>
                </a:lnTo>
                <a:lnTo>
                  <a:pt x="2205" y="2"/>
                </a:lnTo>
                <a:lnTo>
                  <a:pt x="2213" y="4"/>
                </a:lnTo>
                <a:lnTo>
                  <a:pt x="2221" y="6"/>
                </a:lnTo>
                <a:lnTo>
                  <a:pt x="2228" y="9"/>
                </a:lnTo>
                <a:lnTo>
                  <a:pt x="2236" y="11"/>
                </a:lnTo>
                <a:lnTo>
                  <a:pt x="2244" y="15"/>
                </a:lnTo>
                <a:lnTo>
                  <a:pt x="2251" y="21"/>
                </a:lnTo>
                <a:lnTo>
                  <a:pt x="2259" y="25"/>
                </a:lnTo>
                <a:lnTo>
                  <a:pt x="2265" y="31"/>
                </a:lnTo>
                <a:lnTo>
                  <a:pt x="2272" y="36"/>
                </a:lnTo>
                <a:lnTo>
                  <a:pt x="2280" y="42"/>
                </a:lnTo>
                <a:lnTo>
                  <a:pt x="2288" y="50"/>
                </a:lnTo>
                <a:lnTo>
                  <a:pt x="2296" y="57"/>
                </a:lnTo>
                <a:lnTo>
                  <a:pt x="2301" y="65"/>
                </a:lnTo>
                <a:lnTo>
                  <a:pt x="2309" y="73"/>
                </a:lnTo>
                <a:lnTo>
                  <a:pt x="2317" y="82"/>
                </a:lnTo>
                <a:lnTo>
                  <a:pt x="2322" y="92"/>
                </a:lnTo>
                <a:lnTo>
                  <a:pt x="2330" y="102"/>
                </a:lnTo>
                <a:lnTo>
                  <a:pt x="2336" y="111"/>
                </a:lnTo>
                <a:lnTo>
                  <a:pt x="2344" y="123"/>
                </a:lnTo>
                <a:lnTo>
                  <a:pt x="2349" y="134"/>
                </a:lnTo>
                <a:lnTo>
                  <a:pt x="2357" y="146"/>
                </a:lnTo>
                <a:lnTo>
                  <a:pt x="2363" y="157"/>
                </a:lnTo>
                <a:lnTo>
                  <a:pt x="2370" y="171"/>
                </a:lnTo>
                <a:lnTo>
                  <a:pt x="2376" y="184"/>
                </a:lnTo>
                <a:lnTo>
                  <a:pt x="2384" y="197"/>
                </a:lnTo>
                <a:lnTo>
                  <a:pt x="2390" y="213"/>
                </a:lnTo>
                <a:lnTo>
                  <a:pt x="2395" y="228"/>
                </a:lnTo>
                <a:lnTo>
                  <a:pt x="2403" y="244"/>
                </a:lnTo>
                <a:lnTo>
                  <a:pt x="2409" y="2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60240" y="3027240"/>
            <a:ext cx="489240" cy="4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513320" y="3100320"/>
            <a:ext cx="458640" cy="4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44440" y="3306600"/>
            <a:ext cx="37134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28600" y="2897280"/>
            <a:ext cx="0" cy="796680"/>
          </a:xfrm>
          <a:prstGeom prst="line">
            <a:avLst/>
          </a:prstGeom>
          <a:ln w="64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7960" y="2671920"/>
            <a:ext cx="1225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22160" y="3351240"/>
            <a:ext cx="623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494400" y="2511360"/>
            <a:ext cx="0" cy="76680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6827760" y="2914560"/>
            <a:ext cx="0" cy="36360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457960" y="3273480"/>
            <a:ext cx="20764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367040" y="3306600"/>
            <a:ext cx="1243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914080" y="2244600"/>
            <a:ext cx="1225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6477120" y="4298760"/>
            <a:ext cx="0" cy="76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7108920" y="4700520"/>
            <a:ext cx="0" cy="36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5443560" y="5070600"/>
            <a:ext cx="2077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898240" y="4022640"/>
            <a:ext cx="1225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426080" y="5094360"/>
            <a:ext cx="1243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80920" y="4886280"/>
            <a:ext cx="3589560" cy="395280"/>
          </a:xfrm>
          <a:custGeom>
            <a:avLst/>
            <a:gdLst/>
            <a:ahLst/>
            <a:rect l="l" t="t" r="r" b="b"/>
            <a:pathLst>
              <a:path w="2043" h="263">
                <a:moveTo>
                  <a:pt x="0" y="0"/>
                </a:moveTo>
                <a:lnTo>
                  <a:pt x="4" y="15"/>
                </a:lnTo>
                <a:lnTo>
                  <a:pt x="10" y="32"/>
                </a:lnTo>
                <a:lnTo>
                  <a:pt x="14" y="47"/>
                </a:lnTo>
                <a:lnTo>
                  <a:pt x="17" y="61"/>
                </a:lnTo>
                <a:lnTo>
                  <a:pt x="23" y="76"/>
                </a:lnTo>
                <a:lnTo>
                  <a:pt x="27" y="89"/>
                </a:lnTo>
                <a:lnTo>
                  <a:pt x="31" y="102"/>
                </a:lnTo>
                <a:lnTo>
                  <a:pt x="37" y="114"/>
                </a:lnTo>
                <a:lnTo>
                  <a:pt x="40" y="125"/>
                </a:lnTo>
                <a:lnTo>
                  <a:pt x="44" y="137"/>
                </a:lnTo>
                <a:lnTo>
                  <a:pt x="48" y="148"/>
                </a:lnTo>
                <a:lnTo>
                  <a:pt x="54" y="159"/>
                </a:lnTo>
                <a:lnTo>
                  <a:pt x="58" y="169"/>
                </a:lnTo>
                <a:lnTo>
                  <a:pt x="61" y="178"/>
                </a:lnTo>
                <a:lnTo>
                  <a:pt x="67" y="188"/>
                </a:lnTo>
                <a:lnTo>
                  <a:pt x="71" y="195"/>
                </a:lnTo>
                <a:lnTo>
                  <a:pt x="75" y="203"/>
                </a:lnTo>
                <a:lnTo>
                  <a:pt x="79" y="211"/>
                </a:lnTo>
                <a:lnTo>
                  <a:pt x="84" y="218"/>
                </a:lnTo>
                <a:lnTo>
                  <a:pt x="88" y="224"/>
                </a:lnTo>
                <a:lnTo>
                  <a:pt x="92" y="230"/>
                </a:lnTo>
                <a:lnTo>
                  <a:pt x="98" y="235"/>
                </a:lnTo>
                <a:lnTo>
                  <a:pt x="102" y="241"/>
                </a:lnTo>
                <a:lnTo>
                  <a:pt x="105" y="245"/>
                </a:lnTo>
                <a:lnTo>
                  <a:pt x="109" y="249"/>
                </a:lnTo>
                <a:lnTo>
                  <a:pt x="115" y="252"/>
                </a:lnTo>
                <a:lnTo>
                  <a:pt x="119" y="254"/>
                </a:lnTo>
                <a:lnTo>
                  <a:pt x="123" y="258"/>
                </a:lnTo>
                <a:lnTo>
                  <a:pt x="127" y="260"/>
                </a:lnTo>
                <a:lnTo>
                  <a:pt x="132" y="260"/>
                </a:lnTo>
                <a:lnTo>
                  <a:pt x="136" y="262"/>
                </a:lnTo>
                <a:lnTo>
                  <a:pt x="140" y="262"/>
                </a:lnTo>
                <a:lnTo>
                  <a:pt x="144" y="260"/>
                </a:lnTo>
                <a:lnTo>
                  <a:pt x="148" y="258"/>
                </a:lnTo>
                <a:lnTo>
                  <a:pt x="151" y="254"/>
                </a:lnTo>
                <a:lnTo>
                  <a:pt x="155" y="251"/>
                </a:lnTo>
                <a:lnTo>
                  <a:pt x="161" y="245"/>
                </a:lnTo>
                <a:lnTo>
                  <a:pt x="165" y="237"/>
                </a:lnTo>
                <a:lnTo>
                  <a:pt x="169" y="230"/>
                </a:lnTo>
                <a:lnTo>
                  <a:pt x="172" y="222"/>
                </a:lnTo>
                <a:lnTo>
                  <a:pt x="176" y="213"/>
                </a:lnTo>
                <a:lnTo>
                  <a:pt x="182" y="201"/>
                </a:lnTo>
                <a:lnTo>
                  <a:pt x="186" y="192"/>
                </a:lnTo>
                <a:lnTo>
                  <a:pt x="190" y="180"/>
                </a:lnTo>
                <a:lnTo>
                  <a:pt x="194" y="169"/>
                </a:lnTo>
                <a:lnTo>
                  <a:pt x="197" y="158"/>
                </a:lnTo>
                <a:lnTo>
                  <a:pt x="201" y="146"/>
                </a:lnTo>
                <a:lnTo>
                  <a:pt x="207" y="133"/>
                </a:lnTo>
                <a:lnTo>
                  <a:pt x="211" y="121"/>
                </a:lnTo>
                <a:lnTo>
                  <a:pt x="215" y="110"/>
                </a:lnTo>
                <a:lnTo>
                  <a:pt x="218" y="97"/>
                </a:lnTo>
                <a:lnTo>
                  <a:pt x="222" y="85"/>
                </a:lnTo>
                <a:lnTo>
                  <a:pt x="226" y="76"/>
                </a:lnTo>
                <a:lnTo>
                  <a:pt x="232" y="65"/>
                </a:lnTo>
                <a:lnTo>
                  <a:pt x="236" y="55"/>
                </a:lnTo>
                <a:lnTo>
                  <a:pt x="240" y="46"/>
                </a:lnTo>
                <a:lnTo>
                  <a:pt x="243" y="36"/>
                </a:lnTo>
                <a:lnTo>
                  <a:pt x="247" y="28"/>
                </a:lnTo>
                <a:lnTo>
                  <a:pt x="253" y="21"/>
                </a:lnTo>
                <a:lnTo>
                  <a:pt x="257" y="15"/>
                </a:lnTo>
                <a:lnTo>
                  <a:pt x="261" y="11"/>
                </a:lnTo>
                <a:lnTo>
                  <a:pt x="264" y="8"/>
                </a:lnTo>
                <a:lnTo>
                  <a:pt x="268" y="6"/>
                </a:lnTo>
                <a:lnTo>
                  <a:pt x="274" y="6"/>
                </a:lnTo>
                <a:lnTo>
                  <a:pt x="278" y="6"/>
                </a:lnTo>
                <a:lnTo>
                  <a:pt x="282" y="8"/>
                </a:lnTo>
                <a:lnTo>
                  <a:pt x="285" y="11"/>
                </a:lnTo>
                <a:lnTo>
                  <a:pt x="289" y="15"/>
                </a:lnTo>
                <a:lnTo>
                  <a:pt x="295" y="21"/>
                </a:lnTo>
                <a:lnTo>
                  <a:pt x="299" y="28"/>
                </a:lnTo>
                <a:lnTo>
                  <a:pt x="303" y="36"/>
                </a:lnTo>
                <a:lnTo>
                  <a:pt x="307" y="46"/>
                </a:lnTo>
                <a:lnTo>
                  <a:pt x="310" y="55"/>
                </a:lnTo>
                <a:lnTo>
                  <a:pt x="316" y="65"/>
                </a:lnTo>
                <a:lnTo>
                  <a:pt x="320" y="74"/>
                </a:lnTo>
                <a:lnTo>
                  <a:pt x="324" y="85"/>
                </a:lnTo>
                <a:lnTo>
                  <a:pt x="328" y="97"/>
                </a:lnTo>
                <a:lnTo>
                  <a:pt x="333" y="108"/>
                </a:lnTo>
                <a:lnTo>
                  <a:pt x="337" y="121"/>
                </a:lnTo>
                <a:lnTo>
                  <a:pt x="341" y="133"/>
                </a:lnTo>
                <a:lnTo>
                  <a:pt x="345" y="144"/>
                </a:lnTo>
                <a:lnTo>
                  <a:pt x="349" y="158"/>
                </a:lnTo>
                <a:lnTo>
                  <a:pt x="354" y="169"/>
                </a:lnTo>
                <a:lnTo>
                  <a:pt x="358" y="180"/>
                </a:lnTo>
                <a:lnTo>
                  <a:pt x="362" y="192"/>
                </a:lnTo>
                <a:lnTo>
                  <a:pt x="366" y="201"/>
                </a:lnTo>
                <a:lnTo>
                  <a:pt x="372" y="211"/>
                </a:lnTo>
                <a:lnTo>
                  <a:pt x="376" y="220"/>
                </a:lnTo>
                <a:lnTo>
                  <a:pt x="379" y="230"/>
                </a:lnTo>
                <a:lnTo>
                  <a:pt x="383" y="237"/>
                </a:lnTo>
                <a:lnTo>
                  <a:pt x="387" y="245"/>
                </a:lnTo>
                <a:lnTo>
                  <a:pt x="393" y="251"/>
                </a:lnTo>
                <a:lnTo>
                  <a:pt x="397" y="254"/>
                </a:lnTo>
                <a:lnTo>
                  <a:pt x="400" y="258"/>
                </a:lnTo>
                <a:lnTo>
                  <a:pt x="404" y="260"/>
                </a:lnTo>
                <a:lnTo>
                  <a:pt x="410" y="262"/>
                </a:lnTo>
                <a:lnTo>
                  <a:pt x="414" y="260"/>
                </a:lnTo>
                <a:lnTo>
                  <a:pt x="418" y="258"/>
                </a:lnTo>
                <a:lnTo>
                  <a:pt x="421" y="254"/>
                </a:lnTo>
                <a:lnTo>
                  <a:pt x="425" y="251"/>
                </a:lnTo>
                <a:lnTo>
                  <a:pt x="429" y="245"/>
                </a:lnTo>
                <a:lnTo>
                  <a:pt x="435" y="237"/>
                </a:lnTo>
                <a:lnTo>
                  <a:pt x="439" y="230"/>
                </a:lnTo>
                <a:lnTo>
                  <a:pt x="443" y="220"/>
                </a:lnTo>
                <a:lnTo>
                  <a:pt x="446" y="211"/>
                </a:lnTo>
                <a:lnTo>
                  <a:pt x="450" y="201"/>
                </a:lnTo>
                <a:lnTo>
                  <a:pt x="456" y="192"/>
                </a:lnTo>
                <a:lnTo>
                  <a:pt x="460" y="180"/>
                </a:lnTo>
                <a:lnTo>
                  <a:pt x="464" y="169"/>
                </a:lnTo>
                <a:lnTo>
                  <a:pt x="467" y="158"/>
                </a:lnTo>
                <a:lnTo>
                  <a:pt x="471" y="144"/>
                </a:lnTo>
                <a:lnTo>
                  <a:pt x="477" y="133"/>
                </a:lnTo>
                <a:lnTo>
                  <a:pt x="481" y="121"/>
                </a:lnTo>
                <a:lnTo>
                  <a:pt x="485" y="108"/>
                </a:lnTo>
                <a:lnTo>
                  <a:pt x="489" y="97"/>
                </a:lnTo>
                <a:lnTo>
                  <a:pt x="492" y="85"/>
                </a:lnTo>
                <a:lnTo>
                  <a:pt x="496" y="74"/>
                </a:lnTo>
                <a:lnTo>
                  <a:pt x="502" y="65"/>
                </a:lnTo>
                <a:lnTo>
                  <a:pt x="506" y="55"/>
                </a:lnTo>
                <a:lnTo>
                  <a:pt x="510" y="46"/>
                </a:lnTo>
                <a:lnTo>
                  <a:pt x="513" y="36"/>
                </a:lnTo>
                <a:lnTo>
                  <a:pt x="517" y="28"/>
                </a:lnTo>
                <a:lnTo>
                  <a:pt x="523" y="21"/>
                </a:lnTo>
                <a:lnTo>
                  <a:pt x="527" y="15"/>
                </a:lnTo>
                <a:lnTo>
                  <a:pt x="531" y="11"/>
                </a:lnTo>
                <a:lnTo>
                  <a:pt x="534" y="8"/>
                </a:lnTo>
                <a:lnTo>
                  <a:pt x="538" y="6"/>
                </a:lnTo>
                <a:lnTo>
                  <a:pt x="544" y="6"/>
                </a:lnTo>
                <a:lnTo>
                  <a:pt x="548" y="6"/>
                </a:lnTo>
                <a:lnTo>
                  <a:pt x="552" y="8"/>
                </a:lnTo>
                <a:lnTo>
                  <a:pt x="556" y="11"/>
                </a:lnTo>
                <a:lnTo>
                  <a:pt x="559" y="15"/>
                </a:lnTo>
                <a:lnTo>
                  <a:pt x="563" y="21"/>
                </a:lnTo>
                <a:lnTo>
                  <a:pt x="569" y="28"/>
                </a:lnTo>
                <a:lnTo>
                  <a:pt x="573" y="36"/>
                </a:lnTo>
                <a:lnTo>
                  <a:pt x="577" y="46"/>
                </a:lnTo>
                <a:lnTo>
                  <a:pt x="580" y="55"/>
                </a:lnTo>
                <a:lnTo>
                  <a:pt x="584" y="65"/>
                </a:lnTo>
                <a:lnTo>
                  <a:pt x="588" y="74"/>
                </a:lnTo>
                <a:lnTo>
                  <a:pt x="594" y="85"/>
                </a:lnTo>
                <a:lnTo>
                  <a:pt x="598" y="97"/>
                </a:lnTo>
                <a:lnTo>
                  <a:pt x="602" y="108"/>
                </a:lnTo>
                <a:lnTo>
                  <a:pt x="605" y="121"/>
                </a:lnTo>
                <a:lnTo>
                  <a:pt x="609" y="133"/>
                </a:lnTo>
                <a:lnTo>
                  <a:pt x="613" y="144"/>
                </a:lnTo>
                <a:lnTo>
                  <a:pt x="619" y="158"/>
                </a:lnTo>
                <a:lnTo>
                  <a:pt x="623" y="169"/>
                </a:lnTo>
                <a:lnTo>
                  <a:pt x="626" y="180"/>
                </a:lnTo>
                <a:lnTo>
                  <a:pt x="630" y="192"/>
                </a:lnTo>
                <a:lnTo>
                  <a:pt x="634" y="201"/>
                </a:lnTo>
                <a:lnTo>
                  <a:pt x="640" y="211"/>
                </a:lnTo>
                <a:lnTo>
                  <a:pt x="644" y="220"/>
                </a:lnTo>
                <a:lnTo>
                  <a:pt x="647" y="230"/>
                </a:lnTo>
                <a:lnTo>
                  <a:pt x="651" y="237"/>
                </a:lnTo>
                <a:lnTo>
                  <a:pt x="655" y="245"/>
                </a:lnTo>
                <a:lnTo>
                  <a:pt x="661" y="251"/>
                </a:lnTo>
                <a:lnTo>
                  <a:pt x="665" y="254"/>
                </a:lnTo>
                <a:lnTo>
                  <a:pt x="669" y="258"/>
                </a:lnTo>
                <a:lnTo>
                  <a:pt x="672" y="260"/>
                </a:lnTo>
                <a:lnTo>
                  <a:pt x="678" y="262"/>
                </a:lnTo>
                <a:lnTo>
                  <a:pt x="682" y="260"/>
                </a:lnTo>
                <a:lnTo>
                  <a:pt x="686" y="258"/>
                </a:lnTo>
                <a:lnTo>
                  <a:pt x="690" y="254"/>
                </a:lnTo>
                <a:lnTo>
                  <a:pt x="695" y="251"/>
                </a:lnTo>
                <a:lnTo>
                  <a:pt x="699" y="245"/>
                </a:lnTo>
                <a:lnTo>
                  <a:pt x="703" y="237"/>
                </a:lnTo>
                <a:lnTo>
                  <a:pt x="707" y="230"/>
                </a:lnTo>
                <a:lnTo>
                  <a:pt x="713" y="220"/>
                </a:lnTo>
                <a:lnTo>
                  <a:pt x="716" y="211"/>
                </a:lnTo>
                <a:lnTo>
                  <a:pt x="720" y="201"/>
                </a:lnTo>
                <a:lnTo>
                  <a:pt x="726" y="192"/>
                </a:lnTo>
                <a:lnTo>
                  <a:pt x="730" y="180"/>
                </a:lnTo>
                <a:lnTo>
                  <a:pt x="734" y="169"/>
                </a:lnTo>
                <a:lnTo>
                  <a:pt x="739" y="158"/>
                </a:lnTo>
                <a:lnTo>
                  <a:pt x="743" y="144"/>
                </a:lnTo>
                <a:lnTo>
                  <a:pt x="749" y="133"/>
                </a:lnTo>
                <a:lnTo>
                  <a:pt x="753" y="121"/>
                </a:lnTo>
                <a:lnTo>
                  <a:pt x="757" y="108"/>
                </a:lnTo>
                <a:lnTo>
                  <a:pt x="762" y="97"/>
                </a:lnTo>
                <a:lnTo>
                  <a:pt x="766" y="85"/>
                </a:lnTo>
                <a:lnTo>
                  <a:pt x="770" y="74"/>
                </a:lnTo>
                <a:lnTo>
                  <a:pt x="776" y="65"/>
                </a:lnTo>
                <a:lnTo>
                  <a:pt x="780" y="55"/>
                </a:lnTo>
                <a:lnTo>
                  <a:pt x="783" y="46"/>
                </a:lnTo>
                <a:lnTo>
                  <a:pt x="789" y="36"/>
                </a:lnTo>
                <a:lnTo>
                  <a:pt x="793" y="28"/>
                </a:lnTo>
                <a:lnTo>
                  <a:pt x="797" y="21"/>
                </a:lnTo>
                <a:lnTo>
                  <a:pt x="801" y="15"/>
                </a:lnTo>
                <a:lnTo>
                  <a:pt x="806" y="11"/>
                </a:lnTo>
                <a:lnTo>
                  <a:pt x="810" y="8"/>
                </a:lnTo>
                <a:lnTo>
                  <a:pt x="814" y="6"/>
                </a:lnTo>
                <a:lnTo>
                  <a:pt x="820" y="6"/>
                </a:lnTo>
                <a:lnTo>
                  <a:pt x="824" y="6"/>
                </a:lnTo>
                <a:lnTo>
                  <a:pt x="828" y="8"/>
                </a:lnTo>
                <a:lnTo>
                  <a:pt x="831" y="11"/>
                </a:lnTo>
                <a:lnTo>
                  <a:pt x="835" y="15"/>
                </a:lnTo>
                <a:lnTo>
                  <a:pt x="841" y="21"/>
                </a:lnTo>
                <a:lnTo>
                  <a:pt x="845" y="28"/>
                </a:lnTo>
                <a:lnTo>
                  <a:pt x="849" y="36"/>
                </a:lnTo>
                <a:lnTo>
                  <a:pt x="852" y="46"/>
                </a:lnTo>
                <a:lnTo>
                  <a:pt x="856" y="55"/>
                </a:lnTo>
                <a:lnTo>
                  <a:pt x="862" y="65"/>
                </a:lnTo>
                <a:lnTo>
                  <a:pt x="866" y="74"/>
                </a:lnTo>
                <a:lnTo>
                  <a:pt x="870" y="85"/>
                </a:lnTo>
                <a:lnTo>
                  <a:pt x="873" y="97"/>
                </a:lnTo>
                <a:lnTo>
                  <a:pt x="877" y="108"/>
                </a:lnTo>
                <a:lnTo>
                  <a:pt x="881" y="121"/>
                </a:lnTo>
                <a:lnTo>
                  <a:pt x="887" y="133"/>
                </a:lnTo>
                <a:lnTo>
                  <a:pt x="891" y="144"/>
                </a:lnTo>
                <a:lnTo>
                  <a:pt x="895" y="158"/>
                </a:lnTo>
                <a:lnTo>
                  <a:pt x="898" y="169"/>
                </a:lnTo>
                <a:lnTo>
                  <a:pt x="902" y="180"/>
                </a:lnTo>
                <a:lnTo>
                  <a:pt x="906" y="192"/>
                </a:lnTo>
                <a:lnTo>
                  <a:pt x="912" y="201"/>
                </a:lnTo>
                <a:lnTo>
                  <a:pt x="916" y="211"/>
                </a:lnTo>
                <a:lnTo>
                  <a:pt x="919" y="220"/>
                </a:lnTo>
                <a:lnTo>
                  <a:pt x="923" y="230"/>
                </a:lnTo>
                <a:lnTo>
                  <a:pt x="927" y="237"/>
                </a:lnTo>
                <a:lnTo>
                  <a:pt x="931" y="245"/>
                </a:lnTo>
                <a:lnTo>
                  <a:pt x="937" y="251"/>
                </a:lnTo>
                <a:lnTo>
                  <a:pt x="941" y="254"/>
                </a:lnTo>
                <a:lnTo>
                  <a:pt x="944" y="258"/>
                </a:lnTo>
                <a:lnTo>
                  <a:pt x="948" y="260"/>
                </a:lnTo>
                <a:lnTo>
                  <a:pt x="954" y="262"/>
                </a:lnTo>
                <a:lnTo>
                  <a:pt x="958" y="260"/>
                </a:lnTo>
                <a:lnTo>
                  <a:pt x="962" y="258"/>
                </a:lnTo>
                <a:lnTo>
                  <a:pt x="965" y="254"/>
                </a:lnTo>
                <a:lnTo>
                  <a:pt x="971" y="251"/>
                </a:lnTo>
                <a:lnTo>
                  <a:pt x="975" y="245"/>
                </a:lnTo>
                <a:lnTo>
                  <a:pt x="979" y="237"/>
                </a:lnTo>
                <a:lnTo>
                  <a:pt x="983" y="230"/>
                </a:lnTo>
                <a:lnTo>
                  <a:pt x="988" y="220"/>
                </a:lnTo>
                <a:lnTo>
                  <a:pt x="992" y="211"/>
                </a:lnTo>
                <a:lnTo>
                  <a:pt x="996" y="201"/>
                </a:lnTo>
                <a:lnTo>
                  <a:pt x="1000" y="192"/>
                </a:lnTo>
                <a:lnTo>
                  <a:pt x="1006" y="180"/>
                </a:lnTo>
                <a:lnTo>
                  <a:pt x="1009" y="169"/>
                </a:lnTo>
                <a:lnTo>
                  <a:pt x="1013" y="158"/>
                </a:lnTo>
                <a:lnTo>
                  <a:pt x="1019" y="144"/>
                </a:lnTo>
                <a:lnTo>
                  <a:pt x="1023" y="133"/>
                </a:lnTo>
                <a:lnTo>
                  <a:pt x="1027" y="121"/>
                </a:lnTo>
                <a:lnTo>
                  <a:pt x="1032" y="108"/>
                </a:lnTo>
                <a:lnTo>
                  <a:pt x="1036" y="97"/>
                </a:lnTo>
                <a:lnTo>
                  <a:pt x="1040" y="85"/>
                </a:lnTo>
                <a:lnTo>
                  <a:pt x="1046" y="74"/>
                </a:lnTo>
                <a:lnTo>
                  <a:pt x="1050" y="65"/>
                </a:lnTo>
                <a:lnTo>
                  <a:pt x="1054" y="55"/>
                </a:lnTo>
                <a:lnTo>
                  <a:pt x="1057" y="46"/>
                </a:lnTo>
                <a:lnTo>
                  <a:pt x="1063" y="36"/>
                </a:lnTo>
                <a:lnTo>
                  <a:pt x="1067" y="28"/>
                </a:lnTo>
                <a:lnTo>
                  <a:pt x="1071" y="21"/>
                </a:lnTo>
                <a:lnTo>
                  <a:pt x="1075" y="15"/>
                </a:lnTo>
                <a:lnTo>
                  <a:pt x="1080" y="11"/>
                </a:lnTo>
                <a:lnTo>
                  <a:pt x="1084" y="8"/>
                </a:lnTo>
                <a:lnTo>
                  <a:pt x="1088" y="6"/>
                </a:lnTo>
                <a:lnTo>
                  <a:pt x="1094" y="6"/>
                </a:lnTo>
                <a:lnTo>
                  <a:pt x="1098" y="6"/>
                </a:lnTo>
                <a:lnTo>
                  <a:pt x="1101" y="8"/>
                </a:lnTo>
                <a:lnTo>
                  <a:pt x="1105" y="11"/>
                </a:lnTo>
                <a:lnTo>
                  <a:pt x="1109" y="15"/>
                </a:lnTo>
                <a:lnTo>
                  <a:pt x="1115" y="21"/>
                </a:lnTo>
                <a:lnTo>
                  <a:pt x="1119" y="28"/>
                </a:lnTo>
                <a:lnTo>
                  <a:pt x="1122" y="36"/>
                </a:lnTo>
                <a:lnTo>
                  <a:pt x="1126" y="46"/>
                </a:lnTo>
                <a:lnTo>
                  <a:pt x="1130" y="55"/>
                </a:lnTo>
                <a:lnTo>
                  <a:pt x="1136" y="65"/>
                </a:lnTo>
                <a:lnTo>
                  <a:pt x="1140" y="74"/>
                </a:lnTo>
                <a:lnTo>
                  <a:pt x="1144" y="85"/>
                </a:lnTo>
                <a:lnTo>
                  <a:pt x="1147" y="97"/>
                </a:lnTo>
                <a:lnTo>
                  <a:pt x="1151" y="108"/>
                </a:lnTo>
                <a:lnTo>
                  <a:pt x="1157" y="121"/>
                </a:lnTo>
                <a:lnTo>
                  <a:pt x="1161" y="133"/>
                </a:lnTo>
                <a:lnTo>
                  <a:pt x="1165" y="144"/>
                </a:lnTo>
                <a:lnTo>
                  <a:pt x="1168" y="158"/>
                </a:lnTo>
                <a:lnTo>
                  <a:pt x="1172" y="169"/>
                </a:lnTo>
                <a:lnTo>
                  <a:pt x="1178" y="180"/>
                </a:lnTo>
                <a:lnTo>
                  <a:pt x="1182" y="192"/>
                </a:lnTo>
                <a:lnTo>
                  <a:pt x="1186" y="201"/>
                </a:lnTo>
                <a:lnTo>
                  <a:pt x="1190" y="211"/>
                </a:lnTo>
                <a:lnTo>
                  <a:pt x="1193" y="220"/>
                </a:lnTo>
                <a:lnTo>
                  <a:pt x="1197" y="230"/>
                </a:lnTo>
                <a:lnTo>
                  <a:pt x="1203" y="237"/>
                </a:lnTo>
                <a:lnTo>
                  <a:pt x="1207" y="245"/>
                </a:lnTo>
                <a:lnTo>
                  <a:pt x="1211" y="251"/>
                </a:lnTo>
                <a:lnTo>
                  <a:pt x="1214" y="254"/>
                </a:lnTo>
                <a:lnTo>
                  <a:pt x="1218" y="258"/>
                </a:lnTo>
                <a:lnTo>
                  <a:pt x="1222" y="260"/>
                </a:lnTo>
                <a:lnTo>
                  <a:pt x="1228" y="262"/>
                </a:lnTo>
                <a:lnTo>
                  <a:pt x="1232" y="260"/>
                </a:lnTo>
                <a:lnTo>
                  <a:pt x="1235" y="258"/>
                </a:lnTo>
                <a:lnTo>
                  <a:pt x="1239" y="254"/>
                </a:lnTo>
                <a:lnTo>
                  <a:pt x="1243" y="251"/>
                </a:lnTo>
                <a:lnTo>
                  <a:pt x="1247" y="245"/>
                </a:lnTo>
                <a:lnTo>
                  <a:pt x="1251" y="237"/>
                </a:lnTo>
                <a:lnTo>
                  <a:pt x="1255" y="230"/>
                </a:lnTo>
                <a:lnTo>
                  <a:pt x="1260" y="220"/>
                </a:lnTo>
                <a:lnTo>
                  <a:pt x="1264" y="211"/>
                </a:lnTo>
                <a:lnTo>
                  <a:pt x="1268" y="201"/>
                </a:lnTo>
                <a:lnTo>
                  <a:pt x="1272" y="192"/>
                </a:lnTo>
                <a:lnTo>
                  <a:pt x="1276" y="180"/>
                </a:lnTo>
                <a:lnTo>
                  <a:pt x="1280" y="169"/>
                </a:lnTo>
                <a:lnTo>
                  <a:pt x="1283" y="158"/>
                </a:lnTo>
                <a:lnTo>
                  <a:pt x="1287" y="144"/>
                </a:lnTo>
                <a:lnTo>
                  <a:pt x="1291" y="133"/>
                </a:lnTo>
                <a:lnTo>
                  <a:pt x="1295" y="121"/>
                </a:lnTo>
                <a:lnTo>
                  <a:pt x="1301" y="108"/>
                </a:lnTo>
                <a:lnTo>
                  <a:pt x="1304" y="97"/>
                </a:lnTo>
                <a:lnTo>
                  <a:pt x="1308" y="85"/>
                </a:lnTo>
                <a:lnTo>
                  <a:pt x="1312" y="74"/>
                </a:lnTo>
                <a:lnTo>
                  <a:pt x="1316" y="65"/>
                </a:lnTo>
                <a:lnTo>
                  <a:pt x="1320" y="55"/>
                </a:lnTo>
                <a:lnTo>
                  <a:pt x="1324" y="46"/>
                </a:lnTo>
                <a:lnTo>
                  <a:pt x="1327" y="36"/>
                </a:lnTo>
                <a:lnTo>
                  <a:pt x="1331" y="28"/>
                </a:lnTo>
                <a:lnTo>
                  <a:pt x="1337" y="21"/>
                </a:lnTo>
                <a:lnTo>
                  <a:pt x="1341" y="15"/>
                </a:lnTo>
                <a:lnTo>
                  <a:pt x="1345" y="11"/>
                </a:lnTo>
                <a:lnTo>
                  <a:pt x="1348" y="8"/>
                </a:lnTo>
                <a:lnTo>
                  <a:pt x="1352" y="6"/>
                </a:lnTo>
                <a:lnTo>
                  <a:pt x="1358" y="6"/>
                </a:lnTo>
                <a:lnTo>
                  <a:pt x="1362" y="6"/>
                </a:lnTo>
                <a:lnTo>
                  <a:pt x="1366" y="8"/>
                </a:lnTo>
                <a:lnTo>
                  <a:pt x="1370" y="11"/>
                </a:lnTo>
                <a:lnTo>
                  <a:pt x="1373" y="15"/>
                </a:lnTo>
                <a:lnTo>
                  <a:pt x="1379" y="21"/>
                </a:lnTo>
                <a:lnTo>
                  <a:pt x="1383" y="28"/>
                </a:lnTo>
                <a:lnTo>
                  <a:pt x="1387" y="36"/>
                </a:lnTo>
                <a:lnTo>
                  <a:pt x="1391" y="46"/>
                </a:lnTo>
                <a:lnTo>
                  <a:pt x="1396" y="55"/>
                </a:lnTo>
                <a:lnTo>
                  <a:pt x="1400" y="65"/>
                </a:lnTo>
                <a:lnTo>
                  <a:pt x="1404" y="74"/>
                </a:lnTo>
                <a:lnTo>
                  <a:pt x="1410" y="85"/>
                </a:lnTo>
                <a:lnTo>
                  <a:pt x="1414" y="97"/>
                </a:lnTo>
                <a:lnTo>
                  <a:pt x="1417" y="108"/>
                </a:lnTo>
                <a:lnTo>
                  <a:pt x="1423" y="121"/>
                </a:lnTo>
                <a:lnTo>
                  <a:pt x="1427" y="133"/>
                </a:lnTo>
                <a:lnTo>
                  <a:pt x="1431" y="144"/>
                </a:lnTo>
                <a:lnTo>
                  <a:pt x="1437" y="158"/>
                </a:lnTo>
                <a:lnTo>
                  <a:pt x="1440" y="169"/>
                </a:lnTo>
                <a:lnTo>
                  <a:pt x="1444" y="180"/>
                </a:lnTo>
                <a:lnTo>
                  <a:pt x="1448" y="192"/>
                </a:lnTo>
                <a:lnTo>
                  <a:pt x="1454" y="201"/>
                </a:lnTo>
                <a:lnTo>
                  <a:pt x="1458" y="211"/>
                </a:lnTo>
                <a:lnTo>
                  <a:pt x="1461" y="220"/>
                </a:lnTo>
                <a:lnTo>
                  <a:pt x="1467" y="230"/>
                </a:lnTo>
                <a:lnTo>
                  <a:pt x="1471" y="237"/>
                </a:lnTo>
                <a:lnTo>
                  <a:pt x="1475" y="245"/>
                </a:lnTo>
                <a:lnTo>
                  <a:pt x="1479" y="251"/>
                </a:lnTo>
                <a:lnTo>
                  <a:pt x="1484" y="254"/>
                </a:lnTo>
                <a:lnTo>
                  <a:pt x="1488" y="258"/>
                </a:lnTo>
                <a:lnTo>
                  <a:pt x="1492" y="260"/>
                </a:lnTo>
                <a:lnTo>
                  <a:pt x="1498" y="262"/>
                </a:lnTo>
                <a:lnTo>
                  <a:pt x="1502" y="260"/>
                </a:lnTo>
                <a:lnTo>
                  <a:pt x="1506" y="258"/>
                </a:lnTo>
                <a:lnTo>
                  <a:pt x="1509" y="254"/>
                </a:lnTo>
                <a:lnTo>
                  <a:pt x="1513" y="251"/>
                </a:lnTo>
                <a:lnTo>
                  <a:pt x="1519" y="245"/>
                </a:lnTo>
                <a:lnTo>
                  <a:pt x="1523" y="237"/>
                </a:lnTo>
                <a:lnTo>
                  <a:pt x="1527" y="230"/>
                </a:lnTo>
                <a:lnTo>
                  <a:pt x="1530" y="220"/>
                </a:lnTo>
                <a:lnTo>
                  <a:pt x="1534" y="211"/>
                </a:lnTo>
                <a:lnTo>
                  <a:pt x="1540" y="201"/>
                </a:lnTo>
                <a:lnTo>
                  <a:pt x="1544" y="192"/>
                </a:lnTo>
                <a:lnTo>
                  <a:pt x="1548" y="180"/>
                </a:lnTo>
                <a:lnTo>
                  <a:pt x="1552" y="169"/>
                </a:lnTo>
                <a:lnTo>
                  <a:pt x="1555" y="158"/>
                </a:lnTo>
                <a:lnTo>
                  <a:pt x="1559" y="144"/>
                </a:lnTo>
                <a:lnTo>
                  <a:pt x="1565" y="133"/>
                </a:lnTo>
                <a:lnTo>
                  <a:pt x="1569" y="121"/>
                </a:lnTo>
                <a:lnTo>
                  <a:pt x="1573" y="108"/>
                </a:lnTo>
                <a:lnTo>
                  <a:pt x="1576" y="97"/>
                </a:lnTo>
                <a:lnTo>
                  <a:pt x="1580" y="85"/>
                </a:lnTo>
                <a:lnTo>
                  <a:pt x="1584" y="74"/>
                </a:lnTo>
                <a:lnTo>
                  <a:pt x="1590" y="65"/>
                </a:lnTo>
                <a:lnTo>
                  <a:pt x="1594" y="55"/>
                </a:lnTo>
                <a:lnTo>
                  <a:pt x="1597" y="46"/>
                </a:lnTo>
                <a:lnTo>
                  <a:pt x="1601" y="36"/>
                </a:lnTo>
                <a:lnTo>
                  <a:pt x="1605" y="28"/>
                </a:lnTo>
                <a:lnTo>
                  <a:pt x="1611" y="21"/>
                </a:lnTo>
                <a:lnTo>
                  <a:pt x="1615" y="15"/>
                </a:lnTo>
                <a:lnTo>
                  <a:pt x="1619" y="11"/>
                </a:lnTo>
                <a:lnTo>
                  <a:pt x="1622" y="8"/>
                </a:lnTo>
                <a:lnTo>
                  <a:pt x="1626" y="6"/>
                </a:lnTo>
                <a:lnTo>
                  <a:pt x="1632" y="6"/>
                </a:lnTo>
                <a:lnTo>
                  <a:pt x="1636" y="6"/>
                </a:lnTo>
                <a:lnTo>
                  <a:pt x="1640" y="8"/>
                </a:lnTo>
                <a:lnTo>
                  <a:pt x="1643" y="11"/>
                </a:lnTo>
                <a:lnTo>
                  <a:pt x="1647" y="15"/>
                </a:lnTo>
                <a:lnTo>
                  <a:pt x="1653" y="21"/>
                </a:lnTo>
                <a:lnTo>
                  <a:pt x="1657" y="28"/>
                </a:lnTo>
                <a:lnTo>
                  <a:pt x="1661" y="36"/>
                </a:lnTo>
                <a:lnTo>
                  <a:pt x="1665" y="46"/>
                </a:lnTo>
                <a:lnTo>
                  <a:pt x="1668" y="55"/>
                </a:lnTo>
                <a:lnTo>
                  <a:pt x="1674" y="65"/>
                </a:lnTo>
                <a:lnTo>
                  <a:pt x="1678" y="74"/>
                </a:lnTo>
                <a:lnTo>
                  <a:pt x="1682" y="85"/>
                </a:lnTo>
                <a:lnTo>
                  <a:pt x="1686" y="97"/>
                </a:lnTo>
                <a:lnTo>
                  <a:pt x="1691" y="108"/>
                </a:lnTo>
                <a:lnTo>
                  <a:pt x="1695" y="121"/>
                </a:lnTo>
                <a:lnTo>
                  <a:pt x="1699" y="133"/>
                </a:lnTo>
                <a:lnTo>
                  <a:pt x="1703" y="144"/>
                </a:lnTo>
                <a:lnTo>
                  <a:pt x="1707" y="158"/>
                </a:lnTo>
                <a:lnTo>
                  <a:pt x="1712" y="169"/>
                </a:lnTo>
                <a:lnTo>
                  <a:pt x="1716" y="180"/>
                </a:lnTo>
                <a:lnTo>
                  <a:pt x="1720" y="192"/>
                </a:lnTo>
                <a:lnTo>
                  <a:pt x="1724" y="201"/>
                </a:lnTo>
                <a:lnTo>
                  <a:pt x="1730" y="211"/>
                </a:lnTo>
                <a:lnTo>
                  <a:pt x="1733" y="220"/>
                </a:lnTo>
                <a:lnTo>
                  <a:pt x="1737" y="230"/>
                </a:lnTo>
                <a:lnTo>
                  <a:pt x="1741" y="237"/>
                </a:lnTo>
                <a:lnTo>
                  <a:pt x="1745" y="245"/>
                </a:lnTo>
                <a:lnTo>
                  <a:pt x="1751" y="251"/>
                </a:lnTo>
                <a:lnTo>
                  <a:pt x="1755" y="254"/>
                </a:lnTo>
                <a:lnTo>
                  <a:pt x="1758" y="258"/>
                </a:lnTo>
                <a:lnTo>
                  <a:pt x="1762" y="260"/>
                </a:lnTo>
                <a:lnTo>
                  <a:pt x="1768" y="262"/>
                </a:lnTo>
                <a:lnTo>
                  <a:pt x="1772" y="260"/>
                </a:lnTo>
                <a:lnTo>
                  <a:pt x="1776" y="258"/>
                </a:lnTo>
                <a:lnTo>
                  <a:pt x="1779" y="254"/>
                </a:lnTo>
                <a:lnTo>
                  <a:pt x="1783" y="251"/>
                </a:lnTo>
                <a:lnTo>
                  <a:pt x="1787" y="245"/>
                </a:lnTo>
                <a:lnTo>
                  <a:pt x="1793" y="237"/>
                </a:lnTo>
                <a:lnTo>
                  <a:pt x="1797" y="230"/>
                </a:lnTo>
                <a:lnTo>
                  <a:pt x="1800" y="220"/>
                </a:lnTo>
                <a:lnTo>
                  <a:pt x="1804" y="211"/>
                </a:lnTo>
                <a:lnTo>
                  <a:pt x="1808" y="201"/>
                </a:lnTo>
                <a:lnTo>
                  <a:pt x="1814" y="192"/>
                </a:lnTo>
                <a:lnTo>
                  <a:pt x="1818" y="180"/>
                </a:lnTo>
                <a:lnTo>
                  <a:pt x="1822" y="169"/>
                </a:lnTo>
                <a:lnTo>
                  <a:pt x="1825" y="158"/>
                </a:lnTo>
                <a:lnTo>
                  <a:pt x="1829" y="144"/>
                </a:lnTo>
                <a:lnTo>
                  <a:pt x="1833" y="133"/>
                </a:lnTo>
                <a:lnTo>
                  <a:pt x="1839" y="121"/>
                </a:lnTo>
                <a:lnTo>
                  <a:pt x="1843" y="108"/>
                </a:lnTo>
                <a:lnTo>
                  <a:pt x="1846" y="97"/>
                </a:lnTo>
                <a:lnTo>
                  <a:pt x="1850" y="85"/>
                </a:lnTo>
                <a:lnTo>
                  <a:pt x="1854" y="74"/>
                </a:lnTo>
                <a:lnTo>
                  <a:pt x="1858" y="65"/>
                </a:lnTo>
                <a:lnTo>
                  <a:pt x="1864" y="55"/>
                </a:lnTo>
                <a:lnTo>
                  <a:pt x="1868" y="46"/>
                </a:lnTo>
                <a:lnTo>
                  <a:pt x="1871" y="36"/>
                </a:lnTo>
                <a:lnTo>
                  <a:pt x="1875" y="28"/>
                </a:lnTo>
                <a:lnTo>
                  <a:pt x="1879" y="21"/>
                </a:lnTo>
                <a:lnTo>
                  <a:pt x="1885" y="15"/>
                </a:lnTo>
                <a:lnTo>
                  <a:pt x="1889" y="11"/>
                </a:lnTo>
                <a:lnTo>
                  <a:pt x="1892" y="8"/>
                </a:lnTo>
                <a:lnTo>
                  <a:pt x="1896" y="6"/>
                </a:lnTo>
                <a:lnTo>
                  <a:pt x="1902" y="6"/>
                </a:lnTo>
                <a:lnTo>
                  <a:pt x="1906" y="6"/>
                </a:lnTo>
                <a:lnTo>
                  <a:pt x="1910" y="8"/>
                </a:lnTo>
                <a:lnTo>
                  <a:pt x="1915" y="8"/>
                </a:lnTo>
                <a:lnTo>
                  <a:pt x="1919" y="10"/>
                </a:lnTo>
                <a:lnTo>
                  <a:pt x="1923" y="11"/>
                </a:lnTo>
                <a:lnTo>
                  <a:pt x="1927" y="15"/>
                </a:lnTo>
                <a:lnTo>
                  <a:pt x="1933" y="17"/>
                </a:lnTo>
                <a:lnTo>
                  <a:pt x="1936" y="21"/>
                </a:lnTo>
                <a:lnTo>
                  <a:pt x="1940" y="27"/>
                </a:lnTo>
                <a:lnTo>
                  <a:pt x="1944" y="30"/>
                </a:lnTo>
                <a:lnTo>
                  <a:pt x="1950" y="36"/>
                </a:lnTo>
                <a:lnTo>
                  <a:pt x="1954" y="42"/>
                </a:lnTo>
                <a:lnTo>
                  <a:pt x="1958" y="47"/>
                </a:lnTo>
                <a:lnTo>
                  <a:pt x="1963" y="55"/>
                </a:lnTo>
                <a:lnTo>
                  <a:pt x="1967" y="63"/>
                </a:lnTo>
                <a:lnTo>
                  <a:pt x="1971" y="70"/>
                </a:lnTo>
                <a:lnTo>
                  <a:pt x="1975" y="78"/>
                </a:lnTo>
                <a:lnTo>
                  <a:pt x="1981" y="87"/>
                </a:lnTo>
                <a:lnTo>
                  <a:pt x="1984" y="97"/>
                </a:lnTo>
                <a:lnTo>
                  <a:pt x="1988" y="106"/>
                </a:lnTo>
                <a:lnTo>
                  <a:pt x="1994" y="116"/>
                </a:lnTo>
                <a:lnTo>
                  <a:pt x="1998" y="127"/>
                </a:lnTo>
                <a:lnTo>
                  <a:pt x="2002" y="139"/>
                </a:lnTo>
                <a:lnTo>
                  <a:pt x="2005" y="150"/>
                </a:lnTo>
                <a:lnTo>
                  <a:pt x="2011" y="161"/>
                </a:lnTo>
                <a:lnTo>
                  <a:pt x="2015" y="175"/>
                </a:lnTo>
                <a:lnTo>
                  <a:pt x="2019" y="188"/>
                </a:lnTo>
                <a:lnTo>
                  <a:pt x="2025" y="201"/>
                </a:lnTo>
                <a:lnTo>
                  <a:pt x="2028" y="216"/>
                </a:lnTo>
                <a:lnTo>
                  <a:pt x="2032" y="232"/>
                </a:lnTo>
                <a:lnTo>
                  <a:pt x="2038" y="247"/>
                </a:lnTo>
                <a:lnTo>
                  <a:pt x="2042" y="2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66800" y="4854600"/>
            <a:ext cx="365040" cy="4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222800" y="4857840"/>
            <a:ext cx="36360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123920" y="4700520"/>
            <a:ext cx="0" cy="787320"/>
          </a:xfrm>
          <a:prstGeom prst="line">
            <a:avLst/>
          </a:prstGeom>
          <a:ln w="64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39760" y="5089680"/>
            <a:ext cx="37036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4000" y="4413240"/>
            <a:ext cx="1225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320360" y="5153040"/>
            <a:ext cx="623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2824200" y="2647440"/>
            <a:ext cx="0" cy="6699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3794040" y="2642760"/>
            <a:ext cx="0" cy="6699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46520" y="2793960"/>
            <a:ext cx="9460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58760" y="2343240"/>
            <a:ext cx="8258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=1/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57320" y="4044960"/>
            <a:ext cx="8258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=1/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390840" y="4424040"/>
            <a:ext cx="0" cy="6699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919240" y="4411800"/>
            <a:ext cx="0" cy="6681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651360" y="3305160"/>
            <a:ext cx="326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946560" y="5095800"/>
            <a:ext cx="326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162080" y="5700600"/>
            <a:ext cx="1176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 =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911680" y="5691240"/>
            <a:ext cx="150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 =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94080" y="4511520"/>
            <a:ext cx="407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389400" y="4510080"/>
            <a:ext cx="4078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F93-679F-4708-9D6D-8FE23A98BC8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806580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al Sign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28600" y="1143000"/>
            <a:ext cx="4283280" cy="1709280"/>
            <a:chOff x="228600" y="1143000"/>
            <a:chExt cx="4283280" cy="1709280"/>
          </a:xfrm>
        </p:grpSpPr>
        <p:sp>
          <p:nvSpPr>
            <p:cNvPr id="647" name=""/>
            <p:cNvSpPr/>
            <p:nvPr/>
          </p:nvSpPr>
          <p:spPr>
            <a:xfrm>
              <a:off x="228600" y="2406600"/>
              <a:ext cx="3719520" cy="1440"/>
            </a:xfrm>
            <a:custGeom>
              <a:avLst/>
              <a:gdLst/>
              <a:ahLst/>
              <a:rect l="l" t="t" r="r" b="b"/>
              <a:pathLst>
                <a:path w="2118" h="1">
                  <a:moveTo>
                    <a:pt x="0" y="0"/>
                  </a:moveTo>
                  <a:lnTo>
                    <a:pt x="739" y="0"/>
                  </a:lnTo>
                  <a:lnTo>
                    <a:pt x="2117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1323720" y="1431360"/>
              <a:ext cx="0" cy="142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28320" y="1731960"/>
              <a:ext cx="3306960" cy="1093680"/>
            </a:xfrm>
            <a:custGeom>
              <a:avLst/>
              <a:gdLst/>
              <a:ahLst/>
              <a:rect l="l" t="t" r="r" b="b"/>
              <a:pathLst>
                <a:path w="1883" h="728">
                  <a:moveTo>
                    <a:pt x="0" y="727"/>
                  </a:moveTo>
                  <a:lnTo>
                    <a:pt x="21" y="677"/>
                  </a:lnTo>
                  <a:lnTo>
                    <a:pt x="43" y="632"/>
                  </a:lnTo>
                  <a:lnTo>
                    <a:pt x="67" y="592"/>
                  </a:lnTo>
                  <a:lnTo>
                    <a:pt x="83" y="574"/>
                  </a:lnTo>
                  <a:lnTo>
                    <a:pt x="98" y="559"/>
                  </a:lnTo>
                  <a:lnTo>
                    <a:pt x="134" y="536"/>
                  </a:lnTo>
                  <a:lnTo>
                    <a:pt x="177" y="519"/>
                  </a:lnTo>
                  <a:lnTo>
                    <a:pt x="217" y="500"/>
                  </a:lnTo>
                  <a:lnTo>
                    <a:pt x="253" y="477"/>
                  </a:lnTo>
                  <a:lnTo>
                    <a:pt x="270" y="462"/>
                  </a:lnTo>
                  <a:lnTo>
                    <a:pt x="284" y="443"/>
                  </a:lnTo>
                  <a:lnTo>
                    <a:pt x="309" y="401"/>
                  </a:lnTo>
                  <a:lnTo>
                    <a:pt x="330" y="351"/>
                  </a:lnTo>
                  <a:lnTo>
                    <a:pt x="345" y="296"/>
                  </a:lnTo>
                  <a:lnTo>
                    <a:pt x="358" y="237"/>
                  </a:lnTo>
                  <a:lnTo>
                    <a:pt x="370" y="182"/>
                  </a:lnTo>
                  <a:lnTo>
                    <a:pt x="383" y="130"/>
                  </a:lnTo>
                  <a:lnTo>
                    <a:pt x="391" y="107"/>
                  </a:lnTo>
                  <a:lnTo>
                    <a:pt x="399" y="88"/>
                  </a:lnTo>
                  <a:lnTo>
                    <a:pt x="408" y="73"/>
                  </a:lnTo>
                  <a:lnTo>
                    <a:pt x="418" y="61"/>
                  </a:lnTo>
                  <a:lnTo>
                    <a:pt x="439" y="44"/>
                  </a:lnTo>
                  <a:lnTo>
                    <a:pt x="462" y="35"/>
                  </a:lnTo>
                  <a:lnTo>
                    <a:pt x="485" y="27"/>
                  </a:lnTo>
                  <a:lnTo>
                    <a:pt x="506" y="18"/>
                  </a:lnTo>
                  <a:lnTo>
                    <a:pt x="515" y="14"/>
                  </a:lnTo>
                  <a:lnTo>
                    <a:pt x="525" y="8"/>
                  </a:lnTo>
                  <a:lnTo>
                    <a:pt x="546" y="2"/>
                  </a:lnTo>
                  <a:lnTo>
                    <a:pt x="569" y="0"/>
                  </a:lnTo>
                  <a:lnTo>
                    <a:pt x="594" y="6"/>
                  </a:lnTo>
                  <a:lnTo>
                    <a:pt x="623" y="21"/>
                  </a:lnTo>
                  <a:lnTo>
                    <a:pt x="647" y="40"/>
                  </a:lnTo>
                  <a:lnTo>
                    <a:pt x="670" y="63"/>
                  </a:lnTo>
                  <a:lnTo>
                    <a:pt x="688" y="92"/>
                  </a:lnTo>
                  <a:lnTo>
                    <a:pt x="707" y="122"/>
                  </a:lnTo>
                  <a:lnTo>
                    <a:pt x="728" y="153"/>
                  </a:lnTo>
                  <a:lnTo>
                    <a:pt x="741" y="168"/>
                  </a:lnTo>
                  <a:lnTo>
                    <a:pt x="758" y="183"/>
                  </a:lnTo>
                  <a:lnTo>
                    <a:pt x="801" y="212"/>
                  </a:lnTo>
                  <a:lnTo>
                    <a:pt x="850" y="239"/>
                  </a:lnTo>
                  <a:lnTo>
                    <a:pt x="900" y="265"/>
                  </a:lnTo>
                  <a:lnTo>
                    <a:pt x="921" y="279"/>
                  </a:lnTo>
                  <a:lnTo>
                    <a:pt x="940" y="292"/>
                  </a:lnTo>
                  <a:lnTo>
                    <a:pt x="969" y="321"/>
                  </a:lnTo>
                  <a:lnTo>
                    <a:pt x="990" y="351"/>
                  </a:lnTo>
                  <a:lnTo>
                    <a:pt x="1005" y="384"/>
                  </a:lnTo>
                  <a:lnTo>
                    <a:pt x="1023" y="416"/>
                  </a:lnTo>
                  <a:lnTo>
                    <a:pt x="1048" y="450"/>
                  </a:lnTo>
                  <a:lnTo>
                    <a:pt x="1078" y="485"/>
                  </a:lnTo>
                  <a:lnTo>
                    <a:pt x="1115" y="515"/>
                  </a:lnTo>
                  <a:lnTo>
                    <a:pt x="1153" y="538"/>
                  </a:lnTo>
                  <a:lnTo>
                    <a:pt x="1174" y="548"/>
                  </a:lnTo>
                  <a:lnTo>
                    <a:pt x="1195" y="551"/>
                  </a:lnTo>
                  <a:lnTo>
                    <a:pt x="1218" y="553"/>
                  </a:lnTo>
                  <a:lnTo>
                    <a:pt x="1243" y="551"/>
                  </a:lnTo>
                  <a:lnTo>
                    <a:pt x="1268" y="546"/>
                  </a:lnTo>
                  <a:lnTo>
                    <a:pt x="1296" y="534"/>
                  </a:lnTo>
                  <a:lnTo>
                    <a:pt x="1325" y="519"/>
                  </a:lnTo>
                  <a:lnTo>
                    <a:pt x="1356" y="496"/>
                  </a:lnTo>
                  <a:lnTo>
                    <a:pt x="1390" y="468"/>
                  </a:lnTo>
                  <a:lnTo>
                    <a:pt x="1427" y="437"/>
                  </a:lnTo>
                  <a:lnTo>
                    <a:pt x="1501" y="370"/>
                  </a:lnTo>
                  <a:lnTo>
                    <a:pt x="1539" y="338"/>
                  </a:lnTo>
                  <a:lnTo>
                    <a:pt x="1576" y="313"/>
                  </a:lnTo>
                  <a:lnTo>
                    <a:pt x="1614" y="292"/>
                  </a:lnTo>
                  <a:lnTo>
                    <a:pt x="1649" y="283"/>
                  </a:lnTo>
                  <a:lnTo>
                    <a:pt x="1683" y="285"/>
                  </a:lnTo>
                  <a:lnTo>
                    <a:pt x="1714" y="294"/>
                  </a:lnTo>
                  <a:lnTo>
                    <a:pt x="1744" y="315"/>
                  </a:lnTo>
                  <a:lnTo>
                    <a:pt x="1773" y="340"/>
                  </a:lnTo>
                  <a:lnTo>
                    <a:pt x="1802" y="372"/>
                  </a:lnTo>
                  <a:lnTo>
                    <a:pt x="1829" y="408"/>
                  </a:lnTo>
                  <a:lnTo>
                    <a:pt x="1882" y="489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888360" y="2295360"/>
              <a:ext cx="623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65800" y="1143000"/>
              <a:ext cx="1225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MPLITU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5943600" y="1219320"/>
            <a:ext cx="34956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al life signals are a combination of many frequ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857680" y="3875040"/>
            <a:ext cx="1265040" cy="912960"/>
          </a:xfrm>
          <a:custGeom>
            <a:avLst/>
            <a:gdLst/>
            <a:ahLst/>
            <a:rect l="l" t="t" r="r" b="b"/>
            <a:pathLst>
              <a:path w="721" h="607">
                <a:moveTo>
                  <a:pt x="0" y="606"/>
                </a:moveTo>
                <a:lnTo>
                  <a:pt x="34" y="541"/>
                </a:lnTo>
                <a:lnTo>
                  <a:pt x="72" y="477"/>
                </a:lnTo>
                <a:lnTo>
                  <a:pt x="118" y="416"/>
                </a:lnTo>
                <a:lnTo>
                  <a:pt x="144" y="386"/>
                </a:lnTo>
                <a:lnTo>
                  <a:pt x="173" y="359"/>
                </a:lnTo>
                <a:lnTo>
                  <a:pt x="241" y="307"/>
                </a:lnTo>
                <a:lnTo>
                  <a:pt x="313" y="259"/>
                </a:lnTo>
                <a:lnTo>
                  <a:pt x="385" y="215"/>
                </a:lnTo>
                <a:lnTo>
                  <a:pt x="417" y="193"/>
                </a:lnTo>
                <a:lnTo>
                  <a:pt x="447" y="171"/>
                </a:lnTo>
                <a:lnTo>
                  <a:pt x="474" y="149"/>
                </a:lnTo>
                <a:lnTo>
                  <a:pt x="495" y="129"/>
                </a:lnTo>
                <a:lnTo>
                  <a:pt x="533" y="88"/>
                </a:lnTo>
                <a:lnTo>
                  <a:pt x="561" y="55"/>
                </a:lnTo>
                <a:lnTo>
                  <a:pt x="589" y="27"/>
                </a:lnTo>
                <a:lnTo>
                  <a:pt x="620" y="11"/>
                </a:lnTo>
                <a:lnTo>
                  <a:pt x="652" y="3"/>
                </a:lnTo>
                <a:lnTo>
                  <a:pt x="684" y="0"/>
                </a:lnTo>
                <a:lnTo>
                  <a:pt x="720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114800" y="3886200"/>
            <a:ext cx="1265400" cy="914400"/>
          </a:xfrm>
          <a:custGeom>
            <a:avLst/>
            <a:gdLst/>
            <a:ahLst/>
            <a:rect l="l" t="t" r="r" b="b"/>
            <a:pathLst>
              <a:path w="720" h="608">
                <a:moveTo>
                  <a:pt x="719" y="607"/>
                </a:moveTo>
                <a:lnTo>
                  <a:pt x="683" y="542"/>
                </a:lnTo>
                <a:lnTo>
                  <a:pt x="645" y="479"/>
                </a:lnTo>
                <a:lnTo>
                  <a:pt x="600" y="419"/>
                </a:lnTo>
                <a:lnTo>
                  <a:pt x="573" y="389"/>
                </a:lnTo>
                <a:lnTo>
                  <a:pt x="545" y="362"/>
                </a:lnTo>
                <a:lnTo>
                  <a:pt x="513" y="336"/>
                </a:lnTo>
                <a:lnTo>
                  <a:pt x="479" y="310"/>
                </a:lnTo>
                <a:lnTo>
                  <a:pt x="407" y="262"/>
                </a:lnTo>
                <a:lnTo>
                  <a:pt x="335" y="216"/>
                </a:lnTo>
                <a:lnTo>
                  <a:pt x="303" y="194"/>
                </a:lnTo>
                <a:lnTo>
                  <a:pt x="272" y="172"/>
                </a:lnTo>
                <a:lnTo>
                  <a:pt x="246" y="150"/>
                </a:lnTo>
                <a:lnTo>
                  <a:pt x="225" y="129"/>
                </a:lnTo>
                <a:lnTo>
                  <a:pt x="187" y="89"/>
                </a:lnTo>
                <a:lnTo>
                  <a:pt x="157" y="56"/>
                </a:lnTo>
                <a:lnTo>
                  <a:pt x="128" y="28"/>
                </a:lnTo>
                <a:lnTo>
                  <a:pt x="98" y="11"/>
                </a:lnTo>
                <a:lnTo>
                  <a:pt x="68" y="4"/>
                </a:lnTo>
                <a:lnTo>
                  <a:pt x="34" y="0"/>
                </a:lnTo>
                <a:lnTo>
                  <a:pt x="0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752480" y="4795920"/>
            <a:ext cx="4765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132440" y="3472920"/>
            <a:ext cx="0" cy="132084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570840" y="3124080"/>
            <a:ext cx="1225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959080" y="4419720"/>
            <a:ext cx="1243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790000" y="4879800"/>
            <a:ext cx="472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176080" y="4867200"/>
            <a:ext cx="399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00400" y="3571920"/>
            <a:ext cx="50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960640" y="5289480"/>
            <a:ext cx="0" cy="36216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311800" y="5253120"/>
            <a:ext cx="0" cy="36504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981160" y="5423040"/>
            <a:ext cx="2325960" cy="0"/>
          </a:xfrm>
          <a:prstGeom prst="line">
            <a:avLst/>
          </a:prstGeom>
          <a:ln w="6480">
            <a:solidFill>
              <a:srgbClr val="808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5880" y="5430960"/>
            <a:ext cx="530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971800" y="5791320"/>
            <a:ext cx="2286000" cy="530640"/>
            <a:chOff x="2971800" y="5791320"/>
            <a:chExt cx="2286000" cy="530640"/>
          </a:xfrm>
        </p:grpSpPr>
        <p:sp>
          <p:nvSpPr>
            <p:cNvPr id="667" name=""/>
            <p:cNvSpPr/>
            <p:nvPr/>
          </p:nvSpPr>
          <p:spPr>
            <a:xfrm rot="5400000">
              <a:off x="4000320" y="4762440"/>
              <a:ext cx="228600" cy="2286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581640" y="6019920"/>
              <a:ext cx="1062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ase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2362320" y="3886200"/>
            <a:ext cx="1798560" cy="912960"/>
          </a:xfrm>
          <a:custGeom>
            <a:avLst/>
            <a:gdLst/>
            <a:ahLst/>
            <a:rect l="l" t="t" r="r" b="b"/>
            <a:pathLst>
              <a:path w="721" h="607">
                <a:moveTo>
                  <a:pt x="0" y="606"/>
                </a:moveTo>
                <a:lnTo>
                  <a:pt x="34" y="541"/>
                </a:lnTo>
                <a:lnTo>
                  <a:pt x="72" y="477"/>
                </a:lnTo>
                <a:lnTo>
                  <a:pt x="118" y="416"/>
                </a:lnTo>
                <a:lnTo>
                  <a:pt x="144" y="386"/>
                </a:lnTo>
                <a:lnTo>
                  <a:pt x="173" y="359"/>
                </a:lnTo>
                <a:lnTo>
                  <a:pt x="241" y="307"/>
                </a:lnTo>
                <a:lnTo>
                  <a:pt x="313" y="259"/>
                </a:lnTo>
                <a:lnTo>
                  <a:pt x="385" y="215"/>
                </a:lnTo>
                <a:lnTo>
                  <a:pt x="417" y="193"/>
                </a:lnTo>
                <a:lnTo>
                  <a:pt x="447" y="171"/>
                </a:lnTo>
                <a:lnTo>
                  <a:pt x="474" y="149"/>
                </a:lnTo>
                <a:lnTo>
                  <a:pt x="495" y="129"/>
                </a:lnTo>
                <a:lnTo>
                  <a:pt x="533" y="88"/>
                </a:lnTo>
                <a:lnTo>
                  <a:pt x="561" y="55"/>
                </a:lnTo>
                <a:lnTo>
                  <a:pt x="589" y="27"/>
                </a:lnTo>
                <a:lnTo>
                  <a:pt x="620" y="11"/>
                </a:lnTo>
                <a:lnTo>
                  <a:pt x="652" y="3"/>
                </a:lnTo>
                <a:lnTo>
                  <a:pt x="684" y="0"/>
                </a:lnTo>
                <a:lnTo>
                  <a:pt x="720" y="0"/>
                </a:lnTo>
              </a:path>
            </a:pathLst>
          </a:custGeom>
          <a:noFill/>
          <a:ln cap="rnd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14800" y="3886200"/>
            <a:ext cx="685800" cy="914400"/>
          </a:xfrm>
          <a:custGeom>
            <a:avLst/>
            <a:gdLst/>
            <a:ahLst/>
            <a:rect l="l" t="t" r="r" b="b"/>
            <a:pathLst>
              <a:path w="720" h="608">
                <a:moveTo>
                  <a:pt x="719" y="607"/>
                </a:moveTo>
                <a:lnTo>
                  <a:pt x="683" y="542"/>
                </a:lnTo>
                <a:lnTo>
                  <a:pt x="645" y="479"/>
                </a:lnTo>
                <a:lnTo>
                  <a:pt x="600" y="419"/>
                </a:lnTo>
                <a:lnTo>
                  <a:pt x="573" y="389"/>
                </a:lnTo>
                <a:lnTo>
                  <a:pt x="545" y="362"/>
                </a:lnTo>
                <a:lnTo>
                  <a:pt x="513" y="336"/>
                </a:lnTo>
                <a:lnTo>
                  <a:pt x="479" y="310"/>
                </a:lnTo>
                <a:lnTo>
                  <a:pt x="407" y="262"/>
                </a:lnTo>
                <a:lnTo>
                  <a:pt x="335" y="216"/>
                </a:lnTo>
                <a:lnTo>
                  <a:pt x="303" y="194"/>
                </a:lnTo>
                <a:lnTo>
                  <a:pt x="272" y="172"/>
                </a:lnTo>
                <a:lnTo>
                  <a:pt x="246" y="150"/>
                </a:lnTo>
                <a:lnTo>
                  <a:pt x="225" y="129"/>
                </a:lnTo>
                <a:lnTo>
                  <a:pt x="187" y="89"/>
                </a:lnTo>
                <a:lnTo>
                  <a:pt x="157" y="56"/>
                </a:lnTo>
                <a:lnTo>
                  <a:pt x="128" y="28"/>
                </a:lnTo>
                <a:lnTo>
                  <a:pt x="98" y="11"/>
                </a:lnTo>
                <a:lnTo>
                  <a:pt x="68" y="4"/>
                </a:lnTo>
                <a:lnTo>
                  <a:pt x="34" y="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5028840" y="37339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253920" y="3505320"/>
            <a:ext cx="1149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al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297080" y="3657600"/>
            <a:ext cx="1539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ex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819520" y="3809880"/>
            <a:ext cx="6858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9A9-8FB0-4B03-9860-5CC6C8861D6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tion Cont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processing? … Was is d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 process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to digital signal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BCC-4A46-4813-B2A4-A7F440AF24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77400" y="291960"/>
            <a:ext cx="7913880" cy="39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1184400" y="4548240"/>
            <a:ext cx="5857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41560" y="4549680"/>
            <a:ext cx="4474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568520" y="4932360"/>
            <a:ext cx="4446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139840" y="4932360"/>
            <a:ext cx="381240" cy="1440"/>
          </a:xfrm>
          <a:prstGeom prst="line">
            <a:avLst/>
          </a:prstGeom>
          <a:ln w="6480">
            <a:solidFill>
              <a:srgbClr val="00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2130480" y="4673160"/>
            <a:ext cx="0" cy="4381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595600" y="4808520"/>
            <a:ext cx="676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603600" indent="-36036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ing Time (The Snapshot) – The time taken to take a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630520" y="4411800"/>
            <a:ext cx="555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ing Period – The period between sa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1773360" y="3662280"/>
            <a:ext cx="7920" cy="14544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2049480" y="3661920"/>
            <a:ext cx="0" cy="14382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96040" y="1082520"/>
            <a:ext cx="3978000" cy="32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0520" indent="-29052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ake snapshots of continuously changing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Sampling Period is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is makes information understand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y share price hit its lowest point in week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y share price reached its peak in week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79160" y="36957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481040" y="1308240"/>
            <a:ext cx="0" cy="22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427040" y="358308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427040" y="335448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427040" y="312588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427040" y="290052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427040" y="267192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427040" y="244332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427040" y="221472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427040" y="198612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7040" y="175752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427040" y="152892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427040" y="130032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88960" y="3583080"/>
            <a:ext cx="3667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1481040" y="3578040"/>
            <a:ext cx="0" cy="6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2049480" y="3578040"/>
            <a:ext cx="0" cy="6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328840" y="3578040"/>
            <a:ext cx="0" cy="6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2612880" y="3578040"/>
            <a:ext cx="0" cy="6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2894040" y="3578040"/>
            <a:ext cx="0" cy="6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3179880" y="3578040"/>
            <a:ext cx="0" cy="6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3463920" y="3578040"/>
            <a:ext cx="0" cy="6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3745080" y="3578040"/>
            <a:ext cx="0" cy="6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4043520" y="3578040"/>
            <a:ext cx="0" cy="6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4313160" y="3578040"/>
            <a:ext cx="0" cy="6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595760" y="3578040"/>
            <a:ext cx="0" cy="6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879800" y="3578040"/>
            <a:ext cx="0" cy="6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5164200" y="3578040"/>
            <a:ext cx="0" cy="6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81040" y="2214720"/>
            <a:ext cx="284400" cy="228600"/>
          </a:xfrm>
          <a:custGeom>
            <a:avLst/>
            <a:gdLst/>
            <a:ahLst/>
            <a:rect l="l" t="t" r="r" b="b"/>
            <a:pathLst>
              <a:path w="162" h="153">
                <a:moveTo>
                  <a:pt x="0" y="0"/>
                </a:moveTo>
                <a:lnTo>
                  <a:pt x="40" y="40"/>
                </a:lnTo>
                <a:lnTo>
                  <a:pt x="81" y="80"/>
                </a:lnTo>
                <a:lnTo>
                  <a:pt x="100" y="100"/>
                </a:lnTo>
                <a:lnTo>
                  <a:pt x="121" y="119"/>
                </a:lnTo>
                <a:lnTo>
                  <a:pt x="142" y="136"/>
                </a:lnTo>
                <a:lnTo>
                  <a:pt x="161" y="152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763640" y="2443320"/>
            <a:ext cx="287280" cy="114120"/>
          </a:xfrm>
          <a:custGeom>
            <a:avLst/>
            <a:gdLst/>
            <a:ahLst/>
            <a:rect l="l" t="t" r="r" b="b"/>
            <a:pathLst>
              <a:path w="164" h="76">
                <a:moveTo>
                  <a:pt x="0" y="0"/>
                </a:moveTo>
                <a:lnTo>
                  <a:pt x="20" y="13"/>
                </a:lnTo>
                <a:lnTo>
                  <a:pt x="39" y="23"/>
                </a:lnTo>
                <a:lnTo>
                  <a:pt x="61" y="30"/>
                </a:lnTo>
                <a:lnTo>
                  <a:pt x="82" y="36"/>
                </a:lnTo>
                <a:lnTo>
                  <a:pt x="101" y="44"/>
                </a:lnTo>
                <a:lnTo>
                  <a:pt x="123" y="52"/>
                </a:lnTo>
                <a:lnTo>
                  <a:pt x="142" y="61"/>
                </a:lnTo>
                <a:lnTo>
                  <a:pt x="163" y="75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49480" y="2556000"/>
            <a:ext cx="280800" cy="230040"/>
          </a:xfrm>
          <a:custGeom>
            <a:avLst/>
            <a:gdLst/>
            <a:ahLst/>
            <a:rect l="l" t="t" r="r" b="b"/>
            <a:pathLst>
              <a:path w="160" h="153">
                <a:moveTo>
                  <a:pt x="0" y="0"/>
                </a:moveTo>
                <a:lnTo>
                  <a:pt x="9" y="7"/>
                </a:lnTo>
                <a:lnTo>
                  <a:pt x="19" y="17"/>
                </a:lnTo>
                <a:lnTo>
                  <a:pt x="38" y="42"/>
                </a:lnTo>
                <a:lnTo>
                  <a:pt x="60" y="67"/>
                </a:lnTo>
                <a:lnTo>
                  <a:pt x="79" y="94"/>
                </a:lnTo>
                <a:lnTo>
                  <a:pt x="99" y="119"/>
                </a:lnTo>
                <a:lnTo>
                  <a:pt x="108" y="130"/>
                </a:lnTo>
                <a:lnTo>
                  <a:pt x="121" y="138"/>
                </a:lnTo>
                <a:lnTo>
                  <a:pt x="130" y="146"/>
                </a:lnTo>
                <a:lnTo>
                  <a:pt x="140" y="150"/>
                </a:lnTo>
                <a:lnTo>
                  <a:pt x="150" y="152"/>
                </a:lnTo>
                <a:lnTo>
                  <a:pt x="159" y="152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328840" y="2443320"/>
            <a:ext cx="285840" cy="342720"/>
          </a:xfrm>
          <a:custGeom>
            <a:avLst/>
            <a:gdLst/>
            <a:ahLst/>
            <a:rect l="l" t="t" r="r" b="b"/>
            <a:pathLst>
              <a:path w="163" h="228">
                <a:moveTo>
                  <a:pt x="0" y="227"/>
                </a:moveTo>
                <a:lnTo>
                  <a:pt x="10" y="223"/>
                </a:lnTo>
                <a:lnTo>
                  <a:pt x="19" y="215"/>
                </a:lnTo>
                <a:lnTo>
                  <a:pt x="30" y="207"/>
                </a:lnTo>
                <a:lnTo>
                  <a:pt x="40" y="194"/>
                </a:lnTo>
                <a:lnTo>
                  <a:pt x="51" y="180"/>
                </a:lnTo>
                <a:lnTo>
                  <a:pt x="62" y="165"/>
                </a:lnTo>
                <a:lnTo>
                  <a:pt x="81" y="132"/>
                </a:lnTo>
                <a:lnTo>
                  <a:pt x="100" y="96"/>
                </a:lnTo>
                <a:lnTo>
                  <a:pt x="122" y="59"/>
                </a:lnTo>
                <a:lnTo>
                  <a:pt x="143" y="27"/>
                </a:lnTo>
                <a:lnTo>
                  <a:pt x="152" y="13"/>
                </a:lnTo>
                <a:lnTo>
                  <a:pt x="162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612880" y="2214720"/>
            <a:ext cx="282600" cy="228600"/>
          </a:xfrm>
          <a:custGeom>
            <a:avLst/>
            <a:gdLst/>
            <a:ahLst/>
            <a:rect l="l" t="t" r="r" b="b"/>
            <a:pathLst>
              <a:path w="161" h="153">
                <a:moveTo>
                  <a:pt x="0" y="152"/>
                </a:moveTo>
                <a:lnTo>
                  <a:pt x="19" y="129"/>
                </a:lnTo>
                <a:lnTo>
                  <a:pt x="39" y="109"/>
                </a:lnTo>
                <a:lnTo>
                  <a:pt x="60" y="90"/>
                </a:lnTo>
                <a:lnTo>
                  <a:pt x="81" y="71"/>
                </a:lnTo>
                <a:lnTo>
                  <a:pt x="121" y="36"/>
                </a:lnTo>
                <a:lnTo>
                  <a:pt x="160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2903400" y="1981080"/>
            <a:ext cx="26856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187800" y="1752120"/>
            <a:ext cx="268200" cy="23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463920" y="1525680"/>
            <a:ext cx="282600" cy="233280"/>
          </a:xfrm>
          <a:custGeom>
            <a:avLst/>
            <a:gdLst/>
            <a:ahLst/>
            <a:rect l="l" t="t" r="r" b="b"/>
            <a:pathLst>
              <a:path w="161" h="156">
                <a:moveTo>
                  <a:pt x="0" y="155"/>
                </a:moveTo>
                <a:lnTo>
                  <a:pt x="9" y="146"/>
                </a:lnTo>
                <a:lnTo>
                  <a:pt x="19" y="134"/>
                </a:lnTo>
                <a:lnTo>
                  <a:pt x="39" y="107"/>
                </a:lnTo>
                <a:lnTo>
                  <a:pt x="60" y="79"/>
                </a:lnTo>
                <a:lnTo>
                  <a:pt x="81" y="52"/>
                </a:lnTo>
                <a:lnTo>
                  <a:pt x="90" y="38"/>
                </a:lnTo>
                <a:lnTo>
                  <a:pt x="100" y="27"/>
                </a:lnTo>
                <a:lnTo>
                  <a:pt x="109" y="17"/>
                </a:lnTo>
                <a:lnTo>
                  <a:pt x="121" y="9"/>
                </a:lnTo>
                <a:lnTo>
                  <a:pt x="131" y="3"/>
                </a:lnTo>
                <a:lnTo>
                  <a:pt x="141" y="2"/>
                </a:lnTo>
                <a:lnTo>
                  <a:pt x="151" y="0"/>
                </a:lnTo>
                <a:lnTo>
                  <a:pt x="160" y="3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745080" y="1528920"/>
            <a:ext cx="285480" cy="457200"/>
          </a:xfrm>
          <a:custGeom>
            <a:avLst/>
            <a:gdLst/>
            <a:ahLst/>
            <a:rect l="l" t="t" r="r" b="b"/>
            <a:pathLst>
              <a:path w="163" h="304">
                <a:moveTo>
                  <a:pt x="0" y="0"/>
                </a:moveTo>
                <a:lnTo>
                  <a:pt x="10" y="8"/>
                </a:lnTo>
                <a:lnTo>
                  <a:pt x="21" y="18"/>
                </a:lnTo>
                <a:lnTo>
                  <a:pt x="30" y="33"/>
                </a:lnTo>
                <a:lnTo>
                  <a:pt x="40" y="51"/>
                </a:lnTo>
                <a:lnTo>
                  <a:pt x="51" y="72"/>
                </a:lnTo>
                <a:lnTo>
                  <a:pt x="62" y="95"/>
                </a:lnTo>
                <a:lnTo>
                  <a:pt x="81" y="143"/>
                </a:lnTo>
                <a:lnTo>
                  <a:pt x="100" y="191"/>
                </a:lnTo>
                <a:lnTo>
                  <a:pt x="111" y="216"/>
                </a:lnTo>
                <a:lnTo>
                  <a:pt x="123" y="237"/>
                </a:lnTo>
                <a:lnTo>
                  <a:pt x="132" y="258"/>
                </a:lnTo>
                <a:lnTo>
                  <a:pt x="143" y="276"/>
                </a:lnTo>
                <a:lnTo>
                  <a:pt x="152" y="291"/>
                </a:lnTo>
                <a:lnTo>
                  <a:pt x="162" y="303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029120" y="1982880"/>
            <a:ext cx="285840" cy="31680"/>
          </a:xfrm>
          <a:custGeom>
            <a:avLst/>
            <a:gdLst/>
            <a:ahLst/>
            <a:rect l="l" t="t" r="r" b="b"/>
            <a:pathLst>
              <a:path w="163" h="22">
                <a:moveTo>
                  <a:pt x="0" y="2"/>
                </a:moveTo>
                <a:lnTo>
                  <a:pt x="10" y="9"/>
                </a:lnTo>
                <a:lnTo>
                  <a:pt x="19" y="15"/>
                </a:lnTo>
                <a:lnTo>
                  <a:pt x="30" y="19"/>
                </a:lnTo>
                <a:lnTo>
                  <a:pt x="39" y="21"/>
                </a:lnTo>
                <a:lnTo>
                  <a:pt x="51" y="21"/>
                </a:lnTo>
                <a:lnTo>
                  <a:pt x="62" y="21"/>
                </a:lnTo>
                <a:lnTo>
                  <a:pt x="81" y="15"/>
                </a:lnTo>
                <a:lnTo>
                  <a:pt x="100" y="9"/>
                </a:lnTo>
                <a:lnTo>
                  <a:pt x="122" y="4"/>
                </a:lnTo>
                <a:lnTo>
                  <a:pt x="141" y="0"/>
                </a:lnTo>
                <a:lnTo>
                  <a:pt x="152" y="0"/>
                </a:lnTo>
                <a:lnTo>
                  <a:pt x="162" y="2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313160" y="1986120"/>
            <a:ext cx="285840" cy="117360"/>
          </a:xfrm>
          <a:custGeom>
            <a:avLst/>
            <a:gdLst/>
            <a:ahLst/>
            <a:rect l="l" t="t" r="r" b="b"/>
            <a:pathLst>
              <a:path w="162" h="79">
                <a:moveTo>
                  <a:pt x="0" y="0"/>
                </a:moveTo>
                <a:lnTo>
                  <a:pt x="9" y="3"/>
                </a:lnTo>
                <a:lnTo>
                  <a:pt x="19" y="7"/>
                </a:lnTo>
                <a:lnTo>
                  <a:pt x="39" y="19"/>
                </a:lnTo>
                <a:lnTo>
                  <a:pt x="61" y="32"/>
                </a:lnTo>
                <a:lnTo>
                  <a:pt x="80" y="48"/>
                </a:lnTo>
                <a:lnTo>
                  <a:pt x="100" y="61"/>
                </a:lnTo>
                <a:lnTo>
                  <a:pt x="122" y="71"/>
                </a:lnTo>
                <a:lnTo>
                  <a:pt x="131" y="75"/>
                </a:lnTo>
                <a:lnTo>
                  <a:pt x="142" y="77"/>
                </a:lnTo>
                <a:lnTo>
                  <a:pt x="152" y="78"/>
                </a:lnTo>
                <a:lnTo>
                  <a:pt x="161" y="77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595760" y="1871640"/>
            <a:ext cx="285840" cy="230040"/>
          </a:xfrm>
          <a:custGeom>
            <a:avLst/>
            <a:gdLst/>
            <a:ahLst/>
            <a:rect l="l" t="t" r="r" b="b"/>
            <a:pathLst>
              <a:path w="162" h="153">
                <a:moveTo>
                  <a:pt x="0" y="152"/>
                </a:moveTo>
                <a:lnTo>
                  <a:pt x="10" y="148"/>
                </a:lnTo>
                <a:lnTo>
                  <a:pt x="20" y="144"/>
                </a:lnTo>
                <a:lnTo>
                  <a:pt x="30" y="136"/>
                </a:lnTo>
                <a:lnTo>
                  <a:pt x="40" y="128"/>
                </a:lnTo>
                <a:lnTo>
                  <a:pt x="61" y="107"/>
                </a:lnTo>
                <a:lnTo>
                  <a:pt x="81" y="84"/>
                </a:lnTo>
                <a:lnTo>
                  <a:pt x="100" y="61"/>
                </a:lnTo>
                <a:lnTo>
                  <a:pt x="121" y="38"/>
                </a:lnTo>
                <a:lnTo>
                  <a:pt x="142" y="17"/>
                </a:lnTo>
                <a:lnTo>
                  <a:pt x="151" y="7"/>
                </a:lnTo>
                <a:lnTo>
                  <a:pt x="161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879800" y="1757520"/>
            <a:ext cx="285840" cy="115560"/>
          </a:xfrm>
          <a:custGeom>
            <a:avLst/>
            <a:gdLst/>
            <a:ahLst/>
            <a:rect l="l" t="t" r="r" b="b"/>
            <a:pathLst>
              <a:path w="163" h="77">
                <a:moveTo>
                  <a:pt x="0" y="76"/>
                </a:moveTo>
                <a:lnTo>
                  <a:pt x="19" y="62"/>
                </a:lnTo>
                <a:lnTo>
                  <a:pt x="39" y="51"/>
                </a:lnTo>
                <a:lnTo>
                  <a:pt x="62" y="41"/>
                </a:lnTo>
                <a:lnTo>
                  <a:pt x="81" y="33"/>
                </a:lnTo>
                <a:lnTo>
                  <a:pt x="120" y="18"/>
                </a:lnTo>
                <a:lnTo>
                  <a:pt x="162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755720" y="2436840"/>
            <a:ext cx="30240" cy="252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755720" y="2436840"/>
            <a:ext cx="30240" cy="252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322360" y="2778120"/>
            <a:ext cx="28800" cy="2556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322360" y="2778120"/>
            <a:ext cx="28800" cy="2556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606760" y="2436840"/>
            <a:ext cx="30240" cy="252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606760" y="2436840"/>
            <a:ext cx="30240" cy="252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89360" y="2208240"/>
            <a:ext cx="29880" cy="252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889360" y="2208240"/>
            <a:ext cx="29880" cy="252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171960" y="1979640"/>
            <a:ext cx="29880" cy="252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71960" y="1979640"/>
            <a:ext cx="29880" cy="252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456000" y="1754280"/>
            <a:ext cx="30240" cy="252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456000" y="1754280"/>
            <a:ext cx="30240" cy="252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738600" y="1525680"/>
            <a:ext cx="30240" cy="252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738600" y="1525680"/>
            <a:ext cx="30240" cy="252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024440" y="1979640"/>
            <a:ext cx="29880" cy="252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24440" y="1979640"/>
            <a:ext cx="29880" cy="252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305240" y="1979640"/>
            <a:ext cx="30240" cy="252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05240" y="1979640"/>
            <a:ext cx="30240" cy="252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589640" y="2095560"/>
            <a:ext cx="29880" cy="252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589640" y="2095560"/>
            <a:ext cx="29880" cy="252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871880" y="1866960"/>
            <a:ext cx="30240" cy="252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871880" y="1866960"/>
            <a:ext cx="30240" cy="252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154480" y="1754280"/>
            <a:ext cx="30240" cy="252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154480" y="1754280"/>
            <a:ext cx="30240" cy="252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0" y="16"/>
                </a:lnTo>
                <a:lnTo>
                  <a:pt x="16" y="16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446120" y="2184480"/>
            <a:ext cx="69840" cy="58680"/>
          </a:xfrm>
          <a:custGeom>
            <a:avLst/>
            <a:gdLst/>
            <a:ahLst/>
            <a:rect l="l" t="t" r="r" b="b"/>
            <a:pathLst>
              <a:path w="40" h="40">
                <a:moveTo>
                  <a:pt x="20" y="0"/>
                </a:moveTo>
                <a:lnTo>
                  <a:pt x="39" y="20"/>
                </a:lnTo>
                <a:lnTo>
                  <a:pt x="20" y="39"/>
                </a:lnTo>
                <a:lnTo>
                  <a:pt x="0" y="20"/>
                </a:lnTo>
                <a:lnTo>
                  <a:pt x="2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730520" y="2413080"/>
            <a:ext cx="69840" cy="58680"/>
          </a:xfrm>
          <a:custGeom>
            <a:avLst/>
            <a:gdLst/>
            <a:ahLst/>
            <a:rect l="l" t="t" r="r" b="b"/>
            <a:pathLst>
              <a:path w="40" h="40">
                <a:moveTo>
                  <a:pt x="20" y="0"/>
                </a:moveTo>
                <a:lnTo>
                  <a:pt x="39" y="20"/>
                </a:lnTo>
                <a:lnTo>
                  <a:pt x="20" y="39"/>
                </a:lnTo>
                <a:lnTo>
                  <a:pt x="0" y="20"/>
                </a:lnTo>
                <a:lnTo>
                  <a:pt x="2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011320" y="2525760"/>
            <a:ext cx="71640" cy="60120"/>
          </a:xfrm>
          <a:custGeom>
            <a:avLst/>
            <a:gdLst/>
            <a:ahLst/>
            <a:rect l="l" t="t" r="r" b="b"/>
            <a:pathLst>
              <a:path w="41" h="40">
                <a:moveTo>
                  <a:pt x="21" y="0"/>
                </a:moveTo>
                <a:lnTo>
                  <a:pt x="40" y="20"/>
                </a:lnTo>
                <a:lnTo>
                  <a:pt x="21" y="39"/>
                </a:lnTo>
                <a:lnTo>
                  <a:pt x="0" y="20"/>
                </a:lnTo>
                <a:lnTo>
                  <a:pt x="21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97160" y="2754360"/>
            <a:ext cx="66600" cy="60120"/>
          </a:xfrm>
          <a:custGeom>
            <a:avLst/>
            <a:gdLst/>
            <a:ahLst/>
            <a:rect l="l" t="t" r="r" b="b"/>
            <a:pathLst>
              <a:path w="38" h="40">
                <a:moveTo>
                  <a:pt x="19" y="0"/>
                </a:moveTo>
                <a:lnTo>
                  <a:pt x="37" y="20"/>
                </a:lnTo>
                <a:lnTo>
                  <a:pt x="19" y="39"/>
                </a:lnTo>
                <a:lnTo>
                  <a:pt x="0" y="20"/>
                </a:lnTo>
                <a:lnTo>
                  <a:pt x="19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577960" y="2413080"/>
            <a:ext cx="73080" cy="58680"/>
          </a:xfrm>
          <a:custGeom>
            <a:avLst/>
            <a:gdLst/>
            <a:ahLst/>
            <a:rect l="l" t="t" r="r" b="b"/>
            <a:pathLst>
              <a:path w="41" h="40">
                <a:moveTo>
                  <a:pt x="20" y="0"/>
                </a:moveTo>
                <a:lnTo>
                  <a:pt x="40" y="20"/>
                </a:lnTo>
                <a:lnTo>
                  <a:pt x="20" y="39"/>
                </a:lnTo>
                <a:lnTo>
                  <a:pt x="0" y="20"/>
                </a:lnTo>
                <a:lnTo>
                  <a:pt x="2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862360" y="2184480"/>
            <a:ext cx="71280" cy="58680"/>
          </a:xfrm>
          <a:custGeom>
            <a:avLst/>
            <a:gdLst/>
            <a:ahLst/>
            <a:rect l="l" t="t" r="r" b="b"/>
            <a:pathLst>
              <a:path w="40" h="40">
                <a:moveTo>
                  <a:pt x="19" y="0"/>
                </a:moveTo>
                <a:lnTo>
                  <a:pt x="39" y="20"/>
                </a:lnTo>
                <a:lnTo>
                  <a:pt x="19" y="39"/>
                </a:lnTo>
                <a:lnTo>
                  <a:pt x="0" y="20"/>
                </a:lnTo>
                <a:lnTo>
                  <a:pt x="19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143160" y="1955880"/>
            <a:ext cx="73080" cy="58680"/>
          </a:xfrm>
          <a:custGeom>
            <a:avLst/>
            <a:gdLst/>
            <a:ahLst/>
            <a:rect l="l" t="t" r="r" b="b"/>
            <a:pathLst>
              <a:path w="41" h="40">
                <a:moveTo>
                  <a:pt x="20" y="0"/>
                </a:moveTo>
                <a:lnTo>
                  <a:pt x="40" y="20"/>
                </a:lnTo>
                <a:lnTo>
                  <a:pt x="20" y="39"/>
                </a:lnTo>
                <a:lnTo>
                  <a:pt x="0" y="20"/>
                </a:lnTo>
                <a:lnTo>
                  <a:pt x="2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429000" y="1728720"/>
            <a:ext cx="69840" cy="60480"/>
          </a:xfrm>
          <a:custGeom>
            <a:avLst/>
            <a:gdLst/>
            <a:ahLst/>
            <a:rect l="l" t="t" r="r" b="b"/>
            <a:pathLst>
              <a:path w="40" h="40">
                <a:moveTo>
                  <a:pt x="20" y="0"/>
                </a:moveTo>
                <a:lnTo>
                  <a:pt x="39" y="19"/>
                </a:lnTo>
                <a:lnTo>
                  <a:pt x="20" y="39"/>
                </a:lnTo>
                <a:lnTo>
                  <a:pt x="0" y="19"/>
                </a:lnTo>
                <a:lnTo>
                  <a:pt x="2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713040" y="1500120"/>
            <a:ext cx="69840" cy="60480"/>
          </a:xfrm>
          <a:custGeom>
            <a:avLst/>
            <a:gdLst/>
            <a:ahLst/>
            <a:rect l="l" t="t" r="r" b="b"/>
            <a:pathLst>
              <a:path w="40" h="40">
                <a:moveTo>
                  <a:pt x="19" y="0"/>
                </a:moveTo>
                <a:lnTo>
                  <a:pt x="39" y="19"/>
                </a:lnTo>
                <a:lnTo>
                  <a:pt x="19" y="39"/>
                </a:lnTo>
                <a:lnTo>
                  <a:pt x="0" y="19"/>
                </a:lnTo>
                <a:lnTo>
                  <a:pt x="19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994200" y="1955880"/>
            <a:ext cx="71280" cy="58680"/>
          </a:xfrm>
          <a:custGeom>
            <a:avLst/>
            <a:gdLst/>
            <a:ahLst/>
            <a:rect l="l" t="t" r="r" b="b"/>
            <a:pathLst>
              <a:path w="41" h="40">
                <a:moveTo>
                  <a:pt x="20" y="0"/>
                </a:moveTo>
                <a:lnTo>
                  <a:pt x="40" y="20"/>
                </a:lnTo>
                <a:lnTo>
                  <a:pt x="20" y="39"/>
                </a:lnTo>
                <a:lnTo>
                  <a:pt x="0" y="20"/>
                </a:lnTo>
                <a:lnTo>
                  <a:pt x="2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278240" y="1955880"/>
            <a:ext cx="69840" cy="58680"/>
          </a:xfrm>
          <a:custGeom>
            <a:avLst/>
            <a:gdLst/>
            <a:ahLst/>
            <a:rect l="l" t="t" r="r" b="b"/>
            <a:pathLst>
              <a:path w="40" h="40">
                <a:moveTo>
                  <a:pt x="20" y="0"/>
                </a:moveTo>
                <a:lnTo>
                  <a:pt x="39" y="20"/>
                </a:lnTo>
                <a:lnTo>
                  <a:pt x="20" y="39"/>
                </a:lnTo>
                <a:lnTo>
                  <a:pt x="0" y="20"/>
                </a:lnTo>
                <a:lnTo>
                  <a:pt x="2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59400" y="2071800"/>
            <a:ext cx="74520" cy="58680"/>
          </a:xfrm>
          <a:custGeom>
            <a:avLst/>
            <a:gdLst/>
            <a:ahLst/>
            <a:rect l="l" t="t" r="r" b="b"/>
            <a:pathLst>
              <a:path w="42" h="40">
                <a:moveTo>
                  <a:pt x="20" y="0"/>
                </a:moveTo>
                <a:lnTo>
                  <a:pt x="41" y="20"/>
                </a:lnTo>
                <a:lnTo>
                  <a:pt x="20" y="39"/>
                </a:lnTo>
                <a:lnTo>
                  <a:pt x="0" y="20"/>
                </a:lnTo>
                <a:lnTo>
                  <a:pt x="2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846680" y="1843200"/>
            <a:ext cx="68400" cy="58680"/>
          </a:xfrm>
          <a:custGeom>
            <a:avLst/>
            <a:gdLst/>
            <a:ahLst/>
            <a:rect l="l" t="t" r="r" b="b"/>
            <a:pathLst>
              <a:path w="39" h="40">
                <a:moveTo>
                  <a:pt x="19" y="0"/>
                </a:moveTo>
                <a:lnTo>
                  <a:pt x="38" y="20"/>
                </a:lnTo>
                <a:lnTo>
                  <a:pt x="19" y="39"/>
                </a:lnTo>
                <a:lnTo>
                  <a:pt x="0" y="20"/>
                </a:lnTo>
                <a:lnTo>
                  <a:pt x="19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127480" y="1728720"/>
            <a:ext cx="71640" cy="60480"/>
          </a:xfrm>
          <a:custGeom>
            <a:avLst/>
            <a:gdLst/>
            <a:ahLst/>
            <a:rect l="l" t="t" r="r" b="b"/>
            <a:pathLst>
              <a:path w="41" h="40">
                <a:moveTo>
                  <a:pt x="21" y="0"/>
                </a:moveTo>
                <a:lnTo>
                  <a:pt x="40" y="19"/>
                </a:lnTo>
                <a:lnTo>
                  <a:pt x="21" y="39"/>
                </a:lnTo>
                <a:lnTo>
                  <a:pt x="0" y="19"/>
                </a:lnTo>
                <a:lnTo>
                  <a:pt x="21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122480" y="34448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65520" y="3216240"/>
            <a:ext cx="43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965520" y="2987640"/>
            <a:ext cx="43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965520" y="2762280"/>
            <a:ext cx="43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65520" y="2533680"/>
            <a:ext cx="43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22480" y="230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65520" y="2076480"/>
            <a:ext cx="43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65520" y="1847880"/>
            <a:ext cx="43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965520" y="1622520"/>
            <a:ext cx="43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65520" y="1393920"/>
            <a:ext cx="43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22480" y="1165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329120" y="36957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11360" y="36957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899000" y="36957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178360" y="36957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463840" y="36957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745000" y="36957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029040" y="36957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311640" y="36957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597480" y="36957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28240" y="36957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110840" y="36957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396680" y="36957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679280" y="36957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482560" y="3943440"/>
            <a:ext cx="164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IME (IN WEEK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rot="16200000">
            <a:off x="-59040" y="2449800"/>
            <a:ext cx="1598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ARE P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78040" y="2473200"/>
            <a:ext cx="0" cy="11052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049480" y="2568600"/>
            <a:ext cx="0" cy="10098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332080" y="2816280"/>
            <a:ext cx="0" cy="7621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624040" y="2462040"/>
            <a:ext cx="0" cy="1116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901960" y="2236680"/>
            <a:ext cx="0" cy="1341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191040" y="2022480"/>
            <a:ext cx="0" cy="15559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468600" y="1785960"/>
            <a:ext cx="0" cy="17924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760920" y="1571760"/>
            <a:ext cx="0" cy="20174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038480" y="1998720"/>
            <a:ext cx="0" cy="1579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29000" y="2011320"/>
            <a:ext cx="0" cy="15670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606920" y="2128680"/>
            <a:ext cx="0" cy="1449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897440" y="1903320"/>
            <a:ext cx="0" cy="16750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173560" y="1762200"/>
            <a:ext cx="0" cy="18050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776240" y="359100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179360" y="5129280"/>
            <a:ext cx="854280" cy="560160"/>
          </a:xfrm>
          <a:custGeom>
            <a:avLst/>
            <a:gdLst/>
            <a:ahLst/>
            <a:rect l="l" t="t" r="r" b="b"/>
            <a:pathLst>
              <a:path w="486" h="372">
                <a:moveTo>
                  <a:pt x="0" y="372"/>
                </a:moveTo>
                <a:lnTo>
                  <a:pt x="342" y="372"/>
                </a:lnTo>
                <a:lnTo>
                  <a:pt x="342" y="0"/>
                </a:lnTo>
                <a:lnTo>
                  <a:pt x="384" y="0"/>
                </a:lnTo>
                <a:lnTo>
                  <a:pt x="384" y="372"/>
                </a:lnTo>
                <a:lnTo>
                  <a:pt x="486" y="3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008080" y="5121360"/>
            <a:ext cx="41400" cy="568080"/>
          </a:xfrm>
          <a:custGeom>
            <a:avLst/>
            <a:gdLst/>
            <a:ahLst/>
            <a:rect l="l" t="t" r="r" b="b"/>
            <a:pathLst>
              <a:path w="24" h="378">
                <a:moveTo>
                  <a:pt x="24" y="0"/>
                </a:moveTo>
                <a:lnTo>
                  <a:pt x="24" y="378"/>
                </a:lnTo>
                <a:lnTo>
                  <a:pt x="0" y="37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44800" y="5121360"/>
            <a:ext cx="299880" cy="563400"/>
          </a:xfrm>
          <a:custGeom>
            <a:avLst/>
            <a:gdLst/>
            <a:ahLst/>
            <a:rect l="l" t="t" r="r" b="b"/>
            <a:pathLst>
              <a:path w="171" h="375">
                <a:moveTo>
                  <a:pt x="0" y="0"/>
                </a:moveTo>
                <a:lnTo>
                  <a:pt x="48" y="0"/>
                </a:lnTo>
                <a:lnTo>
                  <a:pt x="48" y="375"/>
                </a:lnTo>
                <a:lnTo>
                  <a:pt x="171" y="3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B33-7914-4407-8152-E2B2F325D9D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77760" y="152280"/>
            <a:ext cx="7855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ssing Inform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5057640" y="1082520"/>
            <a:ext cx="453708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-periodic Snapsh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y miss information</a:t>
            </a:r>
            <a:br>
              <a:rPr sz="1800"/>
            </a:br>
            <a:br>
              <a:rPr sz="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 dip in prices between T3 and T4 goes unnoti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formation cannot be interpreted eas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057640" y="3400560"/>
            <a:ext cx="436572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iodic Snapsh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y miss information</a:t>
            </a:r>
            <a:br>
              <a:rPr sz="1800"/>
            </a:br>
            <a:br>
              <a:rPr sz="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 dip in prices between T2 and T3 goes unnoti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asier to interp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141880" y="5370480"/>
            <a:ext cx="4341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he key is the sampling frequ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292840" y="5832360"/>
            <a:ext cx="1323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ferred p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879560" y="5792760"/>
            <a:ext cx="41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79880" y="5635800"/>
            <a:ext cx="1613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ctual var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892160" y="5967360"/>
            <a:ext cx="419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771560" y="5645160"/>
            <a:ext cx="226080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53760" y="2602080"/>
            <a:ext cx="623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rot="16200000">
            <a:off x="479880" y="1807560"/>
            <a:ext cx="792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635120" y="1784520"/>
            <a:ext cx="2558880" cy="0"/>
          </a:xfrm>
          <a:prstGeom prst="line">
            <a:avLst/>
          </a:prstGeom>
          <a:ln w="1260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211640" y="1646280"/>
            <a:ext cx="504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ahoma"/>
              </a:rPr>
              <a:t>BU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644840" y="2852640"/>
            <a:ext cx="2634480" cy="303480"/>
            <a:chOff x="1644840" y="2852640"/>
            <a:chExt cx="2634480" cy="303480"/>
          </a:xfrm>
        </p:grpSpPr>
        <p:sp>
          <p:nvSpPr>
            <p:cNvPr id="821" name=""/>
            <p:cNvSpPr/>
            <p:nvPr/>
          </p:nvSpPr>
          <p:spPr>
            <a:xfrm>
              <a:off x="1644840" y="2854080"/>
              <a:ext cx="387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945440" y="2854080"/>
              <a:ext cx="387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391840" y="2852640"/>
              <a:ext cx="387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278880" y="2852640"/>
              <a:ext cx="387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512160" y="2854080"/>
              <a:ext cx="387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891960" y="2854080"/>
              <a:ext cx="387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1612800" y="98568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557360" y="97776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558800" y="123984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554120" y="148608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563840" y="175428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557360" y="199692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563840" y="225900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563840" y="250668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622520" y="2743200"/>
            <a:ext cx="26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785960" y="2755800"/>
            <a:ext cx="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95560" y="2755800"/>
            <a:ext cx="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43040" y="275904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9000" y="275904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691080" y="275904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024440" y="275904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182960" y="846000"/>
            <a:ext cx="43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182960" y="1100160"/>
            <a:ext cx="43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302120" y="13557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170360" y="1622520"/>
            <a:ext cx="43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170360" y="1863720"/>
            <a:ext cx="43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170360" y="2128680"/>
            <a:ext cx="43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182960" y="2371680"/>
            <a:ext cx="43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339920" y="2612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92280" y="1014480"/>
            <a:ext cx="2685960" cy="847800"/>
          </a:xfrm>
          <a:custGeom>
            <a:avLst/>
            <a:gdLst/>
            <a:ahLst/>
            <a:rect l="l" t="t" r="r" b="b"/>
            <a:pathLst>
              <a:path w="1529" h="563">
                <a:moveTo>
                  <a:pt x="0" y="150"/>
                </a:moveTo>
                <a:lnTo>
                  <a:pt x="6" y="156"/>
                </a:lnTo>
                <a:lnTo>
                  <a:pt x="13" y="161"/>
                </a:lnTo>
                <a:lnTo>
                  <a:pt x="19" y="167"/>
                </a:lnTo>
                <a:lnTo>
                  <a:pt x="25" y="171"/>
                </a:lnTo>
                <a:lnTo>
                  <a:pt x="33" y="177"/>
                </a:lnTo>
                <a:lnTo>
                  <a:pt x="38" y="182"/>
                </a:lnTo>
                <a:lnTo>
                  <a:pt x="46" y="188"/>
                </a:lnTo>
                <a:lnTo>
                  <a:pt x="52" y="192"/>
                </a:lnTo>
                <a:lnTo>
                  <a:pt x="59" y="198"/>
                </a:lnTo>
                <a:lnTo>
                  <a:pt x="65" y="203"/>
                </a:lnTo>
                <a:lnTo>
                  <a:pt x="73" y="207"/>
                </a:lnTo>
                <a:lnTo>
                  <a:pt x="78" y="213"/>
                </a:lnTo>
                <a:lnTo>
                  <a:pt x="86" y="218"/>
                </a:lnTo>
                <a:lnTo>
                  <a:pt x="94" y="222"/>
                </a:lnTo>
                <a:lnTo>
                  <a:pt x="99" y="228"/>
                </a:lnTo>
                <a:lnTo>
                  <a:pt x="107" y="232"/>
                </a:lnTo>
                <a:lnTo>
                  <a:pt x="115" y="237"/>
                </a:lnTo>
                <a:lnTo>
                  <a:pt x="122" y="241"/>
                </a:lnTo>
                <a:lnTo>
                  <a:pt x="130" y="245"/>
                </a:lnTo>
                <a:lnTo>
                  <a:pt x="138" y="251"/>
                </a:lnTo>
                <a:lnTo>
                  <a:pt x="145" y="255"/>
                </a:lnTo>
                <a:lnTo>
                  <a:pt x="153" y="258"/>
                </a:lnTo>
                <a:lnTo>
                  <a:pt x="161" y="264"/>
                </a:lnTo>
                <a:lnTo>
                  <a:pt x="168" y="268"/>
                </a:lnTo>
                <a:lnTo>
                  <a:pt x="176" y="272"/>
                </a:lnTo>
                <a:lnTo>
                  <a:pt x="184" y="275"/>
                </a:lnTo>
                <a:lnTo>
                  <a:pt x="191" y="281"/>
                </a:lnTo>
                <a:lnTo>
                  <a:pt x="199" y="285"/>
                </a:lnTo>
                <a:lnTo>
                  <a:pt x="207" y="289"/>
                </a:lnTo>
                <a:lnTo>
                  <a:pt x="214" y="292"/>
                </a:lnTo>
                <a:lnTo>
                  <a:pt x="224" y="296"/>
                </a:lnTo>
                <a:lnTo>
                  <a:pt x="231" y="300"/>
                </a:lnTo>
                <a:lnTo>
                  <a:pt x="239" y="302"/>
                </a:lnTo>
                <a:lnTo>
                  <a:pt x="247" y="306"/>
                </a:lnTo>
                <a:lnTo>
                  <a:pt x="256" y="310"/>
                </a:lnTo>
                <a:lnTo>
                  <a:pt x="266" y="313"/>
                </a:lnTo>
                <a:lnTo>
                  <a:pt x="274" y="317"/>
                </a:lnTo>
                <a:lnTo>
                  <a:pt x="283" y="319"/>
                </a:lnTo>
                <a:lnTo>
                  <a:pt x="293" y="323"/>
                </a:lnTo>
                <a:lnTo>
                  <a:pt x="302" y="325"/>
                </a:lnTo>
                <a:lnTo>
                  <a:pt x="312" y="329"/>
                </a:lnTo>
                <a:lnTo>
                  <a:pt x="321" y="330"/>
                </a:lnTo>
                <a:lnTo>
                  <a:pt x="331" y="332"/>
                </a:lnTo>
                <a:lnTo>
                  <a:pt x="340" y="336"/>
                </a:lnTo>
                <a:lnTo>
                  <a:pt x="350" y="338"/>
                </a:lnTo>
                <a:lnTo>
                  <a:pt x="360" y="340"/>
                </a:lnTo>
                <a:lnTo>
                  <a:pt x="369" y="344"/>
                </a:lnTo>
                <a:lnTo>
                  <a:pt x="381" y="346"/>
                </a:lnTo>
                <a:lnTo>
                  <a:pt x="390" y="348"/>
                </a:lnTo>
                <a:lnTo>
                  <a:pt x="400" y="351"/>
                </a:lnTo>
                <a:lnTo>
                  <a:pt x="409" y="353"/>
                </a:lnTo>
                <a:lnTo>
                  <a:pt x="419" y="355"/>
                </a:lnTo>
                <a:lnTo>
                  <a:pt x="428" y="359"/>
                </a:lnTo>
                <a:lnTo>
                  <a:pt x="438" y="361"/>
                </a:lnTo>
                <a:lnTo>
                  <a:pt x="448" y="365"/>
                </a:lnTo>
                <a:lnTo>
                  <a:pt x="457" y="367"/>
                </a:lnTo>
                <a:lnTo>
                  <a:pt x="467" y="370"/>
                </a:lnTo>
                <a:lnTo>
                  <a:pt x="476" y="372"/>
                </a:lnTo>
                <a:lnTo>
                  <a:pt x="484" y="376"/>
                </a:lnTo>
                <a:lnTo>
                  <a:pt x="493" y="380"/>
                </a:lnTo>
                <a:lnTo>
                  <a:pt x="501" y="382"/>
                </a:lnTo>
                <a:lnTo>
                  <a:pt x="511" y="386"/>
                </a:lnTo>
                <a:lnTo>
                  <a:pt x="518" y="389"/>
                </a:lnTo>
                <a:lnTo>
                  <a:pt x="528" y="395"/>
                </a:lnTo>
                <a:lnTo>
                  <a:pt x="536" y="399"/>
                </a:lnTo>
                <a:lnTo>
                  <a:pt x="543" y="403"/>
                </a:lnTo>
                <a:lnTo>
                  <a:pt x="551" y="408"/>
                </a:lnTo>
                <a:lnTo>
                  <a:pt x="557" y="414"/>
                </a:lnTo>
                <a:lnTo>
                  <a:pt x="564" y="420"/>
                </a:lnTo>
                <a:lnTo>
                  <a:pt x="572" y="427"/>
                </a:lnTo>
                <a:lnTo>
                  <a:pt x="580" y="433"/>
                </a:lnTo>
                <a:lnTo>
                  <a:pt x="585" y="441"/>
                </a:lnTo>
                <a:lnTo>
                  <a:pt x="593" y="446"/>
                </a:lnTo>
                <a:lnTo>
                  <a:pt x="599" y="454"/>
                </a:lnTo>
                <a:lnTo>
                  <a:pt x="606" y="462"/>
                </a:lnTo>
                <a:lnTo>
                  <a:pt x="612" y="469"/>
                </a:lnTo>
                <a:lnTo>
                  <a:pt x="620" y="477"/>
                </a:lnTo>
                <a:lnTo>
                  <a:pt x="625" y="482"/>
                </a:lnTo>
                <a:lnTo>
                  <a:pt x="631" y="490"/>
                </a:lnTo>
                <a:lnTo>
                  <a:pt x="639" y="498"/>
                </a:lnTo>
                <a:lnTo>
                  <a:pt x="645" y="505"/>
                </a:lnTo>
                <a:lnTo>
                  <a:pt x="650" y="511"/>
                </a:lnTo>
                <a:lnTo>
                  <a:pt x="656" y="517"/>
                </a:lnTo>
                <a:lnTo>
                  <a:pt x="664" y="524"/>
                </a:lnTo>
                <a:lnTo>
                  <a:pt x="669" y="530"/>
                </a:lnTo>
                <a:lnTo>
                  <a:pt x="675" y="536"/>
                </a:lnTo>
                <a:lnTo>
                  <a:pt x="683" y="539"/>
                </a:lnTo>
                <a:lnTo>
                  <a:pt x="689" y="545"/>
                </a:lnTo>
                <a:lnTo>
                  <a:pt x="694" y="549"/>
                </a:lnTo>
                <a:lnTo>
                  <a:pt x="702" y="553"/>
                </a:lnTo>
                <a:lnTo>
                  <a:pt x="708" y="557"/>
                </a:lnTo>
                <a:lnTo>
                  <a:pt x="713" y="558"/>
                </a:lnTo>
                <a:lnTo>
                  <a:pt x="721" y="560"/>
                </a:lnTo>
                <a:lnTo>
                  <a:pt x="727" y="562"/>
                </a:lnTo>
                <a:lnTo>
                  <a:pt x="734" y="562"/>
                </a:lnTo>
                <a:lnTo>
                  <a:pt x="742" y="562"/>
                </a:lnTo>
                <a:lnTo>
                  <a:pt x="748" y="560"/>
                </a:lnTo>
                <a:lnTo>
                  <a:pt x="755" y="558"/>
                </a:lnTo>
                <a:lnTo>
                  <a:pt x="763" y="555"/>
                </a:lnTo>
                <a:lnTo>
                  <a:pt x="769" y="551"/>
                </a:lnTo>
                <a:lnTo>
                  <a:pt x="777" y="547"/>
                </a:lnTo>
                <a:lnTo>
                  <a:pt x="784" y="543"/>
                </a:lnTo>
                <a:lnTo>
                  <a:pt x="790" y="538"/>
                </a:lnTo>
                <a:lnTo>
                  <a:pt x="798" y="532"/>
                </a:lnTo>
                <a:lnTo>
                  <a:pt x="805" y="526"/>
                </a:lnTo>
                <a:lnTo>
                  <a:pt x="813" y="519"/>
                </a:lnTo>
                <a:lnTo>
                  <a:pt x="821" y="511"/>
                </a:lnTo>
                <a:lnTo>
                  <a:pt x="826" y="503"/>
                </a:lnTo>
                <a:lnTo>
                  <a:pt x="834" y="496"/>
                </a:lnTo>
                <a:lnTo>
                  <a:pt x="842" y="488"/>
                </a:lnTo>
                <a:lnTo>
                  <a:pt x="849" y="479"/>
                </a:lnTo>
                <a:lnTo>
                  <a:pt x="857" y="471"/>
                </a:lnTo>
                <a:lnTo>
                  <a:pt x="864" y="462"/>
                </a:lnTo>
                <a:lnTo>
                  <a:pt x="870" y="452"/>
                </a:lnTo>
                <a:lnTo>
                  <a:pt x="878" y="444"/>
                </a:lnTo>
                <a:lnTo>
                  <a:pt x="886" y="435"/>
                </a:lnTo>
                <a:lnTo>
                  <a:pt x="893" y="425"/>
                </a:lnTo>
                <a:lnTo>
                  <a:pt x="901" y="418"/>
                </a:lnTo>
                <a:lnTo>
                  <a:pt x="908" y="408"/>
                </a:lnTo>
                <a:lnTo>
                  <a:pt x="914" y="399"/>
                </a:lnTo>
                <a:lnTo>
                  <a:pt x="922" y="391"/>
                </a:lnTo>
                <a:lnTo>
                  <a:pt x="930" y="384"/>
                </a:lnTo>
                <a:lnTo>
                  <a:pt x="937" y="376"/>
                </a:lnTo>
                <a:lnTo>
                  <a:pt x="945" y="367"/>
                </a:lnTo>
                <a:lnTo>
                  <a:pt x="951" y="361"/>
                </a:lnTo>
                <a:lnTo>
                  <a:pt x="958" y="353"/>
                </a:lnTo>
                <a:lnTo>
                  <a:pt x="966" y="348"/>
                </a:lnTo>
                <a:lnTo>
                  <a:pt x="974" y="342"/>
                </a:lnTo>
                <a:lnTo>
                  <a:pt x="979" y="336"/>
                </a:lnTo>
                <a:lnTo>
                  <a:pt x="987" y="330"/>
                </a:lnTo>
                <a:lnTo>
                  <a:pt x="993" y="325"/>
                </a:lnTo>
                <a:lnTo>
                  <a:pt x="1000" y="319"/>
                </a:lnTo>
                <a:lnTo>
                  <a:pt x="1006" y="315"/>
                </a:lnTo>
                <a:lnTo>
                  <a:pt x="1014" y="310"/>
                </a:lnTo>
                <a:lnTo>
                  <a:pt x="1019" y="306"/>
                </a:lnTo>
                <a:lnTo>
                  <a:pt x="1025" y="300"/>
                </a:lnTo>
                <a:lnTo>
                  <a:pt x="1033" y="296"/>
                </a:lnTo>
                <a:lnTo>
                  <a:pt x="1039" y="292"/>
                </a:lnTo>
                <a:lnTo>
                  <a:pt x="1044" y="287"/>
                </a:lnTo>
                <a:lnTo>
                  <a:pt x="1052" y="283"/>
                </a:lnTo>
                <a:lnTo>
                  <a:pt x="1058" y="279"/>
                </a:lnTo>
                <a:lnTo>
                  <a:pt x="1063" y="275"/>
                </a:lnTo>
                <a:lnTo>
                  <a:pt x="1071" y="272"/>
                </a:lnTo>
                <a:lnTo>
                  <a:pt x="1077" y="268"/>
                </a:lnTo>
                <a:lnTo>
                  <a:pt x="1084" y="264"/>
                </a:lnTo>
                <a:lnTo>
                  <a:pt x="1090" y="260"/>
                </a:lnTo>
                <a:lnTo>
                  <a:pt x="1096" y="255"/>
                </a:lnTo>
                <a:lnTo>
                  <a:pt x="1104" y="251"/>
                </a:lnTo>
                <a:lnTo>
                  <a:pt x="1111" y="247"/>
                </a:lnTo>
                <a:lnTo>
                  <a:pt x="1117" y="243"/>
                </a:lnTo>
                <a:lnTo>
                  <a:pt x="1125" y="239"/>
                </a:lnTo>
                <a:lnTo>
                  <a:pt x="1132" y="236"/>
                </a:lnTo>
                <a:lnTo>
                  <a:pt x="1138" y="230"/>
                </a:lnTo>
                <a:lnTo>
                  <a:pt x="1146" y="226"/>
                </a:lnTo>
                <a:lnTo>
                  <a:pt x="1153" y="222"/>
                </a:lnTo>
                <a:lnTo>
                  <a:pt x="1161" y="217"/>
                </a:lnTo>
                <a:lnTo>
                  <a:pt x="1169" y="213"/>
                </a:lnTo>
                <a:lnTo>
                  <a:pt x="1178" y="207"/>
                </a:lnTo>
                <a:lnTo>
                  <a:pt x="1186" y="201"/>
                </a:lnTo>
                <a:lnTo>
                  <a:pt x="1195" y="198"/>
                </a:lnTo>
                <a:lnTo>
                  <a:pt x="1205" y="192"/>
                </a:lnTo>
                <a:lnTo>
                  <a:pt x="1213" y="186"/>
                </a:lnTo>
                <a:lnTo>
                  <a:pt x="1222" y="180"/>
                </a:lnTo>
                <a:lnTo>
                  <a:pt x="1232" y="177"/>
                </a:lnTo>
                <a:lnTo>
                  <a:pt x="1239" y="171"/>
                </a:lnTo>
                <a:lnTo>
                  <a:pt x="1249" y="165"/>
                </a:lnTo>
                <a:lnTo>
                  <a:pt x="1258" y="160"/>
                </a:lnTo>
                <a:lnTo>
                  <a:pt x="1268" y="154"/>
                </a:lnTo>
                <a:lnTo>
                  <a:pt x="1278" y="148"/>
                </a:lnTo>
                <a:lnTo>
                  <a:pt x="1287" y="142"/>
                </a:lnTo>
                <a:lnTo>
                  <a:pt x="1297" y="135"/>
                </a:lnTo>
                <a:lnTo>
                  <a:pt x="1306" y="129"/>
                </a:lnTo>
                <a:lnTo>
                  <a:pt x="1318" y="123"/>
                </a:lnTo>
                <a:lnTo>
                  <a:pt x="1327" y="118"/>
                </a:lnTo>
                <a:lnTo>
                  <a:pt x="1337" y="112"/>
                </a:lnTo>
                <a:lnTo>
                  <a:pt x="1348" y="106"/>
                </a:lnTo>
                <a:lnTo>
                  <a:pt x="1358" y="99"/>
                </a:lnTo>
                <a:lnTo>
                  <a:pt x="1369" y="93"/>
                </a:lnTo>
                <a:lnTo>
                  <a:pt x="1379" y="87"/>
                </a:lnTo>
                <a:lnTo>
                  <a:pt x="1390" y="80"/>
                </a:lnTo>
                <a:lnTo>
                  <a:pt x="1402" y="74"/>
                </a:lnTo>
                <a:lnTo>
                  <a:pt x="1412" y="68"/>
                </a:lnTo>
                <a:lnTo>
                  <a:pt x="1423" y="61"/>
                </a:lnTo>
                <a:lnTo>
                  <a:pt x="1434" y="55"/>
                </a:lnTo>
                <a:lnTo>
                  <a:pt x="1446" y="47"/>
                </a:lnTo>
                <a:lnTo>
                  <a:pt x="1457" y="42"/>
                </a:lnTo>
                <a:lnTo>
                  <a:pt x="1469" y="34"/>
                </a:lnTo>
                <a:lnTo>
                  <a:pt x="1480" y="28"/>
                </a:lnTo>
                <a:lnTo>
                  <a:pt x="1492" y="21"/>
                </a:lnTo>
                <a:lnTo>
                  <a:pt x="1503" y="13"/>
                </a:lnTo>
                <a:lnTo>
                  <a:pt x="1517" y="8"/>
                </a:lnTo>
                <a:lnTo>
                  <a:pt x="152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1792440" y="1355760"/>
            <a:ext cx="0" cy="1393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2095560" y="1519200"/>
            <a:ext cx="0" cy="1225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2543040" y="1684080"/>
            <a:ext cx="0" cy="1058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3429000" y="1461600"/>
            <a:ext cx="0" cy="12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 flipV="1">
            <a:off x="3674880" y="1328400"/>
            <a:ext cx="20520" cy="1414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4024440" y="1131840"/>
            <a:ext cx="0" cy="1617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27360" y="3679920"/>
            <a:ext cx="734760" cy="325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253760" y="4964040"/>
            <a:ext cx="623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16200000">
            <a:off x="479880" y="4169880"/>
            <a:ext cx="792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35120" y="4146480"/>
            <a:ext cx="2558880" cy="0"/>
          </a:xfrm>
          <a:prstGeom prst="line">
            <a:avLst/>
          </a:prstGeom>
          <a:ln w="1260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211640" y="4010040"/>
            <a:ext cx="504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ahoma"/>
              </a:rPr>
              <a:t>BU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612800" y="33480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57360" y="334008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558800" y="360216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554120" y="38480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563840" y="411624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557360" y="435924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563840" y="462132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563840" y="486900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622520" y="5105520"/>
            <a:ext cx="26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785960" y="511812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535120" y="512280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57720" y="512280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024440" y="5122800"/>
            <a:ext cx="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182960" y="3209760"/>
            <a:ext cx="43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182960" y="3463920"/>
            <a:ext cx="43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302120" y="3718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170360" y="3984480"/>
            <a:ext cx="43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170360" y="4226040"/>
            <a:ext cx="43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170360" y="4492800"/>
            <a:ext cx="43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2960" y="4732200"/>
            <a:ext cx="43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339920" y="4975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35120" y="3402000"/>
            <a:ext cx="2685960" cy="846000"/>
          </a:xfrm>
          <a:custGeom>
            <a:avLst/>
            <a:gdLst/>
            <a:ahLst/>
            <a:rect l="l" t="t" r="r" b="b"/>
            <a:pathLst>
              <a:path w="1529" h="563">
                <a:moveTo>
                  <a:pt x="0" y="150"/>
                </a:moveTo>
                <a:lnTo>
                  <a:pt x="6" y="156"/>
                </a:lnTo>
                <a:lnTo>
                  <a:pt x="13" y="161"/>
                </a:lnTo>
                <a:lnTo>
                  <a:pt x="19" y="167"/>
                </a:lnTo>
                <a:lnTo>
                  <a:pt x="25" y="171"/>
                </a:lnTo>
                <a:lnTo>
                  <a:pt x="33" y="177"/>
                </a:lnTo>
                <a:lnTo>
                  <a:pt x="38" y="182"/>
                </a:lnTo>
                <a:lnTo>
                  <a:pt x="46" y="188"/>
                </a:lnTo>
                <a:lnTo>
                  <a:pt x="52" y="192"/>
                </a:lnTo>
                <a:lnTo>
                  <a:pt x="59" y="198"/>
                </a:lnTo>
                <a:lnTo>
                  <a:pt x="65" y="203"/>
                </a:lnTo>
                <a:lnTo>
                  <a:pt x="73" y="207"/>
                </a:lnTo>
                <a:lnTo>
                  <a:pt x="78" y="213"/>
                </a:lnTo>
                <a:lnTo>
                  <a:pt x="86" y="218"/>
                </a:lnTo>
                <a:lnTo>
                  <a:pt x="94" y="222"/>
                </a:lnTo>
                <a:lnTo>
                  <a:pt x="99" y="228"/>
                </a:lnTo>
                <a:lnTo>
                  <a:pt x="107" y="232"/>
                </a:lnTo>
                <a:lnTo>
                  <a:pt x="115" y="237"/>
                </a:lnTo>
                <a:lnTo>
                  <a:pt x="122" y="241"/>
                </a:lnTo>
                <a:lnTo>
                  <a:pt x="130" y="245"/>
                </a:lnTo>
                <a:lnTo>
                  <a:pt x="138" y="251"/>
                </a:lnTo>
                <a:lnTo>
                  <a:pt x="145" y="255"/>
                </a:lnTo>
                <a:lnTo>
                  <a:pt x="153" y="258"/>
                </a:lnTo>
                <a:lnTo>
                  <a:pt x="161" y="264"/>
                </a:lnTo>
                <a:lnTo>
                  <a:pt x="168" y="268"/>
                </a:lnTo>
                <a:lnTo>
                  <a:pt x="176" y="272"/>
                </a:lnTo>
                <a:lnTo>
                  <a:pt x="184" y="275"/>
                </a:lnTo>
                <a:lnTo>
                  <a:pt x="191" y="281"/>
                </a:lnTo>
                <a:lnTo>
                  <a:pt x="199" y="285"/>
                </a:lnTo>
                <a:lnTo>
                  <a:pt x="207" y="289"/>
                </a:lnTo>
                <a:lnTo>
                  <a:pt x="214" y="292"/>
                </a:lnTo>
                <a:lnTo>
                  <a:pt x="224" y="296"/>
                </a:lnTo>
                <a:lnTo>
                  <a:pt x="231" y="300"/>
                </a:lnTo>
                <a:lnTo>
                  <a:pt x="239" y="302"/>
                </a:lnTo>
                <a:lnTo>
                  <a:pt x="247" y="306"/>
                </a:lnTo>
                <a:lnTo>
                  <a:pt x="256" y="310"/>
                </a:lnTo>
                <a:lnTo>
                  <a:pt x="266" y="313"/>
                </a:lnTo>
                <a:lnTo>
                  <a:pt x="274" y="317"/>
                </a:lnTo>
                <a:lnTo>
                  <a:pt x="283" y="319"/>
                </a:lnTo>
                <a:lnTo>
                  <a:pt x="293" y="323"/>
                </a:lnTo>
                <a:lnTo>
                  <a:pt x="302" y="325"/>
                </a:lnTo>
                <a:lnTo>
                  <a:pt x="312" y="329"/>
                </a:lnTo>
                <a:lnTo>
                  <a:pt x="321" y="330"/>
                </a:lnTo>
                <a:lnTo>
                  <a:pt x="331" y="332"/>
                </a:lnTo>
                <a:lnTo>
                  <a:pt x="340" y="336"/>
                </a:lnTo>
                <a:lnTo>
                  <a:pt x="350" y="338"/>
                </a:lnTo>
                <a:lnTo>
                  <a:pt x="360" y="340"/>
                </a:lnTo>
                <a:lnTo>
                  <a:pt x="369" y="344"/>
                </a:lnTo>
                <a:lnTo>
                  <a:pt x="381" y="346"/>
                </a:lnTo>
                <a:lnTo>
                  <a:pt x="390" y="348"/>
                </a:lnTo>
                <a:lnTo>
                  <a:pt x="400" y="351"/>
                </a:lnTo>
                <a:lnTo>
                  <a:pt x="409" y="353"/>
                </a:lnTo>
                <a:lnTo>
                  <a:pt x="419" y="355"/>
                </a:lnTo>
                <a:lnTo>
                  <a:pt x="428" y="359"/>
                </a:lnTo>
                <a:lnTo>
                  <a:pt x="438" y="361"/>
                </a:lnTo>
                <a:lnTo>
                  <a:pt x="448" y="365"/>
                </a:lnTo>
                <a:lnTo>
                  <a:pt x="457" y="367"/>
                </a:lnTo>
                <a:lnTo>
                  <a:pt x="467" y="370"/>
                </a:lnTo>
                <a:lnTo>
                  <a:pt x="476" y="372"/>
                </a:lnTo>
                <a:lnTo>
                  <a:pt x="484" y="376"/>
                </a:lnTo>
                <a:lnTo>
                  <a:pt x="493" y="380"/>
                </a:lnTo>
                <a:lnTo>
                  <a:pt x="501" y="382"/>
                </a:lnTo>
                <a:lnTo>
                  <a:pt x="511" y="386"/>
                </a:lnTo>
                <a:lnTo>
                  <a:pt x="518" y="389"/>
                </a:lnTo>
                <a:lnTo>
                  <a:pt x="528" y="395"/>
                </a:lnTo>
                <a:lnTo>
                  <a:pt x="536" y="399"/>
                </a:lnTo>
                <a:lnTo>
                  <a:pt x="543" y="403"/>
                </a:lnTo>
                <a:lnTo>
                  <a:pt x="551" y="408"/>
                </a:lnTo>
                <a:lnTo>
                  <a:pt x="557" y="414"/>
                </a:lnTo>
                <a:lnTo>
                  <a:pt x="564" y="420"/>
                </a:lnTo>
                <a:lnTo>
                  <a:pt x="572" y="427"/>
                </a:lnTo>
                <a:lnTo>
                  <a:pt x="580" y="433"/>
                </a:lnTo>
                <a:lnTo>
                  <a:pt x="585" y="441"/>
                </a:lnTo>
                <a:lnTo>
                  <a:pt x="593" y="446"/>
                </a:lnTo>
                <a:lnTo>
                  <a:pt x="599" y="454"/>
                </a:lnTo>
                <a:lnTo>
                  <a:pt x="606" y="462"/>
                </a:lnTo>
                <a:lnTo>
                  <a:pt x="612" y="469"/>
                </a:lnTo>
                <a:lnTo>
                  <a:pt x="620" y="477"/>
                </a:lnTo>
                <a:lnTo>
                  <a:pt x="625" y="482"/>
                </a:lnTo>
                <a:lnTo>
                  <a:pt x="631" y="490"/>
                </a:lnTo>
                <a:lnTo>
                  <a:pt x="639" y="498"/>
                </a:lnTo>
                <a:lnTo>
                  <a:pt x="645" y="505"/>
                </a:lnTo>
                <a:lnTo>
                  <a:pt x="650" y="511"/>
                </a:lnTo>
                <a:lnTo>
                  <a:pt x="656" y="517"/>
                </a:lnTo>
                <a:lnTo>
                  <a:pt x="664" y="524"/>
                </a:lnTo>
                <a:lnTo>
                  <a:pt x="669" y="530"/>
                </a:lnTo>
                <a:lnTo>
                  <a:pt x="675" y="536"/>
                </a:lnTo>
                <a:lnTo>
                  <a:pt x="683" y="539"/>
                </a:lnTo>
                <a:lnTo>
                  <a:pt x="689" y="545"/>
                </a:lnTo>
                <a:lnTo>
                  <a:pt x="694" y="549"/>
                </a:lnTo>
                <a:lnTo>
                  <a:pt x="702" y="553"/>
                </a:lnTo>
                <a:lnTo>
                  <a:pt x="708" y="557"/>
                </a:lnTo>
                <a:lnTo>
                  <a:pt x="713" y="558"/>
                </a:lnTo>
                <a:lnTo>
                  <a:pt x="721" y="560"/>
                </a:lnTo>
                <a:lnTo>
                  <a:pt x="727" y="562"/>
                </a:lnTo>
                <a:lnTo>
                  <a:pt x="734" y="562"/>
                </a:lnTo>
                <a:lnTo>
                  <a:pt x="742" y="562"/>
                </a:lnTo>
                <a:lnTo>
                  <a:pt x="748" y="560"/>
                </a:lnTo>
                <a:lnTo>
                  <a:pt x="755" y="558"/>
                </a:lnTo>
                <a:lnTo>
                  <a:pt x="763" y="555"/>
                </a:lnTo>
                <a:lnTo>
                  <a:pt x="769" y="551"/>
                </a:lnTo>
                <a:lnTo>
                  <a:pt x="777" y="547"/>
                </a:lnTo>
                <a:lnTo>
                  <a:pt x="784" y="543"/>
                </a:lnTo>
                <a:lnTo>
                  <a:pt x="790" y="538"/>
                </a:lnTo>
                <a:lnTo>
                  <a:pt x="798" y="532"/>
                </a:lnTo>
                <a:lnTo>
                  <a:pt x="805" y="526"/>
                </a:lnTo>
                <a:lnTo>
                  <a:pt x="813" y="519"/>
                </a:lnTo>
                <a:lnTo>
                  <a:pt x="821" y="511"/>
                </a:lnTo>
                <a:lnTo>
                  <a:pt x="826" y="503"/>
                </a:lnTo>
                <a:lnTo>
                  <a:pt x="834" y="496"/>
                </a:lnTo>
                <a:lnTo>
                  <a:pt x="842" y="488"/>
                </a:lnTo>
                <a:lnTo>
                  <a:pt x="849" y="479"/>
                </a:lnTo>
                <a:lnTo>
                  <a:pt x="857" y="471"/>
                </a:lnTo>
                <a:lnTo>
                  <a:pt x="864" y="462"/>
                </a:lnTo>
                <a:lnTo>
                  <a:pt x="870" y="452"/>
                </a:lnTo>
                <a:lnTo>
                  <a:pt x="878" y="444"/>
                </a:lnTo>
                <a:lnTo>
                  <a:pt x="886" y="435"/>
                </a:lnTo>
                <a:lnTo>
                  <a:pt x="893" y="425"/>
                </a:lnTo>
                <a:lnTo>
                  <a:pt x="901" y="418"/>
                </a:lnTo>
                <a:lnTo>
                  <a:pt x="908" y="408"/>
                </a:lnTo>
                <a:lnTo>
                  <a:pt x="914" y="399"/>
                </a:lnTo>
                <a:lnTo>
                  <a:pt x="922" y="391"/>
                </a:lnTo>
                <a:lnTo>
                  <a:pt x="930" y="384"/>
                </a:lnTo>
                <a:lnTo>
                  <a:pt x="937" y="376"/>
                </a:lnTo>
                <a:lnTo>
                  <a:pt x="945" y="367"/>
                </a:lnTo>
                <a:lnTo>
                  <a:pt x="951" y="361"/>
                </a:lnTo>
                <a:lnTo>
                  <a:pt x="958" y="353"/>
                </a:lnTo>
                <a:lnTo>
                  <a:pt x="966" y="348"/>
                </a:lnTo>
                <a:lnTo>
                  <a:pt x="974" y="342"/>
                </a:lnTo>
                <a:lnTo>
                  <a:pt x="979" y="336"/>
                </a:lnTo>
                <a:lnTo>
                  <a:pt x="987" y="330"/>
                </a:lnTo>
                <a:lnTo>
                  <a:pt x="993" y="325"/>
                </a:lnTo>
                <a:lnTo>
                  <a:pt x="1000" y="319"/>
                </a:lnTo>
                <a:lnTo>
                  <a:pt x="1006" y="315"/>
                </a:lnTo>
                <a:lnTo>
                  <a:pt x="1014" y="310"/>
                </a:lnTo>
                <a:lnTo>
                  <a:pt x="1019" y="306"/>
                </a:lnTo>
                <a:lnTo>
                  <a:pt x="1025" y="300"/>
                </a:lnTo>
                <a:lnTo>
                  <a:pt x="1033" y="296"/>
                </a:lnTo>
                <a:lnTo>
                  <a:pt x="1039" y="292"/>
                </a:lnTo>
                <a:lnTo>
                  <a:pt x="1044" y="287"/>
                </a:lnTo>
                <a:lnTo>
                  <a:pt x="1052" y="283"/>
                </a:lnTo>
                <a:lnTo>
                  <a:pt x="1058" y="279"/>
                </a:lnTo>
                <a:lnTo>
                  <a:pt x="1063" y="275"/>
                </a:lnTo>
                <a:lnTo>
                  <a:pt x="1071" y="272"/>
                </a:lnTo>
                <a:lnTo>
                  <a:pt x="1077" y="268"/>
                </a:lnTo>
                <a:lnTo>
                  <a:pt x="1084" y="264"/>
                </a:lnTo>
                <a:lnTo>
                  <a:pt x="1090" y="260"/>
                </a:lnTo>
                <a:lnTo>
                  <a:pt x="1096" y="255"/>
                </a:lnTo>
                <a:lnTo>
                  <a:pt x="1104" y="251"/>
                </a:lnTo>
                <a:lnTo>
                  <a:pt x="1111" y="247"/>
                </a:lnTo>
                <a:lnTo>
                  <a:pt x="1117" y="243"/>
                </a:lnTo>
                <a:lnTo>
                  <a:pt x="1125" y="239"/>
                </a:lnTo>
                <a:lnTo>
                  <a:pt x="1132" y="236"/>
                </a:lnTo>
                <a:lnTo>
                  <a:pt x="1138" y="230"/>
                </a:lnTo>
                <a:lnTo>
                  <a:pt x="1146" y="226"/>
                </a:lnTo>
                <a:lnTo>
                  <a:pt x="1153" y="222"/>
                </a:lnTo>
                <a:lnTo>
                  <a:pt x="1161" y="217"/>
                </a:lnTo>
                <a:lnTo>
                  <a:pt x="1169" y="213"/>
                </a:lnTo>
                <a:lnTo>
                  <a:pt x="1178" y="207"/>
                </a:lnTo>
                <a:lnTo>
                  <a:pt x="1186" y="201"/>
                </a:lnTo>
                <a:lnTo>
                  <a:pt x="1195" y="198"/>
                </a:lnTo>
                <a:lnTo>
                  <a:pt x="1205" y="192"/>
                </a:lnTo>
                <a:lnTo>
                  <a:pt x="1213" y="186"/>
                </a:lnTo>
                <a:lnTo>
                  <a:pt x="1222" y="180"/>
                </a:lnTo>
                <a:lnTo>
                  <a:pt x="1232" y="177"/>
                </a:lnTo>
                <a:lnTo>
                  <a:pt x="1239" y="171"/>
                </a:lnTo>
                <a:lnTo>
                  <a:pt x="1249" y="165"/>
                </a:lnTo>
                <a:lnTo>
                  <a:pt x="1258" y="160"/>
                </a:lnTo>
                <a:lnTo>
                  <a:pt x="1268" y="154"/>
                </a:lnTo>
                <a:lnTo>
                  <a:pt x="1278" y="148"/>
                </a:lnTo>
                <a:lnTo>
                  <a:pt x="1287" y="142"/>
                </a:lnTo>
                <a:lnTo>
                  <a:pt x="1297" y="135"/>
                </a:lnTo>
                <a:lnTo>
                  <a:pt x="1306" y="129"/>
                </a:lnTo>
                <a:lnTo>
                  <a:pt x="1318" y="123"/>
                </a:lnTo>
                <a:lnTo>
                  <a:pt x="1327" y="118"/>
                </a:lnTo>
                <a:lnTo>
                  <a:pt x="1337" y="112"/>
                </a:lnTo>
                <a:lnTo>
                  <a:pt x="1348" y="106"/>
                </a:lnTo>
                <a:lnTo>
                  <a:pt x="1358" y="99"/>
                </a:lnTo>
                <a:lnTo>
                  <a:pt x="1369" y="93"/>
                </a:lnTo>
                <a:lnTo>
                  <a:pt x="1379" y="87"/>
                </a:lnTo>
                <a:lnTo>
                  <a:pt x="1390" y="80"/>
                </a:lnTo>
                <a:lnTo>
                  <a:pt x="1402" y="74"/>
                </a:lnTo>
                <a:lnTo>
                  <a:pt x="1412" y="68"/>
                </a:lnTo>
                <a:lnTo>
                  <a:pt x="1423" y="61"/>
                </a:lnTo>
                <a:lnTo>
                  <a:pt x="1434" y="55"/>
                </a:lnTo>
                <a:lnTo>
                  <a:pt x="1446" y="47"/>
                </a:lnTo>
                <a:lnTo>
                  <a:pt x="1457" y="42"/>
                </a:lnTo>
                <a:lnTo>
                  <a:pt x="1469" y="34"/>
                </a:lnTo>
                <a:lnTo>
                  <a:pt x="1480" y="28"/>
                </a:lnTo>
                <a:lnTo>
                  <a:pt x="1492" y="21"/>
                </a:lnTo>
                <a:lnTo>
                  <a:pt x="1503" y="13"/>
                </a:lnTo>
                <a:lnTo>
                  <a:pt x="1517" y="8"/>
                </a:lnTo>
                <a:lnTo>
                  <a:pt x="152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1792440" y="3714840"/>
            <a:ext cx="0" cy="139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3355920" y="3879720"/>
            <a:ext cx="0" cy="1193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2530440" y="4033440"/>
            <a:ext cx="0" cy="1058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585800" y="5205240"/>
            <a:ext cx="38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301840" y="5205240"/>
            <a:ext cx="38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798720" y="5205240"/>
            <a:ext cx="38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129120" y="5205240"/>
            <a:ext cx="38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4035600" y="3549600"/>
            <a:ext cx="0" cy="1563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2546280" y="3855960"/>
            <a:ext cx="787320" cy="1303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3357720" y="3486240"/>
            <a:ext cx="660240" cy="363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344-587D-4000-A739-72142F4854D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8574120" cy="50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tting the Sampling R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"/>
          <p:cNvSpPr/>
          <p:nvPr/>
        </p:nvSpPr>
        <p:spPr>
          <a:xfrm>
            <a:off x="2486880" y="770040"/>
            <a:ext cx="623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716160" y="770040"/>
            <a:ext cx="1243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398600" y="1386000"/>
            <a:ext cx="2873520" cy="1100160"/>
          </a:xfrm>
          <a:custGeom>
            <a:avLst/>
            <a:gdLst/>
            <a:ahLst/>
            <a:rect l="l" t="t" r="r" b="b"/>
            <a:pathLst>
              <a:path w="1636" h="731">
                <a:moveTo>
                  <a:pt x="4" y="368"/>
                </a:moveTo>
                <a:lnTo>
                  <a:pt x="11" y="351"/>
                </a:lnTo>
                <a:lnTo>
                  <a:pt x="21" y="334"/>
                </a:lnTo>
                <a:lnTo>
                  <a:pt x="28" y="317"/>
                </a:lnTo>
                <a:lnTo>
                  <a:pt x="38" y="301"/>
                </a:lnTo>
                <a:lnTo>
                  <a:pt x="46" y="284"/>
                </a:lnTo>
                <a:lnTo>
                  <a:pt x="55" y="267"/>
                </a:lnTo>
                <a:lnTo>
                  <a:pt x="63" y="252"/>
                </a:lnTo>
                <a:lnTo>
                  <a:pt x="72" y="237"/>
                </a:lnTo>
                <a:lnTo>
                  <a:pt x="80" y="221"/>
                </a:lnTo>
                <a:lnTo>
                  <a:pt x="90" y="206"/>
                </a:lnTo>
                <a:lnTo>
                  <a:pt x="99" y="193"/>
                </a:lnTo>
                <a:lnTo>
                  <a:pt x="107" y="176"/>
                </a:lnTo>
                <a:lnTo>
                  <a:pt x="116" y="162"/>
                </a:lnTo>
                <a:lnTo>
                  <a:pt x="124" y="149"/>
                </a:lnTo>
                <a:lnTo>
                  <a:pt x="134" y="136"/>
                </a:lnTo>
                <a:lnTo>
                  <a:pt x="141" y="124"/>
                </a:lnTo>
                <a:lnTo>
                  <a:pt x="151" y="111"/>
                </a:lnTo>
                <a:lnTo>
                  <a:pt x="158" y="99"/>
                </a:lnTo>
                <a:lnTo>
                  <a:pt x="168" y="88"/>
                </a:lnTo>
                <a:lnTo>
                  <a:pt x="176" y="77"/>
                </a:lnTo>
                <a:lnTo>
                  <a:pt x="202" y="50"/>
                </a:lnTo>
                <a:lnTo>
                  <a:pt x="212" y="42"/>
                </a:lnTo>
                <a:lnTo>
                  <a:pt x="220" y="35"/>
                </a:lnTo>
                <a:lnTo>
                  <a:pt x="229" y="29"/>
                </a:lnTo>
                <a:lnTo>
                  <a:pt x="235" y="23"/>
                </a:lnTo>
                <a:lnTo>
                  <a:pt x="245" y="19"/>
                </a:lnTo>
                <a:lnTo>
                  <a:pt x="252" y="16"/>
                </a:lnTo>
                <a:lnTo>
                  <a:pt x="262" y="14"/>
                </a:lnTo>
                <a:lnTo>
                  <a:pt x="269" y="12"/>
                </a:lnTo>
                <a:lnTo>
                  <a:pt x="287" y="12"/>
                </a:lnTo>
                <a:lnTo>
                  <a:pt x="296" y="14"/>
                </a:lnTo>
                <a:lnTo>
                  <a:pt x="304" y="16"/>
                </a:lnTo>
                <a:lnTo>
                  <a:pt x="313" y="19"/>
                </a:lnTo>
                <a:lnTo>
                  <a:pt x="321" y="23"/>
                </a:lnTo>
                <a:lnTo>
                  <a:pt x="329" y="29"/>
                </a:lnTo>
                <a:lnTo>
                  <a:pt x="336" y="35"/>
                </a:lnTo>
                <a:lnTo>
                  <a:pt x="346" y="42"/>
                </a:lnTo>
                <a:lnTo>
                  <a:pt x="371" y="67"/>
                </a:lnTo>
                <a:lnTo>
                  <a:pt x="378" y="77"/>
                </a:lnTo>
                <a:lnTo>
                  <a:pt x="388" y="88"/>
                </a:lnTo>
                <a:lnTo>
                  <a:pt x="396" y="99"/>
                </a:lnTo>
                <a:lnTo>
                  <a:pt x="405" y="111"/>
                </a:lnTo>
                <a:lnTo>
                  <a:pt x="413" y="124"/>
                </a:lnTo>
                <a:lnTo>
                  <a:pt x="423" y="136"/>
                </a:lnTo>
                <a:lnTo>
                  <a:pt x="438" y="162"/>
                </a:lnTo>
                <a:lnTo>
                  <a:pt x="447" y="176"/>
                </a:lnTo>
                <a:lnTo>
                  <a:pt x="455" y="193"/>
                </a:lnTo>
                <a:lnTo>
                  <a:pt x="465" y="204"/>
                </a:lnTo>
                <a:lnTo>
                  <a:pt x="472" y="221"/>
                </a:lnTo>
                <a:lnTo>
                  <a:pt x="480" y="237"/>
                </a:lnTo>
                <a:lnTo>
                  <a:pt x="489" y="252"/>
                </a:lnTo>
                <a:lnTo>
                  <a:pt x="497" y="267"/>
                </a:lnTo>
                <a:lnTo>
                  <a:pt x="507" y="284"/>
                </a:lnTo>
                <a:lnTo>
                  <a:pt x="514" y="301"/>
                </a:lnTo>
                <a:lnTo>
                  <a:pt x="524" y="317"/>
                </a:lnTo>
                <a:lnTo>
                  <a:pt x="539" y="351"/>
                </a:lnTo>
                <a:lnTo>
                  <a:pt x="549" y="368"/>
                </a:lnTo>
                <a:lnTo>
                  <a:pt x="556" y="385"/>
                </a:lnTo>
                <a:lnTo>
                  <a:pt x="566" y="400"/>
                </a:lnTo>
                <a:lnTo>
                  <a:pt x="574" y="418"/>
                </a:lnTo>
                <a:lnTo>
                  <a:pt x="583" y="435"/>
                </a:lnTo>
                <a:lnTo>
                  <a:pt x="591" y="452"/>
                </a:lnTo>
                <a:lnTo>
                  <a:pt x="600" y="467"/>
                </a:lnTo>
                <a:lnTo>
                  <a:pt x="608" y="484"/>
                </a:lnTo>
                <a:lnTo>
                  <a:pt x="618" y="500"/>
                </a:lnTo>
                <a:lnTo>
                  <a:pt x="625" y="515"/>
                </a:lnTo>
                <a:lnTo>
                  <a:pt x="635" y="530"/>
                </a:lnTo>
                <a:lnTo>
                  <a:pt x="643" y="545"/>
                </a:lnTo>
                <a:lnTo>
                  <a:pt x="652" y="562"/>
                </a:lnTo>
                <a:lnTo>
                  <a:pt x="660" y="576"/>
                </a:lnTo>
                <a:lnTo>
                  <a:pt x="669" y="591"/>
                </a:lnTo>
                <a:lnTo>
                  <a:pt x="677" y="604"/>
                </a:lnTo>
                <a:lnTo>
                  <a:pt x="687" y="618"/>
                </a:lnTo>
                <a:lnTo>
                  <a:pt x="694" y="629"/>
                </a:lnTo>
                <a:lnTo>
                  <a:pt x="704" y="641"/>
                </a:lnTo>
                <a:lnTo>
                  <a:pt x="711" y="652"/>
                </a:lnTo>
                <a:lnTo>
                  <a:pt x="721" y="663"/>
                </a:lnTo>
                <a:lnTo>
                  <a:pt x="736" y="683"/>
                </a:lnTo>
                <a:lnTo>
                  <a:pt x="746" y="690"/>
                </a:lnTo>
                <a:lnTo>
                  <a:pt x="753" y="698"/>
                </a:lnTo>
                <a:lnTo>
                  <a:pt x="763" y="705"/>
                </a:lnTo>
                <a:lnTo>
                  <a:pt x="771" y="711"/>
                </a:lnTo>
                <a:lnTo>
                  <a:pt x="782" y="717"/>
                </a:lnTo>
                <a:lnTo>
                  <a:pt x="790" y="721"/>
                </a:lnTo>
                <a:lnTo>
                  <a:pt x="799" y="724"/>
                </a:lnTo>
                <a:lnTo>
                  <a:pt x="807" y="728"/>
                </a:lnTo>
                <a:lnTo>
                  <a:pt x="815" y="728"/>
                </a:lnTo>
                <a:lnTo>
                  <a:pt x="824" y="730"/>
                </a:lnTo>
                <a:lnTo>
                  <a:pt x="832" y="728"/>
                </a:lnTo>
                <a:lnTo>
                  <a:pt x="841" y="728"/>
                </a:lnTo>
                <a:lnTo>
                  <a:pt x="857" y="721"/>
                </a:lnTo>
                <a:lnTo>
                  <a:pt x="866" y="717"/>
                </a:lnTo>
                <a:lnTo>
                  <a:pt x="876" y="711"/>
                </a:lnTo>
                <a:lnTo>
                  <a:pt x="885" y="705"/>
                </a:lnTo>
                <a:lnTo>
                  <a:pt x="901" y="690"/>
                </a:lnTo>
                <a:lnTo>
                  <a:pt x="910" y="683"/>
                </a:lnTo>
                <a:lnTo>
                  <a:pt x="918" y="673"/>
                </a:lnTo>
                <a:lnTo>
                  <a:pt x="928" y="663"/>
                </a:lnTo>
                <a:lnTo>
                  <a:pt x="943" y="641"/>
                </a:lnTo>
                <a:lnTo>
                  <a:pt x="952" y="629"/>
                </a:lnTo>
                <a:lnTo>
                  <a:pt x="960" y="616"/>
                </a:lnTo>
                <a:lnTo>
                  <a:pt x="970" y="604"/>
                </a:lnTo>
                <a:lnTo>
                  <a:pt x="977" y="587"/>
                </a:lnTo>
                <a:lnTo>
                  <a:pt x="985" y="576"/>
                </a:lnTo>
                <a:lnTo>
                  <a:pt x="995" y="562"/>
                </a:lnTo>
                <a:lnTo>
                  <a:pt x="1002" y="545"/>
                </a:lnTo>
                <a:lnTo>
                  <a:pt x="1012" y="530"/>
                </a:lnTo>
                <a:lnTo>
                  <a:pt x="1019" y="515"/>
                </a:lnTo>
                <a:lnTo>
                  <a:pt x="1029" y="500"/>
                </a:lnTo>
                <a:lnTo>
                  <a:pt x="1037" y="482"/>
                </a:lnTo>
                <a:lnTo>
                  <a:pt x="1044" y="467"/>
                </a:lnTo>
                <a:lnTo>
                  <a:pt x="1054" y="450"/>
                </a:lnTo>
                <a:lnTo>
                  <a:pt x="1061" y="433"/>
                </a:lnTo>
                <a:lnTo>
                  <a:pt x="1071" y="416"/>
                </a:lnTo>
                <a:lnTo>
                  <a:pt x="1079" y="400"/>
                </a:lnTo>
                <a:lnTo>
                  <a:pt x="1086" y="383"/>
                </a:lnTo>
                <a:lnTo>
                  <a:pt x="1096" y="366"/>
                </a:lnTo>
                <a:lnTo>
                  <a:pt x="1104" y="349"/>
                </a:lnTo>
                <a:lnTo>
                  <a:pt x="1113" y="332"/>
                </a:lnTo>
                <a:lnTo>
                  <a:pt x="1121" y="315"/>
                </a:lnTo>
                <a:lnTo>
                  <a:pt x="1130" y="298"/>
                </a:lnTo>
                <a:lnTo>
                  <a:pt x="1138" y="282"/>
                </a:lnTo>
                <a:lnTo>
                  <a:pt x="1148" y="265"/>
                </a:lnTo>
                <a:lnTo>
                  <a:pt x="1155" y="248"/>
                </a:lnTo>
                <a:lnTo>
                  <a:pt x="1165" y="233"/>
                </a:lnTo>
                <a:lnTo>
                  <a:pt x="1172" y="218"/>
                </a:lnTo>
                <a:lnTo>
                  <a:pt x="1182" y="200"/>
                </a:lnTo>
                <a:lnTo>
                  <a:pt x="1190" y="187"/>
                </a:lnTo>
                <a:lnTo>
                  <a:pt x="1199" y="174"/>
                </a:lnTo>
                <a:lnTo>
                  <a:pt x="1207" y="158"/>
                </a:lnTo>
                <a:lnTo>
                  <a:pt x="1216" y="145"/>
                </a:lnTo>
                <a:lnTo>
                  <a:pt x="1224" y="130"/>
                </a:lnTo>
                <a:lnTo>
                  <a:pt x="1234" y="118"/>
                </a:lnTo>
                <a:lnTo>
                  <a:pt x="1241" y="105"/>
                </a:lnTo>
                <a:lnTo>
                  <a:pt x="1251" y="94"/>
                </a:lnTo>
                <a:lnTo>
                  <a:pt x="1259" y="82"/>
                </a:lnTo>
                <a:lnTo>
                  <a:pt x="1268" y="71"/>
                </a:lnTo>
                <a:lnTo>
                  <a:pt x="1283" y="52"/>
                </a:lnTo>
                <a:lnTo>
                  <a:pt x="1301" y="35"/>
                </a:lnTo>
                <a:lnTo>
                  <a:pt x="1310" y="29"/>
                </a:lnTo>
                <a:lnTo>
                  <a:pt x="1318" y="21"/>
                </a:lnTo>
                <a:lnTo>
                  <a:pt x="1326" y="16"/>
                </a:lnTo>
                <a:lnTo>
                  <a:pt x="1333" y="12"/>
                </a:lnTo>
                <a:lnTo>
                  <a:pt x="1343" y="8"/>
                </a:lnTo>
                <a:lnTo>
                  <a:pt x="1358" y="4"/>
                </a:lnTo>
                <a:lnTo>
                  <a:pt x="1375" y="4"/>
                </a:lnTo>
                <a:lnTo>
                  <a:pt x="1385" y="6"/>
                </a:lnTo>
                <a:lnTo>
                  <a:pt x="1392" y="8"/>
                </a:lnTo>
                <a:lnTo>
                  <a:pt x="1400" y="12"/>
                </a:lnTo>
                <a:lnTo>
                  <a:pt x="1410" y="16"/>
                </a:lnTo>
                <a:lnTo>
                  <a:pt x="1423" y="29"/>
                </a:lnTo>
                <a:lnTo>
                  <a:pt x="1433" y="35"/>
                </a:lnTo>
                <a:lnTo>
                  <a:pt x="1450" y="52"/>
                </a:lnTo>
                <a:lnTo>
                  <a:pt x="1465" y="71"/>
                </a:lnTo>
                <a:lnTo>
                  <a:pt x="1475" y="82"/>
                </a:lnTo>
                <a:lnTo>
                  <a:pt x="1490" y="105"/>
                </a:lnTo>
                <a:lnTo>
                  <a:pt x="1500" y="118"/>
                </a:lnTo>
                <a:lnTo>
                  <a:pt x="1515" y="145"/>
                </a:lnTo>
                <a:lnTo>
                  <a:pt x="1524" y="158"/>
                </a:lnTo>
                <a:lnTo>
                  <a:pt x="1540" y="187"/>
                </a:lnTo>
                <a:lnTo>
                  <a:pt x="1549" y="202"/>
                </a:lnTo>
                <a:lnTo>
                  <a:pt x="1565" y="233"/>
                </a:lnTo>
                <a:lnTo>
                  <a:pt x="1574" y="250"/>
                </a:lnTo>
                <a:lnTo>
                  <a:pt x="1582" y="265"/>
                </a:lnTo>
                <a:lnTo>
                  <a:pt x="1597" y="299"/>
                </a:lnTo>
                <a:lnTo>
                  <a:pt x="1607" y="317"/>
                </a:lnTo>
                <a:lnTo>
                  <a:pt x="1622" y="351"/>
                </a:lnTo>
                <a:lnTo>
                  <a:pt x="1632" y="368"/>
                </a:lnTo>
                <a:lnTo>
                  <a:pt x="1635" y="368"/>
                </a:lnTo>
                <a:lnTo>
                  <a:pt x="1626" y="351"/>
                </a:lnTo>
                <a:lnTo>
                  <a:pt x="1611" y="317"/>
                </a:lnTo>
                <a:lnTo>
                  <a:pt x="1601" y="299"/>
                </a:lnTo>
                <a:lnTo>
                  <a:pt x="1586" y="265"/>
                </a:lnTo>
                <a:lnTo>
                  <a:pt x="1578" y="250"/>
                </a:lnTo>
                <a:lnTo>
                  <a:pt x="1568" y="233"/>
                </a:lnTo>
                <a:lnTo>
                  <a:pt x="1553" y="202"/>
                </a:lnTo>
                <a:lnTo>
                  <a:pt x="1544" y="187"/>
                </a:lnTo>
                <a:lnTo>
                  <a:pt x="1528" y="155"/>
                </a:lnTo>
                <a:lnTo>
                  <a:pt x="1519" y="141"/>
                </a:lnTo>
                <a:lnTo>
                  <a:pt x="1503" y="115"/>
                </a:lnTo>
                <a:lnTo>
                  <a:pt x="1494" y="101"/>
                </a:lnTo>
                <a:lnTo>
                  <a:pt x="1479" y="78"/>
                </a:lnTo>
                <a:lnTo>
                  <a:pt x="1469" y="67"/>
                </a:lnTo>
                <a:lnTo>
                  <a:pt x="1454" y="48"/>
                </a:lnTo>
                <a:lnTo>
                  <a:pt x="1436" y="31"/>
                </a:lnTo>
                <a:lnTo>
                  <a:pt x="1427" y="25"/>
                </a:lnTo>
                <a:lnTo>
                  <a:pt x="1419" y="17"/>
                </a:lnTo>
                <a:lnTo>
                  <a:pt x="1410" y="12"/>
                </a:lnTo>
                <a:lnTo>
                  <a:pt x="1400" y="8"/>
                </a:lnTo>
                <a:lnTo>
                  <a:pt x="1392" y="4"/>
                </a:lnTo>
                <a:lnTo>
                  <a:pt x="1385" y="2"/>
                </a:lnTo>
                <a:lnTo>
                  <a:pt x="1375" y="0"/>
                </a:lnTo>
                <a:lnTo>
                  <a:pt x="1358" y="0"/>
                </a:lnTo>
                <a:lnTo>
                  <a:pt x="1343" y="4"/>
                </a:lnTo>
                <a:lnTo>
                  <a:pt x="1333" y="8"/>
                </a:lnTo>
                <a:lnTo>
                  <a:pt x="1326" y="12"/>
                </a:lnTo>
                <a:lnTo>
                  <a:pt x="1314" y="17"/>
                </a:lnTo>
                <a:lnTo>
                  <a:pt x="1306" y="25"/>
                </a:lnTo>
                <a:lnTo>
                  <a:pt x="1297" y="31"/>
                </a:lnTo>
                <a:lnTo>
                  <a:pt x="1280" y="48"/>
                </a:lnTo>
                <a:lnTo>
                  <a:pt x="1264" y="67"/>
                </a:lnTo>
                <a:lnTo>
                  <a:pt x="1255" y="78"/>
                </a:lnTo>
                <a:lnTo>
                  <a:pt x="1247" y="90"/>
                </a:lnTo>
                <a:lnTo>
                  <a:pt x="1237" y="101"/>
                </a:lnTo>
                <a:lnTo>
                  <a:pt x="1230" y="115"/>
                </a:lnTo>
                <a:lnTo>
                  <a:pt x="1220" y="126"/>
                </a:lnTo>
                <a:lnTo>
                  <a:pt x="1213" y="141"/>
                </a:lnTo>
                <a:lnTo>
                  <a:pt x="1203" y="155"/>
                </a:lnTo>
                <a:lnTo>
                  <a:pt x="1195" y="170"/>
                </a:lnTo>
                <a:lnTo>
                  <a:pt x="1186" y="183"/>
                </a:lnTo>
                <a:lnTo>
                  <a:pt x="1178" y="200"/>
                </a:lnTo>
                <a:lnTo>
                  <a:pt x="1169" y="218"/>
                </a:lnTo>
                <a:lnTo>
                  <a:pt x="1161" y="233"/>
                </a:lnTo>
                <a:lnTo>
                  <a:pt x="1151" y="248"/>
                </a:lnTo>
                <a:lnTo>
                  <a:pt x="1144" y="265"/>
                </a:lnTo>
                <a:lnTo>
                  <a:pt x="1134" y="282"/>
                </a:lnTo>
                <a:lnTo>
                  <a:pt x="1127" y="298"/>
                </a:lnTo>
                <a:lnTo>
                  <a:pt x="1117" y="315"/>
                </a:lnTo>
                <a:lnTo>
                  <a:pt x="1109" y="332"/>
                </a:lnTo>
                <a:lnTo>
                  <a:pt x="1100" y="349"/>
                </a:lnTo>
                <a:lnTo>
                  <a:pt x="1092" y="366"/>
                </a:lnTo>
                <a:lnTo>
                  <a:pt x="1083" y="383"/>
                </a:lnTo>
                <a:lnTo>
                  <a:pt x="1075" y="400"/>
                </a:lnTo>
                <a:lnTo>
                  <a:pt x="1067" y="416"/>
                </a:lnTo>
                <a:lnTo>
                  <a:pt x="1058" y="433"/>
                </a:lnTo>
                <a:lnTo>
                  <a:pt x="1050" y="450"/>
                </a:lnTo>
                <a:lnTo>
                  <a:pt x="1040" y="467"/>
                </a:lnTo>
                <a:lnTo>
                  <a:pt x="1033" y="482"/>
                </a:lnTo>
                <a:lnTo>
                  <a:pt x="1025" y="500"/>
                </a:lnTo>
                <a:lnTo>
                  <a:pt x="1016" y="515"/>
                </a:lnTo>
                <a:lnTo>
                  <a:pt x="1008" y="530"/>
                </a:lnTo>
                <a:lnTo>
                  <a:pt x="998" y="545"/>
                </a:lnTo>
                <a:lnTo>
                  <a:pt x="991" y="559"/>
                </a:lnTo>
                <a:lnTo>
                  <a:pt x="981" y="572"/>
                </a:lnTo>
                <a:lnTo>
                  <a:pt x="973" y="587"/>
                </a:lnTo>
                <a:lnTo>
                  <a:pt x="966" y="601"/>
                </a:lnTo>
                <a:lnTo>
                  <a:pt x="956" y="612"/>
                </a:lnTo>
                <a:lnTo>
                  <a:pt x="949" y="625"/>
                </a:lnTo>
                <a:lnTo>
                  <a:pt x="939" y="637"/>
                </a:lnTo>
                <a:lnTo>
                  <a:pt x="924" y="660"/>
                </a:lnTo>
                <a:lnTo>
                  <a:pt x="914" y="669"/>
                </a:lnTo>
                <a:lnTo>
                  <a:pt x="907" y="679"/>
                </a:lnTo>
                <a:lnTo>
                  <a:pt x="897" y="686"/>
                </a:lnTo>
                <a:lnTo>
                  <a:pt x="882" y="702"/>
                </a:lnTo>
                <a:lnTo>
                  <a:pt x="872" y="707"/>
                </a:lnTo>
                <a:lnTo>
                  <a:pt x="866" y="713"/>
                </a:lnTo>
                <a:lnTo>
                  <a:pt x="857" y="717"/>
                </a:lnTo>
                <a:lnTo>
                  <a:pt x="841" y="724"/>
                </a:lnTo>
                <a:lnTo>
                  <a:pt x="832" y="724"/>
                </a:lnTo>
                <a:lnTo>
                  <a:pt x="824" y="726"/>
                </a:lnTo>
                <a:lnTo>
                  <a:pt x="815" y="724"/>
                </a:lnTo>
                <a:lnTo>
                  <a:pt x="807" y="724"/>
                </a:lnTo>
                <a:lnTo>
                  <a:pt x="799" y="721"/>
                </a:lnTo>
                <a:lnTo>
                  <a:pt x="790" y="717"/>
                </a:lnTo>
                <a:lnTo>
                  <a:pt x="782" y="713"/>
                </a:lnTo>
                <a:lnTo>
                  <a:pt x="775" y="707"/>
                </a:lnTo>
                <a:lnTo>
                  <a:pt x="767" y="702"/>
                </a:lnTo>
                <a:lnTo>
                  <a:pt x="757" y="694"/>
                </a:lnTo>
                <a:lnTo>
                  <a:pt x="750" y="686"/>
                </a:lnTo>
                <a:lnTo>
                  <a:pt x="740" y="679"/>
                </a:lnTo>
                <a:lnTo>
                  <a:pt x="725" y="660"/>
                </a:lnTo>
                <a:lnTo>
                  <a:pt x="715" y="648"/>
                </a:lnTo>
                <a:lnTo>
                  <a:pt x="708" y="637"/>
                </a:lnTo>
                <a:lnTo>
                  <a:pt x="698" y="625"/>
                </a:lnTo>
                <a:lnTo>
                  <a:pt x="690" y="614"/>
                </a:lnTo>
                <a:lnTo>
                  <a:pt x="681" y="601"/>
                </a:lnTo>
                <a:lnTo>
                  <a:pt x="673" y="587"/>
                </a:lnTo>
                <a:lnTo>
                  <a:pt x="664" y="572"/>
                </a:lnTo>
                <a:lnTo>
                  <a:pt x="656" y="559"/>
                </a:lnTo>
                <a:lnTo>
                  <a:pt x="646" y="545"/>
                </a:lnTo>
                <a:lnTo>
                  <a:pt x="639" y="530"/>
                </a:lnTo>
                <a:lnTo>
                  <a:pt x="629" y="515"/>
                </a:lnTo>
                <a:lnTo>
                  <a:pt x="621" y="500"/>
                </a:lnTo>
                <a:lnTo>
                  <a:pt x="612" y="484"/>
                </a:lnTo>
                <a:lnTo>
                  <a:pt x="604" y="467"/>
                </a:lnTo>
                <a:lnTo>
                  <a:pt x="595" y="452"/>
                </a:lnTo>
                <a:lnTo>
                  <a:pt x="587" y="435"/>
                </a:lnTo>
                <a:lnTo>
                  <a:pt x="577" y="418"/>
                </a:lnTo>
                <a:lnTo>
                  <a:pt x="570" y="400"/>
                </a:lnTo>
                <a:lnTo>
                  <a:pt x="560" y="385"/>
                </a:lnTo>
                <a:lnTo>
                  <a:pt x="553" y="368"/>
                </a:lnTo>
                <a:lnTo>
                  <a:pt x="543" y="351"/>
                </a:lnTo>
                <a:lnTo>
                  <a:pt x="528" y="317"/>
                </a:lnTo>
                <a:lnTo>
                  <a:pt x="518" y="301"/>
                </a:lnTo>
                <a:lnTo>
                  <a:pt x="511" y="284"/>
                </a:lnTo>
                <a:lnTo>
                  <a:pt x="501" y="267"/>
                </a:lnTo>
                <a:lnTo>
                  <a:pt x="493" y="252"/>
                </a:lnTo>
                <a:lnTo>
                  <a:pt x="484" y="237"/>
                </a:lnTo>
                <a:lnTo>
                  <a:pt x="476" y="221"/>
                </a:lnTo>
                <a:lnTo>
                  <a:pt x="468" y="204"/>
                </a:lnTo>
                <a:lnTo>
                  <a:pt x="459" y="189"/>
                </a:lnTo>
                <a:lnTo>
                  <a:pt x="451" y="176"/>
                </a:lnTo>
                <a:lnTo>
                  <a:pt x="442" y="158"/>
                </a:lnTo>
                <a:lnTo>
                  <a:pt x="426" y="132"/>
                </a:lnTo>
                <a:lnTo>
                  <a:pt x="417" y="120"/>
                </a:lnTo>
                <a:lnTo>
                  <a:pt x="409" y="107"/>
                </a:lnTo>
                <a:lnTo>
                  <a:pt x="400" y="96"/>
                </a:lnTo>
                <a:lnTo>
                  <a:pt x="392" y="84"/>
                </a:lnTo>
                <a:lnTo>
                  <a:pt x="382" y="73"/>
                </a:lnTo>
                <a:lnTo>
                  <a:pt x="375" y="63"/>
                </a:lnTo>
                <a:lnTo>
                  <a:pt x="350" y="38"/>
                </a:lnTo>
                <a:lnTo>
                  <a:pt x="340" y="31"/>
                </a:lnTo>
                <a:lnTo>
                  <a:pt x="333" y="25"/>
                </a:lnTo>
                <a:lnTo>
                  <a:pt x="321" y="19"/>
                </a:lnTo>
                <a:lnTo>
                  <a:pt x="313" y="16"/>
                </a:lnTo>
                <a:lnTo>
                  <a:pt x="304" y="12"/>
                </a:lnTo>
                <a:lnTo>
                  <a:pt x="296" y="10"/>
                </a:lnTo>
                <a:lnTo>
                  <a:pt x="287" y="8"/>
                </a:lnTo>
                <a:lnTo>
                  <a:pt x="269" y="8"/>
                </a:lnTo>
                <a:lnTo>
                  <a:pt x="262" y="10"/>
                </a:lnTo>
                <a:lnTo>
                  <a:pt x="252" y="12"/>
                </a:lnTo>
                <a:lnTo>
                  <a:pt x="245" y="16"/>
                </a:lnTo>
                <a:lnTo>
                  <a:pt x="235" y="19"/>
                </a:lnTo>
                <a:lnTo>
                  <a:pt x="225" y="25"/>
                </a:lnTo>
                <a:lnTo>
                  <a:pt x="216" y="31"/>
                </a:lnTo>
                <a:lnTo>
                  <a:pt x="208" y="38"/>
                </a:lnTo>
                <a:lnTo>
                  <a:pt x="199" y="46"/>
                </a:lnTo>
                <a:lnTo>
                  <a:pt x="172" y="73"/>
                </a:lnTo>
                <a:lnTo>
                  <a:pt x="164" y="84"/>
                </a:lnTo>
                <a:lnTo>
                  <a:pt x="155" y="96"/>
                </a:lnTo>
                <a:lnTo>
                  <a:pt x="147" y="107"/>
                </a:lnTo>
                <a:lnTo>
                  <a:pt x="137" y="120"/>
                </a:lnTo>
                <a:lnTo>
                  <a:pt x="130" y="132"/>
                </a:lnTo>
                <a:lnTo>
                  <a:pt x="120" y="145"/>
                </a:lnTo>
                <a:lnTo>
                  <a:pt x="113" y="158"/>
                </a:lnTo>
                <a:lnTo>
                  <a:pt x="103" y="176"/>
                </a:lnTo>
                <a:lnTo>
                  <a:pt x="95" y="189"/>
                </a:lnTo>
                <a:lnTo>
                  <a:pt x="86" y="202"/>
                </a:lnTo>
                <a:lnTo>
                  <a:pt x="76" y="221"/>
                </a:lnTo>
                <a:lnTo>
                  <a:pt x="69" y="237"/>
                </a:lnTo>
                <a:lnTo>
                  <a:pt x="59" y="252"/>
                </a:lnTo>
                <a:lnTo>
                  <a:pt x="51" y="267"/>
                </a:lnTo>
                <a:lnTo>
                  <a:pt x="42" y="284"/>
                </a:lnTo>
                <a:lnTo>
                  <a:pt x="34" y="301"/>
                </a:lnTo>
                <a:lnTo>
                  <a:pt x="25" y="317"/>
                </a:lnTo>
                <a:lnTo>
                  <a:pt x="17" y="334"/>
                </a:lnTo>
                <a:lnTo>
                  <a:pt x="7" y="351"/>
                </a:lnTo>
                <a:lnTo>
                  <a:pt x="0" y="368"/>
                </a:lnTo>
                <a:lnTo>
                  <a:pt x="4" y="36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409760" y="1343160"/>
            <a:ext cx="0" cy="1195200"/>
          </a:xfrm>
          <a:prstGeom prst="line">
            <a:avLst/>
          </a:prstGeom>
          <a:ln w="64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419120" y="1940040"/>
            <a:ext cx="3008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571760" y="169848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646280" y="159228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716120" y="1515960"/>
            <a:ext cx="0" cy="420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97120" y="1441440"/>
            <a:ext cx="0" cy="484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881360" y="14097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954080" y="14414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039760" y="1503360"/>
            <a:ext cx="0" cy="42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130480" y="158436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205000" y="169848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297160" y="1868400"/>
            <a:ext cx="0" cy="65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484280" y="1817640"/>
            <a:ext cx="0" cy="108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449440" y="1957320"/>
            <a:ext cx="0" cy="84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527200" y="195732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610000" y="194796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693880" y="1947960"/>
            <a:ext cx="0" cy="430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771640" y="1947960"/>
            <a:ext cx="0" cy="479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849400" y="19479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922480" y="1947960"/>
            <a:ext cx="0" cy="488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000240" y="1947960"/>
            <a:ext cx="0" cy="430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084480" y="1957320"/>
            <a:ext cx="0" cy="331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157560" y="1947960"/>
            <a:ext cx="0" cy="226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246480" y="1947960"/>
            <a:ext cx="0" cy="93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406680" y="181764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478320" y="168120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544920" y="1584360"/>
            <a:ext cx="0" cy="349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632040" y="1511280"/>
            <a:ext cx="0" cy="42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716280" y="1432080"/>
            <a:ext cx="0" cy="501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794040" y="14097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878280" y="144144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56040" y="1495440"/>
            <a:ext cx="0" cy="430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038480" y="159228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122720" y="1722600"/>
            <a:ext cx="0" cy="210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199040" y="1859040"/>
            <a:ext cx="0" cy="74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81880" y="1812960"/>
            <a:ext cx="6980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gt;&gt;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707720" y="5086440"/>
            <a:ext cx="6980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2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336920" y="1836720"/>
            <a:ext cx="25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939600" y="2833560"/>
            <a:ext cx="50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371840" y="3449520"/>
            <a:ext cx="25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83000" y="5108400"/>
            <a:ext cx="25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990360" y="1231920"/>
            <a:ext cx="50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954000" y="4513320"/>
            <a:ext cx="50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029280" y="3583080"/>
            <a:ext cx="29988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6010200" y="2747520"/>
            <a:ext cx="0" cy="84780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6719760" y="3214800"/>
            <a:ext cx="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656400" y="3219480"/>
            <a:ext cx="128520" cy="109440"/>
          </a:xfrm>
          <a:custGeom>
            <a:avLst/>
            <a:gdLst/>
            <a:ahLst/>
            <a:rect l="l" t="t" r="r" b="b"/>
            <a:pathLst>
              <a:path w="73" h="73">
                <a:moveTo>
                  <a:pt x="0" y="72"/>
                </a:moveTo>
                <a:lnTo>
                  <a:pt x="36" y="0"/>
                </a:lnTo>
                <a:lnTo>
                  <a:pt x="72" y="7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6242040" y="3214800"/>
            <a:ext cx="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178680" y="3219480"/>
            <a:ext cx="129960" cy="109440"/>
          </a:xfrm>
          <a:custGeom>
            <a:avLst/>
            <a:gdLst/>
            <a:ahLst/>
            <a:rect l="l" t="t" r="r" b="b"/>
            <a:pathLst>
              <a:path w="74" h="73">
                <a:moveTo>
                  <a:pt x="0" y="72"/>
                </a:moveTo>
                <a:lnTo>
                  <a:pt x="36" y="0"/>
                </a:lnTo>
                <a:lnTo>
                  <a:pt x="73" y="7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6481800" y="3044880"/>
            <a:ext cx="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421320" y="3051000"/>
            <a:ext cx="127080" cy="109800"/>
          </a:xfrm>
          <a:custGeom>
            <a:avLst/>
            <a:gdLst/>
            <a:ahLst/>
            <a:rect l="l" t="t" r="r" b="b"/>
            <a:pathLst>
              <a:path w="72" h="73">
                <a:moveTo>
                  <a:pt x="0" y="72"/>
                </a:moveTo>
                <a:lnTo>
                  <a:pt x="34" y="0"/>
                </a:lnTo>
                <a:lnTo>
                  <a:pt x="71" y="72"/>
                </a:lnTo>
                <a:lnTo>
                  <a:pt x="0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7201080" y="3206880"/>
            <a:ext cx="0" cy="36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135920" y="3211560"/>
            <a:ext cx="129960" cy="106200"/>
          </a:xfrm>
          <a:custGeom>
            <a:avLst/>
            <a:gdLst/>
            <a:ahLst/>
            <a:rect l="l" t="t" r="r" b="b"/>
            <a:pathLst>
              <a:path w="74" h="71">
                <a:moveTo>
                  <a:pt x="0" y="70"/>
                </a:moveTo>
                <a:lnTo>
                  <a:pt x="37" y="0"/>
                </a:lnTo>
                <a:lnTo>
                  <a:pt x="73" y="7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6966000" y="3036960"/>
            <a:ext cx="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900840" y="3043080"/>
            <a:ext cx="127080" cy="106560"/>
          </a:xfrm>
          <a:custGeom>
            <a:avLst/>
            <a:gdLst/>
            <a:ahLst/>
            <a:rect l="l" t="t" r="r" b="b"/>
            <a:pathLst>
              <a:path w="72" h="71">
                <a:moveTo>
                  <a:pt x="0" y="70"/>
                </a:moveTo>
                <a:lnTo>
                  <a:pt x="37" y="0"/>
                </a:lnTo>
                <a:lnTo>
                  <a:pt x="71" y="70"/>
                </a:lnTo>
                <a:lnTo>
                  <a:pt x="0" y="7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965800" y="1824120"/>
            <a:ext cx="250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572080" y="2665440"/>
            <a:ext cx="50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605200" y="1006560"/>
            <a:ext cx="50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554440" y="4309920"/>
            <a:ext cx="50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9126000" y="5105520"/>
            <a:ext cx="250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9037440" y="3470400"/>
            <a:ext cx="250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040520" y="1976400"/>
            <a:ext cx="317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353280" y="3627360"/>
            <a:ext cx="317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232680" y="5286240"/>
            <a:ext cx="317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195760" y="1976400"/>
            <a:ext cx="4330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792120" y="3627360"/>
            <a:ext cx="4330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6089760" y="5326200"/>
            <a:ext cx="0" cy="31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531760" y="5616720"/>
            <a:ext cx="611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6242040" y="5325840"/>
            <a:ext cx="0" cy="476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973120" y="5796000"/>
            <a:ext cx="1739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riginal Signal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3389400" y="55036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845440" y="5835600"/>
            <a:ext cx="151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ferred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49360" y="1820880"/>
            <a:ext cx="76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60520" y="3446640"/>
            <a:ext cx="76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60520" y="5151600"/>
            <a:ext cx="76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287160" y="2243160"/>
            <a:ext cx="23047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= Sampling 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= Signal 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114600" y="1976400"/>
            <a:ext cx="3308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103440" y="3627360"/>
            <a:ext cx="3308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6612120" y="1217520"/>
            <a:ext cx="615600" cy="365760"/>
            <a:chOff x="6612120" y="1217520"/>
            <a:chExt cx="615600" cy="365760"/>
          </a:xfrm>
        </p:grpSpPr>
        <p:sp>
          <p:nvSpPr>
            <p:cNvPr id="977" name=""/>
            <p:cNvSpPr/>
            <p:nvPr/>
          </p:nvSpPr>
          <p:spPr>
            <a:xfrm>
              <a:off x="6612120" y="1217520"/>
              <a:ext cx="317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778080" y="1217520"/>
              <a:ext cx="4496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- 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7259760" y="1231920"/>
            <a:ext cx="678960" cy="365760"/>
            <a:chOff x="7259760" y="1231920"/>
            <a:chExt cx="678960" cy="365760"/>
          </a:xfrm>
        </p:grpSpPr>
        <p:sp>
          <p:nvSpPr>
            <p:cNvPr id="980" name=""/>
            <p:cNvSpPr/>
            <p:nvPr/>
          </p:nvSpPr>
          <p:spPr>
            <a:xfrm>
              <a:off x="7259760" y="1231920"/>
              <a:ext cx="317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438680" y="1231920"/>
              <a:ext cx="5000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+ 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2" name=""/>
          <p:cNvSpPr/>
          <p:nvPr/>
        </p:nvSpPr>
        <p:spPr>
          <a:xfrm flipV="1">
            <a:off x="6624720" y="48877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59560" y="4892760"/>
            <a:ext cx="130320" cy="110880"/>
          </a:xfrm>
          <a:custGeom>
            <a:avLst/>
            <a:gdLst/>
            <a:ahLst/>
            <a:rect l="l" t="t" r="r" b="b"/>
            <a:pathLst>
              <a:path w="74" h="74">
                <a:moveTo>
                  <a:pt x="0" y="73"/>
                </a:moveTo>
                <a:lnTo>
                  <a:pt x="37" y="0"/>
                </a:lnTo>
                <a:lnTo>
                  <a:pt x="73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08760" y="5249880"/>
            <a:ext cx="30193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5999040" y="4406400"/>
            <a:ext cx="0" cy="84780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6234120" y="48877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178680" y="4883040"/>
            <a:ext cx="126720" cy="111240"/>
          </a:xfrm>
          <a:custGeom>
            <a:avLst/>
            <a:gdLst/>
            <a:ahLst/>
            <a:rect l="l" t="t" r="r" b="b"/>
            <a:pathLst>
              <a:path w="72" h="74">
                <a:moveTo>
                  <a:pt x="0" y="73"/>
                </a:moveTo>
                <a:lnTo>
                  <a:pt x="37" y="0"/>
                </a:lnTo>
                <a:lnTo>
                  <a:pt x="71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6346800" y="4707000"/>
            <a:ext cx="0" cy="54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284880" y="4713120"/>
            <a:ext cx="130320" cy="108000"/>
          </a:xfrm>
          <a:custGeom>
            <a:avLst/>
            <a:gdLst/>
            <a:ahLst/>
            <a:rect l="l" t="t" r="r" b="b"/>
            <a:pathLst>
              <a:path w="74" h="72">
                <a:moveTo>
                  <a:pt x="0" y="71"/>
                </a:moveTo>
                <a:lnTo>
                  <a:pt x="36" y="0"/>
                </a:lnTo>
                <a:lnTo>
                  <a:pt x="73" y="71"/>
                </a:lnTo>
                <a:lnTo>
                  <a:pt x="0" y="7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386000" y="3019320"/>
            <a:ext cx="2879640" cy="1104840"/>
          </a:xfrm>
          <a:custGeom>
            <a:avLst/>
            <a:gdLst/>
            <a:ahLst/>
            <a:rect l="l" t="t" r="r" b="b"/>
            <a:pathLst>
              <a:path w="1640" h="734">
                <a:moveTo>
                  <a:pt x="8" y="371"/>
                </a:moveTo>
                <a:lnTo>
                  <a:pt x="15" y="354"/>
                </a:lnTo>
                <a:lnTo>
                  <a:pt x="25" y="336"/>
                </a:lnTo>
                <a:lnTo>
                  <a:pt x="33" y="319"/>
                </a:lnTo>
                <a:lnTo>
                  <a:pt x="42" y="305"/>
                </a:lnTo>
                <a:lnTo>
                  <a:pt x="50" y="288"/>
                </a:lnTo>
                <a:lnTo>
                  <a:pt x="59" y="270"/>
                </a:lnTo>
                <a:lnTo>
                  <a:pt x="67" y="255"/>
                </a:lnTo>
                <a:lnTo>
                  <a:pt x="77" y="240"/>
                </a:lnTo>
                <a:lnTo>
                  <a:pt x="84" y="224"/>
                </a:lnTo>
                <a:lnTo>
                  <a:pt x="94" y="207"/>
                </a:lnTo>
                <a:lnTo>
                  <a:pt x="104" y="193"/>
                </a:lnTo>
                <a:lnTo>
                  <a:pt x="111" y="179"/>
                </a:lnTo>
                <a:lnTo>
                  <a:pt x="121" y="164"/>
                </a:lnTo>
                <a:lnTo>
                  <a:pt x="128" y="150"/>
                </a:lnTo>
                <a:lnTo>
                  <a:pt x="137" y="137"/>
                </a:lnTo>
                <a:lnTo>
                  <a:pt x="145" y="125"/>
                </a:lnTo>
                <a:lnTo>
                  <a:pt x="154" y="112"/>
                </a:lnTo>
                <a:lnTo>
                  <a:pt x="162" y="100"/>
                </a:lnTo>
                <a:lnTo>
                  <a:pt x="172" y="89"/>
                </a:lnTo>
                <a:lnTo>
                  <a:pt x="179" y="77"/>
                </a:lnTo>
                <a:lnTo>
                  <a:pt x="204" y="51"/>
                </a:lnTo>
                <a:lnTo>
                  <a:pt x="214" y="44"/>
                </a:lnTo>
                <a:lnTo>
                  <a:pt x="222" y="38"/>
                </a:lnTo>
                <a:lnTo>
                  <a:pt x="231" y="32"/>
                </a:lnTo>
                <a:lnTo>
                  <a:pt x="239" y="27"/>
                </a:lnTo>
                <a:lnTo>
                  <a:pt x="248" y="23"/>
                </a:lnTo>
                <a:lnTo>
                  <a:pt x="256" y="19"/>
                </a:lnTo>
                <a:lnTo>
                  <a:pt x="264" y="17"/>
                </a:lnTo>
                <a:lnTo>
                  <a:pt x="271" y="15"/>
                </a:lnTo>
                <a:lnTo>
                  <a:pt x="289" y="15"/>
                </a:lnTo>
                <a:lnTo>
                  <a:pt x="298" y="17"/>
                </a:lnTo>
                <a:lnTo>
                  <a:pt x="304" y="19"/>
                </a:lnTo>
                <a:lnTo>
                  <a:pt x="314" y="23"/>
                </a:lnTo>
                <a:lnTo>
                  <a:pt x="321" y="27"/>
                </a:lnTo>
                <a:lnTo>
                  <a:pt x="331" y="32"/>
                </a:lnTo>
                <a:lnTo>
                  <a:pt x="339" y="38"/>
                </a:lnTo>
                <a:lnTo>
                  <a:pt x="348" y="44"/>
                </a:lnTo>
                <a:lnTo>
                  <a:pt x="373" y="68"/>
                </a:lnTo>
                <a:lnTo>
                  <a:pt x="379" y="77"/>
                </a:lnTo>
                <a:lnTo>
                  <a:pt x="389" y="89"/>
                </a:lnTo>
                <a:lnTo>
                  <a:pt x="396" y="100"/>
                </a:lnTo>
                <a:lnTo>
                  <a:pt x="406" y="112"/>
                </a:lnTo>
                <a:lnTo>
                  <a:pt x="413" y="125"/>
                </a:lnTo>
                <a:lnTo>
                  <a:pt x="422" y="137"/>
                </a:lnTo>
                <a:lnTo>
                  <a:pt x="437" y="164"/>
                </a:lnTo>
                <a:lnTo>
                  <a:pt x="447" y="179"/>
                </a:lnTo>
                <a:lnTo>
                  <a:pt x="455" y="193"/>
                </a:lnTo>
                <a:lnTo>
                  <a:pt x="464" y="207"/>
                </a:lnTo>
                <a:lnTo>
                  <a:pt x="472" y="224"/>
                </a:lnTo>
                <a:lnTo>
                  <a:pt x="480" y="240"/>
                </a:lnTo>
                <a:lnTo>
                  <a:pt x="489" y="255"/>
                </a:lnTo>
                <a:lnTo>
                  <a:pt x="497" y="270"/>
                </a:lnTo>
                <a:lnTo>
                  <a:pt x="507" y="288"/>
                </a:lnTo>
                <a:lnTo>
                  <a:pt x="514" y="305"/>
                </a:lnTo>
                <a:lnTo>
                  <a:pt x="524" y="319"/>
                </a:lnTo>
                <a:lnTo>
                  <a:pt x="539" y="354"/>
                </a:lnTo>
                <a:lnTo>
                  <a:pt x="549" y="371"/>
                </a:lnTo>
                <a:lnTo>
                  <a:pt x="556" y="388"/>
                </a:lnTo>
                <a:lnTo>
                  <a:pt x="566" y="404"/>
                </a:lnTo>
                <a:lnTo>
                  <a:pt x="574" y="421"/>
                </a:lnTo>
                <a:lnTo>
                  <a:pt x="583" y="437"/>
                </a:lnTo>
                <a:lnTo>
                  <a:pt x="591" y="454"/>
                </a:lnTo>
                <a:lnTo>
                  <a:pt x="601" y="470"/>
                </a:lnTo>
                <a:lnTo>
                  <a:pt x="608" y="487"/>
                </a:lnTo>
                <a:lnTo>
                  <a:pt x="618" y="502"/>
                </a:lnTo>
                <a:lnTo>
                  <a:pt x="626" y="518"/>
                </a:lnTo>
                <a:lnTo>
                  <a:pt x="635" y="533"/>
                </a:lnTo>
                <a:lnTo>
                  <a:pt x="643" y="549"/>
                </a:lnTo>
                <a:lnTo>
                  <a:pt x="652" y="563"/>
                </a:lnTo>
                <a:lnTo>
                  <a:pt x="660" y="576"/>
                </a:lnTo>
                <a:lnTo>
                  <a:pt x="670" y="592"/>
                </a:lnTo>
                <a:lnTo>
                  <a:pt x="677" y="605"/>
                </a:lnTo>
                <a:lnTo>
                  <a:pt x="686" y="619"/>
                </a:lnTo>
                <a:lnTo>
                  <a:pt x="694" y="630"/>
                </a:lnTo>
                <a:lnTo>
                  <a:pt x="703" y="642"/>
                </a:lnTo>
                <a:lnTo>
                  <a:pt x="711" y="653"/>
                </a:lnTo>
                <a:lnTo>
                  <a:pt x="721" y="665"/>
                </a:lnTo>
                <a:lnTo>
                  <a:pt x="738" y="683"/>
                </a:lnTo>
                <a:lnTo>
                  <a:pt x="747" y="691"/>
                </a:lnTo>
                <a:lnTo>
                  <a:pt x="765" y="708"/>
                </a:lnTo>
                <a:lnTo>
                  <a:pt x="772" y="714"/>
                </a:lnTo>
                <a:lnTo>
                  <a:pt x="782" y="719"/>
                </a:lnTo>
                <a:lnTo>
                  <a:pt x="790" y="723"/>
                </a:lnTo>
                <a:lnTo>
                  <a:pt x="799" y="727"/>
                </a:lnTo>
                <a:lnTo>
                  <a:pt x="809" y="731"/>
                </a:lnTo>
                <a:lnTo>
                  <a:pt x="817" y="731"/>
                </a:lnTo>
                <a:lnTo>
                  <a:pt x="826" y="733"/>
                </a:lnTo>
                <a:lnTo>
                  <a:pt x="834" y="731"/>
                </a:lnTo>
                <a:lnTo>
                  <a:pt x="843" y="731"/>
                </a:lnTo>
                <a:lnTo>
                  <a:pt x="861" y="723"/>
                </a:lnTo>
                <a:lnTo>
                  <a:pt x="870" y="719"/>
                </a:lnTo>
                <a:lnTo>
                  <a:pt x="878" y="714"/>
                </a:lnTo>
                <a:lnTo>
                  <a:pt x="888" y="708"/>
                </a:lnTo>
                <a:lnTo>
                  <a:pt x="903" y="691"/>
                </a:lnTo>
                <a:lnTo>
                  <a:pt x="913" y="683"/>
                </a:lnTo>
                <a:lnTo>
                  <a:pt x="920" y="673"/>
                </a:lnTo>
                <a:lnTo>
                  <a:pt x="932" y="665"/>
                </a:lnTo>
                <a:lnTo>
                  <a:pt x="947" y="642"/>
                </a:lnTo>
                <a:lnTo>
                  <a:pt x="956" y="630"/>
                </a:lnTo>
                <a:lnTo>
                  <a:pt x="963" y="617"/>
                </a:lnTo>
                <a:lnTo>
                  <a:pt x="973" y="605"/>
                </a:lnTo>
                <a:lnTo>
                  <a:pt x="981" y="590"/>
                </a:lnTo>
                <a:lnTo>
                  <a:pt x="988" y="576"/>
                </a:lnTo>
                <a:lnTo>
                  <a:pt x="998" y="563"/>
                </a:lnTo>
                <a:lnTo>
                  <a:pt x="1006" y="549"/>
                </a:lnTo>
                <a:lnTo>
                  <a:pt x="1015" y="533"/>
                </a:lnTo>
                <a:lnTo>
                  <a:pt x="1023" y="518"/>
                </a:lnTo>
                <a:lnTo>
                  <a:pt x="1032" y="502"/>
                </a:lnTo>
                <a:lnTo>
                  <a:pt x="1040" y="485"/>
                </a:lnTo>
                <a:lnTo>
                  <a:pt x="1048" y="470"/>
                </a:lnTo>
                <a:lnTo>
                  <a:pt x="1057" y="453"/>
                </a:lnTo>
                <a:lnTo>
                  <a:pt x="1065" y="435"/>
                </a:lnTo>
                <a:lnTo>
                  <a:pt x="1075" y="419"/>
                </a:lnTo>
                <a:lnTo>
                  <a:pt x="1082" y="404"/>
                </a:lnTo>
                <a:lnTo>
                  <a:pt x="1090" y="386"/>
                </a:lnTo>
                <a:lnTo>
                  <a:pt x="1100" y="369"/>
                </a:lnTo>
                <a:lnTo>
                  <a:pt x="1107" y="352"/>
                </a:lnTo>
                <a:lnTo>
                  <a:pt x="1117" y="335"/>
                </a:lnTo>
                <a:lnTo>
                  <a:pt x="1125" y="317"/>
                </a:lnTo>
                <a:lnTo>
                  <a:pt x="1134" y="301"/>
                </a:lnTo>
                <a:lnTo>
                  <a:pt x="1142" y="286"/>
                </a:lnTo>
                <a:lnTo>
                  <a:pt x="1152" y="268"/>
                </a:lnTo>
                <a:lnTo>
                  <a:pt x="1159" y="251"/>
                </a:lnTo>
                <a:lnTo>
                  <a:pt x="1169" y="236"/>
                </a:lnTo>
                <a:lnTo>
                  <a:pt x="1176" y="220"/>
                </a:lnTo>
                <a:lnTo>
                  <a:pt x="1186" y="203"/>
                </a:lnTo>
                <a:lnTo>
                  <a:pt x="1194" y="188"/>
                </a:lnTo>
                <a:lnTo>
                  <a:pt x="1203" y="175"/>
                </a:lnTo>
                <a:lnTo>
                  <a:pt x="1211" y="160"/>
                </a:lnTo>
                <a:lnTo>
                  <a:pt x="1221" y="146"/>
                </a:lnTo>
                <a:lnTo>
                  <a:pt x="1228" y="131"/>
                </a:lnTo>
                <a:lnTo>
                  <a:pt x="1237" y="120"/>
                </a:lnTo>
                <a:lnTo>
                  <a:pt x="1245" y="106"/>
                </a:lnTo>
                <a:lnTo>
                  <a:pt x="1254" y="95"/>
                </a:lnTo>
                <a:lnTo>
                  <a:pt x="1262" y="83"/>
                </a:lnTo>
                <a:lnTo>
                  <a:pt x="1271" y="72"/>
                </a:lnTo>
                <a:lnTo>
                  <a:pt x="1285" y="53"/>
                </a:lnTo>
                <a:lnTo>
                  <a:pt x="1302" y="38"/>
                </a:lnTo>
                <a:lnTo>
                  <a:pt x="1312" y="32"/>
                </a:lnTo>
                <a:lnTo>
                  <a:pt x="1319" y="25"/>
                </a:lnTo>
                <a:lnTo>
                  <a:pt x="1329" y="19"/>
                </a:lnTo>
                <a:lnTo>
                  <a:pt x="1337" y="15"/>
                </a:lnTo>
                <a:lnTo>
                  <a:pt x="1346" y="11"/>
                </a:lnTo>
                <a:lnTo>
                  <a:pt x="1360" y="7"/>
                </a:lnTo>
                <a:lnTo>
                  <a:pt x="1377" y="7"/>
                </a:lnTo>
                <a:lnTo>
                  <a:pt x="1387" y="9"/>
                </a:lnTo>
                <a:lnTo>
                  <a:pt x="1392" y="11"/>
                </a:lnTo>
                <a:lnTo>
                  <a:pt x="1400" y="15"/>
                </a:lnTo>
                <a:lnTo>
                  <a:pt x="1410" y="19"/>
                </a:lnTo>
                <a:lnTo>
                  <a:pt x="1417" y="25"/>
                </a:lnTo>
                <a:lnTo>
                  <a:pt x="1425" y="32"/>
                </a:lnTo>
                <a:lnTo>
                  <a:pt x="1435" y="38"/>
                </a:lnTo>
                <a:lnTo>
                  <a:pt x="1452" y="53"/>
                </a:lnTo>
                <a:lnTo>
                  <a:pt x="1465" y="72"/>
                </a:lnTo>
                <a:lnTo>
                  <a:pt x="1475" y="83"/>
                </a:lnTo>
                <a:lnTo>
                  <a:pt x="1490" y="106"/>
                </a:lnTo>
                <a:lnTo>
                  <a:pt x="1500" y="120"/>
                </a:lnTo>
                <a:lnTo>
                  <a:pt x="1514" y="146"/>
                </a:lnTo>
                <a:lnTo>
                  <a:pt x="1524" y="160"/>
                </a:lnTo>
                <a:lnTo>
                  <a:pt x="1539" y="190"/>
                </a:lnTo>
                <a:lnTo>
                  <a:pt x="1549" y="205"/>
                </a:lnTo>
                <a:lnTo>
                  <a:pt x="1564" y="236"/>
                </a:lnTo>
                <a:lnTo>
                  <a:pt x="1574" y="253"/>
                </a:lnTo>
                <a:lnTo>
                  <a:pt x="1581" y="268"/>
                </a:lnTo>
                <a:lnTo>
                  <a:pt x="1597" y="303"/>
                </a:lnTo>
                <a:lnTo>
                  <a:pt x="1606" y="319"/>
                </a:lnTo>
                <a:lnTo>
                  <a:pt x="1622" y="354"/>
                </a:lnTo>
                <a:lnTo>
                  <a:pt x="1631" y="371"/>
                </a:lnTo>
                <a:lnTo>
                  <a:pt x="1639" y="367"/>
                </a:lnTo>
                <a:lnTo>
                  <a:pt x="1629" y="350"/>
                </a:lnTo>
                <a:lnTo>
                  <a:pt x="1614" y="315"/>
                </a:lnTo>
                <a:lnTo>
                  <a:pt x="1604" y="299"/>
                </a:lnTo>
                <a:lnTo>
                  <a:pt x="1589" y="264"/>
                </a:lnTo>
                <a:lnTo>
                  <a:pt x="1581" y="249"/>
                </a:lnTo>
                <a:lnTo>
                  <a:pt x="1572" y="232"/>
                </a:lnTo>
                <a:lnTo>
                  <a:pt x="1556" y="201"/>
                </a:lnTo>
                <a:lnTo>
                  <a:pt x="1547" y="186"/>
                </a:lnTo>
                <a:lnTo>
                  <a:pt x="1532" y="156"/>
                </a:lnTo>
                <a:lnTo>
                  <a:pt x="1522" y="143"/>
                </a:lnTo>
                <a:lnTo>
                  <a:pt x="1507" y="116"/>
                </a:lnTo>
                <a:lnTo>
                  <a:pt x="1498" y="102"/>
                </a:lnTo>
                <a:lnTo>
                  <a:pt x="1483" y="79"/>
                </a:lnTo>
                <a:lnTo>
                  <a:pt x="1473" y="68"/>
                </a:lnTo>
                <a:lnTo>
                  <a:pt x="1456" y="50"/>
                </a:lnTo>
                <a:lnTo>
                  <a:pt x="1438" y="30"/>
                </a:lnTo>
                <a:lnTo>
                  <a:pt x="1429" y="25"/>
                </a:lnTo>
                <a:lnTo>
                  <a:pt x="1421" y="17"/>
                </a:lnTo>
                <a:lnTo>
                  <a:pt x="1413" y="11"/>
                </a:lnTo>
                <a:lnTo>
                  <a:pt x="1404" y="7"/>
                </a:lnTo>
                <a:lnTo>
                  <a:pt x="1396" y="3"/>
                </a:lnTo>
                <a:lnTo>
                  <a:pt x="1387" y="2"/>
                </a:lnTo>
                <a:lnTo>
                  <a:pt x="1377" y="0"/>
                </a:lnTo>
                <a:lnTo>
                  <a:pt x="1360" y="0"/>
                </a:lnTo>
                <a:lnTo>
                  <a:pt x="1342" y="3"/>
                </a:lnTo>
                <a:lnTo>
                  <a:pt x="1333" y="7"/>
                </a:lnTo>
                <a:lnTo>
                  <a:pt x="1325" y="11"/>
                </a:lnTo>
                <a:lnTo>
                  <a:pt x="1316" y="17"/>
                </a:lnTo>
                <a:lnTo>
                  <a:pt x="1308" y="25"/>
                </a:lnTo>
                <a:lnTo>
                  <a:pt x="1298" y="30"/>
                </a:lnTo>
                <a:lnTo>
                  <a:pt x="1281" y="50"/>
                </a:lnTo>
                <a:lnTo>
                  <a:pt x="1264" y="68"/>
                </a:lnTo>
                <a:lnTo>
                  <a:pt x="1254" y="79"/>
                </a:lnTo>
                <a:lnTo>
                  <a:pt x="1246" y="91"/>
                </a:lnTo>
                <a:lnTo>
                  <a:pt x="1237" y="102"/>
                </a:lnTo>
                <a:lnTo>
                  <a:pt x="1229" y="116"/>
                </a:lnTo>
                <a:lnTo>
                  <a:pt x="1221" y="127"/>
                </a:lnTo>
                <a:lnTo>
                  <a:pt x="1213" y="143"/>
                </a:lnTo>
                <a:lnTo>
                  <a:pt x="1203" y="156"/>
                </a:lnTo>
                <a:lnTo>
                  <a:pt x="1196" y="171"/>
                </a:lnTo>
                <a:lnTo>
                  <a:pt x="1186" y="184"/>
                </a:lnTo>
                <a:lnTo>
                  <a:pt x="1178" y="199"/>
                </a:lnTo>
                <a:lnTo>
                  <a:pt x="1169" y="216"/>
                </a:lnTo>
                <a:lnTo>
                  <a:pt x="1161" y="232"/>
                </a:lnTo>
                <a:lnTo>
                  <a:pt x="1152" y="247"/>
                </a:lnTo>
                <a:lnTo>
                  <a:pt x="1144" y="264"/>
                </a:lnTo>
                <a:lnTo>
                  <a:pt x="1134" y="282"/>
                </a:lnTo>
                <a:lnTo>
                  <a:pt x="1127" y="297"/>
                </a:lnTo>
                <a:lnTo>
                  <a:pt x="1117" y="313"/>
                </a:lnTo>
                <a:lnTo>
                  <a:pt x="1109" y="331"/>
                </a:lnTo>
                <a:lnTo>
                  <a:pt x="1100" y="348"/>
                </a:lnTo>
                <a:lnTo>
                  <a:pt x="1092" y="365"/>
                </a:lnTo>
                <a:lnTo>
                  <a:pt x="1082" y="383"/>
                </a:lnTo>
                <a:lnTo>
                  <a:pt x="1075" y="400"/>
                </a:lnTo>
                <a:lnTo>
                  <a:pt x="1067" y="415"/>
                </a:lnTo>
                <a:lnTo>
                  <a:pt x="1057" y="431"/>
                </a:lnTo>
                <a:lnTo>
                  <a:pt x="1050" y="449"/>
                </a:lnTo>
                <a:lnTo>
                  <a:pt x="1040" y="466"/>
                </a:lnTo>
                <a:lnTo>
                  <a:pt x="1032" y="481"/>
                </a:lnTo>
                <a:lnTo>
                  <a:pt x="1025" y="499"/>
                </a:lnTo>
                <a:lnTo>
                  <a:pt x="1015" y="514"/>
                </a:lnTo>
                <a:lnTo>
                  <a:pt x="1008" y="529"/>
                </a:lnTo>
                <a:lnTo>
                  <a:pt x="998" y="545"/>
                </a:lnTo>
                <a:lnTo>
                  <a:pt x="990" y="559"/>
                </a:lnTo>
                <a:lnTo>
                  <a:pt x="981" y="573"/>
                </a:lnTo>
                <a:lnTo>
                  <a:pt x="973" y="586"/>
                </a:lnTo>
                <a:lnTo>
                  <a:pt x="965" y="601"/>
                </a:lnTo>
                <a:lnTo>
                  <a:pt x="956" y="613"/>
                </a:lnTo>
                <a:lnTo>
                  <a:pt x="949" y="626"/>
                </a:lnTo>
                <a:lnTo>
                  <a:pt x="939" y="638"/>
                </a:lnTo>
                <a:lnTo>
                  <a:pt x="924" y="661"/>
                </a:lnTo>
                <a:lnTo>
                  <a:pt x="916" y="670"/>
                </a:lnTo>
                <a:lnTo>
                  <a:pt x="909" y="679"/>
                </a:lnTo>
                <a:lnTo>
                  <a:pt x="899" y="687"/>
                </a:lnTo>
                <a:lnTo>
                  <a:pt x="884" y="700"/>
                </a:lnTo>
                <a:lnTo>
                  <a:pt x="874" y="706"/>
                </a:lnTo>
                <a:lnTo>
                  <a:pt x="866" y="712"/>
                </a:lnTo>
                <a:lnTo>
                  <a:pt x="857" y="715"/>
                </a:lnTo>
                <a:lnTo>
                  <a:pt x="843" y="723"/>
                </a:lnTo>
                <a:lnTo>
                  <a:pt x="834" y="723"/>
                </a:lnTo>
                <a:lnTo>
                  <a:pt x="826" y="725"/>
                </a:lnTo>
                <a:lnTo>
                  <a:pt x="817" y="723"/>
                </a:lnTo>
                <a:lnTo>
                  <a:pt x="809" y="723"/>
                </a:lnTo>
                <a:lnTo>
                  <a:pt x="803" y="719"/>
                </a:lnTo>
                <a:lnTo>
                  <a:pt x="794" y="715"/>
                </a:lnTo>
                <a:lnTo>
                  <a:pt x="786" y="712"/>
                </a:lnTo>
                <a:lnTo>
                  <a:pt x="776" y="706"/>
                </a:lnTo>
                <a:lnTo>
                  <a:pt x="769" y="700"/>
                </a:lnTo>
                <a:lnTo>
                  <a:pt x="759" y="694"/>
                </a:lnTo>
                <a:lnTo>
                  <a:pt x="751" y="687"/>
                </a:lnTo>
                <a:lnTo>
                  <a:pt x="742" y="679"/>
                </a:lnTo>
                <a:lnTo>
                  <a:pt x="728" y="661"/>
                </a:lnTo>
                <a:lnTo>
                  <a:pt x="719" y="649"/>
                </a:lnTo>
                <a:lnTo>
                  <a:pt x="711" y="638"/>
                </a:lnTo>
                <a:lnTo>
                  <a:pt x="701" y="626"/>
                </a:lnTo>
                <a:lnTo>
                  <a:pt x="694" y="615"/>
                </a:lnTo>
                <a:lnTo>
                  <a:pt x="684" y="601"/>
                </a:lnTo>
                <a:lnTo>
                  <a:pt x="677" y="588"/>
                </a:lnTo>
                <a:lnTo>
                  <a:pt x="668" y="573"/>
                </a:lnTo>
                <a:lnTo>
                  <a:pt x="660" y="559"/>
                </a:lnTo>
                <a:lnTo>
                  <a:pt x="651" y="545"/>
                </a:lnTo>
                <a:lnTo>
                  <a:pt x="643" y="529"/>
                </a:lnTo>
                <a:lnTo>
                  <a:pt x="633" y="514"/>
                </a:lnTo>
                <a:lnTo>
                  <a:pt x="626" y="499"/>
                </a:lnTo>
                <a:lnTo>
                  <a:pt x="616" y="483"/>
                </a:lnTo>
                <a:lnTo>
                  <a:pt x="608" y="466"/>
                </a:lnTo>
                <a:lnTo>
                  <a:pt x="599" y="451"/>
                </a:lnTo>
                <a:lnTo>
                  <a:pt x="591" y="433"/>
                </a:lnTo>
                <a:lnTo>
                  <a:pt x="581" y="417"/>
                </a:lnTo>
                <a:lnTo>
                  <a:pt x="574" y="400"/>
                </a:lnTo>
                <a:lnTo>
                  <a:pt x="564" y="384"/>
                </a:lnTo>
                <a:lnTo>
                  <a:pt x="556" y="367"/>
                </a:lnTo>
                <a:lnTo>
                  <a:pt x="547" y="350"/>
                </a:lnTo>
                <a:lnTo>
                  <a:pt x="532" y="315"/>
                </a:lnTo>
                <a:lnTo>
                  <a:pt x="522" y="301"/>
                </a:lnTo>
                <a:lnTo>
                  <a:pt x="514" y="284"/>
                </a:lnTo>
                <a:lnTo>
                  <a:pt x="505" y="266"/>
                </a:lnTo>
                <a:lnTo>
                  <a:pt x="497" y="251"/>
                </a:lnTo>
                <a:lnTo>
                  <a:pt x="487" y="236"/>
                </a:lnTo>
                <a:lnTo>
                  <a:pt x="480" y="220"/>
                </a:lnTo>
                <a:lnTo>
                  <a:pt x="472" y="203"/>
                </a:lnTo>
                <a:lnTo>
                  <a:pt x="462" y="190"/>
                </a:lnTo>
                <a:lnTo>
                  <a:pt x="455" y="175"/>
                </a:lnTo>
                <a:lnTo>
                  <a:pt x="445" y="160"/>
                </a:lnTo>
                <a:lnTo>
                  <a:pt x="430" y="133"/>
                </a:lnTo>
                <a:lnTo>
                  <a:pt x="420" y="122"/>
                </a:lnTo>
                <a:lnTo>
                  <a:pt x="413" y="108"/>
                </a:lnTo>
                <a:lnTo>
                  <a:pt x="404" y="97"/>
                </a:lnTo>
                <a:lnTo>
                  <a:pt x="396" y="85"/>
                </a:lnTo>
                <a:lnTo>
                  <a:pt x="387" y="74"/>
                </a:lnTo>
                <a:lnTo>
                  <a:pt x="342" y="30"/>
                </a:lnTo>
                <a:lnTo>
                  <a:pt x="335" y="25"/>
                </a:lnTo>
                <a:lnTo>
                  <a:pt x="325" y="19"/>
                </a:lnTo>
                <a:lnTo>
                  <a:pt x="318" y="15"/>
                </a:lnTo>
                <a:lnTo>
                  <a:pt x="308" y="11"/>
                </a:lnTo>
                <a:lnTo>
                  <a:pt x="298" y="9"/>
                </a:lnTo>
                <a:lnTo>
                  <a:pt x="289" y="7"/>
                </a:lnTo>
                <a:lnTo>
                  <a:pt x="271" y="7"/>
                </a:lnTo>
                <a:lnTo>
                  <a:pt x="264" y="9"/>
                </a:lnTo>
                <a:lnTo>
                  <a:pt x="252" y="11"/>
                </a:lnTo>
                <a:lnTo>
                  <a:pt x="245" y="15"/>
                </a:lnTo>
                <a:lnTo>
                  <a:pt x="235" y="19"/>
                </a:lnTo>
                <a:lnTo>
                  <a:pt x="227" y="25"/>
                </a:lnTo>
                <a:lnTo>
                  <a:pt x="218" y="30"/>
                </a:lnTo>
                <a:lnTo>
                  <a:pt x="210" y="40"/>
                </a:lnTo>
                <a:lnTo>
                  <a:pt x="200" y="48"/>
                </a:lnTo>
                <a:lnTo>
                  <a:pt x="172" y="74"/>
                </a:lnTo>
                <a:lnTo>
                  <a:pt x="164" y="85"/>
                </a:lnTo>
                <a:lnTo>
                  <a:pt x="154" y="97"/>
                </a:lnTo>
                <a:lnTo>
                  <a:pt x="147" y="108"/>
                </a:lnTo>
                <a:lnTo>
                  <a:pt x="137" y="122"/>
                </a:lnTo>
                <a:lnTo>
                  <a:pt x="130" y="133"/>
                </a:lnTo>
                <a:lnTo>
                  <a:pt x="121" y="146"/>
                </a:lnTo>
                <a:lnTo>
                  <a:pt x="113" y="160"/>
                </a:lnTo>
                <a:lnTo>
                  <a:pt x="104" y="175"/>
                </a:lnTo>
                <a:lnTo>
                  <a:pt x="96" y="190"/>
                </a:lnTo>
                <a:lnTo>
                  <a:pt x="86" y="203"/>
                </a:lnTo>
                <a:lnTo>
                  <a:pt x="77" y="220"/>
                </a:lnTo>
                <a:lnTo>
                  <a:pt x="69" y="236"/>
                </a:lnTo>
                <a:lnTo>
                  <a:pt x="59" y="251"/>
                </a:lnTo>
                <a:lnTo>
                  <a:pt x="52" y="266"/>
                </a:lnTo>
                <a:lnTo>
                  <a:pt x="42" y="284"/>
                </a:lnTo>
                <a:lnTo>
                  <a:pt x="34" y="301"/>
                </a:lnTo>
                <a:lnTo>
                  <a:pt x="25" y="315"/>
                </a:lnTo>
                <a:lnTo>
                  <a:pt x="17" y="333"/>
                </a:lnTo>
                <a:lnTo>
                  <a:pt x="8" y="350"/>
                </a:lnTo>
                <a:lnTo>
                  <a:pt x="0" y="367"/>
                </a:lnTo>
                <a:lnTo>
                  <a:pt x="8" y="37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401840" y="2978280"/>
            <a:ext cx="0" cy="1204920"/>
          </a:xfrm>
          <a:prstGeom prst="line">
            <a:avLst/>
          </a:prstGeom>
          <a:ln w="64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409760" y="3579840"/>
            <a:ext cx="301932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81360" y="3043080"/>
            <a:ext cx="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820960" y="35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790800" y="3035160"/>
            <a:ext cx="0" cy="53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392120" y="3554280"/>
            <a:ext cx="30240" cy="32040"/>
          </a:xfrm>
          <a:custGeom>
            <a:avLst/>
            <a:gdLst/>
            <a:ahLst/>
            <a:rect l="l" t="t" r="r" b="b"/>
            <a:pathLst>
              <a:path w="17" h="22">
                <a:moveTo>
                  <a:pt x="5" y="21"/>
                </a:moveTo>
                <a:lnTo>
                  <a:pt x="16" y="5"/>
                </a:lnTo>
                <a:lnTo>
                  <a:pt x="9" y="0"/>
                </a:lnTo>
                <a:lnTo>
                  <a:pt x="0" y="15"/>
                </a:lnTo>
                <a:lnTo>
                  <a:pt x="5" y="2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380960" y="4691160"/>
            <a:ext cx="2880000" cy="1103040"/>
          </a:xfrm>
          <a:custGeom>
            <a:avLst/>
            <a:gdLst/>
            <a:ahLst/>
            <a:rect l="l" t="t" r="r" b="b"/>
            <a:pathLst>
              <a:path w="1640" h="734">
                <a:moveTo>
                  <a:pt x="8" y="371"/>
                </a:moveTo>
                <a:lnTo>
                  <a:pt x="15" y="354"/>
                </a:lnTo>
                <a:lnTo>
                  <a:pt x="25" y="336"/>
                </a:lnTo>
                <a:lnTo>
                  <a:pt x="33" y="319"/>
                </a:lnTo>
                <a:lnTo>
                  <a:pt x="42" y="305"/>
                </a:lnTo>
                <a:lnTo>
                  <a:pt x="50" y="288"/>
                </a:lnTo>
                <a:lnTo>
                  <a:pt x="59" y="270"/>
                </a:lnTo>
                <a:lnTo>
                  <a:pt x="67" y="255"/>
                </a:lnTo>
                <a:lnTo>
                  <a:pt x="77" y="240"/>
                </a:lnTo>
                <a:lnTo>
                  <a:pt x="84" y="224"/>
                </a:lnTo>
                <a:lnTo>
                  <a:pt x="94" y="207"/>
                </a:lnTo>
                <a:lnTo>
                  <a:pt x="104" y="193"/>
                </a:lnTo>
                <a:lnTo>
                  <a:pt x="111" y="179"/>
                </a:lnTo>
                <a:lnTo>
                  <a:pt x="121" y="164"/>
                </a:lnTo>
                <a:lnTo>
                  <a:pt x="128" y="150"/>
                </a:lnTo>
                <a:lnTo>
                  <a:pt x="137" y="137"/>
                </a:lnTo>
                <a:lnTo>
                  <a:pt x="145" y="125"/>
                </a:lnTo>
                <a:lnTo>
                  <a:pt x="154" y="112"/>
                </a:lnTo>
                <a:lnTo>
                  <a:pt x="162" y="100"/>
                </a:lnTo>
                <a:lnTo>
                  <a:pt x="172" y="89"/>
                </a:lnTo>
                <a:lnTo>
                  <a:pt x="179" y="77"/>
                </a:lnTo>
                <a:lnTo>
                  <a:pt x="204" y="51"/>
                </a:lnTo>
                <a:lnTo>
                  <a:pt x="214" y="44"/>
                </a:lnTo>
                <a:lnTo>
                  <a:pt x="222" y="38"/>
                </a:lnTo>
                <a:lnTo>
                  <a:pt x="231" y="32"/>
                </a:lnTo>
                <a:lnTo>
                  <a:pt x="239" y="27"/>
                </a:lnTo>
                <a:lnTo>
                  <a:pt x="248" y="23"/>
                </a:lnTo>
                <a:lnTo>
                  <a:pt x="256" y="19"/>
                </a:lnTo>
                <a:lnTo>
                  <a:pt x="264" y="17"/>
                </a:lnTo>
                <a:lnTo>
                  <a:pt x="271" y="15"/>
                </a:lnTo>
                <a:lnTo>
                  <a:pt x="289" y="15"/>
                </a:lnTo>
                <a:lnTo>
                  <a:pt x="298" y="17"/>
                </a:lnTo>
                <a:lnTo>
                  <a:pt x="304" y="19"/>
                </a:lnTo>
                <a:lnTo>
                  <a:pt x="314" y="23"/>
                </a:lnTo>
                <a:lnTo>
                  <a:pt x="321" y="27"/>
                </a:lnTo>
                <a:lnTo>
                  <a:pt x="331" y="32"/>
                </a:lnTo>
                <a:lnTo>
                  <a:pt x="339" y="38"/>
                </a:lnTo>
                <a:lnTo>
                  <a:pt x="348" y="44"/>
                </a:lnTo>
                <a:lnTo>
                  <a:pt x="373" y="68"/>
                </a:lnTo>
                <a:lnTo>
                  <a:pt x="379" y="77"/>
                </a:lnTo>
                <a:lnTo>
                  <a:pt x="389" y="89"/>
                </a:lnTo>
                <a:lnTo>
                  <a:pt x="396" y="100"/>
                </a:lnTo>
                <a:lnTo>
                  <a:pt x="406" y="112"/>
                </a:lnTo>
                <a:lnTo>
                  <a:pt x="413" y="125"/>
                </a:lnTo>
                <a:lnTo>
                  <a:pt x="422" y="137"/>
                </a:lnTo>
                <a:lnTo>
                  <a:pt x="437" y="164"/>
                </a:lnTo>
                <a:lnTo>
                  <a:pt x="447" y="179"/>
                </a:lnTo>
                <a:lnTo>
                  <a:pt x="455" y="193"/>
                </a:lnTo>
                <a:lnTo>
                  <a:pt x="464" y="207"/>
                </a:lnTo>
                <a:lnTo>
                  <a:pt x="472" y="224"/>
                </a:lnTo>
                <a:lnTo>
                  <a:pt x="480" y="240"/>
                </a:lnTo>
                <a:lnTo>
                  <a:pt x="489" y="255"/>
                </a:lnTo>
                <a:lnTo>
                  <a:pt x="497" y="270"/>
                </a:lnTo>
                <a:lnTo>
                  <a:pt x="507" y="288"/>
                </a:lnTo>
                <a:lnTo>
                  <a:pt x="514" y="305"/>
                </a:lnTo>
                <a:lnTo>
                  <a:pt x="524" y="319"/>
                </a:lnTo>
                <a:lnTo>
                  <a:pt x="539" y="354"/>
                </a:lnTo>
                <a:lnTo>
                  <a:pt x="549" y="371"/>
                </a:lnTo>
                <a:lnTo>
                  <a:pt x="556" y="388"/>
                </a:lnTo>
                <a:lnTo>
                  <a:pt x="566" y="404"/>
                </a:lnTo>
                <a:lnTo>
                  <a:pt x="574" y="421"/>
                </a:lnTo>
                <a:lnTo>
                  <a:pt x="583" y="437"/>
                </a:lnTo>
                <a:lnTo>
                  <a:pt x="591" y="454"/>
                </a:lnTo>
                <a:lnTo>
                  <a:pt x="601" y="470"/>
                </a:lnTo>
                <a:lnTo>
                  <a:pt x="608" y="487"/>
                </a:lnTo>
                <a:lnTo>
                  <a:pt x="618" y="502"/>
                </a:lnTo>
                <a:lnTo>
                  <a:pt x="626" y="518"/>
                </a:lnTo>
                <a:lnTo>
                  <a:pt x="635" y="533"/>
                </a:lnTo>
                <a:lnTo>
                  <a:pt x="643" y="549"/>
                </a:lnTo>
                <a:lnTo>
                  <a:pt x="652" y="563"/>
                </a:lnTo>
                <a:lnTo>
                  <a:pt x="660" y="576"/>
                </a:lnTo>
                <a:lnTo>
                  <a:pt x="670" y="592"/>
                </a:lnTo>
                <a:lnTo>
                  <a:pt x="677" y="605"/>
                </a:lnTo>
                <a:lnTo>
                  <a:pt x="686" y="619"/>
                </a:lnTo>
                <a:lnTo>
                  <a:pt x="694" y="630"/>
                </a:lnTo>
                <a:lnTo>
                  <a:pt x="703" y="642"/>
                </a:lnTo>
                <a:lnTo>
                  <a:pt x="711" y="653"/>
                </a:lnTo>
                <a:lnTo>
                  <a:pt x="721" y="665"/>
                </a:lnTo>
                <a:lnTo>
                  <a:pt x="738" y="683"/>
                </a:lnTo>
                <a:lnTo>
                  <a:pt x="747" y="691"/>
                </a:lnTo>
                <a:lnTo>
                  <a:pt x="765" y="708"/>
                </a:lnTo>
                <a:lnTo>
                  <a:pt x="772" y="714"/>
                </a:lnTo>
                <a:lnTo>
                  <a:pt x="782" y="719"/>
                </a:lnTo>
                <a:lnTo>
                  <a:pt x="790" y="723"/>
                </a:lnTo>
                <a:lnTo>
                  <a:pt x="799" y="727"/>
                </a:lnTo>
                <a:lnTo>
                  <a:pt x="809" y="731"/>
                </a:lnTo>
                <a:lnTo>
                  <a:pt x="817" y="731"/>
                </a:lnTo>
                <a:lnTo>
                  <a:pt x="826" y="733"/>
                </a:lnTo>
                <a:lnTo>
                  <a:pt x="834" y="731"/>
                </a:lnTo>
                <a:lnTo>
                  <a:pt x="843" y="731"/>
                </a:lnTo>
                <a:lnTo>
                  <a:pt x="861" y="723"/>
                </a:lnTo>
                <a:lnTo>
                  <a:pt x="870" y="719"/>
                </a:lnTo>
                <a:lnTo>
                  <a:pt x="878" y="714"/>
                </a:lnTo>
                <a:lnTo>
                  <a:pt x="888" y="708"/>
                </a:lnTo>
                <a:lnTo>
                  <a:pt x="903" y="691"/>
                </a:lnTo>
                <a:lnTo>
                  <a:pt x="913" y="683"/>
                </a:lnTo>
                <a:lnTo>
                  <a:pt x="920" y="673"/>
                </a:lnTo>
                <a:lnTo>
                  <a:pt x="932" y="665"/>
                </a:lnTo>
                <a:lnTo>
                  <a:pt x="947" y="642"/>
                </a:lnTo>
                <a:lnTo>
                  <a:pt x="956" y="630"/>
                </a:lnTo>
                <a:lnTo>
                  <a:pt x="963" y="617"/>
                </a:lnTo>
                <a:lnTo>
                  <a:pt x="973" y="605"/>
                </a:lnTo>
                <a:lnTo>
                  <a:pt x="981" y="590"/>
                </a:lnTo>
                <a:lnTo>
                  <a:pt x="988" y="576"/>
                </a:lnTo>
                <a:lnTo>
                  <a:pt x="998" y="563"/>
                </a:lnTo>
                <a:lnTo>
                  <a:pt x="1006" y="549"/>
                </a:lnTo>
                <a:lnTo>
                  <a:pt x="1015" y="533"/>
                </a:lnTo>
                <a:lnTo>
                  <a:pt x="1023" y="518"/>
                </a:lnTo>
                <a:lnTo>
                  <a:pt x="1032" y="502"/>
                </a:lnTo>
                <a:lnTo>
                  <a:pt x="1040" y="485"/>
                </a:lnTo>
                <a:lnTo>
                  <a:pt x="1048" y="470"/>
                </a:lnTo>
                <a:lnTo>
                  <a:pt x="1057" y="453"/>
                </a:lnTo>
                <a:lnTo>
                  <a:pt x="1065" y="435"/>
                </a:lnTo>
                <a:lnTo>
                  <a:pt x="1075" y="419"/>
                </a:lnTo>
                <a:lnTo>
                  <a:pt x="1082" y="404"/>
                </a:lnTo>
                <a:lnTo>
                  <a:pt x="1090" y="386"/>
                </a:lnTo>
                <a:lnTo>
                  <a:pt x="1100" y="369"/>
                </a:lnTo>
                <a:lnTo>
                  <a:pt x="1107" y="352"/>
                </a:lnTo>
                <a:lnTo>
                  <a:pt x="1117" y="335"/>
                </a:lnTo>
                <a:lnTo>
                  <a:pt x="1125" y="317"/>
                </a:lnTo>
                <a:lnTo>
                  <a:pt x="1134" y="301"/>
                </a:lnTo>
                <a:lnTo>
                  <a:pt x="1142" y="286"/>
                </a:lnTo>
                <a:lnTo>
                  <a:pt x="1152" y="268"/>
                </a:lnTo>
                <a:lnTo>
                  <a:pt x="1159" y="251"/>
                </a:lnTo>
                <a:lnTo>
                  <a:pt x="1169" y="236"/>
                </a:lnTo>
                <a:lnTo>
                  <a:pt x="1176" y="220"/>
                </a:lnTo>
                <a:lnTo>
                  <a:pt x="1186" y="203"/>
                </a:lnTo>
                <a:lnTo>
                  <a:pt x="1194" y="188"/>
                </a:lnTo>
                <a:lnTo>
                  <a:pt x="1203" y="175"/>
                </a:lnTo>
                <a:lnTo>
                  <a:pt x="1211" y="160"/>
                </a:lnTo>
                <a:lnTo>
                  <a:pt x="1221" y="146"/>
                </a:lnTo>
                <a:lnTo>
                  <a:pt x="1228" y="131"/>
                </a:lnTo>
                <a:lnTo>
                  <a:pt x="1237" y="120"/>
                </a:lnTo>
                <a:lnTo>
                  <a:pt x="1245" y="106"/>
                </a:lnTo>
                <a:lnTo>
                  <a:pt x="1254" y="95"/>
                </a:lnTo>
                <a:lnTo>
                  <a:pt x="1262" y="83"/>
                </a:lnTo>
                <a:lnTo>
                  <a:pt x="1271" y="72"/>
                </a:lnTo>
                <a:lnTo>
                  <a:pt x="1285" y="53"/>
                </a:lnTo>
                <a:lnTo>
                  <a:pt x="1302" y="38"/>
                </a:lnTo>
                <a:lnTo>
                  <a:pt x="1312" y="32"/>
                </a:lnTo>
                <a:lnTo>
                  <a:pt x="1319" y="25"/>
                </a:lnTo>
                <a:lnTo>
                  <a:pt x="1329" y="19"/>
                </a:lnTo>
                <a:lnTo>
                  <a:pt x="1337" y="15"/>
                </a:lnTo>
                <a:lnTo>
                  <a:pt x="1346" y="11"/>
                </a:lnTo>
                <a:lnTo>
                  <a:pt x="1360" y="7"/>
                </a:lnTo>
                <a:lnTo>
                  <a:pt x="1377" y="7"/>
                </a:lnTo>
                <a:lnTo>
                  <a:pt x="1387" y="9"/>
                </a:lnTo>
                <a:lnTo>
                  <a:pt x="1392" y="11"/>
                </a:lnTo>
                <a:lnTo>
                  <a:pt x="1400" y="15"/>
                </a:lnTo>
                <a:lnTo>
                  <a:pt x="1410" y="19"/>
                </a:lnTo>
                <a:lnTo>
                  <a:pt x="1417" y="25"/>
                </a:lnTo>
                <a:lnTo>
                  <a:pt x="1425" y="32"/>
                </a:lnTo>
                <a:lnTo>
                  <a:pt x="1435" y="38"/>
                </a:lnTo>
                <a:lnTo>
                  <a:pt x="1452" y="53"/>
                </a:lnTo>
                <a:lnTo>
                  <a:pt x="1465" y="72"/>
                </a:lnTo>
                <a:lnTo>
                  <a:pt x="1475" y="83"/>
                </a:lnTo>
                <a:lnTo>
                  <a:pt x="1490" y="106"/>
                </a:lnTo>
                <a:lnTo>
                  <a:pt x="1500" y="120"/>
                </a:lnTo>
                <a:lnTo>
                  <a:pt x="1514" y="146"/>
                </a:lnTo>
                <a:lnTo>
                  <a:pt x="1524" y="160"/>
                </a:lnTo>
                <a:lnTo>
                  <a:pt x="1539" y="190"/>
                </a:lnTo>
                <a:lnTo>
                  <a:pt x="1549" y="205"/>
                </a:lnTo>
                <a:lnTo>
                  <a:pt x="1564" y="236"/>
                </a:lnTo>
                <a:lnTo>
                  <a:pt x="1574" y="253"/>
                </a:lnTo>
                <a:lnTo>
                  <a:pt x="1581" y="268"/>
                </a:lnTo>
                <a:lnTo>
                  <a:pt x="1597" y="303"/>
                </a:lnTo>
                <a:lnTo>
                  <a:pt x="1606" y="319"/>
                </a:lnTo>
                <a:lnTo>
                  <a:pt x="1622" y="354"/>
                </a:lnTo>
                <a:lnTo>
                  <a:pt x="1631" y="371"/>
                </a:lnTo>
                <a:lnTo>
                  <a:pt x="1639" y="367"/>
                </a:lnTo>
                <a:lnTo>
                  <a:pt x="1629" y="350"/>
                </a:lnTo>
                <a:lnTo>
                  <a:pt x="1614" y="315"/>
                </a:lnTo>
                <a:lnTo>
                  <a:pt x="1604" y="299"/>
                </a:lnTo>
                <a:lnTo>
                  <a:pt x="1589" y="264"/>
                </a:lnTo>
                <a:lnTo>
                  <a:pt x="1581" y="249"/>
                </a:lnTo>
                <a:lnTo>
                  <a:pt x="1572" y="232"/>
                </a:lnTo>
                <a:lnTo>
                  <a:pt x="1556" y="201"/>
                </a:lnTo>
                <a:lnTo>
                  <a:pt x="1547" y="186"/>
                </a:lnTo>
                <a:lnTo>
                  <a:pt x="1532" y="156"/>
                </a:lnTo>
                <a:lnTo>
                  <a:pt x="1522" y="143"/>
                </a:lnTo>
                <a:lnTo>
                  <a:pt x="1507" y="116"/>
                </a:lnTo>
                <a:lnTo>
                  <a:pt x="1498" y="102"/>
                </a:lnTo>
                <a:lnTo>
                  <a:pt x="1483" y="79"/>
                </a:lnTo>
                <a:lnTo>
                  <a:pt x="1473" y="68"/>
                </a:lnTo>
                <a:lnTo>
                  <a:pt x="1456" y="50"/>
                </a:lnTo>
                <a:lnTo>
                  <a:pt x="1438" y="30"/>
                </a:lnTo>
                <a:lnTo>
                  <a:pt x="1429" y="25"/>
                </a:lnTo>
                <a:lnTo>
                  <a:pt x="1421" y="17"/>
                </a:lnTo>
                <a:lnTo>
                  <a:pt x="1413" y="11"/>
                </a:lnTo>
                <a:lnTo>
                  <a:pt x="1404" y="7"/>
                </a:lnTo>
                <a:lnTo>
                  <a:pt x="1396" y="3"/>
                </a:lnTo>
                <a:lnTo>
                  <a:pt x="1387" y="2"/>
                </a:lnTo>
                <a:lnTo>
                  <a:pt x="1377" y="0"/>
                </a:lnTo>
                <a:lnTo>
                  <a:pt x="1360" y="0"/>
                </a:lnTo>
                <a:lnTo>
                  <a:pt x="1342" y="3"/>
                </a:lnTo>
                <a:lnTo>
                  <a:pt x="1333" y="7"/>
                </a:lnTo>
                <a:lnTo>
                  <a:pt x="1325" y="11"/>
                </a:lnTo>
                <a:lnTo>
                  <a:pt x="1316" y="17"/>
                </a:lnTo>
                <a:lnTo>
                  <a:pt x="1308" y="25"/>
                </a:lnTo>
                <a:lnTo>
                  <a:pt x="1298" y="30"/>
                </a:lnTo>
                <a:lnTo>
                  <a:pt x="1281" y="50"/>
                </a:lnTo>
                <a:lnTo>
                  <a:pt x="1264" y="68"/>
                </a:lnTo>
                <a:lnTo>
                  <a:pt x="1254" y="79"/>
                </a:lnTo>
                <a:lnTo>
                  <a:pt x="1246" y="91"/>
                </a:lnTo>
                <a:lnTo>
                  <a:pt x="1237" y="102"/>
                </a:lnTo>
                <a:lnTo>
                  <a:pt x="1229" y="116"/>
                </a:lnTo>
                <a:lnTo>
                  <a:pt x="1221" y="127"/>
                </a:lnTo>
                <a:lnTo>
                  <a:pt x="1213" y="143"/>
                </a:lnTo>
                <a:lnTo>
                  <a:pt x="1203" y="156"/>
                </a:lnTo>
                <a:lnTo>
                  <a:pt x="1196" y="171"/>
                </a:lnTo>
                <a:lnTo>
                  <a:pt x="1186" y="184"/>
                </a:lnTo>
                <a:lnTo>
                  <a:pt x="1178" y="199"/>
                </a:lnTo>
                <a:lnTo>
                  <a:pt x="1169" y="216"/>
                </a:lnTo>
                <a:lnTo>
                  <a:pt x="1161" y="232"/>
                </a:lnTo>
                <a:lnTo>
                  <a:pt x="1152" y="247"/>
                </a:lnTo>
                <a:lnTo>
                  <a:pt x="1144" y="264"/>
                </a:lnTo>
                <a:lnTo>
                  <a:pt x="1134" y="282"/>
                </a:lnTo>
                <a:lnTo>
                  <a:pt x="1127" y="297"/>
                </a:lnTo>
                <a:lnTo>
                  <a:pt x="1117" y="313"/>
                </a:lnTo>
                <a:lnTo>
                  <a:pt x="1109" y="331"/>
                </a:lnTo>
                <a:lnTo>
                  <a:pt x="1100" y="348"/>
                </a:lnTo>
                <a:lnTo>
                  <a:pt x="1092" y="365"/>
                </a:lnTo>
                <a:lnTo>
                  <a:pt x="1082" y="383"/>
                </a:lnTo>
                <a:lnTo>
                  <a:pt x="1075" y="400"/>
                </a:lnTo>
                <a:lnTo>
                  <a:pt x="1067" y="415"/>
                </a:lnTo>
                <a:lnTo>
                  <a:pt x="1057" y="431"/>
                </a:lnTo>
                <a:lnTo>
                  <a:pt x="1050" y="449"/>
                </a:lnTo>
                <a:lnTo>
                  <a:pt x="1040" y="466"/>
                </a:lnTo>
                <a:lnTo>
                  <a:pt x="1032" y="481"/>
                </a:lnTo>
                <a:lnTo>
                  <a:pt x="1025" y="499"/>
                </a:lnTo>
                <a:lnTo>
                  <a:pt x="1015" y="514"/>
                </a:lnTo>
                <a:lnTo>
                  <a:pt x="1008" y="529"/>
                </a:lnTo>
                <a:lnTo>
                  <a:pt x="998" y="545"/>
                </a:lnTo>
                <a:lnTo>
                  <a:pt x="990" y="559"/>
                </a:lnTo>
                <a:lnTo>
                  <a:pt x="981" y="573"/>
                </a:lnTo>
                <a:lnTo>
                  <a:pt x="973" y="586"/>
                </a:lnTo>
                <a:lnTo>
                  <a:pt x="965" y="601"/>
                </a:lnTo>
                <a:lnTo>
                  <a:pt x="956" y="613"/>
                </a:lnTo>
                <a:lnTo>
                  <a:pt x="949" y="626"/>
                </a:lnTo>
                <a:lnTo>
                  <a:pt x="939" y="638"/>
                </a:lnTo>
                <a:lnTo>
                  <a:pt x="924" y="661"/>
                </a:lnTo>
                <a:lnTo>
                  <a:pt x="916" y="670"/>
                </a:lnTo>
                <a:lnTo>
                  <a:pt x="909" y="679"/>
                </a:lnTo>
                <a:lnTo>
                  <a:pt x="899" y="687"/>
                </a:lnTo>
                <a:lnTo>
                  <a:pt x="884" y="700"/>
                </a:lnTo>
                <a:lnTo>
                  <a:pt x="874" y="706"/>
                </a:lnTo>
                <a:lnTo>
                  <a:pt x="866" y="712"/>
                </a:lnTo>
                <a:lnTo>
                  <a:pt x="857" y="715"/>
                </a:lnTo>
                <a:lnTo>
                  <a:pt x="843" y="723"/>
                </a:lnTo>
                <a:lnTo>
                  <a:pt x="834" y="723"/>
                </a:lnTo>
                <a:lnTo>
                  <a:pt x="826" y="725"/>
                </a:lnTo>
                <a:lnTo>
                  <a:pt x="817" y="723"/>
                </a:lnTo>
                <a:lnTo>
                  <a:pt x="809" y="723"/>
                </a:lnTo>
                <a:lnTo>
                  <a:pt x="803" y="719"/>
                </a:lnTo>
                <a:lnTo>
                  <a:pt x="794" y="715"/>
                </a:lnTo>
                <a:lnTo>
                  <a:pt x="786" y="712"/>
                </a:lnTo>
                <a:lnTo>
                  <a:pt x="776" y="706"/>
                </a:lnTo>
                <a:lnTo>
                  <a:pt x="769" y="700"/>
                </a:lnTo>
                <a:lnTo>
                  <a:pt x="759" y="694"/>
                </a:lnTo>
                <a:lnTo>
                  <a:pt x="751" y="687"/>
                </a:lnTo>
                <a:lnTo>
                  <a:pt x="742" y="679"/>
                </a:lnTo>
                <a:lnTo>
                  <a:pt x="728" y="661"/>
                </a:lnTo>
                <a:lnTo>
                  <a:pt x="719" y="649"/>
                </a:lnTo>
                <a:lnTo>
                  <a:pt x="711" y="638"/>
                </a:lnTo>
                <a:lnTo>
                  <a:pt x="701" y="626"/>
                </a:lnTo>
                <a:lnTo>
                  <a:pt x="694" y="615"/>
                </a:lnTo>
                <a:lnTo>
                  <a:pt x="684" y="601"/>
                </a:lnTo>
                <a:lnTo>
                  <a:pt x="677" y="588"/>
                </a:lnTo>
                <a:lnTo>
                  <a:pt x="668" y="573"/>
                </a:lnTo>
                <a:lnTo>
                  <a:pt x="660" y="559"/>
                </a:lnTo>
                <a:lnTo>
                  <a:pt x="651" y="545"/>
                </a:lnTo>
                <a:lnTo>
                  <a:pt x="643" y="529"/>
                </a:lnTo>
                <a:lnTo>
                  <a:pt x="633" y="514"/>
                </a:lnTo>
                <a:lnTo>
                  <a:pt x="626" y="499"/>
                </a:lnTo>
                <a:lnTo>
                  <a:pt x="616" y="483"/>
                </a:lnTo>
                <a:lnTo>
                  <a:pt x="608" y="466"/>
                </a:lnTo>
                <a:lnTo>
                  <a:pt x="599" y="451"/>
                </a:lnTo>
                <a:lnTo>
                  <a:pt x="591" y="433"/>
                </a:lnTo>
                <a:lnTo>
                  <a:pt x="581" y="417"/>
                </a:lnTo>
                <a:lnTo>
                  <a:pt x="574" y="400"/>
                </a:lnTo>
                <a:lnTo>
                  <a:pt x="564" y="384"/>
                </a:lnTo>
                <a:lnTo>
                  <a:pt x="556" y="367"/>
                </a:lnTo>
                <a:lnTo>
                  <a:pt x="547" y="350"/>
                </a:lnTo>
                <a:lnTo>
                  <a:pt x="532" y="315"/>
                </a:lnTo>
                <a:lnTo>
                  <a:pt x="522" y="301"/>
                </a:lnTo>
                <a:lnTo>
                  <a:pt x="514" y="284"/>
                </a:lnTo>
                <a:lnTo>
                  <a:pt x="505" y="266"/>
                </a:lnTo>
                <a:lnTo>
                  <a:pt x="497" y="251"/>
                </a:lnTo>
                <a:lnTo>
                  <a:pt x="487" y="236"/>
                </a:lnTo>
                <a:lnTo>
                  <a:pt x="480" y="220"/>
                </a:lnTo>
                <a:lnTo>
                  <a:pt x="472" y="203"/>
                </a:lnTo>
                <a:lnTo>
                  <a:pt x="462" y="190"/>
                </a:lnTo>
                <a:lnTo>
                  <a:pt x="455" y="175"/>
                </a:lnTo>
                <a:lnTo>
                  <a:pt x="445" y="160"/>
                </a:lnTo>
                <a:lnTo>
                  <a:pt x="430" y="133"/>
                </a:lnTo>
                <a:lnTo>
                  <a:pt x="420" y="122"/>
                </a:lnTo>
                <a:lnTo>
                  <a:pt x="413" y="108"/>
                </a:lnTo>
                <a:lnTo>
                  <a:pt x="404" y="97"/>
                </a:lnTo>
                <a:lnTo>
                  <a:pt x="396" y="85"/>
                </a:lnTo>
                <a:lnTo>
                  <a:pt x="387" y="74"/>
                </a:lnTo>
                <a:lnTo>
                  <a:pt x="342" y="30"/>
                </a:lnTo>
                <a:lnTo>
                  <a:pt x="335" y="25"/>
                </a:lnTo>
                <a:lnTo>
                  <a:pt x="325" y="19"/>
                </a:lnTo>
                <a:lnTo>
                  <a:pt x="318" y="15"/>
                </a:lnTo>
                <a:lnTo>
                  <a:pt x="308" y="11"/>
                </a:lnTo>
                <a:lnTo>
                  <a:pt x="298" y="9"/>
                </a:lnTo>
                <a:lnTo>
                  <a:pt x="289" y="7"/>
                </a:lnTo>
                <a:lnTo>
                  <a:pt x="271" y="7"/>
                </a:lnTo>
                <a:lnTo>
                  <a:pt x="264" y="9"/>
                </a:lnTo>
                <a:lnTo>
                  <a:pt x="252" y="11"/>
                </a:lnTo>
                <a:lnTo>
                  <a:pt x="245" y="15"/>
                </a:lnTo>
                <a:lnTo>
                  <a:pt x="235" y="19"/>
                </a:lnTo>
                <a:lnTo>
                  <a:pt x="227" y="25"/>
                </a:lnTo>
                <a:lnTo>
                  <a:pt x="218" y="30"/>
                </a:lnTo>
                <a:lnTo>
                  <a:pt x="210" y="40"/>
                </a:lnTo>
                <a:lnTo>
                  <a:pt x="200" y="48"/>
                </a:lnTo>
                <a:lnTo>
                  <a:pt x="172" y="74"/>
                </a:lnTo>
                <a:lnTo>
                  <a:pt x="164" y="85"/>
                </a:lnTo>
                <a:lnTo>
                  <a:pt x="154" y="97"/>
                </a:lnTo>
                <a:lnTo>
                  <a:pt x="147" y="108"/>
                </a:lnTo>
                <a:lnTo>
                  <a:pt x="137" y="122"/>
                </a:lnTo>
                <a:lnTo>
                  <a:pt x="130" y="133"/>
                </a:lnTo>
                <a:lnTo>
                  <a:pt x="121" y="146"/>
                </a:lnTo>
                <a:lnTo>
                  <a:pt x="113" y="160"/>
                </a:lnTo>
                <a:lnTo>
                  <a:pt x="104" y="175"/>
                </a:lnTo>
                <a:lnTo>
                  <a:pt x="96" y="190"/>
                </a:lnTo>
                <a:lnTo>
                  <a:pt x="86" y="203"/>
                </a:lnTo>
                <a:lnTo>
                  <a:pt x="77" y="220"/>
                </a:lnTo>
                <a:lnTo>
                  <a:pt x="69" y="236"/>
                </a:lnTo>
                <a:lnTo>
                  <a:pt x="59" y="251"/>
                </a:lnTo>
                <a:lnTo>
                  <a:pt x="52" y="266"/>
                </a:lnTo>
                <a:lnTo>
                  <a:pt x="42" y="284"/>
                </a:lnTo>
                <a:lnTo>
                  <a:pt x="34" y="301"/>
                </a:lnTo>
                <a:lnTo>
                  <a:pt x="25" y="315"/>
                </a:lnTo>
                <a:lnTo>
                  <a:pt x="17" y="333"/>
                </a:lnTo>
                <a:lnTo>
                  <a:pt x="8" y="350"/>
                </a:lnTo>
                <a:lnTo>
                  <a:pt x="0" y="367"/>
                </a:lnTo>
                <a:lnTo>
                  <a:pt x="8" y="37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397160" y="4648320"/>
            <a:ext cx="0" cy="1204920"/>
          </a:xfrm>
          <a:prstGeom prst="line">
            <a:avLst/>
          </a:prstGeom>
          <a:ln w="64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405080" y="5249880"/>
            <a:ext cx="30193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687680" y="4818240"/>
            <a:ext cx="0" cy="42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57560" y="525780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021360" y="1930320"/>
            <a:ext cx="3008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6002280" y="1088640"/>
            <a:ext cx="0" cy="855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6961320" y="155880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896160" y="1563840"/>
            <a:ext cx="129960" cy="110880"/>
          </a:xfrm>
          <a:custGeom>
            <a:avLst/>
            <a:gdLst/>
            <a:ahLst/>
            <a:rect l="l" t="t" r="r" b="b"/>
            <a:pathLst>
              <a:path w="74" h="74">
                <a:moveTo>
                  <a:pt x="0" y="73"/>
                </a:moveTo>
                <a:lnTo>
                  <a:pt x="37" y="0"/>
                </a:lnTo>
                <a:lnTo>
                  <a:pt x="73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6235560" y="155880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170760" y="1563840"/>
            <a:ext cx="129960" cy="110880"/>
          </a:xfrm>
          <a:custGeom>
            <a:avLst/>
            <a:gdLst/>
            <a:ahLst/>
            <a:rect l="l" t="t" r="r" b="b"/>
            <a:pathLst>
              <a:path w="74" h="74">
                <a:moveTo>
                  <a:pt x="0" y="73"/>
                </a:moveTo>
                <a:lnTo>
                  <a:pt x="37" y="0"/>
                </a:lnTo>
                <a:lnTo>
                  <a:pt x="73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7426440" y="1576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361280" y="1581120"/>
            <a:ext cx="129960" cy="108000"/>
          </a:xfrm>
          <a:custGeom>
            <a:avLst/>
            <a:gdLst/>
            <a:ahLst/>
            <a:rect l="l" t="t" r="r" b="b"/>
            <a:pathLst>
              <a:path w="74" h="72">
                <a:moveTo>
                  <a:pt x="0" y="71"/>
                </a:moveTo>
                <a:lnTo>
                  <a:pt x="37" y="0"/>
                </a:lnTo>
                <a:lnTo>
                  <a:pt x="73" y="7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7196040" y="1395360"/>
            <a:ext cx="0" cy="5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134120" y="1401840"/>
            <a:ext cx="128520" cy="108000"/>
          </a:xfrm>
          <a:custGeom>
            <a:avLst/>
            <a:gdLst/>
            <a:ahLst/>
            <a:rect l="l" t="t" r="r" b="b"/>
            <a:pathLst>
              <a:path w="73" h="72">
                <a:moveTo>
                  <a:pt x="0" y="71"/>
                </a:moveTo>
                <a:lnTo>
                  <a:pt x="35" y="0"/>
                </a:lnTo>
                <a:lnTo>
                  <a:pt x="72" y="71"/>
                </a:lnTo>
                <a:lnTo>
                  <a:pt x="0" y="7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8632800" y="155880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567640" y="1563840"/>
            <a:ext cx="130320" cy="110880"/>
          </a:xfrm>
          <a:custGeom>
            <a:avLst/>
            <a:gdLst/>
            <a:ahLst/>
            <a:rect l="l" t="t" r="r" b="b"/>
            <a:pathLst>
              <a:path w="74" h="74">
                <a:moveTo>
                  <a:pt x="0" y="73"/>
                </a:moveTo>
                <a:lnTo>
                  <a:pt x="37" y="0"/>
                </a:lnTo>
                <a:lnTo>
                  <a:pt x="73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8153280" y="155880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89920" y="1563840"/>
            <a:ext cx="130320" cy="110880"/>
          </a:xfrm>
          <a:custGeom>
            <a:avLst/>
            <a:gdLst/>
            <a:ahLst/>
            <a:rect l="l" t="t" r="r" b="b"/>
            <a:pathLst>
              <a:path w="74" h="74">
                <a:moveTo>
                  <a:pt x="0" y="73"/>
                </a:moveTo>
                <a:lnTo>
                  <a:pt x="36" y="0"/>
                </a:lnTo>
                <a:lnTo>
                  <a:pt x="73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8393040" y="1387080"/>
            <a:ext cx="0" cy="5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332920" y="1393920"/>
            <a:ext cx="125280" cy="110880"/>
          </a:xfrm>
          <a:custGeom>
            <a:avLst/>
            <a:gdLst/>
            <a:ahLst/>
            <a:rect l="l" t="t" r="r" b="b"/>
            <a:pathLst>
              <a:path w="72" h="74">
                <a:moveTo>
                  <a:pt x="0" y="73"/>
                </a:moveTo>
                <a:lnTo>
                  <a:pt x="35" y="0"/>
                </a:lnTo>
                <a:lnTo>
                  <a:pt x="71" y="73"/>
                </a:lnTo>
                <a:lnTo>
                  <a:pt x="0" y="7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1407960" y="3034800"/>
            <a:ext cx="460440" cy="552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882800" y="3056040"/>
            <a:ext cx="934920" cy="1044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2830680" y="3035160"/>
            <a:ext cx="955440" cy="1076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800520" y="3038400"/>
            <a:ext cx="460440" cy="555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1407960" y="4848120"/>
            <a:ext cx="271440" cy="409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682640" y="4838760"/>
            <a:ext cx="1470240" cy="649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179880" y="5483160"/>
            <a:ext cx="1260360" cy="87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6022800" y="4881600"/>
            <a:ext cx="129960" cy="380880"/>
            <a:chOff x="6022800" y="4881600"/>
            <a:chExt cx="129960" cy="380880"/>
          </a:xfrm>
        </p:grpSpPr>
        <p:sp>
          <p:nvSpPr>
            <p:cNvPr id="1026" name=""/>
            <p:cNvSpPr/>
            <p:nvPr/>
          </p:nvSpPr>
          <p:spPr>
            <a:xfrm flipV="1">
              <a:off x="6087600" y="48816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022800" y="4892040"/>
              <a:ext cx="129960" cy="11124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0" y="73"/>
                  </a:moveTo>
                  <a:lnTo>
                    <a:pt x="37" y="0"/>
                  </a:lnTo>
                  <a:lnTo>
                    <a:pt x="73" y="7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4237200" y="5214960"/>
            <a:ext cx="241200" cy="4698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108240" y="5415120"/>
            <a:ext cx="115920" cy="9828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633680" y="4782960"/>
            <a:ext cx="115920" cy="986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373640" y="5513400"/>
            <a:ext cx="115920" cy="10008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764960" y="3440160"/>
            <a:ext cx="6980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=2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55D4-2042-4276-942A-C66564A9562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74280" y="289080"/>
            <a:ext cx="8574120" cy="50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ting the Sampling R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"/>
          <p:cNvSpPr/>
          <p:nvPr/>
        </p:nvSpPr>
        <p:spPr>
          <a:xfrm>
            <a:off x="834120" y="1981080"/>
            <a:ext cx="1627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Hz Cosine w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834120" y="2997360"/>
            <a:ext cx="1627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Hz Cosine w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833760" y="4013280"/>
            <a:ext cx="1726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Hz Cosine w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834480" y="5029200"/>
            <a:ext cx="1499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Hz Sampl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8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63007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2E1E-29B5-471F-8F96-8147AC5CB2A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75960" y="485280"/>
            <a:ext cx="7854840" cy="50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ing the Spectr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"/>
          <p:cNvSpPr/>
          <p:nvPr/>
        </p:nvSpPr>
        <p:spPr>
          <a:xfrm>
            <a:off x="3343320" y="2612880"/>
            <a:ext cx="3063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712160" y="2612880"/>
            <a:ext cx="3063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207160" y="1092240"/>
            <a:ext cx="41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71440" y="247032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33240" y="5281560"/>
            <a:ext cx="412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2581200" y="3911760"/>
            <a:ext cx="0" cy="136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520" y="4343400"/>
            <a:ext cx="1962000" cy="890640"/>
          </a:xfrm>
          <a:custGeom>
            <a:avLst/>
            <a:gdLst/>
            <a:ahLst/>
            <a:rect l="l" t="t" r="r" b="b"/>
            <a:pathLst>
              <a:path w="1117" h="592">
                <a:moveTo>
                  <a:pt x="0" y="591"/>
                </a:moveTo>
                <a:lnTo>
                  <a:pt x="8" y="590"/>
                </a:lnTo>
                <a:lnTo>
                  <a:pt x="19" y="588"/>
                </a:lnTo>
                <a:lnTo>
                  <a:pt x="36" y="588"/>
                </a:lnTo>
                <a:lnTo>
                  <a:pt x="56" y="586"/>
                </a:lnTo>
                <a:lnTo>
                  <a:pt x="80" y="584"/>
                </a:lnTo>
                <a:lnTo>
                  <a:pt x="107" y="582"/>
                </a:lnTo>
                <a:lnTo>
                  <a:pt x="170" y="578"/>
                </a:lnTo>
                <a:lnTo>
                  <a:pt x="241" y="574"/>
                </a:lnTo>
                <a:lnTo>
                  <a:pt x="322" y="570"/>
                </a:lnTo>
                <a:lnTo>
                  <a:pt x="490" y="561"/>
                </a:lnTo>
                <a:lnTo>
                  <a:pt x="576" y="553"/>
                </a:lnTo>
                <a:lnTo>
                  <a:pt x="659" y="546"/>
                </a:lnTo>
                <a:lnTo>
                  <a:pt x="737" y="538"/>
                </a:lnTo>
                <a:lnTo>
                  <a:pt x="806" y="528"/>
                </a:lnTo>
                <a:lnTo>
                  <a:pt x="839" y="525"/>
                </a:lnTo>
                <a:lnTo>
                  <a:pt x="867" y="519"/>
                </a:lnTo>
                <a:lnTo>
                  <a:pt x="892" y="513"/>
                </a:lnTo>
                <a:lnTo>
                  <a:pt x="915" y="508"/>
                </a:lnTo>
                <a:lnTo>
                  <a:pt x="935" y="500"/>
                </a:lnTo>
                <a:lnTo>
                  <a:pt x="950" y="494"/>
                </a:lnTo>
                <a:lnTo>
                  <a:pt x="959" y="487"/>
                </a:lnTo>
                <a:lnTo>
                  <a:pt x="965" y="479"/>
                </a:lnTo>
                <a:lnTo>
                  <a:pt x="979" y="443"/>
                </a:lnTo>
                <a:lnTo>
                  <a:pt x="988" y="399"/>
                </a:lnTo>
                <a:lnTo>
                  <a:pt x="1007" y="300"/>
                </a:lnTo>
                <a:lnTo>
                  <a:pt x="1023" y="200"/>
                </a:lnTo>
                <a:lnTo>
                  <a:pt x="1030" y="158"/>
                </a:lnTo>
                <a:lnTo>
                  <a:pt x="1040" y="124"/>
                </a:lnTo>
                <a:lnTo>
                  <a:pt x="1049" y="96"/>
                </a:lnTo>
                <a:lnTo>
                  <a:pt x="1059" y="71"/>
                </a:lnTo>
                <a:lnTo>
                  <a:pt x="1069" y="52"/>
                </a:lnTo>
                <a:lnTo>
                  <a:pt x="1078" y="35"/>
                </a:lnTo>
                <a:lnTo>
                  <a:pt x="1088" y="19"/>
                </a:lnTo>
                <a:lnTo>
                  <a:pt x="1097" y="10"/>
                </a:lnTo>
                <a:lnTo>
                  <a:pt x="1107" y="4"/>
                </a:lnTo>
                <a:lnTo>
                  <a:pt x="11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565360" y="4334040"/>
            <a:ext cx="1895400" cy="900000"/>
          </a:xfrm>
          <a:custGeom>
            <a:avLst/>
            <a:gdLst/>
            <a:ahLst/>
            <a:rect l="l" t="t" r="r" b="b"/>
            <a:pathLst>
              <a:path w="1079" h="598">
                <a:moveTo>
                  <a:pt x="1078" y="597"/>
                </a:moveTo>
                <a:lnTo>
                  <a:pt x="1070" y="596"/>
                </a:lnTo>
                <a:lnTo>
                  <a:pt x="1059" y="594"/>
                </a:lnTo>
                <a:lnTo>
                  <a:pt x="1041" y="594"/>
                </a:lnTo>
                <a:lnTo>
                  <a:pt x="1022" y="592"/>
                </a:lnTo>
                <a:lnTo>
                  <a:pt x="999" y="590"/>
                </a:lnTo>
                <a:lnTo>
                  <a:pt x="972" y="588"/>
                </a:lnTo>
                <a:lnTo>
                  <a:pt x="913" y="584"/>
                </a:lnTo>
                <a:lnTo>
                  <a:pt x="844" y="580"/>
                </a:lnTo>
                <a:lnTo>
                  <a:pt x="768" y="575"/>
                </a:lnTo>
                <a:lnTo>
                  <a:pt x="607" y="565"/>
                </a:lnTo>
                <a:lnTo>
                  <a:pt x="524" y="557"/>
                </a:lnTo>
                <a:lnTo>
                  <a:pt x="444" y="550"/>
                </a:lnTo>
                <a:lnTo>
                  <a:pt x="369" y="540"/>
                </a:lnTo>
                <a:lnTo>
                  <a:pt x="302" y="531"/>
                </a:lnTo>
                <a:lnTo>
                  <a:pt x="245" y="519"/>
                </a:lnTo>
                <a:lnTo>
                  <a:pt x="220" y="514"/>
                </a:lnTo>
                <a:lnTo>
                  <a:pt x="199" y="508"/>
                </a:lnTo>
                <a:lnTo>
                  <a:pt x="182" y="502"/>
                </a:lnTo>
                <a:lnTo>
                  <a:pt x="166" y="494"/>
                </a:lnTo>
                <a:lnTo>
                  <a:pt x="157" y="487"/>
                </a:lnTo>
                <a:lnTo>
                  <a:pt x="151" y="479"/>
                </a:lnTo>
                <a:lnTo>
                  <a:pt x="138" y="443"/>
                </a:lnTo>
                <a:lnTo>
                  <a:pt x="128" y="399"/>
                </a:lnTo>
                <a:lnTo>
                  <a:pt x="109" y="300"/>
                </a:lnTo>
                <a:lnTo>
                  <a:pt x="92" y="203"/>
                </a:lnTo>
                <a:lnTo>
                  <a:pt x="84" y="159"/>
                </a:lnTo>
                <a:lnTo>
                  <a:pt x="74" y="124"/>
                </a:lnTo>
                <a:lnTo>
                  <a:pt x="65" y="96"/>
                </a:lnTo>
                <a:lnTo>
                  <a:pt x="55" y="71"/>
                </a:lnTo>
                <a:lnTo>
                  <a:pt x="46" y="52"/>
                </a:lnTo>
                <a:lnTo>
                  <a:pt x="38" y="35"/>
                </a:lnTo>
                <a:lnTo>
                  <a:pt x="28" y="20"/>
                </a:lnTo>
                <a:lnTo>
                  <a:pt x="19" y="10"/>
                </a:lnTo>
                <a:lnTo>
                  <a:pt x="9" y="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2241720" y="5084640"/>
            <a:ext cx="144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2913120" y="5078520"/>
            <a:ext cx="612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193480" y="3828960"/>
            <a:ext cx="41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755600" y="515772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858040" y="5342040"/>
            <a:ext cx="344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311280" y="4645080"/>
            <a:ext cx="672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2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725560" y="2573280"/>
            <a:ext cx="0" cy="41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376360" y="3003480"/>
            <a:ext cx="874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a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057640" y="1619280"/>
            <a:ext cx="438480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0520" indent="-290520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s in the real world contain many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quency components greater than 1/2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use aliasing (f&gt;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rid of (filter out) frequencies abov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o alia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ensure that the sampling rate is greater than 2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894040" y="2612880"/>
            <a:ext cx="344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8" name=""/>
          <p:cNvGraphicFramePr/>
          <p:nvPr/>
        </p:nvGraphicFramePr>
        <p:xfrm>
          <a:off x="855720" y="1182600"/>
          <a:ext cx="3425760" cy="13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1182600"/>
                    <a:ext cx="342576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0" name=""/>
          <p:cNvSpPr/>
          <p:nvPr/>
        </p:nvSpPr>
        <p:spPr>
          <a:xfrm>
            <a:off x="2206800" y="4300560"/>
            <a:ext cx="814320" cy="9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1981-3E6C-4714-8754-CD8BD75BB5D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913520" cy="4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of alia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2" name="" descr=""/>
          <p:cNvPicPr/>
          <p:nvPr/>
        </p:nvPicPr>
        <p:blipFill>
          <a:blip r:embed="rId1"/>
          <a:stretch/>
        </p:blipFill>
        <p:spPr>
          <a:xfrm>
            <a:off x="304920" y="3886200"/>
            <a:ext cx="3581280" cy="182556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/>
          <p:nvPr/>
        </p:nvSpPr>
        <p:spPr>
          <a:xfrm>
            <a:off x="719640" y="83736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gnal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4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3606840" cy="182880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1447920" y="319932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e 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137600" y="579024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FM chi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187880" y="837360"/>
            <a:ext cx="23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gn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647600" y="1294560"/>
            <a:ext cx="124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s = 1k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647240" y="182772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= 200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647240" y="228492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= 400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647240" y="281844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= 600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47240" y="327564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= 800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110120" y="464724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= 0 to 1 KHz in 10 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487280" y="83736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ound pro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7920000" y="1295280"/>
          <a:ext cx="116208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000" y="1295280"/>
                    <a:ext cx="11620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7" name=""/>
          <p:cNvGraphicFramePr/>
          <p:nvPr/>
        </p:nvGraphicFramePr>
        <p:xfrm>
          <a:off x="7920000" y="1981080"/>
          <a:ext cx="1162080" cy="4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20000" y="1981080"/>
                    <a:ext cx="11620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9" name=""/>
          <p:cNvGraphicFramePr/>
          <p:nvPr/>
        </p:nvGraphicFramePr>
        <p:xfrm>
          <a:off x="7920000" y="2743200"/>
          <a:ext cx="116208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20000" y="2743200"/>
                    <a:ext cx="11620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1" name=""/>
          <p:cNvGraphicFramePr/>
          <p:nvPr/>
        </p:nvGraphicFramePr>
        <p:xfrm>
          <a:off x="7920000" y="3276720"/>
          <a:ext cx="1162080" cy="48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920000" y="3276720"/>
                    <a:ext cx="11620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3" name=""/>
          <p:cNvGraphicFramePr/>
          <p:nvPr/>
        </p:nvGraphicFramePr>
        <p:xfrm>
          <a:off x="7839000" y="4572000"/>
          <a:ext cx="1285920" cy="485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39000" y="4572000"/>
                    <a:ext cx="12859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8BB-691C-419A-80D4-CB5C51C6543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913520" cy="4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of alia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"/>
          <p:cNvSpPr/>
          <p:nvPr/>
        </p:nvSpPr>
        <p:spPr>
          <a:xfrm>
            <a:off x="713160" y="53244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gnal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112640" y="114192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s = 11025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8060400" y="60876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ound pro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36320" y="53244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pect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2976480" cy="2232000"/>
          </a:xfrm>
          <a:prstGeom prst="rect">
            <a:avLst/>
          </a:prstGeom>
          <a:ln w="0">
            <a:noFill/>
          </a:ln>
        </p:spPr>
      </p:pic>
      <p:sp>
        <p:nvSpPr>
          <p:cNvPr id="1092" name=""/>
          <p:cNvSpPr/>
          <p:nvPr/>
        </p:nvSpPr>
        <p:spPr>
          <a:xfrm>
            <a:off x="534240" y="320040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714680" y="32734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is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rot="5494200">
            <a:off x="683640" y="2970000"/>
            <a:ext cx="228600" cy="38088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rot="5416800">
            <a:off x="1941120" y="2169720"/>
            <a:ext cx="228600" cy="1981080"/>
          </a:xfrm>
          <a:custGeom>
            <a:avLst/>
            <a:gdLst>
              <a:gd name="textAreaLeft" fmla="*/ 0 w 228600"/>
              <a:gd name="textAreaRight" fmla="*/ 8244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6" name="" descr=""/>
          <p:cNvPicPr/>
          <p:nvPr/>
        </p:nvPicPr>
        <p:blipFill>
          <a:blip r:embed="rId3"/>
          <a:stretch/>
        </p:blipFill>
        <p:spPr>
          <a:xfrm>
            <a:off x="3276720" y="35053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/>
          <p:cNvPicPr/>
          <p:nvPr/>
        </p:nvPicPr>
        <p:blipFill>
          <a:blip r:embed="rId5"/>
          <a:stretch/>
        </p:blipFill>
        <p:spPr>
          <a:xfrm>
            <a:off x="6248520" y="3657600"/>
            <a:ext cx="3124080" cy="1600200"/>
          </a:xfrm>
          <a:prstGeom prst="rect">
            <a:avLst/>
          </a:prstGeom>
          <a:ln w="0">
            <a:noFill/>
          </a:ln>
        </p:spPr>
      </p:pic>
      <p:pic>
        <p:nvPicPr>
          <p:cNvPr id="1099" name="" descr=""/>
          <p:cNvPicPr/>
          <p:nvPr/>
        </p:nvPicPr>
        <p:blipFill>
          <a:blip r:embed="rId6"/>
          <a:stretch/>
        </p:blipFill>
        <p:spPr>
          <a:xfrm>
            <a:off x="6248520" y="1447920"/>
            <a:ext cx="3124080" cy="1600200"/>
          </a:xfrm>
          <a:prstGeom prst="rect">
            <a:avLst/>
          </a:prstGeom>
          <a:ln w="0">
            <a:noFill/>
          </a:ln>
        </p:spPr>
      </p:pic>
      <p:sp>
        <p:nvSpPr>
          <p:cNvPr id="1100" name=""/>
          <p:cNvSpPr/>
          <p:nvPr/>
        </p:nvSpPr>
        <p:spPr>
          <a:xfrm>
            <a:off x="4153680" y="510444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s/4 = 2756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1" name="" descr=""/>
          <p:cNvPicPr/>
          <p:nvPr/>
        </p:nvPicPr>
        <p:blipFill>
          <a:blip r:embed="rId7"/>
          <a:stretch/>
        </p:blipFill>
        <p:spPr>
          <a:xfrm>
            <a:off x="9296280" y="1219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02" name="" descr=""/>
          <p:cNvPicPr/>
          <p:nvPr/>
        </p:nvPicPr>
        <p:blipFill>
          <a:blip r:embed="rId8"/>
          <a:stretch/>
        </p:blipFill>
        <p:spPr>
          <a:xfrm>
            <a:off x="929628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C5D6-2CF2-407C-9462-AA20EBC7545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3352680" y="3581280"/>
            <a:ext cx="3124440" cy="2343240"/>
          </a:xfrm>
          <a:prstGeom prst="rect">
            <a:avLst/>
          </a:prstGeom>
          <a:ln w="0">
            <a:noFill/>
          </a:ln>
        </p:spPr>
      </p:pic>
      <p:pic>
        <p:nvPicPr>
          <p:cNvPr id="1104" name="" descr=""/>
          <p:cNvPicPr/>
          <p:nvPr/>
        </p:nvPicPr>
        <p:blipFill>
          <a:blip r:embed="rId2"/>
          <a:stretch/>
        </p:blipFill>
        <p:spPr>
          <a:xfrm>
            <a:off x="3276720" y="91440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913520" cy="4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of alia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"/>
          <p:cNvSpPr/>
          <p:nvPr/>
        </p:nvSpPr>
        <p:spPr>
          <a:xfrm>
            <a:off x="713160" y="53244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gnal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112640" y="114192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s = 11025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060400" y="60876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ound pro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036320" y="53244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pect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0" name="" descr=""/>
          <p:cNvPicPr/>
          <p:nvPr/>
        </p:nvPicPr>
        <p:blipFill>
          <a:blip r:embed="rId3"/>
          <a:stretch/>
        </p:blipFill>
        <p:spPr>
          <a:xfrm>
            <a:off x="304920" y="990720"/>
            <a:ext cx="2976480" cy="223200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/>
          <p:nvPr/>
        </p:nvSpPr>
        <p:spPr>
          <a:xfrm>
            <a:off x="534240" y="320040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714680" y="32734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is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rot="5494200">
            <a:off x="683640" y="2970000"/>
            <a:ext cx="228600" cy="38088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rot="5416800">
            <a:off x="1941120" y="2169720"/>
            <a:ext cx="228600" cy="1981080"/>
          </a:xfrm>
          <a:custGeom>
            <a:avLst/>
            <a:gdLst>
              <a:gd name="textAreaLeft" fmla="*/ 0 w 228600"/>
              <a:gd name="textAreaRight" fmla="*/ 8244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5" name="" descr=""/>
          <p:cNvPicPr/>
          <p:nvPr/>
        </p:nvPicPr>
        <p:blipFill>
          <a:blip r:embed="rId4"/>
          <a:stretch/>
        </p:blipFill>
        <p:spPr>
          <a:xfrm>
            <a:off x="6248520" y="1447920"/>
            <a:ext cx="3124080" cy="1600200"/>
          </a:xfrm>
          <a:prstGeom prst="rect">
            <a:avLst/>
          </a:prstGeom>
          <a:ln w="0">
            <a:noFill/>
          </a:ln>
        </p:spPr>
      </p:pic>
      <p:sp>
        <p:nvSpPr>
          <p:cNvPr id="1116" name=""/>
          <p:cNvSpPr/>
          <p:nvPr/>
        </p:nvSpPr>
        <p:spPr>
          <a:xfrm>
            <a:off x="4067280" y="594252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s/10 = 110.2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7" name="" descr=""/>
          <p:cNvPicPr/>
          <p:nvPr/>
        </p:nvPicPr>
        <p:blipFill>
          <a:blip r:embed="rId5"/>
          <a:stretch/>
        </p:blipFill>
        <p:spPr>
          <a:xfrm>
            <a:off x="9296280" y="1219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18" name="" descr=""/>
          <p:cNvPicPr/>
          <p:nvPr/>
        </p:nvPicPr>
        <p:blipFill>
          <a:blip r:embed="rId6"/>
          <a:stretch/>
        </p:blipFill>
        <p:spPr>
          <a:xfrm>
            <a:off x="228600" y="3657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119" name="" descr=""/>
          <p:cNvPicPr/>
          <p:nvPr/>
        </p:nvPicPr>
        <p:blipFill>
          <a:blip r:embed="rId7"/>
          <a:stretch/>
        </p:blipFill>
        <p:spPr>
          <a:xfrm>
            <a:off x="92203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13CD-E047-4DBD-B3A7-6B7C68EDB06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pling revisited (with theory and mat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Math backgroun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Delta func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2895480" y="1752480"/>
                <a:ext cx="21337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if x 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0     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 elsewher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5732640" y="1752480"/>
                <a:ext cx="27097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if x 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     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 elsewher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2971800" y="2438280"/>
                <a:ext cx="579132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with 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3048120" y="5029200"/>
                <a:ext cx="29336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jπ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3048120" y="3429000"/>
                <a:ext cx="426708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DF6-D057-4978-BCBE-1C8FA4B2499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pling revisited (with theory and mat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pplication example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ier transform of a s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ier transform of a cos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rse Fourier transform of a pure frequenc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gative frequency concep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06D8-9AF9-4A3C-9EC3-922CCE5BF2B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3433680" y="5253120"/>
            <a:ext cx="780840" cy="171000"/>
            <a:chOff x="3433680" y="5253120"/>
            <a:chExt cx="780840" cy="171000"/>
          </a:xfrm>
        </p:grpSpPr>
        <p:sp>
          <p:nvSpPr>
            <p:cNvPr id="54" name=""/>
            <p:cNvSpPr/>
            <p:nvPr/>
          </p:nvSpPr>
          <p:spPr>
            <a:xfrm>
              <a:off x="3433680" y="5256000"/>
              <a:ext cx="29520" cy="8712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0" y="57"/>
                  </a:moveTo>
                  <a:lnTo>
                    <a:pt x="9" y="8"/>
                  </a:lnTo>
                  <a:lnTo>
                    <a:pt x="9" y="5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0960" y="5254560"/>
              <a:ext cx="73440" cy="169560"/>
            </a:xfrm>
            <a:custGeom>
              <a:avLst/>
              <a:gdLst/>
              <a:ahLst/>
              <a:rect l="l" t="t" r="r" b="b"/>
              <a:pathLst>
                <a:path w="42" h="113">
                  <a:moveTo>
                    <a:pt x="0" y="0"/>
                  </a:moveTo>
                  <a:lnTo>
                    <a:pt x="2" y="1"/>
                  </a:lnTo>
                  <a:lnTo>
                    <a:pt x="4" y="3"/>
                  </a:lnTo>
                  <a:lnTo>
                    <a:pt x="5" y="5"/>
                  </a:lnTo>
                  <a:lnTo>
                    <a:pt x="5" y="10"/>
                  </a:lnTo>
                  <a:lnTo>
                    <a:pt x="14" y="104"/>
                  </a:lnTo>
                  <a:lnTo>
                    <a:pt x="15" y="109"/>
                  </a:lnTo>
                  <a:lnTo>
                    <a:pt x="15" y="110"/>
                  </a:lnTo>
                  <a:lnTo>
                    <a:pt x="17" y="112"/>
                  </a:lnTo>
                  <a:lnTo>
                    <a:pt x="19" y="112"/>
                  </a:lnTo>
                  <a:lnTo>
                    <a:pt x="21" y="111"/>
                  </a:lnTo>
                  <a:lnTo>
                    <a:pt x="22" y="109"/>
                  </a:lnTo>
                  <a:lnTo>
                    <a:pt x="37" y="1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8" y="3"/>
                  </a:lnTo>
                  <a:lnTo>
                    <a:pt x="39" y="1"/>
                  </a:lnTo>
                  <a:lnTo>
                    <a:pt x="4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24760" y="5256000"/>
              <a:ext cx="68400" cy="168120"/>
            </a:xfrm>
            <a:custGeom>
              <a:avLst/>
              <a:gdLst/>
              <a:ahLst/>
              <a:rect l="l" t="t" r="r" b="b"/>
              <a:pathLst>
                <a:path w="39" h="112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4" y="8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4" y="109"/>
                  </a:lnTo>
                  <a:lnTo>
                    <a:pt x="15" y="111"/>
                  </a:lnTo>
                  <a:lnTo>
                    <a:pt x="17" y="111"/>
                  </a:lnTo>
                  <a:lnTo>
                    <a:pt x="19" y="110"/>
                  </a:lnTo>
                  <a:lnTo>
                    <a:pt x="20" y="108"/>
                  </a:lnTo>
                  <a:lnTo>
                    <a:pt x="34" y="8"/>
                  </a:lnTo>
                  <a:lnTo>
                    <a:pt x="35" y="5"/>
                  </a:lnTo>
                  <a:lnTo>
                    <a:pt x="35" y="3"/>
                  </a:lnTo>
                  <a:lnTo>
                    <a:pt x="36" y="2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93160" y="5254560"/>
              <a:ext cx="73800" cy="169560"/>
            </a:xfrm>
            <a:custGeom>
              <a:avLst/>
              <a:gdLst/>
              <a:ahLst/>
              <a:rect l="l" t="t" r="r" b="b"/>
              <a:pathLst>
                <a:path w="42" h="113">
                  <a:moveTo>
                    <a:pt x="0" y="0"/>
                  </a:moveTo>
                  <a:lnTo>
                    <a:pt x="2" y="1"/>
                  </a:lnTo>
                  <a:lnTo>
                    <a:pt x="4" y="3"/>
                  </a:lnTo>
                  <a:lnTo>
                    <a:pt x="5" y="5"/>
                  </a:lnTo>
                  <a:lnTo>
                    <a:pt x="5" y="10"/>
                  </a:lnTo>
                  <a:lnTo>
                    <a:pt x="14" y="104"/>
                  </a:lnTo>
                  <a:lnTo>
                    <a:pt x="15" y="109"/>
                  </a:lnTo>
                  <a:lnTo>
                    <a:pt x="15" y="110"/>
                  </a:lnTo>
                  <a:lnTo>
                    <a:pt x="16" y="112"/>
                  </a:lnTo>
                  <a:lnTo>
                    <a:pt x="18" y="112"/>
                  </a:lnTo>
                  <a:lnTo>
                    <a:pt x="20" y="111"/>
                  </a:lnTo>
                  <a:lnTo>
                    <a:pt x="22" y="109"/>
                  </a:lnTo>
                  <a:lnTo>
                    <a:pt x="36" y="1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8" y="3"/>
                  </a:lnTo>
                  <a:lnTo>
                    <a:pt x="39" y="1"/>
                  </a:lnTo>
                  <a:lnTo>
                    <a:pt x="4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68760" y="5254560"/>
              <a:ext cx="69840" cy="169560"/>
            </a:xfrm>
            <a:custGeom>
              <a:avLst/>
              <a:gdLst/>
              <a:ahLst/>
              <a:rect l="l" t="t" r="r" b="b"/>
              <a:pathLst>
                <a:path w="40" h="113">
                  <a:moveTo>
                    <a:pt x="0" y="0"/>
                  </a:moveTo>
                  <a:lnTo>
                    <a:pt x="1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4" y="10"/>
                  </a:lnTo>
                  <a:lnTo>
                    <a:pt x="12" y="102"/>
                  </a:lnTo>
                  <a:lnTo>
                    <a:pt x="13" y="108"/>
                  </a:lnTo>
                  <a:lnTo>
                    <a:pt x="14" y="110"/>
                  </a:lnTo>
                  <a:lnTo>
                    <a:pt x="15" y="111"/>
                  </a:lnTo>
                  <a:lnTo>
                    <a:pt x="17" y="112"/>
                  </a:lnTo>
                  <a:lnTo>
                    <a:pt x="19" y="111"/>
                  </a:lnTo>
                  <a:lnTo>
                    <a:pt x="20" y="108"/>
                  </a:lnTo>
                  <a:lnTo>
                    <a:pt x="35" y="8"/>
                  </a:lnTo>
                  <a:lnTo>
                    <a:pt x="35" y="6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1"/>
                  </a:lnTo>
                  <a:lnTo>
                    <a:pt x="3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38960" y="5254560"/>
              <a:ext cx="70200" cy="169560"/>
            </a:xfrm>
            <a:custGeom>
              <a:avLst/>
              <a:gdLst/>
              <a:ahLst/>
              <a:rect l="l" t="t" r="r" b="b"/>
              <a:pathLst>
                <a:path w="40" h="113">
                  <a:moveTo>
                    <a:pt x="0" y="0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4" y="5"/>
                  </a:lnTo>
                  <a:lnTo>
                    <a:pt x="4" y="10"/>
                  </a:lnTo>
                  <a:lnTo>
                    <a:pt x="13" y="102"/>
                  </a:lnTo>
                  <a:lnTo>
                    <a:pt x="14" y="108"/>
                  </a:lnTo>
                  <a:lnTo>
                    <a:pt x="14" y="110"/>
                  </a:lnTo>
                  <a:lnTo>
                    <a:pt x="16" y="111"/>
                  </a:lnTo>
                  <a:lnTo>
                    <a:pt x="18" y="112"/>
                  </a:lnTo>
                  <a:lnTo>
                    <a:pt x="20" y="111"/>
                  </a:lnTo>
                  <a:lnTo>
                    <a:pt x="21" y="108"/>
                  </a:lnTo>
                  <a:lnTo>
                    <a:pt x="35" y="8"/>
                  </a:lnTo>
                  <a:lnTo>
                    <a:pt x="35" y="6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10960" y="5254560"/>
              <a:ext cx="69840" cy="169560"/>
            </a:xfrm>
            <a:custGeom>
              <a:avLst/>
              <a:gdLst/>
              <a:ahLst/>
              <a:rect l="l" t="t" r="r" b="b"/>
              <a:pathLst>
                <a:path w="40" h="113">
                  <a:moveTo>
                    <a:pt x="0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3" y="10"/>
                  </a:lnTo>
                  <a:lnTo>
                    <a:pt x="12" y="102"/>
                  </a:lnTo>
                  <a:lnTo>
                    <a:pt x="13" y="108"/>
                  </a:lnTo>
                  <a:lnTo>
                    <a:pt x="14" y="110"/>
                  </a:lnTo>
                  <a:lnTo>
                    <a:pt x="15" y="111"/>
                  </a:lnTo>
                  <a:lnTo>
                    <a:pt x="17" y="112"/>
                  </a:lnTo>
                  <a:lnTo>
                    <a:pt x="19" y="111"/>
                  </a:lnTo>
                  <a:lnTo>
                    <a:pt x="20" y="108"/>
                  </a:lnTo>
                  <a:lnTo>
                    <a:pt x="35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6" y="2"/>
                  </a:lnTo>
                  <a:lnTo>
                    <a:pt x="37" y="1"/>
                  </a:lnTo>
                  <a:lnTo>
                    <a:pt x="3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79360" y="5254560"/>
              <a:ext cx="73440" cy="169560"/>
            </a:xfrm>
            <a:custGeom>
              <a:avLst/>
              <a:gdLst/>
              <a:ahLst/>
              <a:rect l="l" t="t" r="r" b="b"/>
              <a:pathLst>
                <a:path w="42" h="113">
                  <a:moveTo>
                    <a:pt x="0" y="0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5" y="5"/>
                  </a:lnTo>
                  <a:lnTo>
                    <a:pt x="5" y="10"/>
                  </a:lnTo>
                  <a:lnTo>
                    <a:pt x="14" y="102"/>
                  </a:lnTo>
                  <a:lnTo>
                    <a:pt x="15" y="108"/>
                  </a:lnTo>
                  <a:lnTo>
                    <a:pt x="15" y="110"/>
                  </a:lnTo>
                  <a:lnTo>
                    <a:pt x="17" y="111"/>
                  </a:lnTo>
                  <a:lnTo>
                    <a:pt x="19" y="112"/>
                  </a:lnTo>
                  <a:lnTo>
                    <a:pt x="21" y="111"/>
                  </a:lnTo>
                  <a:lnTo>
                    <a:pt x="22" y="108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8" y="2"/>
                  </a:lnTo>
                  <a:lnTo>
                    <a:pt x="39" y="0"/>
                  </a:lnTo>
                  <a:lnTo>
                    <a:pt x="4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53160" y="5254560"/>
              <a:ext cx="70200" cy="167760"/>
            </a:xfrm>
            <a:custGeom>
              <a:avLst/>
              <a:gdLst/>
              <a:ahLst/>
              <a:rect l="l" t="t" r="r" b="b"/>
              <a:pathLst>
                <a:path w="40" h="112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4" y="8"/>
                  </a:lnTo>
                  <a:lnTo>
                    <a:pt x="13" y="103"/>
                  </a:lnTo>
                  <a:lnTo>
                    <a:pt x="14" y="108"/>
                  </a:lnTo>
                  <a:lnTo>
                    <a:pt x="14" y="109"/>
                  </a:lnTo>
                  <a:lnTo>
                    <a:pt x="15" y="111"/>
                  </a:lnTo>
                  <a:lnTo>
                    <a:pt x="17" y="111"/>
                  </a:lnTo>
                  <a:lnTo>
                    <a:pt x="19" y="110"/>
                  </a:lnTo>
                  <a:lnTo>
                    <a:pt x="20" y="108"/>
                  </a:lnTo>
                  <a:lnTo>
                    <a:pt x="35" y="8"/>
                  </a:lnTo>
                  <a:lnTo>
                    <a:pt x="35" y="5"/>
                  </a:lnTo>
                  <a:lnTo>
                    <a:pt x="36" y="3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21560" y="5253120"/>
              <a:ext cx="75600" cy="169560"/>
            </a:xfrm>
            <a:custGeom>
              <a:avLst/>
              <a:gdLst/>
              <a:ahLst/>
              <a:rect l="l" t="t" r="r" b="b"/>
              <a:pathLst>
                <a:path w="43" h="113">
                  <a:moveTo>
                    <a:pt x="0" y="0"/>
                  </a:moveTo>
                  <a:lnTo>
                    <a:pt x="3" y="1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10"/>
                  </a:lnTo>
                  <a:lnTo>
                    <a:pt x="15" y="104"/>
                  </a:lnTo>
                  <a:lnTo>
                    <a:pt x="16" y="109"/>
                  </a:lnTo>
                  <a:lnTo>
                    <a:pt x="16" y="110"/>
                  </a:lnTo>
                  <a:lnTo>
                    <a:pt x="17" y="112"/>
                  </a:lnTo>
                  <a:lnTo>
                    <a:pt x="19" y="112"/>
                  </a:lnTo>
                  <a:lnTo>
                    <a:pt x="21" y="111"/>
                  </a:lnTo>
                  <a:lnTo>
                    <a:pt x="22" y="109"/>
                  </a:lnTo>
                  <a:lnTo>
                    <a:pt x="37" y="10"/>
                  </a:lnTo>
                  <a:lnTo>
                    <a:pt x="37" y="6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40" y="1"/>
                  </a:lnTo>
                  <a:lnTo>
                    <a:pt x="42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95360" y="5254560"/>
              <a:ext cx="72000" cy="167760"/>
            </a:xfrm>
            <a:custGeom>
              <a:avLst/>
              <a:gdLst/>
              <a:ahLst/>
              <a:rect l="l" t="t" r="r" b="b"/>
              <a:pathLst>
                <a:path w="41" h="112">
                  <a:moveTo>
                    <a:pt x="0" y="0"/>
                  </a:moveTo>
                  <a:lnTo>
                    <a:pt x="2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4" y="8"/>
                  </a:lnTo>
                  <a:lnTo>
                    <a:pt x="13" y="103"/>
                  </a:lnTo>
                  <a:lnTo>
                    <a:pt x="14" y="108"/>
                  </a:lnTo>
                  <a:lnTo>
                    <a:pt x="15" y="109"/>
                  </a:lnTo>
                  <a:lnTo>
                    <a:pt x="16" y="111"/>
                  </a:lnTo>
                  <a:lnTo>
                    <a:pt x="17" y="111"/>
                  </a:lnTo>
                  <a:lnTo>
                    <a:pt x="20" y="110"/>
                  </a:lnTo>
                  <a:lnTo>
                    <a:pt x="21" y="108"/>
                  </a:lnTo>
                  <a:lnTo>
                    <a:pt x="36" y="8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7" y="2"/>
                  </a:lnTo>
                  <a:lnTo>
                    <a:pt x="38" y="0"/>
                  </a:ln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65560" y="5253120"/>
              <a:ext cx="48960" cy="169560"/>
            </a:xfrm>
            <a:custGeom>
              <a:avLst/>
              <a:gdLst/>
              <a:ahLst/>
              <a:rect l="l" t="t" r="r" b="b"/>
              <a:pathLst>
                <a:path w="28" h="113">
                  <a:moveTo>
                    <a:pt x="0" y="0"/>
                  </a:moveTo>
                  <a:lnTo>
                    <a:pt x="3" y="1"/>
                  </a:lnTo>
                  <a:lnTo>
                    <a:pt x="4" y="3"/>
                  </a:lnTo>
                  <a:lnTo>
                    <a:pt x="5" y="5"/>
                  </a:lnTo>
                  <a:lnTo>
                    <a:pt x="5" y="10"/>
                  </a:lnTo>
                  <a:lnTo>
                    <a:pt x="14" y="104"/>
                  </a:lnTo>
                  <a:lnTo>
                    <a:pt x="14" y="109"/>
                  </a:lnTo>
                  <a:lnTo>
                    <a:pt x="15" y="110"/>
                  </a:lnTo>
                  <a:lnTo>
                    <a:pt x="17" y="112"/>
                  </a:lnTo>
                  <a:lnTo>
                    <a:pt x="19" y="112"/>
                  </a:lnTo>
                  <a:lnTo>
                    <a:pt x="21" y="111"/>
                  </a:lnTo>
                  <a:lnTo>
                    <a:pt x="22" y="109"/>
                  </a:lnTo>
                  <a:lnTo>
                    <a:pt x="27" y="6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70360" y="5146560"/>
            <a:ext cx="3762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442800"/>
            <a:ext cx="78548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DSP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228680" y="2292480"/>
            <a:ext cx="807840" cy="690480"/>
            <a:chOff x="1228680" y="2292480"/>
            <a:chExt cx="807840" cy="690480"/>
          </a:xfrm>
        </p:grpSpPr>
        <p:sp>
          <p:nvSpPr>
            <p:cNvPr id="69" name=""/>
            <p:cNvSpPr/>
            <p:nvPr/>
          </p:nvSpPr>
          <p:spPr>
            <a:xfrm>
              <a:off x="1917000" y="2292480"/>
              <a:ext cx="119520" cy="690480"/>
            </a:xfrm>
            <a:custGeom>
              <a:avLst/>
              <a:gdLst/>
              <a:ahLst/>
              <a:rect l="l" t="t" r="r" b="b"/>
              <a:pathLst>
                <a:path w="68" h="459">
                  <a:moveTo>
                    <a:pt x="33" y="0"/>
                  </a:moveTo>
                  <a:lnTo>
                    <a:pt x="36" y="11"/>
                  </a:lnTo>
                  <a:lnTo>
                    <a:pt x="42" y="28"/>
                  </a:lnTo>
                  <a:lnTo>
                    <a:pt x="46" y="44"/>
                  </a:lnTo>
                  <a:lnTo>
                    <a:pt x="50" y="60"/>
                  </a:lnTo>
                  <a:lnTo>
                    <a:pt x="54" y="75"/>
                  </a:lnTo>
                  <a:lnTo>
                    <a:pt x="57" y="93"/>
                  </a:lnTo>
                  <a:lnTo>
                    <a:pt x="60" y="112"/>
                  </a:lnTo>
                  <a:lnTo>
                    <a:pt x="62" y="133"/>
                  </a:lnTo>
                  <a:lnTo>
                    <a:pt x="64" y="151"/>
                  </a:lnTo>
                  <a:lnTo>
                    <a:pt x="65" y="171"/>
                  </a:lnTo>
                  <a:lnTo>
                    <a:pt x="66" y="189"/>
                  </a:lnTo>
                  <a:lnTo>
                    <a:pt x="67" y="211"/>
                  </a:lnTo>
                  <a:lnTo>
                    <a:pt x="67" y="233"/>
                  </a:lnTo>
                  <a:lnTo>
                    <a:pt x="66" y="256"/>
                  </a:lnTo>
                  <a:lnTo>
                    <a:pt x="65" y="274"/>
                  </a:lnTo>
                  <a:lnTo>
                    <a:pt x="64" y="290"/>
                  </a:lnTo>
                  <a:lnTo>
                    <a:pt x="62" y="310"/>
                  </a:lnTo>
                  <a:lnTo>
                    <a:pt x="59" y="328"/>
                  </a:lnTo>
                  <a:lnTo>
                    <a:pt x="56" y="348"/>
                  </a:lnTo>
                  <a:lnTo>
                    <a:pt x="52" y="368"/>
                  </a:lnTo>
                  <a:lnTo>
                    <a:pt x="48" y="386"/>
                  </a:lnTo>
                  <a:lnTo>
                    <a:pt x="44" y="402"/>
                  </a:lnTo>
                  <a:lnTo>
                    <a:pt x="38" y="420"/>
                  </a:lnTo>
                  <a:lnTo>
                    <a:pt x="32" y="437"/>
                  </a:lnTo>
                  <a:lnTo>
                    <a:pt x="25" y="454"/>
                  </a:lnTo>
                  <a:lnTo>
                    <a:pt x="23" y="458"/>
                  </a:lnTo>
                  <a:lnTo>
                    <a:pt x="0" y="447"/>
                  </a:lnTo>
                  <a:lnTo>
                    <a:pt x="7" y="434"/>
                  </a:lnTo>
                  <a:lnTo>
                    <a:pt x="13" y="418"/>
                  </a:lnTo>
                  <a:lnTo>
                    <a:pt x="19" y="402"/>
                  </a:lnTo>
                  <a:lnTo>
                    <a:pt x="24" y="384"/>
                  </a:lnTo>
                  <a:lnTo>
                    <a:pt x="29" y="363"/>
                  </a:lnTo>
                  <a:lnTo>
                    <a:pt x="32" y="344"/>
                  </a:lnTo>
                  <a:lnTo>
                    <a:pt x="36" y="326"/>
                  </a:lnTo>
                  <a:lnTo>
                    <a:pt x="38" y="304"/>
                  </a:lnTo>
                  <a:lnTo>
                    <a:pt x="40" y="284"/>
                  </a:lnTo>
                  <a:lnTo>
                    <a:pt x="42" y="265"/>
                  </a:lnTo>
                  <a:lnTo>
                    <a:pt x="42" y="245"/>
                  </a:lnTo>
                  <a:lnTo>
                    <a:pt x="43" y="229"/>
                  </a:lnTo>
                  <a:lnTo>
                    <a:pt x="43" y="208"/>
                  </a:lnTo>
                  <a:lnTo>
                    <a:pt x="42" y="186"/>
                  </a:lnTo>
                  <a:lnTo>
                    <a:pt x="41" y="166"/>
                  </a:lnTo>
                  <a:lnTo>
                    <a:pt x="39" y="145"/>
                  </a:lnTo>
                  <a:lnTo>
                    <a:pt x="37" y="124"/>
                  </a:lnTo>
                  <a:lnTo>
                    <a:pt x="33" y="104"/>
                  </a:lnTo>
                  <a:lnTo>
                    <a:pt x="30" y="84"/>
                  </a:lnTo>
                  <a:lnTo>
                    <a:pt x="26" y="66"/>
                  </a:lnTo>
                  <a:lnTo>
                    <a:pt x="21" y="46"/>
                  </a:lnTo>
                  <a:lnTo>
                    <a:pt x="15" y="28"/>
                  </a:lnTo>
                  <a:lnTo>
                    <a:pt x="9" y="13"/>
                  </a:lnTo>
                  <a:lnTo>
                    <a:pt x="3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27720" y="2331360"/>
              <a:ext cx="101520" cy="615240"/>
            </a:xfrm>
            <a:custGeom>
              <a:avLst/>
              <a:gdLst/>
              <a:ahLst/>
              <a:rect l="l" t="t" r="r" b="b"/>
              <a:pathLst>
                <a:path w="58" h="409">
                  <a:moveTo>
                    <a:pt x="31" y="0"/>
                  </a:moveTo>
                  <a:lnTo>
                    <a:pt x="36" y="18"/>
                  </a:lnTo>
                  <a:lnTo>
                    <a:pt x="40" y="34"/>
                  </a:lnTo>
                  <a:lnTo>
                    <a:pt x="44" y="49"/>
                  </a:lnTo>
                  <a:lnTo>
                    <a:pt x="47" y="67"/>
                  </a:lnTo>
                  <a:lnTo>
                    <a:pt x="50" y="86"/>
                  </a:lnTo>
                  <a:lnTo>
                    <a:pt x="52" y="107"/>
                  </a:lnTo>
                  <a:lnTo>
                    <a:pt x="54" y="125"/>
                  </a:lnTo>
                  <a:lnTo>
                    <a:pt x="56" y="145"/>
                  </a:lnTo>
                  <a:lnTo>
                    <a:pt x="57" y="163"/>
                  </a:lnTo>
                  <a:lnTo>
                    <a:pt x="57" y="185"/>
                  </a:lnTo>
                  <a:lnTo>
                    <a:pt x="57" y="207"/>
                  </a:lnTo>
                  <a:lnTo>
                    <a:pt x="56" y="230"/>
                  </a:lnTo>
                  <a:lnTo>
                    <a:pt x="55" y="248"/>
                  </a:lnTo>
                  <a:lnTo>
                    <a:pt x="54" y="264"/>
                  </a:lnTo>
                  <a:lnTo>
                    <a:pt x="52" y="284"/>
                  </a:lnTo>
                  <a:lnTo>
                    <a:pt x="49" y="302"/>
                  </a:lnTo>
                  <a:lnTo>
                    <a:pt x="46" y="322"/>
                  </a:lnTo>
                  <a:lnTo>
                    <a:pt x="42" y="342"/>
                  </a:lnTo>
                  <a:lnTo>
                    <a:pt x="38" y="360"/>
                  </a:lnTo>
                  <a:lnTo>
                    <a:pt x="34" y="376"/>
                  </a:lnTo>
                  <a:lnTo>
                    <a:pt x="28" y="394"/>
                  </a:lnTo>
                  <a:lnTo>
                    <a:pt x="23" y="408"/>
                  </a:lnTo>
                  <a:lnTo>
                    <a:pt x="0" y="396"/>
                  </a:lnTo>
                  <a:lnTo>
                    <a:pt x="3" y="392"/>
                  </a:lnTo>
                  <a:lnTo>
                    <a:pt x="9" y="376"/>
                  </a:lnTo>
                  <a:lnTo>
                    <a:pt x="14" y="358"/>
                  </a:lnTo>
                  <a:lnTo>
                    <a:pt x="19" y="337"/>
                  </a:lnTo>
                  <a:lnTo>
                    <a:pt x="22" y="318"/>
                  </a:lnTo>
                  <a:lnTo>
                    <a:pt x="26" y="300"/>
                  </a:lnTo>
                  <a:lnTo>
                    <a:pt x="28" y="278"/>
                  </a:lnTo>
                  <a:lnTo>
                    <a:pt x="30" y="258"/>
                  </a:lnTo>
                  <a:lnTo>
                    <a:pt x="32" y="239"/>
                  </a:lnTo>
                  <a:lnTo>
                    <a:pt x="32" y="219"/>
                  </a:lnTo>
                  <a:lnTo>
                    <a:pt x="33" y="203"/>
                  </a:lnTo>
                  <a:lnTo>
                    <a:pt x="33" y="182"/>
                  </a:lnTo>
                  <a:lnTo>
                    <a:pt x="32" y="160"/>
                  </a:lnTo>
                  <a:lnTo>
                    <a:pt x="31" y="140"/>
                  </a:lnTo>
                  <a:lnTo>
                    <a:pt x="29" y="119"/>
                  </a:lnTo>
                  <a:lnTo>
                    <a:pt x="27" y="98"/>
                  </a:lnTo>
                  <a:lnTo>
                    <a:pt x="24" y="78"/>
                  </a:lnTo>
                  <a:lnTo>
                    <a:pt x="20" y="58"/>
                  </a:lnTo>
                  <a:lnTo>
                    <a:pt x="16" y="40"/>
                  </a:lnTo>
                  <a:lnTo>
                    <a:pt x="11" y="20"/>
                  </a:lnTo>
                  <a:lnTo>
                    <a:pt x="6" y="10"/>
                  </a:lnTo>
                  <a:lnTo>
                    <a:pt x="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36280" y="2367720"/>
              <a:ext cx="86040" cy="540000"/>
            </a:xfrm>
            <a:custGeom>
              <a:avLst/>
              <a:gdLst/>
              <a:ahLst/>
              <a:rect l="l" t="t" r="r" b="b"/>
              <a:pathLst>
                <a:path w="49" h="359">
                  <a:moveTo>
                    <a:pt x="31" y="10"/>
                  </a:moveTo>
                  <a:lnTo>
                    <a:pt x="35" y="25"/>
                  </a:lnTo>
                  <a:lnTo>
                    <a:pt x="38" y="43"/>
                  </a:lnTo>
                  <a:lnTo>
                    <a:pt x="41" y="62"/>
                  </a:lnTo>
                  <a:lnTo>
                    <a:pt x="43" y="83"/>
                  </a:lnTo>
                  <a:lnTo>
                    <a:pt x="46" y="101"/>
                  </a:lnTo>
                  <a:lnTo>
                    <a:pt x="47" y="121"/>
                  </a:lnTo>
                  <a:lnTo>
                    <a:pt x="48" y="139"/>
                  </a:lnTo>
                  <a:lnTo>
                    <a:pt x="48" y="161"/>
                  </a:lnTo>
                  <a:lnTo>
                    <a:pt x="48" y="186"/>
                  </a:lnTo>
                  <a:lnTo>
                    <a:pt x="47" y="206"/>
                  </a:lnTo>
                  <a:lnTo>
                    <a:pt x="46" y="224"/>
                  </a:lnTo>
                  <a:lnTo>
                    <a:pt x="45" y="240"/>
                  </a:lnTo>
                  <a:lnTo>
                    <a:pt x="43" y="260"/>
                  </a:lnTo>
                  <a:lnTo>
                    <a:pt x="40" y="278"/>
                  </a:lnTo>
                  <a:lnTo>
                    <a:pt x="37" y="298"/>
                  </a:lnTo>
                  <a:lnTo>
                    <a:pt x="33" y="318"/>
                  </a:lnTo>
                  <a:lnTo>
                    <a:pt x="29" y="336"/>
                  </a:lnTo>
                  <a:lnTo>
                    <a:pt x="25" y="352"/>
                  </a:lnTo>
                  <a:lnTo>
                    <a:pt x="23" y="358"/>
                  </a:lnTo>
                  <a:lnTo>
                    <a:pt x="0" y="347"/>
                  </a:lnTo>
                  <a:lnTo>
                    <a:pt x="5" y="334"/>
                  </a:lnTo>
                  <a:lnTo>
                    <a:pt x="10" y="313"/>
                  </a:lnTo>
                  <a:lnTo>
                    <a:pt x="14" y="294"/>
                  </a:lnTo>
                  <a:lnTo>
                    <a:pt x="17" y="276"/>
                  </a:lnTo>
                  <a:lnTo>
                    <a:pt x="19" y="254"/>
                  </a:lnTo>
                  <a:lnTo>
                    <a:pt x="21" y="234"/>
                  </a:lnTo>
                  <a:lnTo>
                    <a:pt x="23" y="215"/>
                  </a:lnTo>
                  <a:lnTo>
                    <a:pt x="23" y="195"/>
                  </a:lnTo>
                  <a:lnTo>
                    <a:pt x="24" y="179"/>
                  </a:lnTo>
                  <a:lnTo>
                    <a:pt x="24" y="158"/>
                  </a:lnTo>
                  <a:lnTo>
                    <a:pt x="23" y="136"/>
                  </a:lnTo>
                  <a:lnTo>
                    <a:pt x="22" y="116"/>
                  </a:lnTo>
                  <a:lnTo>
                    <a:pt x="20" y="95"/>
                  </a:lnTo>
                  <a:lnTo>
                    <a:pt x="18" y="74"/>
                  </a:lnTo>
                  <a:lnTo>
                    <a:pt x="15" y="54"/>
                  </a:lnTo>
                  <a:lnTo>
                    <a:pt x="11" y="34"/>
                  </a:lnTo>
                  <a:lnTo>
                    <a:pt x="7" y="16"/>
                  </a:lnTo>
                  <a:lnTo>
                    <a:pt x="5" y="11"/>
                  </a:lnTo>
                  <a:lnTo>
                    <a:pt x="29" y="0"/>
                  </a:lnTo>
                  <a:lnTo>
                    <a:pt x="31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50240" y="2403720"/>
              <a:ext cx="75600" cy="467640"/>
            </a:xfrm>
            <a:custGeom>
              <a:avLst/>
              <a:gdLst/>
              <a:ahLst/>
              <a:rect l="l" t="t" r="r" b="b"/>
              <a:pathLst>
                <a:path w="43" h="311">
                  <a:moveTo>
                    <a:pt x="29" y="0"/>
                  </a:moveTo>
                  <a:lnTo>
                    <a:pt x="32" y="18"/>
                  </a:lnTo>
                  <a:lnTo>
                    <a:pt x="35" y="36"/>
                  </a:lnTo>
                  <a:lnTo>
                    <a:pt x="38" y="58"/>
                  </a:lnTo>
                  <a:lnTo>
                    <a:pt x="40" y="75"/>
                  </a:lnTo>
                  <a:lnTo>
                    <a:pt x="41" y="96"/>
                  </a:lnTo>
                  <a:lnTo>
                    <a:pt x="42" y="113"/>
                  </a:lnTo>
                  <a:lnTo>
                    <a:pt x="42" y="136"/>
                  </a:lnTo>
                  <a:lnTo>
                    <a:pt x="42" y="158"/>
                  </a:lnTo>
                  <a:lnTo>
                    <a:pt x="41" y="181"/>
                  </a:lnTo>
                  <a:lnTo>
                    <a:pt x="40" y="199"/>
                  </a:lnTo>
                  <a:lnTo>
                    <a:pt x="39" y="215"/>
                  </a:lnTo>
                  <a:lnTo>
                    <a:pt x="37" y="234"/>
                  </a:lnTo>
                  <a:lnTo>
                    <a:pt x="35" y="253"/>
                  </a:lnTo>
                  <a:lnTo>
                    <a:pt x="31" y="273"/>
                  </a:lnTo>
                  <a:lnTo>
                    <a:pt x="27" y="292"/>
                  </a:lnTo>
                  <a:lnTo>
                    <a:pt x="23" y="310"/>
                  </a:lnTo>
                  <a:lnTo>
                    <a:pt x="0" y="300"/>
                  </a:lnTo>
                  <a:lnTo>
                    <a:pt x="4" y="288"/>
                  </a:lnTo>
                  <a:lnTo>
                    <a:pt x="8" y="269"/>
                  </a:lnTo>
                  <a:lnTo>
                    <a:pt x="11" y="250"/>
                  </a:lnTo>
                  <a:lnTo>
                    <a:pt x="13" y="228"/>
                  </a:lnTo>
                  <a:lnTo>
                    <a:pt x="15" y="209"/>
                  </a:lnTo>
                  <a:lnTo>
                    <a:pt x="17" y="189"/>
                  </a:lnTo>
                  <a:lnTo>
                    <a:pt x="18" y="169"/>
                  </a:lnTo>
                  <a:lnTo>
                    <a:pt x="18" y="153"/>
                  </a:lnTo>
                  <a:lnTo>
                    <a:pt x="18" y="133"/>
                  </a:lnTo>
                  <a:lnTo>
                    <a:pt x="17" y="111"/>
                  </a:lnTo>
                  <a:lnTo>
                    <a:pt x="16" y="90"/>
                  </a:lnTo>
                  <a:lnTo>
                    <a:pt x="15" y="70"/>
                  </a:lnTo>
                  <a:lnTo>
                    <a:pt x="12" y="49"/>
                  </a:lnTo>
                  <a:lnTo>
                    <a:pt x="9" y="29"/>
                  </a:lnTo>
                  <a:lnTo>
                    <a:pt x="5" y="11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64200" y="2440080"/>
              <a:ext cx="64800" cy="397080"/>
            </a:xfrm>
            <a:custGeom>
              <a:avLst/>
              <a:gdLst/>
              <a:ahLst/>
              <a:rect l="l" t="t" r="r" b="b"/>
              <a:pathLst>
                <a:path w="37" h="264">
                  <a:moveTo>
                    <a:pt x="26" y="0"/>
                  </a:moveTo>
                  <a:lnTo>
                    <a:pt x="29" y="14"/>
                  </a:lnTo>
                  <a:lnTo>
                    <a:pt x="32" y="35"/>
                  </a:lnTo>
                  <a:lnTo>
                    <a:pt x="34" y="53"/>
                  </a:lnTo>
                  <a:lnTo>
                    <a:pt x="35" y="73"/>
                  </a:lnTo>
                  <a:lnTo>
                    <a:pt x="36" y="91"/>
                  </a:lnTo>
                  <a:lnTo>
                    <a:pt x="36" y="113"/>
                  </a:lnTo>
                  <a:lnTo>
                    <a:pt x="36" y="135"/>
                  </a:lnTo>
                  <a:lnTo>
                    <a:pt x="35" y="158"/>
                  </a:lnTo>
                  <a:lnTo>
                    <a:pt x="35" y="176"/>
                  </a:lnTo>
                  <a:lnTo>
                    <a:pt x="33" y="192"/>
                  </a:lnTo>
                  <a:lnTo>
                    <a:pt x="31" y="212"/>
                  </a:lnTo>
                  <a:lnTo>
                    <a:pt x="29" y="230"/>
                  </a:lnTo>
                  <a:lnTo>
                    <a:pt x="25" y="250"/>
                  </a:lnTo>
                  <a:lnTo>
                    <a:pt x="24" y="263"/>
                  </a:lnTo>
                  <a:lnTo>
                    <a:pt x="0" y="252"/>
                  </a:lnTo>
                  <a:lnTo>
                    <a:pt x="2" y="246"/>
                  </a:lnTo>
                  <a:lnTo>
                    <a:pt x="5" y="228"/>
                  </a:lnTo>
                  <a:lnTo>
                    <a:pt x="7" y="206"/>
                  </a:lnTo>
                  <a:lnTo>
                    <a:pt x="9" y="186"/>
                  </a:lnTo>
                  <a:lnTo>
                    <a:pt x="11" y="167"/>
                  </a:lnTo>
                  <a:lnTo>
                    <a:pt x="12" y="147"/>
                  </a:lnTo>
                  <a:lnTo>
                    <a:pt x="12" y="131"/>
                  </a:lnTo>
                  <a:lnTo>
                    <a:pt x="12" y="110"/>
                  </a:lnTo>
                  <a:lnTo>
                    <a:pt x="11" y="88"/>
                  </a:lnTo>
                  <a:lnTo>
                    <a:pt x="10" y="68"/>
                  </a:lnTo>
                  <a:lnTo>
                    <a:pt x="9" y="47"/>
                  </a:lnTo>
                  <a:lnTo>
                    <a:pt x="6" y="26"/>
                  </a:lnTo>
                  <a:lnTo>
                    <a:pt x="1" y="1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81400" y="2465640"/>
              <a:ext cx="63360" cy="339480"/>
            </a:xfrm>
            <a:custGeom>
              <a:avLst/>
              <a:gdLst/>
              <a:ahLst/>
              <a:rect l="l" t="t" r="r" b="b"/>
              <a:pathLst>
                <a:path w="36" h="226">
                  <a:moveTo>
                    <a:pt x="28" y="0"/>
                  </a:moveTo>
                  <a:lnTo>
                    <a:pt x="31" y="13"/>
                  </a:lnTo>
                  <a:lnTo>
                    <a:pt x="32" y="28"/>
                  </a:lnTo>
                  <a:lnTo>
                    <a:pt x="34" y="50"/>
                  </a:lnTo>
                  <a:lnTo>
                    <a:pt x="34" y="66"/>
                  </a:lnTo>
                  <a:lnTo>
                    <a:pt x="35" y="88"/>
                  </a:lnTo>
                  <a:lnTo>
                    <a:pt x="34" y="111"/>
                  </a:lnTo>
                  <a:lnTo>
                    <a:pt x="34" y="134"/>
                  </a:lnTo>
                  <a:lnTo>
                    <a:pt x="33" y="152"/>
                  </a:lnTo>
                  <a:lnTo>
                    <a:pt x="32" y="168"/>
                  </a:lnTo>
                  <a:lnTo>
                    <a:pt x="29" y="187"/>
                  </a:lnTo>
                  <a:lnTo>
                    <a:pt x="27" y="206"/>
                  </a:lnTo>
                  <a:lnTo>
                    <a:pt x="24" y="225"/>
                  </a:lnTo>
                  <a:lnTo>
                    <a:pt x="0" y="213"/>
                  </a:lnTo>
                  <a:lnTo>
                    <a:pt x="3" y="203"/>
                  </a:lnTo>
                  <a:lnTo>
                    <a:pt x="6" y="181"/>
                  </a:lnTo>
                  <a:lnTo>
                    <a:pt x="8" y="161"/>
                  </a:lnTo>
                  <a:lnTo>
                    <a:pt x="9" y="142"/>
                  </a:lnTo>
                  <a:lnTo>
                    <a:pt x="10" y="122"/>
                  </a:lnTo>
                  <a:lnTo>
                    <a:pt x="11" y="106"/>
                  </a:lnTo>
                  <a:lnTo>
                    <a:pt x="10" y="85"/>
                  </a:lnTo>
                  <a:lnTo>
                    <a:pt x="10" y="63"/>
                  </a:lnTo>
                  <a:lnTo>
                    <a:pt x="9" y="43"/>
                  </a:lnTo>
                  <a:lnTo>
                    <a:pt x="7" y="23"/>
                  </a:lnTo>
                  <a:lnTo>
                    <a:pt x="4" y="12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97160" y="2504520"/>
              <a:ext cx="52560" cy="266400"/>
            </a:xfrm>
            <a:custGeom>
              <a:avLst/>
              <a:gdLst/>
              <a:ahLst/>
              <a:rect l="l" t="t" r="r" b="b"/>
              <a:pathLst>
                <a:path w="30" h="177">
                  <a:moveTo>
                    <a:pt x="25" y="0"/>
                  </a:moveTo>
                  <a:lnTo>
                    <a:pt x="27" y="15"/>
                  </a:lnTo>
                  <a:lnTo>
                    <a:pt x="28" y="32"/>
                  </a:lnTo>
                  <a:lnTo>
                    <a:pt x="29" y="49"/>
                  </a:lnTo>
                  <a:lnTo>
                    <a:pt x="29" y="72"/>
                  </a:lnTo>
                  <a:lnTo>
                    <a:pt x="29" y="94"/>
                  </a:lnTo>
                  <a:lnTo>
                    <a:pt x="28" y="117"/>
                  </a:lnTo>
                  <a:lnTo>
                    <a:pt x="27" y="135"/>
                  </a:lnTo>
                  <a:lnTo>
                    <a:pt x="26" y="151"/>
                  </a:lnTo>
                  <a:lnTo>
                    <a:pt x="26" y="167"/>
                  </a:lnTo>
                  <a:lnTo>
                    <a:pt x="25" y="176"/>
                  </a:lnTo>
                  <a:lnTo>
                    <a:pt x="0" y="163"/>
                  </a:lnTo>
                  <a:lnTo>
                    <a:pt x="2" y="145"/>
                  </a:lnTo>
                  <a:lnTo>
                    <a:pt x="4" y="125"/>
                  </a:lnTo>
                  <a:lnTo>
                    <a:pt x="5" y="105"/>
                  </a:lnTo>
                  <a:lnTo>
                    <a:pt x="5" y="89"/>
                  </a:lnTo>
                  <a:lnTo>
                    <a:pt x="6" y="66"/>
                  </a:lnTo>
                  <a:lnTo>
                    <a:pt x="5" y="47"/>
                  </a:lnTo>
                  <a:lnTo>
                    <a:pt x="3" y="26"/>
                  </a:lnTo>
                  <a:lnTo>
                    <a:pt x="1" y="11"/>
                  </a:lnTo>
                  <a:lnTo>
                    <a:pt x="2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09320" y="2539440"/>
              <a:ext cx="50760" cy="192240"/>
            </a:xfrm>
            <a:custGeom>
              <a:avLst/>
              <a:gdLst/>
              <a:ahLst/>
              <a:rect l="l" t="t" r="r" b="b"/>
              <a:pathLst>
                <a:path w="29" h="128">
                  <a:moveTo>
                    <a:pt x="25" y="0"/>
                  </a:moveTo>
                  <a:lnTo>
                    <a:pt x="28" y="23"/>
                  </a:lnTo>
                  <a:lnTo>
                    <a:pt x="28" y="46"/>
                  </a:lnTo>
                  <a:lnTo>
                    <a:pt x="28" y="68"/>
                  </a:lnTo>
                  <a:lnTo>
                    <a:pt x="27" y="91"/>
                  </a:lnTo>
                  <a:lnTo>
                    <a:pt x="26" y="109"/>
                  </a:lnTo>
                  <a:lnTo>
                    <a:pt x="23" y="127"/>
                  </a:lnTo>
                  <a:lnTo>
                    <a:pt x="0" y="117"/>
                  </a:lnTo>
                  <a:lnTo>
                    <a:pt x="3" y="99"/>
                  </a:lnTo>
                  <a:lnTo>
                    <a:pt x="4" y="79"/>
                  </a:lnTo>
                  <a:lnTo>
                    <a:pt x="4" y="63"/>
                  </a:lnTo>
                  <a:lnTo>
                    <a:pt x="4" y="40"/>
                  </a:lnTo>
                  <a:lnTo>
                    <a:pt x="3" y="21"/>
                  </a:lnTo>
                  <a:lnTo>
                    <a:pt x="1" y="11"/>
                  </a:lnTo>
                  <a:lnTo>
                    <a:pt x="2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28680" y="2569320"/>
              <a:ext cx="47160" cy="129240"/>
            </a:xfrm>
            <a:custGeom>
              <a:avLst/>
              <a:gdLst/>
              <a:ahLst/>
              <a:rect l="l" t="t" r="r" b="b"/>
              <a:pathLst>
                <a:path w="27" h="86">
                  <a:moveTo>
                    <a:pt x="26" y="12"/>
                  </a:moveTo>
                  <a:lnTo>
                    <a:pt x="26" y="34"/>
                  </a:lnTo>
                  <a:lnTo>
                    <a:pt x="26" y="55"/>
                  </a:lnTo>
                  <a:lnTo>
                    <a:pt x="25" y="74"/>
                  </a:lnTo>
                  <a:lnTo>
                    <a:pt x="23" y="85"/>
                  </a:lnTo>
                  <a:lnTo>
                    <a:pt x="0" y="75"/>
                  </a:lnTo>
                  <a:lnTo>
                    <a:pt x="1" y="52"/>
                  </a:lnTo>
                  <a:lnTo>
                    <a:pt x="2" y="31"/>
                  </a:lnTo>
                  <a:lnTo>
                    <a:pt x="2" y="11"/>
                  </a:lnTo>
                  <a:lnTo>
                    <a:pt x="25" y="0"/>
                  </a:lnTo>
                  <a:lnTo>
                    <a:pt x="26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98320" y="2165400"/>
            <a:ext cx="641160" cy="806400"/>
            <a:chOff x="598320" y="2165400"/>
            <a:chExt cx="641160" cy="806400"/>
          </a:xfrm>
        </p:grpSpPr>
        <p:sp>
          <p:nvSpPr>
            <p:cNvPr id="79" name=""/>
            <p:cNvSpPr/>
            <p:nvPr/>
          </p:nvSpPr>
          <p:spPr>
            <a:xfrm>
              <a:off x="598320" y="2165400"/>
              <a:ext cx="641160" cy="806400"/>
            </a:xfrm>
            <a:custGeom>
              <a:avLst/>
              <a:gdLst/>
              <a:ahLst/>
              <a:rect l="l" t="t" r="r" b="b"/>
              <a:pathLst>
                <a:path w="365" h="536">
                  <a:moveTo>
                    <a:pt x="197" y="532"/>
                  </a:moveTo>
                  <a:lnTo>
                    <a:pt x="160" y="463"/>
                  </a:lnTo>
                  <a:lnTo>
                    <a:pt x="151" y="447"/>
                  </a:lnTo>
                  <a:lnTo>
                    <a:pt x="133" y="432"/>
                  </a:lnTo>
                  <a:lnTo>
                    <a:pt x="114" y="422"/>
                  </a:lnTo>
                  <a:lnTo>
                    <a:pt x="84" y="403"/>
                  </a:lnTo>
                  <a:lnTo>
                    <a:pt x="44" y="387"/>
                  </a:lnTo>
                  <a:lnTo>
                    <a:pt x="23" y="384"/>
                  </a:lnTo>
                  <a:lnTo>
                    <a:pt x="3" y="392"/>
                  </a:lnTo>
                  <a:lnTo>
                    <a:pt x="26" y="355"/>
                  </a:lnTo>
                  <a:lnTo>
                    <a:pt x="34" y="328"/>
                  </a:lnTo>
                  <a:lnTo>
                    <a:pt x="47" y="308"/>
                  </a:lnTo>
                  <a:lnTo>
                    <a:pt x="12" y="254"/>
                  </a:lnTo>
                  <a:lnTo>
                    <a:pt x="6" y="237"/>
                  </a:lnTo>
                  <a:lnTo>
                    <a:pt x="5" y="216"/>
                  </a:lnTo>
                  <a:lnTo>
                    <a:pt x="2" y="190"/>
                  </a:lnTo>
                  <a:lnTo>
                    <a:pt x="0" y="170"/>
                  </a:lnTo>
                  <a:lnTo>
                    <a:pt x="2" y="134"/>
                  </a:lnTo>
                  <a:lnTo>
                    <a:pt x="17" y="91"/>
                  </a:lnTo>
                  <a:lnTo>
                    <a:pt x="47" y="47"/>
                  </a:lnTo>
                  <a:lnTo>
                    <a:pt x="56" y="36"/>
                  </a:lnTo>
                  <a:lnTo>
                    <a:pt x="64" y="33"/>
                  </a:lnTo>
                  <a:lnTo>
                    <a:pt x="73" y="29"/>
                  </a:lnTo>
                  <a:lnTo>
                    <a:pt x="104" y="14"/>
                  </a:lnTo>
                  <a:lnTo>
                    <a:pt x="120" y="9"/>
                  </a:lnTo>
                  <a:lnTo>
                    <a:pt x="192" y="0"/>
                  </a:lnTo>
                  <a:lnTo>
                    <a:pt x="229" y="6"/>
                  </a:lnTo>
                  <a:lnTo>
                    <a:pt x="239" y="6"/>
                  </a:lnTo>
                  <a:lnTo>
                    <a:pt x="258" y="13"/>
                  </a:lnTo>
                  <a:lnTo>
                    <a:pt x="273" y="21"/>
                  </a:lnTo>
                  <a:lnTo>
                    <a:pt x="287" y="21"/>
                  </a:lnTo>
                  <a:lnTo>
                    <a:pt x="297" y="29"/>
                  </a:lnTo>
                  <a:lnTo>
                    <a:pt x="306" y="48"/>
                  </a:lnTo>
                  <a:lnTo>
                    <a:pt x="319" y="68"/>
                  </a:lnTo>
                  <a:lnTo>
                    <a:pt x="326" y="95"/>
                  </a:lnTo>
                  <a:lnTo>
                    <a:pt x="331" y="109"/>
                  </a:lnTo>
                  <a:lnTo>
                    <a:pt x="334" y="115"/>
                  </a:lnTo>
                  <a:lnTo>
                    <a:pt x="338" y="124"/>
                  </a:lnTo>
                  <a:lnTo>
                    <a:pt x="343" y="130"/>
                  </a:lnTo>
                  <a:lnTo>
                    <a:pt x="346" y="137"/>
                  </a:lnTo>
                  <a:lnTo>
                    <a:pt x="348" y="148"/>
                  </a:lnTo>
                  <a:lnTo>
                    <a:pt x="340" y="161"/>
                  </a:lnTo>
                  <a:lnTo>
                    <a:pt x="337" y="170"/>
                  </a:lnTo>
                  <a:lnTo>
                    <a:pt x="334" y="176"/>
                  </a:lnTo>
                  <a:lnTo>
                    <a:pt x="343" y="191"/>
                  </a:lnTo>
                  <a:lnTo>
                    <a:pt x="354" y="212"/>
                  </a:lnTo>
                  <a:lnTo>
                    <a:pt x="363" y="229"/>
                  </a:lnTo>
                  <a:lnTo>
                    <a:pt x="364" y="242"/>
                  </a:lnTo>
                  <a:lnTo>
                    <a:pt x="359" y="249"/>
                  </a:lnTo>
                  <a:lnTo>
                    <a:pt x="349" y="252"/>
                  </a:lnTo>
                  <a:lnTo>
                    <a:pt x="338" y="254"/>
                  </a:lnTo>
                  <a:lnTo>
                    <a:pt x="334" y="261"/>
                  </a:lnTo>
                  <a:lnTo>
                    <a:pt x="332" y="275"/>
                  </a:lnTo>
                  <a:lnTo>
                    <a:pt x="335" y="276"/>
                  </a:lnTo>
                  <a:lnTo>
                    <a:pt x="338" y="284"/>
                  </a:lnTo>
                  <a:lnTo>
                    <a:pt x="329" y="290"/>
                  </a:lnTo>
                  <a:lnTo>
                    <a:pt x="299" y="302"/>
                  </a:lnTo>
                  <a:lnTo>
                    <a:pt x="291" y="302"/>
                  </a:lnTo>
                  <a:lnTo>
                    <a:pt x="297" y="311"/>
                  </a:lnTo>
                  <a:lnTo>
                    <a:pt x="312" y="322"/>
                  </a:lnTo>
                  <a:lnTo>
                    <a:pt x="317" y="326"/>
                  </a:lnTo>
                  <a:lnTo>
                    <a:pt x="319" y="331"/>
                  </a:lnTo>
                  <a:lnTo>
                    <a:pt x="314" y="336"/>
                  </a:lnTo>
                  <a:lnTo>
                    <a:pt x="305" y="339"/>
                  </a:lnTo>
                  <a:lnTo>
                    <a:pt x="303" y="342"/>
                  </a:lnTo>
                  <a:lnTo>
                    <a:pt x="303" y="354"/>
                  </a:lnTo>
                  <a:lnTo>
                    <a:pt x="303" y="365"/>
                  </a:lnTo>
                  <a:lnTo>
                    <a:pt x="299" y="377"/>
                  </a:lnTo>
                  <a:lnTo>
                    <a:pt x="291" y="390"/>
                  </a:lnTo>
                  <a:lnTo>
                    <a:pt x="282" y="395"/>
                  </a:lnTo>
                  <a:lnTo>
                    <a:pt x="270" y="398"/>
                  </a:lnTo>
                  <a:lnTo>
                    <a:pt x="259" y="396"/>
                  </a:lnTo>
                  <a:lnTo>
                    <a:pt x="241" y="389"/>
                  </a:lnTo>
                  <a:lnTo>
                    <a:pt x="226" y="378"/>
                  </a:lnTo>
                  <a:lnTo>
                    <a:pt x="210" y="377"/>
                  </a:lnTo>
                  <a:lnTo>
                    <a:pt x="203" y="377"/>
                  </a:lnTo>
                  <a:lnTo>
                    <a:pt x="204" y="392"/>
                  </a:lnTo>
                  <a:lnTo>
                    <a:pt x="191" y="409"/>
                  </a:lnTo>
                  <a:lnTo>
                    <a:pt x="188" y="424"/>
                  </a:lnTo>
                  <a:lnTo>
                    <a:pt x="181" y="436"/>
                  </a:lnTo>
                  <a:lnTo>
                    <a:pt x="184" y="456"/>
                  </a:lnTo>
                  <a:lnTo>
                    <a:pt x="191" y="482"/>
                  </a:lnTo>
                  <a:lnTo>
                    <a:pt x="195" y="500"/>
                  </a:lnTo>
                  <a:lnTo>
                    <a:pt x="210" y="532"/>
                  </a:lnTo>
                  <a:lnTo>
                    <a:pt x="198" y="535"/>
                  </a:lnTo>
                  <a:lnTo>
                    <a:pt x="197" y="532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04480" y="2416320"/>
              <a:ext cx="80640" cy="388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8"/>
                  </a:moveTo>
                  <a:lnTo>
                    <a:pt x="10" y="16"/>
                  </a:lnTo>
                  <a:lnTo>
                    <a:pt x="20" y="11"/>
                  </a:lnTo>
                  <a:lnTo>
                    <a:pt x="27" y="7"/>
                  </a:lnTo>
                  <a:lnTo>
                    <a:pt x="35" y="5"/>
                  </a:lnTo>
                  <a:lnTo>
                    <a:pt x="45" y="0"/>
                  </a:lnTo>
                  <a:lnTo>
                    <a:pt x="36" y="7"/>
                  </a:lnTo>
                  <a:lnTo>
                    <a:pt x="26" y="13"/>
                  </a:lnTo>
                  <a:lnTo>
                    <a:pt x="24" y="24"/>
                  </a:lnTo>
                  <a:lnTo>
                    <a:pt x="18" y="25"/>
                  </a:lnTo>
                  <a:lnTo>
                    <a:pt x="19" y="18"/>
                  </a:lnTo>
                  <a:lnTo>
                    <a:pt x="18" y="15"/>
                  </a:lnTo>
                  <a:lnTo>
                    <a:pt x="0" y="18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52000" y="2541240"/>
              <a:ext cx="57600" cy="255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4" y="16"/>
                  </a:lnTo>
                  <a:lnTo>
                    <a:pt x="9" y="10"/>
                  </a:lnTo>
                  <a:lnTo>
                    <a:pt x="20" y="4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102320" y="2607480"/>
              <a:ext cx="2304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112840" y="2349360"/>
            <a:ext cx="1056960" cy="544680"/>
            <a:chOff x="2112840" y="2349360"/>
            <a:chExt cx="1056960" cy="544680"/>
          </a:xfrm>
        </p:grpSpPr>
        <p:sp>
          <p:nvSpPr>
            <p:cNvPr id="84" name=""/>
            <p:cNvSpPr/>
            <p:nvPr/>
          </p:nvSpPr>
          <p:spPr>
            <a:xfrm>
              <a:off x="2112840" y="2532960"/>
              <a:ext cx="196560" cy="190800"/>
            </a:xfrm>
            <a:custGeom>
              <a:avLst/>
              <a:gdLst/>
              <a:ahLst/>
              <a:rect l="l" t="t" r="r" b="b"/>
              <a:pathLst>
                <a:path w="112" h="127">
                  <a:moveTo>
                    <a:pt x="0" y="60"/>
                  </a:moveTo>
                  <a:lnTo>
                    <a:pt x="1" y="49"/>
                  </a:lnTo>
                  <a:lnTo>
                    <a:pt x="4" y="39"/>
                  </a:lnTo>
                  <a:lnTo>
                    <a:pt x="5" y="30"/>
                  </a:lnTo>
                  <a:lnTo>
                    <a:pt x="7" y="27"/>
                  </a:lnTo>
                  <a:lnTo>
                    <a:pt x="10" y="24"/>
                  </a:lnTo>
                  <a:lnTo>
                    <a:pt x="14" y="24"/>
                  </a:lnTo>
                  <a:lnTo>
                    <a:pt x="16" y="25"/>
                  </a:lnTo>
                  <a:lnTo>
                    <a:pt x="20" y="28"/>
                  </a:lnTo>
                  <a:lnTo>
                    <a:pt x="21" y="33"/>
                  </a:lnTo>
                  <a:lnTo>
                    <a:pt x="23" y="39"/>
                  </a:lnTo>
                  <a:lnTo>
                    <a:pt x="28" y="78"/>
                  </a:lnTo>
                  <a:lnTo>
                    <a:pt x="30" y="84"/>
                  </a:lnTo>
                  <a:lnTo>
                    <a:pt x="31" y="87"/>
                  </a:lnTo>
                  <a:lnTo>
                    <a:pt x="34" y="90"/>
                  </a:lnTo>
                  <a:lnTo>
                    <a:pt x="38" y="90"/>
                  </a:lnTo>
                  <a:lnTo>
                    <a:pt x="41" y="89"/>
                  </a:lnTo>
                  <a:lnTo>
                    <a:pt x="42" y="84"/>
                  </a:lnTo>
                  <a:lnTo>
                    <a:pt x="44" y="78"/>
                  </a:lnTo>
                  <a:lnTo>
                    <a:pt x="51" y="21"/>
                  </a:lnTo>
                  <a:lnTo>
                    <a:pt x="53" y="13"/>
                  </a:lnTo>
                  <a:lnTo>
                    <a:pt x="54" y="6"/>
                  </a:lnTo>
                  <a:lnTo>
                    <a:pt x="56" y="3"/>
                  </a:lnTo>
                  <a:lnTo>
                    <a:pt x="59" y="1"/>
                  </a:lnTo>
                  <a:lnTo>
                    <a:pt x="61" y="0"/>
                  </a:lnTo>
                  <a:lnTo>
                    <a:pt x="66" y="1"/>
                  </a:lnTo>
                  <a:lnTo>
                    <a:pt x="69" y="6"/>
                  </a:lnTo>
                  <a:lnTo>
                    <a:pt x="69" y="11"/>
                  </a:lnTo>
                  <a:lnTo>
                    <a:pt x="71" y="16"/>
                  </a:lnTo>
                  <a:lnTo>
                    <a:pt x="83" y="108"/>
                  </a:lnTo>
                  <a:lnTo>
                    <a:pt x="84" y="116"/>
                  </a:lnTo>
                  <a:lnTo>
                    <a:pt x="87" y="122"/>
                  </a:lnTo>
                  <a:lnTo>
                    <a:pt x="88" y="125"/>
                  </a:lnTo>
                  <a:lnTo>
                    <a:pt x="93" y="126"/>
                  </a:lnTo>
                  <a:lnTo>
                    <a:pt x="97" y="122"/>
                  </a:lnTo>
                  <a:lnTo>
                    <a:pt x="98" y="117"/>
                  </a:lnTo>
                  <a:lnTo>
                    <a:pt x="100" y="108"/>
                  </a:lnTo>
                  <a:lnTo>
                    <a:pt x="111" y="2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07240" y="2349360"/>
              <a:ext cx="336960" cy="544680"/>
            </a:xfrm>
            <a:custGeom>
              <a:avLst/>
              <a:gdLst/>
              <a:ahLst/>
              <a:rect l="l" t="t" r="r" b="b"/>
              <a:pathLst>
                <a:path w="192" h="362">
                  <a:moveTo>
                    <a:pt x="0" y="147"/>
                  </a:moveTo>
                  <a:lnTo>
                    <a:pt x="10" y="79"/>
                  </a:lnTo>
                  <a:lnTo>
                    <a:pt x="11" y="74"/>
                  </a:lnTo>
                  <a:lnTo>
                    <a:pt x="14" y="71"/>
                  </a:lnTo>
                  <a:lnTo>
                    <a:pt x="17" y="71"/>
                  </a:lnTo>
                  <a:lnTo>
                    <a:pt x="21" y="71"/>
                  </a:lnTo>
                  <a:lnTo>
                    <a:pt x="24" y="74"/>
                  </a:lnTo>
                  <a:lnTo>
                    <a:pt x="24" y="79"/>
                  </a:lnTo>
                  <a:lnTo>
                    <a:pt x="48" y="276"/>
                  </a:lnTo>
                  <a:lnTo>
                    <a:pt x="50" y="285"/>
                  </a:lnTo>
                  <a:lnTo>
                    <a:pt x="53" y="289"/>
                  </a:lnTo>
                  <a:lnTo>
                    <a:pt x="56" y="291"/>
                  </a:lnTo>
                  <a:lnTo>
                    <a:pt x="59" y="292"/>
                  </a:lnTo>
                  <a:lnTo>
                    <a:pt x="62" y="290"/>
                  </a:lnTo>
                  <a:lnTo>
                    <a:pt x="65" y="286"/>
                  </a:lnTo>
                  <a:lnTo>
                    <a:pt x="68" y="276"/>
                  </a:lnTo>
                  <a:lnTo>
                    <a:pt x="91" y="49"/>
                  </a:lnTo>
                  <a:lnTo>
                    <a:pt x="92" y="37"/>
                  </a:lnTo>
                  <a:lnTo>
                    <a:pt x="93" y="34"/>
                  </a:lnTo>
                  <a:lnTo>
                    <a:pt x="95" y="31"/>
                  </a:lnTo>
                  <a:lnTo>
                    <a:pt x="98" y="27"/>
                  </a:lnTo>
                  <a:lnTo>
                    <a:pt x="101" y="27"/>
                  </a:lnTo>
                  <a:lnTo>
                    <a:pt x="105" y="29"/>
                  </a:lnTo>
                  <a:lnTo>
                    <a:pt x="108" y="31"/>
                  </a:lnTo>
                  <a:lnTo>
                    <a:pt x="110" y="34"/>
                  </a:lnTo>
                  <a:lnTo>
                    <a:pt x="110" y="37"/>
                  </a:lnTo>
                  <a:lnTo>
                    <a:pt x="112" y="46"/>
                  </a:lnTo>
                  <a:lnTo>
                    <a:pt x="133" y="338"/>
                  </a:lnTo>
                  <a:lnTo>
                    <a:pt x="135" y="350"/>
                  </a:lnTo>
                  <a:lnTo>
                    <a:pt x="137" y="356"/>
                  </a:lnTo>
                  <a:lnTo>
                    <a:pt x="140" y="359"/>
                  </a:lnTo>
                  <a:lnTo>
                    <a:pt x="144" y="361"/>
                  </a:lnTo>
                  <a:lnTo>
                    <a:pt x="148" y="359"/>
                  </a:lnTo>
                  <a:lnTo>
                    <a:pt x="149" y="356"/>
                  </a:lnTo>
                  <a:lnTo>
                    <a:pt x="150" y="350"/>
                  </a:lnTo>
                  <a:lnTo>
                    <a:pt x="151" y="339"/>
                  </a:lnTo>
                  <a:lnTo>
                    <a:pt x="178" y="21"/>
                  </a:lnTo>
                  <a:lnTo>
                    <a:pt x="180" y="14"/>
                  </a:lnTo>
                  <a:lnTo>
                    <a:pt x="182" y="7"/>
                  </a:lnTo>
                  <a:lnTo>
                    <a:pt x="184" y="4"/>
                  </a:lnTo>
                  <a:lnTo>
                    <a:pt x="186" y="1"/>
                  </a:lnTo>
                  <a:lnTo>
                    <a:pt x="188" y="0"/>
                  </a:lnTo>
                  <a:lnTo>
                    <a:pt x="19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73240" y="2532960"/>
              <a:ext cx="196560" cy="190800"/>
            </a:xfrm>
            <a:custGeom>
              <a:avLst/>
              <a:gdLst/>
              <a:ahLst/>
              <a:rect l="l" t="t" r="r" b="b"/>
              <a:pathLst>
                <a:path w="112" h="127">
                  <a:moveTo>
                    <a:pt x="111" y="60"/>
                  </a:moveTo>
                  <a:lnTo>
                    <a:pt x="110" y="49"/>
                  </a:lnTo>
                  <a:lnTo>
                    <a:pt x="107" y="39"/>
                  </a:lnTo>
                  <a:lnTo>
                    <a:pt x="106" y="30"/>
                  </a:lnTo>
                  <a:lnTo>
                    <a:pt x="104" y="27"/>
                  </a:lnTo>
                  <a:lnTo>
                    <a:pt x="100" y="24"/>
                  </a:lnTo>
                  <a:lnTo>
                    <a:pt x="97" y="24"/>
                  </a:lnTo>
                  <a:lnTo>
                    <a:pt x="94" y="25"/>
                  </a:lnTo>
                  <a:lnTo>
                    <a:pt x="92" y="28"/>
                  </a:lnTo>
                  <a:lnTo>
                    <a:pt x="90" y="33"/>
                  </a:lnTo>
                  <a:lnTo>
                    <a:pt x="88" y="39"/>
                  </a:lnTo>
                  <a:lnTo>
                    <a:pt x="83" y="78"/>
                  </a:lnTo>
                  <a:lnTo>
                    <a:pt x="81" y="84"/>
                  </a:lnTo>
                  <a:lnTo>
                    <a:pt x="80" y="87"/>
                  </a:lnTo>
                  <a:lnTo>
                    <a:pt x="77" y="90"/>
                  </a:lnTo>
                  <a:lnTo>
                    <a:pt x="73" y="90"/>
                  </a:lnTo>
                  <a:lnTo>
                    <a:pt x="70" y="89"/>
                  </a:lnTo>
                  <a:lnTo>
                    <a:pt x="69" y="84"/>
                  </a:lnTo>
                  <a:lnTo>
                    <a:pt x="67" y="78"/>
                  </a:lnTo>
                  <a:lnTo>
                    <a:pt x="60" y="21"/>
                  </a:lnTo>
                  <a:lnTo>
                    <a:pt x="58" y="13"/>
                  </a:lnTo>
                  <a:lnTo>
                    <a:pt x="57" y="6"/>
                  </a:lnTo>
                  <a:lnTo>
                    <a:pt x="54" y="3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5" y="1"/>
                  </a:lnTo>
                  <a:lnTo>
                    <a:pt x="42" y="6"/>
                  </a:lnTo>
                  <a:lnTo>
                    <a:pt x="41" y="11"/>
                  </a:lnTo>
                  <a:lnTo>
                    <a:pt x="40" y="16"/>
                  </a:lnTo>
                  <a:lnTo>
                    <a:pt x="28" y="108"/>
                  </a:lnTo>
                  <a:lnTo>
                    <a:pt x="27" y="116"/>
                  </a:lnTo>
                  <a:lnTo>
                    <a:pt x="24" y="122"/>
                  </a:lnTo>
                  <a:lnTo>
                    <a:pt x="23" y="125"/>
                  </a:lnTo>
                  <a:lnTo>
                    <a:pt x="18" y="126"/>
                  </a:lnTo>
                  <a:lnTo>
                    <a:pt x="14" y="122"/>
                  </a:lnTo>
                  <a:lnTo>
                    <a:pt x="13" y="117"/>
                  </a:lnTo>
                  <a:lnTo>
                    <a:pt x="11" y="108"/>
                  </a:lnTo>
                  <a:lnTo>
                    <a:pt x="0" y="2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37360" y="2349360"/>
              <a:ext cx="336960" cy="544680"/>
            </a:xfrm>
            <a:custGeom>
              <a:avLst/>
              <a:gdLst/>
              <a:ahLst/>
              <a:rect l="l" t="t" r="r" b="b"/>
              <a:pathLst>
                <a:path w="192" h="362">
                  <a:moveTo>
                    <a:pt x="191" y="148"/>
                  </a:moveTo>
                  <a:lnTo>
                    <a:pt x="181" y="79"/>
                  </a:lnTo>
                  <a:lnTo>
                    <a:pt x="180" y="74"/>
                  </a:lnTo>
                  <a:lnTo>
                    <a:pt x="177" y="71"/>
                  </a:lnTo>
                  <a:lnTo>
                    <a:pt x="174" y="71"/>
                  </a:lnTo>
                  <a:lnTo>
                    <a:pt x="169" y="71"/>
                  </a:lnTo>
                  <a:lnTo>
                    <a:pt x="167" y="74"/>
                  </a:lnTo>
                  <a:lnTo>
                    <a:pt x="166" y="79"/>
                  </a:lnTo>
                  <a:lnTo>
                    <a:pt x="143" y="276"/>
                  </a:lnTo>
                  <a:lnTo>
                    <a:pt x="141" y="285"/>
                  </a:lnTo>
                  <a:lnTo>
                    <a:pt x="138" y="289"/>
                  </a:lnTo>
                  <a:lnTo>
                    <a:pt x="135" y="291"/>
                  </a:lnTo>
                  <a:lnTo>
                    <a:pt x="132" y="292"/>
                  </a:lnTo>
                  <a:lnTo>
                    <a:pt x="129" y="290"/>
                  </a:lnTo>
                  <a:lnTo>
                    <a:pt x="125" y="286"/>
                  </a:lnTo>
                  <a:lnTo>
                    <a:pt x="123" y="276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8" y="34"/>
                  </a:lnTo>
                  <a:lnTo>
                    <a:pt x="96" y="31"/>
                  </a:lnTo>
                  <a:lnTo>
                    <a:pt x="93" y="27"/>
                  </a:lnTo>
                  <a:lnTo>
                    <a:pt x="91" y="27"/>
                  </a:lnTo>
                  <a:lnTo>
                    <a:pt x="86" y="29"/>
                  </a:lnTo>
                  <a:lnTo>
                    <a:pt x="83" y="31"/>
                  </a:lnTo>
                  <a:lnTo>
                    <a:pt x="81" y="34"/>
                  </a:lnTo>
                  <a:lnTo>
                    <a:pt x="81" y="37"/>
                  </a:lnTo>
                  <a:lnTo>
                    <a:pt x="79" y="46"/>
                  </a:lnTo>
                  <a:lnTo>
                    <a:pt x="58" y="338"/>
                  </a:lnTo>
                  <a:lnTo>
                    <a:pt x="56" y="350"/>
                  </a:lnTo>
                  <a:lnTo>
                    <a:pt x="54" y="356"/>
                  </a:lnTo>
                  <a:lnTo>
                    <a:pt x="51" y="359"/>
                  </a:lnTo>
                  <a:lnTo>
                    <a:pt x="47" y="361"/>
                  </a:lnTo>
                  <a:lnTo>
                    <a:pt x="44" y="359"/>
                  </a:lnTo>
                  <a:lnTo>
                    <a:pt x="42" y="356"/>
                  </a:lnTo>
                  <a:lnTo>
                    <a:pt x="41" y="350"/>
                  </a:lnTo>
                  <a:lnTo>
                    <a:pt x="39" y="339"/>
                  </a:lnTo>
                  <a:lnTo>
                    <a:pt x="13" y="21"/>
                  </a:lnTo>
                  <a:lnTo>
                    <a:pt x="11" y="14"/>
                  </a:lnTo>
                  <a:lnTo>
                    <a:pt x="9" y="7"/>
                  </a:lnTo>
                  <a:lnTo>
                    <a:pt x="7" y="4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254480" y="2279520"/>
            <a:ext cx="555120" cy="630360"/>
            <a:chOff x="4254480" y="2279520"/>
            <a:chExt cx="555120" cy="630360"/>
          </a:xfrm>
        </p:grpSpPr>
        <p:sp>
          <p:nvSpPr>
            <p:cNvPr id="89" name=""/>
            <p:cNvSpPr/>
            <p:nvPr/>
          </p:nvSpPr>
          <p:spPr>
            <a:xfrm>
              <a:off x="4254480" y="2279520"/>
              <a:ext cx="553680" cy="630360"/>
            </a:xfrm>
            <a:custGeom>
              <a:avLst/>
              <a:gdLst/>
              <a:ahLst/>
              <a:rect l="l" t="t" r="r" b="b"/>
              <a:pathLst>
                <a:path w="316" h="419">
                  <a:moveTo>
                    <a:pt x="312" y="334"/>
                  </a:moveTo>
                  <a:lnTo>
                    <a:pt x="303" y="317"/>
                  </a:lnTo>
                  <a:lnTo>
                    <a:pt x="293" y="302"/>
                  </a:lnTo>
                  <a:lnTo>
                    <a:pt x="282" y="288"/>
                  </a:lnTo>
                  <a:lnTo>
                    <a:pt x="273" y="266"/>
                  </a:lnTo>
                  <a:lnTo>
                    <a:pt x="268" y="236"/>
                  </a:lnTo>
                  <a:lnTo>
                    <a:pt x="264" y="208"/>
                  </a:lnTo>
                  <a:lnTo>
                    <a:pt x="260" y="178"/>
                  </a:lnTo>
                  <a:lnTo>
                    <a:pt x="257" y="145"/>
                  </a:lnTo>
                  <a:lnTo>
                    <a:pt x="260" y="119"/>
                  </a:lnTo>
                  <a:lnTo>
                    <a:pt x="256" y="91"/>
                  </a:lnTo>
                  <a:lnTo>
                    <a:pt x="251" y="66"/>
                  </a:lnTo>
                  <a:lnTo>
                    <a:pt x="245" y="44"/>
                  </a:lnTo>
                  <a:lnTo>
                    <a:pt x="238" y="29"/>
                  </a:lnTo>
                  <a:lnTo>
                    <a:pt x="224" y="24"/>
                  </a:lnTo>
                  <a:lnTo>
                    <a:pt x="214" y="20"/>
                  </a:lnTo>
                  <a:lnTo>
                    <a:pt x="203" y="13"/>
                  </a:lnTo>
                  <a:lnTo>
                    <a:pt x="191" y="8"/>
                  </a:lnTo>
                  <a:lnTo>
                    <a:pt x="177" y="4"/>
                  </a:lnTo>
                  <a:lnTo>
                    <a:pt x="158" y="1"/>
                  </a:lnTo>
                  <a:lnTo>
                    <a:pt x="139" y="0"/>
                  </a:lnTo>
                  <a:lnTo>
                    <a:pt x="120" y="1"/>
                  </a:lnTo>
                  <a:lnTo>
                    <a:pt x="102" y="4"/>
                  </a:lnTo>
                  <a:lnTo>
                    <a:pt x="85" y="9"/>
                  </a:lnTo>
                  <a:lnTo>
                    <a:pt x="71" y="17"/>
                  </a:lnTo>
                  <a:lnTo>
                    <a:pt x="55" y="27"/>
                  </a:lnTo>
                  <a:lnTo>
                    <a:pt x="41" y="40"/>
                  </a:lnTo>
                  <a:lnTo>
                    <a:pt x="31" y="53"/>
                  </a:lnTo>
                  <a:lnTo>
                    <a:pt x="21" y="69"/>
                  </a:lnTo>
                  <a:lnTo>
                    <a:pt x="14" y="84"/>
                  </a:lnTo>
                  <a:lnTo>
                    <a:pt x="9" y="96"/>
                  </a:lnTo>
                  <a:lnTo>
                    <a:pt x="4" y="111"/>
                  </a:lnTo>
                  <a:lnTo>
                    <a:pt x="1" y="123"/>
                  </a:lnTo>
                  <a:lnTo>
                    <a:pt x="0" y="137"/>
                  </a:lnTo>
                  <a:lnTo>
                    <a:pt x="3" y="160"/>
                  </a:lnTo>
                  <a:lnTo>
                    <a:pt x="7" y="180"/>
                  </a:lnTo>
                  <a:lnTo>
                    <a:pt x="9" y="198"/>
                  </a:lnTo>
                  <a:lnTo>
                    <a:pt x="13" y="209"/>
                  </a:lnTo>
                  <a:lnTo>
                    <a:pt x="19" y="218"/>
                  </a:lnTo>
                  <a:lnTo>
                    <a:pt x="27" y="229"/>
                  </a:lnTo>
                  <a:lnTo>
                    <a:pt x="34" y="240"/>
                  </a:lnTo>
                  <a:lnTo>
                    <a:pt x="42" y="249"/>
                  </a:lnTo>
                  <a:lnTo>
                    <a:pt x="52" y="261"/>
                  </a:lnTo>
                  <a:lnTo>
                    <a:pt x="64" y="278"/>
                  </a:lnTo>
                  <a:lnTo>
                    <a:pt x="76" y="294"/>
                  </a:lnTo>
                  <a:lnTo>
                    <a:pt x="87" y="308"/>
                  </a:lnTo>
                  <a:lnTo>
                    <a:pt x="95" y="318"/>
                  </a:lnTo>
                  <a:lnTo>
                    <a:pt x="103" y="330"/>
                  </a:lnTo>
                  <a:lnTo>
                    <a:pt x="110" y="340"/>
                  </a:lnTo>
                  <a:lnTo>
                    <a:pt x="113" y="348"/>
                  </a:lnTo>
                  <a:lnTo>
                    <a:pt x="119" y="354"/>
                  </a:lnTo>
                  <a:lnTo>
                    <a:pt x="126" y="358"/>
                  </a:lnTo>
                  <a:lnTo>
                    <a:pt x="136" y="362"/>
                  </a:lnTo>
                  <a:lnTo>
                    <a:pt x="150" y="367"/>
                  </a:lnTo>
                  <a:lnTo>
                    <a:pt x="162" y="372"/>
                  </a:lnTo>
                  <a:lnTo>
                    <a:pt x="173" y="378"/>
                  </a:lnTo>
                  <a:lnTo>
                    <a:pt x="184" y="387"/>
                  </a:lnTo>
                  <a:lnTo>
                    <a:pt x="198" y="398"/>
                  </a:lnTo>
                  <a:lnTo>
                    <a:pt x="208" y="406"/>
                  </a:lnTo>
                  <a:lnTo>
                    <a:pt x="218" y="412"/>
                  </a:lnTo>
                  <a:lnTo>
                    <a:pt x="225" y="416"/>
                  </a:lnTo>
                  <a:lnTo>
                    <a:pt x="235" y="418"/>
                  </a:lnTo>
                  <a:lnTo>
                    <a:pt x="245" y="417"/>
                  </a:lnTo>
                  <a:lnTo>
                    <a:pt x="252" y="414"/>
                  </a:lnTo>
                  <a:lnTo>
                    <a:pt x="260" y="409"/>
                  </a:lnTo>
                  <a:lnTo>
                    <a:pt x="265" y="404"/>
                  </a:lnTo>
                  <a:lnTo>
                    <a:pt x="274" y="394"/>
                  </a:lnTo>
                  <a:lnTo>
                    <a:pt x="283" y="381"/>
                  </a:lnTo>
                  <a:lnTo>
                    <a:pt x="290" y="370"/>
                  </a:lnTo>
                  <a:lnTo>
                    <a:pt x="299" y="360"/>
                  </a:lnTo>
                  <a:lnTo>
                    <a:pt x="304" y="357"/>
                  </a:lnTo>
                  <a:lnTo>
                    <a:pt x="308" y="354"/>
                  </a:lnTo>
                  <a:lnTo>
                    <a:pt x="315" y="352"/>
                  </a:lnTo>
                  <a:lnTo>
                    <a:pt x="312" y="33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54480" y="2279520"/>
              <a:ext cx="555120" cy="630360"/>
            </a:xfrm>
            <a:custGeom>
              <a:avLst/>
              <a:gdLst/>
              <a:ahLst/>
              <a:rect l="l" t="t" r="r" b="b"/>
              <a:pathLst>
                <a:path w="317" h="419">
                  <a:moveTo>
                    <a:pt x="238" y="28"/>
                  </a:moveTo>
                  <a:lnTo>
                    <a:pt x="224" y="24"/>
                  </a:lnTo>
                  <a:lnTo>
                    <a:pt x="214" y="20"/>
                  </a:lnTo>
                  <a:lnTo>
                    <a:pt x="204" y="13"/>
                  </a:lnTo>
                  <a:lnTo>
                    <a:pt x="192" y="8"/>
                  </a:lnTo>
                  <a:lnTo>
                    <a:pt x="177" y="4"/>
                  </a:lnTo>
                  <a:lnTo>
                    <a:pt x="158" y="1"/>
                  </a:lnTo>
                  <a:lnTo>
                    <a:pt x="139" y="0"/>
                  </a:lnTo>
                  <a:lnTo>
                    <a:pt x="121" y="1"/>
                  </a:lnTo>
                  <a:lnTo>
                    <a:pt x="102" y="4"/>
                  </a:lnTo>
                  <a:lnTo>
                    <a:pt x="85" y="9"/>
                  </a:lnTo>
                  <a:lnTo>
                    <a:pt x="71" y="17"/>
                  </a:lnTo>
                  <a:lnTo>
                    <a:pt x="55" y="27"/>
                  </a:lnTo>
                  <a:lnTo>
                    <a:pt x="41" y="40"/>
                  </a:lnTo>
                  <a:lnTo>
                    <a:pt x="31" y="53"/>
                  </a:lnTo>
                  <a:lnTo>
                    <a:pt x="21" y="69"/>
                  </a:lnTo>
                  <a:lnTo>
                    <a:pt x="14" y="84"/>
                  </a:lnTo>
                  <a:lnTo>
                    <a:pt x="9" y="96"/>
                  </a:lnTo>
                  <a:lnTo>
                    <a:pt x="4" y="111"/>
                  </a:lnTo>
                  <a:lnTo>
                    <a:pt x="1" y="124"/>
                  </a:lnTo>
                  <a:lnTo>
                    <a:pt x="0" y="137"/>
                  </a:lnTo>
                  <a:lnTo>
                    <a:pt x="3" y="160"/>
                  </a:lnTo>
                  <a:lnTo>
                    <a:pt x="7" y="180"/>
                  </a:lnTo>
                  <a:lnTo>
                    <a:pt x="9" y="199"/>
                  </a:lnTo>
                  <a:lnTo>
                    <a:pt x="13" y="209"/>
                  </a:lnTo>
                  <a:lnTo>
                    <a:pt x="19" y="219"/>
                  </a:lnTo>
                  <a:lnTo>
                    <a:pt x="27" y="229"/>
                  </a:lnTo>
                  <a:lnTo>
                    <a:pt x="34" y="240"/>
                  </a:lnTo>
                  <a:lnTo>
                    <a:pt x="42" y="249"/>
                  </a:lnTo>
                  <a:lnTo>
                    <a:pt x="52" y="261"/>
                  </a:lnTo>
                  <a:lnTo>
                    <a:pt x="64" y="279"/>
                  </a:lnTo>
                  <a:lnTo>
                    <a:pt x="76" y="294"/>
                  </a:lnTo>
                  <a:lnTo>
                    <a:pt x="87" y="309"/>
                  </a:lnTo>
                  <a:lnTo>
                    <a:pt x="96" y="319"/>
                  </a:lnTo>
                  <a:lnTo>
                    <a:pt x="103" y="331"/>
                  </a:lnTo>
                  <a:lnTo>
                    <a:pt x="110" y="341"/>
                  </a:lnTo>
                  <a:lnTo>
                    <a:pt x="114" y="348"/>
                  </a:lnTo>
                  <a:lnTo>
                    <a:pt x="119" y="354"/>
                  </a:lnTo>
                  <a:lnTo>
                    <a:pt x="126" y="359"/>
                  </a:lnTo>
                  <a:lnTo>
                    <a:pt x="137" y="363"/>
                  </a:lnTo>
                  <a:lnTo>
                    <a:pt x="150" y="367"/>
                  </a:lnTo>
                  <a:lnTo>
                    <a:pt x="162" y="372"/>
                  </a:lnTo>
                  <a:lnTo>
                    <a:pt x="173" y="379"/>
                  </a:lnTo>
                  <a:lnTo>
                    <a:pt x="185" y="388"/>
                  </a:lnTo>
                  <a:lnTo>
                    <a:pt x="198" y="399"/>
                  </a:lnTo>
                  <a:lnTo>
                    <a:pt x="208" y="406"/>
                  </a:lnTo>
                  <a:lnTo>
                    <a:pt x="218" y="412"/>
                  </a:lnTo>
                  <a:lnTo>
                    <a:pt x="226" y="416"/>
                  </a:lnTo>
                  <a:lnTo>
                    <a:pt x="235" y="418"/>
                  </a:lnTo>
                  <a:lnTo>
                    <a:pt x="245" y="417"/>
                  </a:lnTo>
                  <a:lnTo>
                    <a:pt x="252" y="415"/>
                  </a:lnTo>
                  <a:lnTo>
                    <a:pt x="260" y="410"/>
                  </a:lnTo>
                  <a:lnTo>
                    <a:pt x="266" y="405"/>
                  </a:lnTo>
                  <a:lnTo>
                    <a:pt x="274" y="395"/>
                  </a:lnTo>
                  <a:lnTo>
                    <a:pt x="283" y="381"/>
                  </a:lnTo>
                  <a:lnTo>
                    <a:pt x="291" y="370"/>
                  </a:lnTo>
                  <a:lnTo>
                    <a:pt x="299" y="361"/>
                  </a:lnTo>
                  <a:lnTo>
                    <a:pt x="304" y="357"/>
                  </a:lnTo>
                  <a:lnTo>
                    <a:pt x="309" y="354"/>
                  </a:lnTo>
                  <a:lnTo>
                    <a:pt x="316" y="35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307040" y="2346480"/>
            <a:ext cx="380520" cy="392040"/>
            <a:chOff x="4307040" y="2346480"/>
            <a:chExt cx="380520" cy="392040"/>
          </a:xfrm>
        </p:grpSpPr>
        <p:grpSp>
          <p:nvGrpSpPr>
            <p:cNvPr id="92" name=""/>
            <p:cNvGrpSpPr/>
            <p:nvPr/>
          </p:nvGrpSpPr>
          <p:grpSpPr>
            <a:xfrm>
              <a:off x="4307040" y="2346480"/>
              <a:ext cx="380160" cy="391680"/>
              <a:chOff x="4307040" y="2346480"/>
              <a:chExt cx="380160" cy="391680"/>
            </a:xfrm>
          </p:grpSpPr>
          <p:sp>
            <p:nvSpPr>
              <p:cNvPr id="93" name=""/>
              <p:cNvSpPr/>
              <p:nvPr/>
            </p:nvSpPr>
            <p:spPr>
              <a:xfrm>
                <a:off x="4446720" y="2346480"/>
                <a:ext cx="152640" cy="87120"/>
              </a:xfrm>
              <a:custGeom>
                <a:avLst/>
                <a:gdLst/>
                <a:ahLst/>
                <a:rect l="l" t="t" r="r" b="b"/>
                <a:pathLst>
                  <a:path w="87" h="58">
                    <a:moveTo>
                      <a:pt x="79" y="57"/>
                    </a:moveTo>
                    <a:lnTo>
                      <a:pt x="76" y="46"/>
                    </a:lnTo>
                    <a:lnTo>
                      <a:pt x="72" y="39"/>
                    </a:lnTo>
                    <a:lnTo>
                      <a:pt x="68" y="33"/>
                    </a:lnTo>
                    <a:lnTo>
                      <a:pt x="60" y="30"/>
                    </a:lnTo>
                    <a:lnTo>
                      <a:pt x="49" y="29"/>
                    </a:lnTo>
                    <a:lnTo>
                      <a:pt x="38" y="28"/>
                    </a:lnTo>
                    <a:lnTo>
                      <a:pt x="20" y="24"/>
                    </a:lnTo>
                    <a:lnTo>
                      <a:pt x="10" y="22"/>
                    </a:lnTo>
                    <a:lnTo>
                      <a:pt x="0" y="19"/>
                    </a:lnTo>
                    <a:lnTo>
                      <a:pt x="18" y="14"/>
                    </a:lnTo>
                    <a:lnTo>
                      <a:pt x="30" y="10"/>
                    </a:lnTo>
                    <a:lnTo>
                      <a:pt x="44" y="3"/>
                    </a:lnTo>
                    <a:lnTo>
                      <a:pt x="57" y="0"/>
                    </a:lnTo>
                    <a:lnTo>
                      <a:pt x="73" y="2"/>
                    </a:lnTo>
                    <a:lnTo>
                      <a:pt x="81" y="7"/>
                    </a:lnTo>
                    <a:lnTo>
                      <a:pt x="84" y="13"/>
                    </a:lnTo>
                    <a:lnTo>
                      <a:pt x="86" y="23"/>
                    </a:lnTo>
                    <a:lnTo>
                      <a:pt x="83" y="34"/>
                    </a:lnTo>
                    <a:lnTo>
                      <a:pt x="81" y="46"/>
                    </a:lnTo>
                    <a:lnTo>
                      <a:pt x="79" y="5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07040" y="2382480"/>
                <a:ext cx="115560" cy="187560"/>
              </a:xfrm>
              <a:custGeom>
                <a:avLst/>
                <a:gdLst/>
                <a:ahLst/>
                <a:rect l="l" t="t" r="r" b="b"/>
                <a:pathLst>
                  <a:path w="66" h="125">
                    <a:moveTo>
                      <a:pt x="9" y="124"/>
                    </a:moveTo>
                    <a:lnTo>
                      <a:pt x="4" y="107"/>
                    </a:lnTo>
                    <a:lnTo>
                      <a:pt x="1" y="95"/>
                    </a:lnTo>
                    <a:lnTo>
                      <a:pt x="0" y="78"/>
                    </a:lnTo>
                    <a:lnTo>
                      <a:pt x="0" y="64"/>
                    </a:lnTo>
                    <a:lnTo>
                      <a:pt x="2" y="48"/>
                    </a:lnTo>
                    <a:lnTo>
                      <a:pt x="5" y="36"/>
                    </a:lnTo>
                    <a:lnTo>
                      <a:pt x="9" y="27"/>
                    </a:lnTo>
                    <a:lnTo>
                      <a:pt x="17" y="17"/>
                    </a:lnTo>
                    <a:lnTo>
                      <a:pt x="27" y="10"/>
                    </a:lnTo>
                    <a:lnTo>
                      <a:pt x="38" y="5"/>
                    </a:lnTo>
                    <a:lnTo>
                      <a:pt x="52" y="1"/>
                    </a:lnTo>
                    <a:lnTo>
                      <a:pt x="65" y="0"/>
                    </a:lnTo>
                    <a:lnTo>
                      <a:pt x="54" y="4"/>
                    </a:lnTo>
                    <a:lnTo>
                      <a:pt x="47" y="9"/>
                    </a:lnTo>
                    <a:lnTo>
                      <a:pt x="42" y="13"/>
                    </a:lnTo>
                    <a:lnTo>
                      <a:pt x="35" y="18"/>
                    </a:lnTo>
                    <a:lnTo>
                      <a:pt x="31" y="24"/>
                    </a:lnTo>
                    <a:lnTo>
                      <a:pt x="26" y="31"/>
                    </a:lnTo>
                    <a:lnTo>
                      <a:pt x="21" y="39"/>
                    </a:lnTo>
                    <a:lnTo>
                      <a:pt x="17" y="48"/>
                    </a:lnTo>
                    <a:lnTo>
                      <a:pt x="13" y="59"/>
                    </a:lnTo>
                    <a:lnTo>
                      <a:pt x="11" y="68"/>
                    </a:lnTo>
                    <a:lnTo>
                      <a:pt x="8" y="82"/>
                    </a:lnTo>
                    <a:lnTo>
                      <a:pt x="7" y="95"/>
                    </a:lnTo>
                    <a:lnTo>
                      <a:pt x="9" y="123"/>
                    </a:lnTo>
                    <a:lnTo>
                      <a:pt x="9" y="12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99360" y="2528280"/>
                <a:ext cx="87840" cy="209880"/>
              </a:xfrm>
              <a:custGeom>
                <a:avLst/>
                <a:gdLst/>
                <a:ahLst/>
                <a:rect l="l" t="t" r="r" b="b"/>
                <a:pathLst>
                  <a:path w="50" h="140">
                    <a:moveTo>
                      <a:pt x="39" y="0"/>
                    </a:moveTo>
                    <a:lnTo>
                      <a:pt x="44" y="7"/>
                    </a:lnTo>
                    <a:lnTo>
                      <a:pt x="45" y="16"/>
                    </a:lnTo>
                    <a:lnTo>
                      <a:pt x="44" y="27"/>
                    </a:lnTo>
                    <a:lnTo>
                      <a:pt x="41" y="37"/>
                    </a:lnTo>
                    <a:lnTo>
                      <a:pt x="36" y="45"/>
                    </a:lnTo>
                    <a:lnTo>
                      <a:pt x="27" y="53"/>
                    </a:lnTo>
                    <a:lnTo>
                      <a:pt x="21" y="61"/>
                    </a:lnTo>
                    <a:lnTo>
                      <a:pt x="18" y="69"/>
                    </a:lnTo>
                    <a:lnTo>
                      <a:pt x="20" y="79"/>
                    </a:lnTo>
                    <a:lnTo>
                      <a:pt x="25" y="85"/>
                    </a:lnTo>
                    <a:lnTo>
                      <a:pt x="33" y="90"/>
                    </a:lnTo>
                    <a:lnTo>
                      <a:pt x="41" y="97"/>
                    </a:lnTo>
                    <a:lnTo>
                      <a:pt x="46" y="105"/>
                    </a:lnTo>
                    <a:lnTo>
                      <a:pt x="49" y="117"/>
                    </a:lnTo>
                    <a:lnTo>
                      <a:pt x="46" y="128"/>
                    </a:lnTo>
                    <a:lnTo>
                      <a:pt x="42" y="135"/>
                    </a:lnTo>
                    <a:lnTo>
                      <a:pt x="34" y="138"/>
                    </a:lnTo>
                    <a:lnTo>
                      <a:pt x="24" y="139"/>
                    </a:lnTo>
                    <a:lnTo>
                      <a:pt x="16" y="136"/>
                    </a:lnTo>
                    <a:lnTo>
                      <a:pt x="7" y="131"/>
                    </a:lnTo>
                    <a:lnTo>
                      <a:pt x="0" y="125"/>
                    </a:lnTo>
                    <a:lnTo>
                      <a:pt x="5" y="125"/>
                    </a:lnTo>
                    <a:lnTo>
                      <a:pt x="10" y="125"/>
                    </a:lnTo>
                    <a:lnTo>
                      <a:pt x="16" y="124"/>
                    </a:lnTo>
                    <a:lnTo>
                      <a:pt x="20" y="122"/>
                    </a:lnTo>
                    <a:lnTo>
                      <a:pt x="24" y="119"/>
                    </a:lnTo>
                    <a:lnTo>
                      <a:pt x="27" y="115"/>
                    </a:lnTo>
                    <a:lnTo>
                      <a:pt x="29" y="110"/>
                    </a:lnTo>
                    <a:lnTo>
                      <a:pt x="30" y="105"/>
                    </a:lnTo>
                    <a:lnTo>
                      <a:pt x="29" y="99"/>
                    </a:lnTo>
                    <a:lnTo>
                      <a:pt x="28" y="94"/>
                    </a:lnTo>
                    <a:lnTo>
                      <a:pt x="27" y="91"/>
                    </a:lnTo>
                    <a:lnTo>
                      <a:pt x="24" y="89"/>
                    </a:lnTo>
                    <a:lnTo>
                      <a:pt x="20" y="85"/>
                    </a:lnTo>
                    <a:lnTo>
                      <a:pt x="14" y="81"/>
                    </a:lnTo>
                    <a:lnTo>
                      <a:pt x="11" y="77"/>
                    </a:lnTo>
                    <a:lnTo>
                      <a:pt x="8" y="73"/>
                    </a:lnTo>
                    <a:lnTo>
                      <a:pt x="7" y="67"/>
                    </a:lnTo>
                    <a:lnTo>
                      <a:pt x="6" y="62"/>
                    </a:lnTo>
                    <a:lnTo>
                      <a:pt x="6" y="55"/>
                    </a:lnTo>
                    <a:lnTo>
                      <a:pt x="7" y="50"/>
                    </a:lnTo>
                    <a:lnTo>
                      <a:pt x="9" y="46"/>
                    </a:lnTo>
                    <a:lnTo>
                      <a:pt x="12" y="41"/>
                    </a:lnTo>
                    <a:lnTo>
                      <a:pt x="16" y="37"/>
                    </a:lnTo>
                    <a:lnTo>
                      <a:pt x="20" y="35"/>
                    </a:lnTo>
                    <a:lnTo>
                      <a:pt x="27" y="33"/>
                    </a:lnTo>
                    <a:lnTo>
                      <a:pt x="32" y="31"/>
                    </a:lnTo>
                    <a:lnTo>
                      <a:pt x="36" y="27"/>
                    </a:lnTo>
                    <a:lnTo>
                      <a:pt x="39" y="22"/>
                    </a:lnTo>
                    <a:lnTo>
                      <a:pt x="41" y="17"/>
                    </a:lnTo>
                    <a:lnTo>
                      <a:pt x="41" y="11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475160" y="245916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58" y="0"/>
                    </a:moveTo>
                    <a:lnTo>
                      <a:pt x="53" y="11"/>
                    </a:lnTo>
                    <a:lnTo>
                      <a:pt x="50" y="17"/>
                    </a:lnTo>
                    <a:lnTo>
                      <a:pt x="47" y="25"/>
                    </a:lnTo>
                    <a:lnTo>
                      <a:pt x="43" y="32"/>
                    </a:lnTo>
                    <a:lnTo>
                      <a:pt x="40" y="39"/>
                    </a:lnTo>
                    <a:lnTo>
                      <a:pt x="37" y="45"/>
                    </a:lnTo>
                    <a:lnTo>
                      <a:pt x="33" y="51"/>
                    </a:lnTo>
                    <a:lnTo>
                      <a:pt x="29" y="56"/>
                    </a:lnTo>
                    <a:lnTo>
                      <a:pt x="26" y="61"/>
                    </a:lnTo>
                    <a:lnTo>
                      <a:pt x="24" y="68"/>
                    </a:lnTo>
                    <a:lnTo>
                      <a:pt x="22" y="63"/>
                    </a:lnTo>
                    <a:lnTo>
                      <a:pt x="20" y="59"/>
                    </a:lnTo>
                    <a:lnTo>
                      <a:pt x="17" y="54"/>
                    </a:lnTo>
                    <a:lnTo>
                      <a:pt x="15" y="50"/>
                    </a:lnTo>
                    <a:lnTo>
                      <a:pt x="12" y="46"/>
                    </a:lnTo>
                    <a:lnTo>
                      <a:pt x="8" y="43"/>
                    </a:lnTo>
                    <a:lnTo>
                      <a:pt x="5" y="41"/>
                    </a:lnTo>
                    <a:lnTo>
                      <a:pt x="0" y="39"/>
                    </a:lnTo>
                    <a:lnTo>
                      <a:pt x="8" y="36"/>
                    </a:lnTo>
                    <a:lnTo>
                      <a:pt x="21" y="30"/>
                    </a:lnTo>
                    <a:lnTo>
                      <a:pt x="33" y="23"/>
                    </a:lnTo>
                    <a:lnTo>
                      <a:pt x="44" y="16"/>
                    </a:lnTo>
                    <a:lnTo>
                      <a:pt x="52" y="8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4307040" y="2346480"/>
              <a:ext cx="380520" cy="39204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128" y="149"/>
                  </a:moveTo>
                  <a:lnTo>
                    <a:pt x="136" y="139"/>
                  </a:lnTo>
                  <a:lnTo>
                    <a:pt x="146" y="130"/>
                  </a:lnTo>
                  <a:lnTo>
                    <a:pt x="155" y="123"/>
                  </a:lnTo>
                  <a:lnTo>
                    <a:pt x="165" y="117"/>
                  </a:lnTo>
                  <a:lnTo>
                    <a:pt x="173" y="113"/>
                  </a:lnTo>
                  <a:lnTo>
                    <a:pt x="179" y="111"/>
                  </a:lnTo>
                  <a:lnTo>
                    <a:pt x="187" y="110"/>
                  </a:lnTo>
                  <a:lnTo>
                    <a:pt x="195" y="111"/>
                  </a:lnTo>
                  <a:lnTo>
                    <a:pt x="201" y="115"/>
                  </a:lnTo>
                  <a:lnTo>
                    <a:pt x="206" y="121"/>
                  </a:lnTo>
                  <a:lnTo>
                    <a:pt x="211" y="128"/>
                  </a:lnTo>
                  <a:lnTo>
                    <a:pt x="213" y="137"/>
                  </a:lnTo>
                  <a:lnTo>
                    <a:pt x="212" y="148"/>
                  </a:lnTo>
                  <a:lnTo>
                    <a:pt x="208" y="159"/>
                  </a:lnTo>
                  <a:lnTo>
                    <a:pt x="203" y="166"/>
                  </a:lnTo>
                  <a:lnTo>
                    <a:pt x="194" y="174"/>
                  </a:lnTo>
                  <a:lnTo>
                    <a:pt x="188" y="182"/>
                  </a:lnTo>
                  <a:lnTo>
                    <a:pt x="185" y="190"/>
                  </a:lnTo>
                  <a:lnTo>
                    <a:pt x="187" y="200"/>
                  </a:lnTo>
                  <a:lnTo>
                    <a:pt x="192" y="206"/>
                  </a:lnTo>
                  <a:lnTo>
                    <a:pt x="200" y="211"/>
                  </a:lnTo>
                  <a:lnTo>
                    <a:pt x="208" y="218"/>
                  </a:lnTo>
                  <a:lnTo>
                    <a:pt x="214" y="227"/>
                  </a:lnTo>
                  <a:lnTo>
                    <a:pt x="216" y="239"/>
                  </a:lnTo>
                  <a:lnTo>
                    <a:pt x="214" y="249"/>
                  </a:lnTo>
                  <a:lnTo>
                    <a:pt x="210" y="256"/>
                  </a:lnTo>
                  <a:lnTo>
                    <a:pt x="201" y="260"/>
                  </a:lnTo>
                  <a:lnTo>
                    <a:pt x="192" y="260"/>
                  </a:lnTo>
                  <a:lnTo>
                    <a:pt x="183" y="258"/>
                  </a:lnTo>
                  <a:lnTo>
                    <a:pt x="174" y="252"/>
                  </a:lnTo>
                  <a:lnTo>
                    <a:pt x="167" y="247"/>
                  </a:lnTo>
                  <a:lnTo>
                    <a:pt x="159" y="239"/>
                  </a:lnTo>
                  <a:lnTo>
                    <a:pt x="151" y="232"/>
                  </a:lnTo>
                  <a:lnTo>
                    <a:pt x="143" y="227"/>
                  </a:lnTo>
                  <a:lnTo>
                    <a:pt x="133" y="224"/>
                  </a:lnTo>
                  <a:lnTo>
                    <a:pt x="123" y="222"/>
                  </a:lnTo>
                  <a:lnTo>
                    <a:pt x="113" y="220"/>
                  </a:lnTo>
                  <a:lnTo>
                    <a:pt x="103" y="218"/>
                  </a:lnTo>
                  <a:lnTo>
                    <a:pt x="95" y="215"/>
                  </a:lnTo>
                  <a:lnTo>
                    <a:pt x="87" y="210"/>
                  </a:lnTo>
                  <a:lnTo>
                    <a:pt x="80" y="202"/>
                  </a:lnTo>
                  <a:lnTo>
                    <a:pt x="75" y="194"/>
                  </a:lnTo>
                  <a:lnTo>
                    <a:pt x="71" y="184"/>
                  </a:lnTo>
                  <a:lnTo>
                    <a:pt x="69" y="170"/>
                  </a:lnTo>
                  <a:lnTo>
                    <a:pt x="70" y="156"/>
                  </a:lnTo>
                  <a:lnTo>
                    <a:pt x="72" y="143"/>
                  </a:lnTo>
                  <a:lnTo>
                    <a:pt x="77" y="133"/>
                  </a:lnTo>
                  <a:lnTo>
                    <a:pt x="82" y="126"/>
                  </a:lnTo>
                  <a:lnTo>
                    <a:pt x="86" y="121"/>
                  </a:lnTo>
                  <a:lnTo>
                    <a:pt x="92" y="116"/>
                  </a:lnTo>
                  <a:lnTo>
                    <a:pt x="104" y="111"/>
                  </a:lnTo>
                  <a:lnTo>
                    <a:pt x="118" y="105"/>
                  </a:lnTo>
                  <a:lnTo>
                    <a:pt x="129" y="99"/>
                  </a:lnTo>
                  <a:lnTo>
                    <a:pt x="140" y="91"/>
                  </a:lnTo>
                  <a:lnTo>
                    <a:pt x="149" y="83"/>
                  </a:lnTo>
                  <a:lnTo>
                    <a:pt x="153" y="76"/>
                  </a:lnTo>
                  <a:lnTo>
                    <a:pt x="155" y="72"/>
                  </a:lnTo>
                  <a:lnTo>
                    <a:pt x="156" y="68"/>
                  </a:lnTo>
                  <a:lnTo>
                    <a:pt x="156" y="62"/>
                  </a:lnTo>
                  <a:lnTo>
                    <a:pt x="152" y="71"/>
                  </a:lnTo>
                  <a:lnTo>
                    <a:pt x="149" y="76"/>
                  </a:lnTo>
                  <a:lnTo>
                    <a:pt x="143" y="81"/>
                  </a:lnTo>
                  <a:lnTo>
                    <a:pt x="137" y="84"/>
                  </a:lnTo>
                  <a:lnTo>
                    <a:pt x="130" y="86"/>
                  </a:lnTo>
                  <a:lnTo>
                    <a:pt x="120" y="87"/>
                  </a:lnTo>
                  <a:lnTo>
                    <a:pt x="111" y="86"/>
                  </a:lnTo>
                  <a:lnTo>
                    <a:pt x="101" y="86"/>
                  </a:lnTo>
                  <a:lnTo>
                    <a:pt x="92" y="86"/>
                  </a:lnTo>
                  <a:lnTo>
                    <a:pt x="83" y="87"/>
                  </a:lnTo>
                  <a:lnTo>
                    <a:pt x="74" y="89"/>
                  </a:lnTo>
                  <a:lnTo>
                    <a:pt x="64" y="93"/>
                  </a:lnTo>
                  <a:lnTo>
                    <a:pt x="54" y="97"/>
                  </a:lnTo>
                  <a:lnTo>
                    <a:pt x="46" y="103"/>
                  </a:lnTo>
                  <a:lnTo>
                    <a:pt x="39" y="110"/>
                  </a:lnTo>
                  <a:lnTo>
                    <a:pt x="34" y="118"/>
                  </a:lnTo>
                  <a:lnTo>
                    <a:pt x="30" y="126"/>
                  </a:lnTo>
                  <a:lnTo>
                    <a:pt x="29" y="134"/>
                  </a:lnTo>
                  <a:lnTo>
                    <a:pt x="31" y="148"/>
                  </a:lnTo>
                  <a:lnTo>
                    <a:pt x="34" y="164"/>
                  </a:lnTo>
                  <a:lnTo>
                    <a:pt x="38" y="175"/>
                  </a:lnTo>
                  <a:lnTo>
                    <a:pt x="43" y="184"/>
                  </a:lnTo>
                  <a:lnTo>
                    <a:pt x="51" y="195"/>
                  </a:lnTo>
                  <a:lnTo>
                    <a:pt x="58" y="202"/>
                  </a:lnTo>
                  <a:lnTo>
                    <a:pt x="66" y="210"/>
                  </a:lnTo>
                  <a:lnTo>
                    <a:pt x="76" y="219"/>
                  </a:lnTo>
                  <a:lnTo>
                    <a:pt x="89" y="226"/>
                  </a:lnTo>
                  <a:lnTo>
                    <a:pt x="101" y="231"/>
                  </a:lnTo>
                  <a:lnTo>
                    <a:pt x="114" y="235"/>
                  </a:lnTo>
                  <a:lnTo>
                    <a:pt x="123" y="237"/>
                  </a:lnTo>
                  <a:lnTo>
                    <a:pt x="130" y="238"/>
                  </a:lnTo>
                  <a:lnTo>
                    <a:pt x="134" y="241"/>
                  </a:lnTo>
                  <a:lnTo>
                    <a:pt x="135" y="245"/>
                  </a:lnTo>
                  <a:lnTo>
                    <a:pt x="134" y="249"/>
                  </a:lnTo>
                  <a:lnTo>
                    <a:pt x="131" y="251"/>
                  </a:lnTo>
                  <a:lnTo>
                    <a:pt x="127" y="252"/>
                  </a:lnTo>
                  <a:lnTo>
                    <a:pt x="119" y="251"/>
                  </a:lnTo>
                  <a:lnTo>
                    <a:pt x="108" y="248"/>
                  </a:lnTo>
                  <a:lnTo>
                    <a:pt x="97" y="244"/>
                  </a:lnTo>
                  <a:lnTo>
                    <a:pt x="85" y="238"/>
                  </a:lnTo>
                  <a:lnTo>
                    <a:pt x="76" y="233"/>
                  </a:lnTo>
                  <a:lnTo>
                    <a:pt x="67" y="226"/>
                  </a:lnTo>
                  <a:lnTo>
                    <a:pt x="60" y="217"/>
                  </a:lnTo>
                  <a:lnTo>
                    <a:pt x="52" y="207"/>
                  </a:lnTo>
                  <a:lnTo>
                    <a:pt x="44" y="198"/>
                  </a:lnTo>
                  <a:lnTo>
                    <a:pt x="35" y="187"/>
                  </a:lnTo>
                  <a:lnTo>
                    <a:pt x="26" y="177"/>
                  </a:lnTo>
                  <a:lnTo>
                    <a:pt x="19" y="168"/>
                  </a:lnTo>
                  <a:lnTo>
                    <a:pt x="13" y="159"/>
                  </a:lnTo>
                  <a:lnTo>
                    <a:pt x="9" y="148"/>
                  </a:lnTo>
                  <a:lnTo>
                    <a:pt x="4" y="132"/>
                  </a:lnTo>
                  <a:lnTo>
                    <a:pt x="1" y="119"/>
                  </a:lnTo>
                  <a:lnTo>
                    <a:pt x="0" y="102"/>
                  </a:lnTo>
                  <a:lnTo>
                    <a:pt x="0" y="88"/>
                  </a:lnTo>
                  <a:lnTo>
                    <a:pt x="2" y="72"/>
                  </a:lnTo>
                  <a:lnTo>
                    <a:pt x="5" y="60"/>
                  </a:lnTo>
                  <a:lnTo>
                    <a:pt x="9" y="51"/>
                  </a:lnTo>
                  <a:lnTo>
                    <a:pt x="18" y="41"/>
                  </a:lnTo>
                  <a:lnTo>
                    <a:pt x="27" y="34"/>
                  </a:lnTo>
                  <a:lnTo>
                    <a:pt x="38" y="29"/>
                  </a:lnTo>
                  <a:lnTo>
                    <a:pt x="52" y="25"/>
                  </a:lnTo>
                  <a:lnTo>
                    <a:pt x="65" y="24"/>
                  </a:lnTo>
                  <a:lnTo>
                    <a:pt x="80" y="19"/>
                  </a:lnTo>
                  <a:lnTo>
                    <a:pt x="98" y="14"/>
                  </a:lnTo>
                  <a:lnTo>
                    <a:pt x="110" y="10"/>
                  </a:lnTo>
                  <a:lnTo>
                    <a:pt x="125" y="3"/>
                  </a:lnTo>
                  <a:lnTo>
                    <a:pt x="137" y="0"/>
                  </a:lnTo>
                  <a:lnTo>
                    <a:pt x="153" y="2"/>
                  </a:lnTo>
                  <a:lnTo>
                    <a:pt x="161" y="7"/>
                  </a:lnTo>
                  <a:lnTo>
                    <a:pt x="165" y="13"/>
                  </a:lnTo>
                  <a:lnTo>
                    <a:pt x="166" y="23"/>
                  </a:lnTo>
                  <a:lnTo>
                    <a:pt x="164" y="35"/>
                  </a:lnTo>
                  <a:lnTo>
                    <a:pt x="162" y="46"/>
                  </a:lnTo>
                  <a:lnTo>
                    <a:pt x="160" y="5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6958080" y="1452600"/>
            <a:ext cx="1127160" cy="895320"/>
          </a:xfrm>
          <a:custGeom>
            <a:avLst/>
            <a:gdLst/>
            <a:ahLst/>
            <a:rect l="l" t="t" r="r" b="b"/>
            <a:pathLst>
              <a:path w="641" h="595">
                <a:moveTo>
                  <a:pt x="44" y="110"/>
                </a:moveTo>
                <a:lnTo>
                  <a:pt x="59" y="96"/>
                </a:lnTo>
                <a:lnTo>
                  <a:pt x="75" y="80"/>
                </a:lnTo>
                <a:lnTo>
                  <a:pt x="93" y="66"/>
                </a:lnTo>
                <a:lnTo>
                  <a:pt x="109" y="57"/>
                </a:lnTo>
                <a:lnTo>
                  <a:pt x="135" y="41"/>
                </a:lnTo>
                <a:lnTo>
                  <a:pt x="166" y="29"/>
                </a:lnTo>
                <a:lnTo>
                  <a:pt x="190" y="20"/>
                </a:lnTo>
                <a:lnTo>
                  <a:pt x="215" y="13"/>
                </a:lnTo>
                <a:lnTo>
                  <a:pt x="237" y="9"/>
                </a:lnTo>
                <a:lnTo>
                  <a:pt x="263" y="3"/>
                </a:lnTo>
                <a:lnTo>
                  <a:pt x="284" y="1"/>
                </a:lnTo>
                <a:lnTo>
                  <a:pt x="310" y="0"/>
                </a:lnTo>
                <a:lnTo>
                  <a:pt x="335" y="0"/>
                </a:lnTo>
                <a:lnTo>
                  <a:pt x="368" y="2"/>
                </a:lnTo>
                <a:lnTo>
                  <a:pt x="396" y="6"/>
                </a:lnTo>
                <a:lnTo>
                  <a:pt x="419" y="12"/>
                </a:lnTo>
                <a:lnTo>
                  <a:pt x="448" y="19"/>
                </a:lnTo>
                <a:lnTo>
                  <a:pt x="469" y="26"/>
                </a:lnTo>
                <a:lnTo>
                  <a:pt x="493" y="35"/>
                </a:lnTo>
                <a:lnTo>
                  <a:pt x="523" y="50"/>
                </a:lnTo>
                <a:lnTo>
                  <a:pt x="547" y="64"/>
                </a:lnTo>
                <a:lnTo>
                  <a:pt x="568" y="81"/>
                </a:lnTo>
                <a:lnTo>
                  <a:pt x="584" y="97"/>
                </a:lnTo>
                <a:lnTo>
                  <a:pt x="598" y="111"/>
                </a:lnTo>
                <a:lnTo>
                  <a:pt x="621" y="145"/>
                </a:lnTo>
                <a:lnTo>
                  <a:pt x="630" y="167"/>
                </a:lnTo>
                <a:lnTo>
                  <a:pt x="638" y="195"/>
                </a:lnTo>
                <a:lnTo>
                  <a:pt x="640" y="215"/>
                </a:lnTo>
                <a:lnTo>
                  <a:pt x="638" y="240"/>
                </a:lnTo>
                <a:lnTo>
                  <a:pt x="634" y="258"/>
                </a:lnTo>
                <a:lnTo>
                  <a:pt x="627" y="280"/>
                </a:lnTo>
                <a:lnTo>
                  <a:pt x="616" y="303"/>
                </a:lnTo>
                <a:lnTo>
                  <a:pt x="597" y="329"/>
                </a:lnTo>
                <a:lnTo>
                  <a:pt x="572" y="354"/>
                </a:lnTo>
                <a:lnTo>
                  <a:pt x="546" y="374"/>
                </a:lnTo>
                <a:lnTo>
                  <a:pt x="519" y="391"/>
                </a:lnTo>
                <a:lnTo>
                  <a:pt x="501" y="400"/>
                </a:lnTo>
                <a:lnTo>
                  <a:pt x="493" y="422"/>
                </a:lnTo>
                <a:lnTo>
                  <a:pt x="482" y="446"/>
                </a:lnTo>
                <a:lnTo>
                  <a:pt x="468" y="470"/>
                </a:lnTo>
                <a:lnTo>
                  <a:pt x="453" y="491"/>
                </a:lnTo>
                <a:lnTo>
                  <a:pt x="434" y="517"/>
                </a:lnTo>
                <a:lnTo>
                  <a:pt x="414" y="537"/>
                </a:lnTo>
                <a:lnTo>
                  <a:pt x="394" y="553"/>
                </a:lnTo>
                <a:lnTo>
                  <a:pt x="372" y="569"/>
                </a:lnTo>
                <a:lnTo>
                  <a:pt x="342" y="584"/>
                </a:lnTo>
                <a:lnTo>
                  <a:pt x="314" y="594"/>
                </a:lnTo>
                <a:lnTo>
                  <a:pt x="342" y="571"/>
                </a:lnTo>
                <a:lnTo>
                  <a:pt x="362" y="552"/>
                </a:lnTo>
                <a:lnTo>
                  <a:pt x="379" y="530"/>
                </a:lnTo>
                <a:lnTo>
                  <a:pt x="397" y="508"/>
                </a:lnTo>
                <a:lnTo>
                  <a:pt x="410" y="486"/>
                </a:lnTo>
                <a:lnTo>
                  <a:pt x="420" y="462"/>
                </a:lnTo>
                <a:lnTo>
                  <a:pt x="430" y="435"/>
                </a:lnTo>
                <a:lnTo>
                  <a:pt x="433" y="425"/>
                </a:lnTo>
                <a:lnTo>
                  <a:pt x="411" y="429"/>
                </a:lnTo>
                <a:lnTo>
                  <a:pt x="381" y="435"/>
                </a:lnTo>
                <a:lnTo>
                  <a:pt x="346" y="438"/>
                </a:lnTo>
                <a:lnTo>
                  <a:pt x="323" y="439"/>
                </a:lnTo>
                <a:lnTo>
                  <a:pt x="302" y="439"/>
                </a:lnTo>
                <a:lnTo>
                  <a:pt x="283" y="437"/>
                </a:lnTo>
                <a:lnTo>
                  <a:pt x="260" y="435"/>
                </a:lnTo>
                <a:lnTo>
                  <a:pt x="234" y="431"/>
                </a:lnTo>
                <a:lnTo>
                  <a:pt x="205" y="423"/>
                </a:lnTo>
                <a:lnTo>
                  <a:pt x="174" y="414"/>
                </a:lnTo>
                <a:lnTo>
                  <a:pt x="152" y="406"/>
                </a:lnTo>
                <a:lnTo>
                  <a:pt x="124" y="391"/>
                </a:lnTo>
                <a:lnTo>
                  <a:pt x="106" y="381"/>
                </a:lnTo>
                <a:lnTo>
                  <a:pt x="84" y="366"/>
                </a:lnTo>
                <a:lnTo>
                  <a:pt x="61" y="345"/>
                </a:lnTo>
                <a:lnTo>
                  <a:pt x="44" y="328"/>
                </a:lnTo>
                <a:lnTo>
                  <a:pt x="28" y="308"/>
                </a:lnTo>
                <a:lnTo>
                  <a:pt x="14" y="282"/>
                </a:lnTo>
                <a:lnTo>
                  <a:pt x="5" y="252"/>
                </a:lnTo>
                <a:lnTo>
                  <a:pt x="0" y="226"/>
                </a:lnTo>
                <a:lnTo>
                  <a:pt x="3" y="196"/>
                </a:lnTo>
                <a:lnTo>
                  <a:pt x="7" y="176"/>
                </a:lnTo>
                <a:lnTo>
                  <a:pt x="13" y="159"/>
                </a:lnTo>
                <a:lnTo>
                  <a:pt x="26" y="136"/>
                </a:lnTo>
                <a:lnTo>
                  <a:pt x="44" y="110"/>
                </a:lnTo>
              </a:path>
            </a:pathLst>
          </a:custGeom>
          <a:solidFill>
            <a:srgbClr val="ffffff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80400" y="1670040"/>
            <a:ext cx="102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bit lo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4320" y="2593800"/>
            <a:ext cx="5763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02600" y="1684440"/>
            <a:ext cx="285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og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973240" y="4740120"/>
          <a:ext cx="322560" cy="7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3240" y="4740120"/>
                    <a:ext cx="3225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803920" y="4643280"/>
          <a:ext cx="995400" cy="8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03920" y="4643280"/>
                    <a:ext cx="99540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465280" y="3143160"/>
            <a:ext cx="0" cy="1766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82920" y="4910040"/>
            <a:ext cx="4237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84440" y="4956120"/>
            <a:ext cx="49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59440" y="4981680"/>
            <a:ext cx="4712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04760" y="3786120"/>
            <a:ext cx="28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gital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91040" y="4503600"/>
            <a:ext cx="819000" cy="108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74560" y="4870440"/>
            <a:ext cx="604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16880" y="4373640"/>
            <a:ext cx="526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83400" y="4441680"/>
            <a:ext cx="819360" cy="10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87800" y="4811760"/>
            <a:ext cx="604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77160" y="5016600"/>
            <a:ext cx="4712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48840" y="4879800"/>
            <a:ext cx="92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411040" y="4786200"/>
            <a:ext cx="91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46120" y="5186520"/>
            <a:ext cx="6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8535960" y="5086440"/>
            <a:ext cx="780840" cy="171000"/>
            <a:chOff x="8535960" y="5086440"/>
            <a:chExt cx="780840" cy="171000"/>
          </a:xfrm>
        </p:grpSpPr>
        <p:sp>
          <p:nvSpPr>
            <p:cNvPr id="121" name=""/>
            <p:cNvSpPr/>
            <p:nvPr/>
          </p:nvSpPr>
          <p:spPr>
            <a:xfrm>
              <a:off x="8535960" y="5089320"/>
              <a:ext cx="29520" cy="8676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0" y="57"/>
                  </a:moveTo>
                  <a:lnTo>
                    <a:pt x="9" y="8"/>
                  </a:lnTo>
                  <a:lnTo>
                    <a:pt x="9" y="5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3240" y="5087520"/>
              <a:ext cx="73800" cy="169920"/>
            </a:xfrm>
            <a:custGeom>
              <a:avLst/>
              <a:gdLst/>
              <a:ahLst/>
              <a:rect l="l" t="t" r="r" b="b"/>
              <a:pathLst>
                <a:path w="42" h="113">
                  <a:moveTo>
                    <a:pt x="0" y="0"/>
                  </a:moveTo>
                  <a:lnTo>
                    <a:pt x="2" y="1"/>
                  </a:lnTo>
                  <a:lnTo>
                    <a:pt x="4" y="3"/>
                  </a:lnTo>
                  <a:lnTo>
                    <a:pt x="5" y="5"/>
                  </a:lnTo>
                  <a:lnTo>
                    <a:pt x="5" y="10"/>
                  </a:lnTo>
                  <a:lnTo>
                    <a:pt x="14" y="104"/>
                  </a:lnTo>
                  <a:lnTo>
                    <a:pt x="15" y="109"/>
                  </a:lnTo>
                  <a:lnTo>
                    <a:pt x="15" y="110"/>
                  </a:lnTo>
                  <a:lnTo>
                    <a:pt x="17" y="112"/>
                  </a:lnTo>
                  <a:lnTo>
                    <a:pt x="19" y="112"/>
                  </a:lnTo>
                  <a:lnTo>
                    <a:pt x="21" y="111"/>
                  </a:lnTo>
                  <a:lnTo>
                    <a:pt x="22" y="109"/>
                  </a:lnTo>
                  <a:lnTo>
                    <a:pt x="37" y="1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8" y="3"/>
                  </a:lnTo>
                  <a:lnTo>
                    <a:pt x="39" y="1"/>
                  </a:lnTo>
                  <a:lnTo>
                    <a:pt x="4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625240" y="5089320"/>
              <a:ext cx="70200" cy="168120"/>
            </a:xfrm>
            <a:custGeom>
              <a:avLst/>
              <a:gdLst/>
              <a:ahLst/>
              <a:rect l="l" t="t" r="r" b="b"/>
              <a:pathLst>
                <a:path w="40" h="112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4" y="8"/>
                  </a:lnTo>
                  <a:lnTo>
                    <a:pt x="13" y="103"/>
                  </a:lnTo>
                  <a:lnTo>
                    <a:pt x="14" y="108"/>
                  </a:lnTo>
                  <a:lnTo>
                    <a:pt x="15" y="109"/>
                  </a:lnTo>
                  <a:lnTo>
                    <a:pt x="15" y="111"/>
                  </a:lnTo>
                  <a:lnTo>
                    <a:pt x="17" y="111"/>
                  </a:lnTo>
                  <a:lnTo>
                    <a:pt x="19" y="110"/>
                  </a:lnTo>
                  <a:lnTo>
                    <a:pt x="21" y="108"/>
                  </a:lnTo>
                  <a:lnTo>
                    <a:pt x="35" y="8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7" y="2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95800" y="5087520"/>
              <a:ext cx="73440" cy="169920"/>
            </a:xfrm>
            <a:custGeom>
              <a:avLst/>
              <a:gdLst/>
              <a:ahLst/>
              <a:rect l="l" t="t" r="r" b="b"/>
              <a:pathLst>
                <a:path w="42" h="113">
                  <a:moveTo>
                    <a:pt x="0" y="0"/>
                  </a:moveTo>
                  <a:lnTo>
                    <a:pt x="2" y="1"/>
                  </a:lnTo>
                  <a:lnTo>
                    <a:pt x="4" y="3"/>
                  </a:lnTo>
                  <a:lnTo>
                    <a:pt x="5" y="5"/>
                  </a:lnTo>
                  <a:lnTo>
                    <a:pt x="5" y="10"/>
                  </a:lnTo>
                  <a:lnTo>
                    <a:pt x="14" y="104"/>
                  </a:lnTo>
                  <a:lnTo>
                    <a:pt x="15" y="109"/>
                  </a:lnTo>
                  <a:lnTo>
                    <a:pt x="15" y="110"/>
                  </a:lnTo>
                  <a:lnTo>
                    <a:pt x="16" y="112"/>
                  </a:lnTo>
                  <a:lnTo>
                    <a:pt x="18" y="112"/>
                  </a:lnTo>
                  <a:lnTo>
                    <a:pt x="20" y="111"/>
                  </a:lnTo>
                  <a:lnTo>
                    <a:pt x="22" y="109"/>
                  </a:lnTo>
                  <a:lnTo>
                    <a:pt x="36" y="1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8" y="3"/>
                  </a:lnTo>
                  <a:lnTo>
                    <a:pt x="39" y="1"/>
                  </a:lnTo>
                  <a:lnTo>
                    <a:pt x="4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771040" y="5087520"/>
              <a:ext cx="70200" cy="169920"/>
            </a:xfrm>
            <a:custGeom>
              <a:avLst/>
              <a:gdLst/>
              <a:ahLst/>
              <a:rect l="l" t="t" r="r" b="b"/>
              <a:pathLst>
                <a:path w="40" h="113">
                  <a:moveTo>
                    <a:pt x="0" y="0"/>
                  </a:moveTo>
                  <a:lnTo>
                    <a:pt x="1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4" y="10"/>
                  </a:lnTo>
                  <a:lnTo>
                    <a:pt x="12" y="102"/>
                  </a:lnTo>
                  <a:lnTo>
                    <a:pt x="13" y="108"/>
                  </a:lnTo>
                  <a:lnTo>
                    <a:pt x="14" y="110"/>
                  </a:lnTo>
                  <a:lnTo>
                    <a:pt x="15" y="111"/>
                  </a:lnTo>
                  <a:lnTo>
                    <a:pt x="17" y="112"/>
                  </a:lnTo>
                  <a:lnTo>
                    <a:pt x="19" y="111"/>
                  </a:lnTo>
                  <a:lnTo>
                    <a:pt x="20" y="108"/>
                  </a:lnTo>
                  <a:lnTo>
                    <a:pt x="35" y="8"/>
                  </a:lnTo>
                  <a:lnTo>
                    <a:pt x="35" y="6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1"/>
                  </a:lnTo>
                  <a:lnTo>
                    <a:pt x="3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841240" y="5087520"/>
              <a:ext cx="69840" cy="169920"/>
            </a:xfrm>
            <a:custGeom>
              <a:avLst/>
              <a:gdLst/>
              <a:ahLst/>
              <a:rect l="l" t="t" r="r" b="b"/>
              <a:pathLst>
                <a:path w="40" h="113">
                  <a:moveTo>
                    <a:pt x="0" y="0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4" y="5"/>
                  </a:lnTo>
                  <a:lnTo>
                    <a:pt x="4" y="10"/>
                  </a:lnTo>
                  <a:lnTo>
                    <a:pt x="13" y="102"/>
                  </a:lnTo>
                  <a:lnTo>
                    <a:pt x="14" y="108"/>
                  </a:lnTo>
                  <a:lnTo>
                    <a:pt x="14" y="110"/>
                  </a:lnTo>
                  <a:lnTo>
                    <a:pt x="16" y="111"/>
                  </a:lnTo>
                  <a:lnTo>
                    <a:pt x="18" y="112"/>
                  </a:lnTo>
                  <a:lnTo>
                    <a:pt x="20" y="111"/>
                  </a:lnTo>
                  <a:lnTo>
                    <a:pt x="21" y="108"/>
                  </a:lnTo>
                  <a:lnTo>
                    <a:pt x="35" y="8"/>
                  </a:lnTo>
                  <a:lnTo>
                    <a:pt x="35" y="6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912880" y="5087520"/>
              <a:ext cx="70200" cy="169920"/>
            </a:xfrm>
            <a:custGeom>
              <a:avLst/>
              <a:gdLst/>
              <a:ahLst/>
              <a:rect l="l" t="t" r="r" b="b"/>
              <a:pathLst>
                <a:path w="40" h="113">
                  <a:moveTo>
                    <a:pt x="0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3" y="10"/>
                  </a:lnTo>
                  <a:lnTo>
                    <a:pt x="12" y="102"/>
                  </a:lnTo>
                  <a:lnTo>
                    <a:pt x="13" y="108"/>
                  </a:lnTo>
                  <a:lnTo>
                    <a:pt x="14" y="110"/>
                  </a:lnTo>
                  <a:lnTo>
                    <a:pt x="15" y="111"/>
                  </a:lnTo>
                  <a:lnTo>
                    <a:pt x="17" y="112"/>
                  </a:lnTo>
                  <a:lnTo>
                    <a:pt x="19" y="111"/>
                  </a:lnTo>
                  <a:lnTo>
                    <a:pt x="20" y="108"/>
                  </a:lnTo>
                  <a:lnTo>
                    <a:pt x="35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6" y="2"/>
                  </a:lnTo>
                  <a:lnTo>
                    <a:pt x="37" y="1"/>
                  </a:lnTo>
                  <a:lnTo>
                    <a:pt x="3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981640" y="5087520"/>
              <a:ext cx="73800" cy="169920"/>
            </a:xfrm>
            <a:custGeom>
              <a:avLst/>
              <a:gdLst/>
              <a:ahLst/>
              <a:rect l="l" t="t" r="r" b="b"/>
              <a:pathLst>
                <a:path w="42" h="113">
                  <a:moveTo>
                    <a:pt x="0" y="0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5" y="5"/>
                  </a:lnTo>
                  <a:lnTo>
                    <a:pt x="5" y="10"/>
                  </a:lnTo>
                  <a:lnTo>
                    <a:pt x="14" y="102"/>
                  </a:lnTo>
                  <a:lnTo>
                    <a:pt x="15" y="108"/>
                  </a:lnTo>
                  <a:lnTo>
                    <a:pt x="15" y="110"/>
                  </a:lnTo>
                  <a:lnTo>
                    <a:pt x="17" y="111"/>
                  </a:lnTo>
                  <a:lnTo>
                    <a:pt x="19" y="112"/>
                  </a:lnTo>
                  <a:lnTo>
                    <a:pt x="21" y="111"/>
                  </a:lnTo>
                  <a:lnTo>
                    <a:pt x="22" y="108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8" y="2"/>
                  </a:lnTo>
                  <a:lnTo>
                    <a:pt x="39" y="0"/>
                  </a:lnTo>
                  <a:lnTo>
                    <a:pt x="4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055440" y="5087520"/>
              <a:ext cx="69840" cy="168480"/>
            </a:xfrm>
            <a:custGeom>
              <a:avLst/>
              <a:gdLst/>
              <a:ahLst/>
              <a:rect l="l" t="t" r="r" b="b"/>
              <a:pathLst>
                <a:path w="40" h="112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4" y="8"/>
                  </a:lnTo>
                  <a:lnTo>
                    <a:pt x="13" y="103"/>
                  </a:lnTo>
                  <a:lnTo>
                    <a:pt x="14" y="108"/>
                  </a:lnTo>
                  <a:lnTo>
                    <a:pt x="14" y="109"/>
                  </a:lnTo>
                  <a:lnTo>
                    <a:pt x="15" y="111"/>
                  </a:lnTo>
                  <a:lnTo>
                    <a:pt x="17" y="111"/>
                  </a:lnTo>
                  <a:lnTo>
                    <a:pt x="19" y="110"/>
                  </a:lnTo>
                  <a:lnTo>
                    <a:pt x="20" y="108"/>
                  </a:lnTo>
                  <a:lnTo>
                    <a:pt x="35" y="8"/>
                  </a:lnTo>
                  <a:lnTo>
                    <a:pt x="35" y="5"/>
                  </a:lnTo>
                  <a:lnTo>
                    <a:pt x="36" y="3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23840" y="5086440"/>
              <a:ext cx="74880" cy="169920"/>
            </a:xfrm>
            <a:custGeom>
              <a:avLst/>
              <a:gdLst/>
              <a:ahLst/>
              <a:rect l="l" t="t" r="r" b="b"/>
              <a:pathLst>
                <a:path w="43" h="113">
                  <a:moveTo>
                    <a:pt x="0" y="0"/>
                  </a:moveTo>
                  <a:lnTo>
                    <a:pt x="3" y="1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10"/>
                  </a:lnTo>
                  <a:lnTo>
                    <a:pt x="15" y="104"/>
                  </a:lnTo>
                  <a:lnTo>
                    <a:pt x="16" y="109"/>
                  </a:lnTo>
                  <a:lnTo>
                    <a:pt x="16" y="110"/>
                  </a:lnTo>
                  <a:lnTo>
                    <a:pt x="17" y="112"/>
                  </a:lnTo>
                  <a:lnTo>
                    <a:pt x="19" y="112"/>
                  </a:lnTo>
                  <a:lnTo>
                    <a:pt x="21" y="111"/>
                  </a:lnTo>
                  <a:lnTo>
                    <a:pt x="22" y="109"/>
                  </a:lnTo>
                  <a:lnTo>
                    <a:pt x="37" y="10"/>
                  </a:lnTo>
                  <a:lnTo>
                    <a:pt x="37" y="6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40" y="1"/>
                  </a:lnTo>
                  <a:lnTo>
                    <a:pt x="42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197640" y="5087520"/>
              <a:ext cx="72000" cy="168480"/>
            </a:xfrm>
            <a:custGeom>
              <a:avLst/>
              <a:gdLst/>
              <a:ahLst/>
              <a:rect l="l" t="t" r="r" b="b"/>
              <a:pathLst>
                <a:path w="41" h="112">
                  <a:moveTo>
                    <a:pt x="0" y="0"/>
                  </a:moveTo>
                  <a:lnTo>
                    <a:pt x="2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4" y="8"/>
                  </a:lnTo>
                  <a:lnTo>
                    <a:pt x="13" y="103"/>
                  </a:lnTo>
                  <a:lnTo>
                    <a:pt x="14" y="108"/>
                  </a:lnTo>
                  <a:lnTo>
                    <a:pt x="15" y="109"/>
                  </a:lnTo>
                  <a:lnTo>
                    <a:pt x="16" y="111"/>
                  </a:lnTo>
                  <a:lnTo>
                    <a:pt x="17" y="111"/>
                  </a:lnTo>
                  <a:lnTo>
                    <a:pt x="20" y="110"/>
                  </a:lnTo>
                  <a:lnTo>
                    <a:pt x="21" y="108"/>
                  </a:lnTo>
                  <a:lnTo>
                    <a:pt x="36" y="8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7" y="2"/>
                  </a:lnTo>
                  <a:lnTo>
                    <a:pt x="38" y="0"/>
                  </a:ln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67480" y="5086440"/>
              <a:ext cx="49320" cy="169920"/>
            </a:xfrm>
            <a:custGeom>
              <a:avLst/>
              <a:gdLst/>
              <a:ahLst/>
              <a:rect l="l" t="t" r="r" b="b"/>
              <a:pathLst>
                <a:path w="28" h="113">
                  <a:moveTo>
                    <a:pt x="0" y="0"/>
                  </a:moveTo>
                  <a:lnTo>
                    <a:pt x="3" y="1"/>
                  </a:lnTo>
                  <a:lnTo>
                    <a:pt x="4" y="3"/>
                  </a:lnTo>
                  <a:lnTo>
                    <a:pt x="5" y="5"/>
                  </a:lnTo>
                  <a:lnTo>
                    <a:pt x="5" y="10"/>
                  </a:lnTo>
                  <a:lnTo>
                    <a:pt x="14" y="104"/>
                  </a:lnTo>
                  <a:lnTo>
                    <a:pt x="14" y="109"/>
                  </a:lnTo>
                  <a:lnTo>
                    <a:pt x="15" y="110"/>
                  </a:lnTo>
                  <a:lnTo>
                    <a:pt x="17" y="112"/>
                  </a:lnTo>
                  <a:lnTo>
                    <a:pt x="19" y="112"/>
                  </a:lnTo>
                  <a:lnTo>
                    <a:pt x="21" y="111"/>
                  </a:lnTo>
                  <a:lnTo>
                    <a:pt x="22" y="109"/>
                  </a:lnTo>
                  <a:lnTo>
                    <a:pt x="27" y="6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8948880" y="5064120"/>
            <a:ext cx="3762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5840" y="5199120"/>
            <a:ext cx="6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769000" y="2163600"/>
          <a:ext cx="1027080" cy="115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69000" y="2163600"/>
                    <a:ext cx="1027080" cy="11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pling revisited (with theory and mat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omb function: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762120" y="1828800"/>
                <a:ext cx="441936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b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762120" y="4572000"/>
                <a:ext cx="54864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4496040" cy="337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535B-118D-42F4-9F05-ACA16C4FAE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pling revisited (with theory and mat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486400" y="1752480"/>
                <a:ext cx="38098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mb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7" name=""/>
          <p:cNvSpPr/>
          <p:nvPr/>
        </p:nvSpPr>
        <p:spPr>
          <a:xfrm>
            <a:off x="2514600" y="2666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66800" y="26200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239840" y="3962520"/>
            <a:ext cx="1265400" cy="912600"/>
          </a:xfrm>
          <a:custGeom>
            <a:avLst/>
            <a:gdLst/>
            <a:ahLst/>
            <a:rect l="l" t="t" r="r" b="b"/>
            <a:pathLst>
              <a:path w="721" h="607">
                <a:moveTo>
                  <a:pt x="0" y="606"/>
                </a:moveTo>
                <a:lnTo>
                  <a:pt x="34" y="541"/>
                </a:lnTo>
                <a:lnTo>
                  <a:pt x="72" y="477"/>
                </a:lnTo>
                <a:lnTo>
                  <a:pt x="118" y="416"/>
                </a:lnTo>
                <a:lnTo>
                  <a:pt x="144" y="386"/>
                </a:lnTo>
                <a:lnTo>
                  <a:pt x="173" y="359"/>
                </a:lnTo>
                <a:lnTo>
                  <a:pt x="241" y="307"/>
                </a:lnTo>
                <a:lnTo>
                  <a:pt x="313" y="259"/>
                </a:lnTo>
                <a:lnTo>
                  <a:pt x="385" y="215"/>
                </a:lnTo>
                <a:lnTo>
                  <a:pt x="417" y="193"/>
                </a:lnTo>
                <a:lnTo>
                  <a:pt x="447" y="171"/>
                </a:lnTo>
                <a:lnTo>
                  <a:pt x="474" y="149"/>
                </a:lnTo>
                <a:lnTo>
                  <a:pt x="495" y="129"/>
                </a:lnTo>
                <a:lnTo>
                  <a:pt x="533" y="88"/>
                </a:lnTo>
                <a:lnTo>
                  <a:pt x="561" y="55"/>
                </a:lnTo>
                <a:lnTo>
                  <a:pt x="589" y="27"/>
                </a:lnTo>
                <a:lnTo>
                  <a:pt x="620" y="11"/>
                </a:lnTo>
                <a:lnTo>
                  <a:pt x="652" y="3"/>
                </a:lnTo>
                <a:lnTo>
                  <a:pt x="684" y="0"/>
                </a:lnTo>
                <a:lnTo>
                  <a:pt x="720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496960" y="3973680"/>
            <a:ext cx="1265400" cy="914400"/>
          </a:xfrm>
          <a:custGeom>
            <a:avLst/>
            <a:gdLst/>
            <a:ahLst/>
            <a:rect l="l" t="t" r="r" b="b"/>
            <a:pathLst>
              <a:path w="720" h="608">
                <a:moveTo>
                  <a:pt x="719" y="607"/>
                </a:moveTo>
                <a:lnTo>
                  <a:pt x="683" y="542"/>
                </a:lnTo>
                <a:lnTo>
                  <a:pt x="645" y="479"/>
                </a:lnTo>
                <a:lnTo>
                  <a:pt x="600" y="419"/>
                </a:lnTo>
                <a:lnTo>
                  <a:pt x="573" y="389"/>
                </a:lnTo>
                <a:lnTo>
                  <a:pt x="545" y="362"/>
                </a:lnTo>
                <a:lnTo>
                  <a:pt x="513" y="336"/>
                </a:lnTo>
                <a:lnTo>
                  <a:pt x="479" y="310"/>
                </a:lnTo>
                <a:lnTo>
                  <a:pt x="407" y="262"/>
                </a:lnTo>
                <a:lnTo>
                  <a:pt x="335" y="216"/>
                </a:lnTo>
                <a:lnTo>
                  <a:pt x="303" y="194"/>
                </a:lnTo>
                <a:lnTo>
                  <a:pt x="272" y="172"/>
                </a:lnTo>
                <a:lnTo>
                  <a:pt x="246" y="150"/>
                </a:lnTo>
                <a:lnTo>
                  <a:pt x="225" y="129"/>
                </a:lnTo>
                <a:lnTo>
                  <a:pt x="187" y="89"/>
                </a:lnTo>
                <a:lnTo>
                  <a:pt x="157" y="56"/>
                </a:lnTo>
                <a:lnTo>
                  <a:pt x="128" y="28"/>
                </a:lnTo>
                <a:lnTo>
                  <a:pt x="98" y="11"/>
                </a:lnTo>
                <a:lnTo>
                  <a:pt x="68" y="4"/>
                </a:lnTo>
                <a:lnTo>
                  <a:pt x="34" y="0"/>
                </a:lnTo>
                <a:lnTo>
                  <a:pt x="0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28600" y="487692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514600" y="3560400"/>
            <a:ext cx="0" cy="132084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20" y="432288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157760" y="4967280"/>
            <a:ext cx="40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556440" y="4954680"/>
            <a:ext cx="330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467440" y="3659040"/>
            <a:ext cx="41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447920" y="340740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315200" y="26668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467400" y="30772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997520" y="4267080"/>
                <a:ext cx="4908600" cy="19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∗</m:t>
                        </m:r>
                        <m:r>
                          <m:t xml:space="preserve">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b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"/>
              <p:cNvSpPr txBox="1"/>
              <p:nvPr/>
            </p:nvSpPr>
            <p:spPr>
              <a:xfrm>
                <a:off x="2286000" y="1828800"/>
                <a:ext cx="403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52" name=""/>
          <p:cNvGrpSpPr/>
          <p:nvPr/>
        </p:nvGrpSpPr>
        <p:grpSpPr>
          <a:xfrm>
            <a:off x="1447920" y="5486400"/>
            <a:ext cx="2286000" cy="530640"/>
            <a:chOff x="1447920" y="5486400"/>
            <a:chExt cx="2286000" cy="530640"/>
          </a:xfrm>
        </p:grpSpPr>
        <p:sp>
          <p:nvSpPr>
            <p:cNvPr id="1153" name=""/>
            <p:cNvSpPr/>
            <p:nvPr/>
          </p:nvSpPr>
          <p:spPr>
            <a:xfrm rot="5400000">
              <a:off x="2476440" y="4457520"/>
              <a:ext cx="228600" cy="2286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056680" y="5715000"/>
              <a:ext cx="1050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685-6F24-4D25-9710-7D25C44BEDD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pling revisited (with theory and mat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761040" y="1295280"/>
            <a:ext cx="4258800" cy="1306440"/>
            <a:chOff x="761040" y="1295280"/>
            <a:chExt cx="4258800" cy="1306440"/>
          </a:xfrm>
        </p:grpSpPr>
        <p:sp>
          <p:nvSpPr>
            <p:cNvPr id="1158" name=""/>
            <p:cNvSpPr/>
            <p:nvPr/>
          </p:nvSpPr>
          <p:spPr>
            <a:xfrm>
              <a:off x="1184040" y="1449000"/>
              <a:ext cx="2873160" cy="1100160"/>
            </a:xfrm>
            <a:custGeom>
              <a:avLst/>
              <a:gdLst/>
              <a:ahLst/>
              <a:rect l="l" t="t" r="r" b="b"/>
              <a:pathLst>
                <a:path w="1636" h="731">
                  <a:moveTo>
                    <a:pt x="4" y="368"/>
                  </a:moveTo>
                  <a:lnTo>
                    <a:pt x="11" y="351"/>
                  </a:lnTo>
                  <a:lnTo>
                    <a:pt x="21" y="334"/>
                  </a:lnTo>
                  <a:lnTo>
                    <a:pt x="28" y="317"/>
                  </a:lnTo>
                  <a:lnTo>
                    <a:pt x="38" y="301"/>
                  </a:lnTo>
                  <a:lnTo>
                    <a:pt x="46" y="284"/>
                  </a:lnTo>
                  <a:lnTo>
                    <a:pt x="55" y="267"/>
                  </a:lnTo>
                  <a:lnTo>
                    <a:pt x="63" y="252"/>
                  </a:lnTo>
                  <a:lnTo>
                    <a:pt x="72" y="237"/>
                  </a:lnTo>
                  <a:lnTo>
                    <a:pt x="80" y="221"/>
                  </a:lnTo>
                  <a:lnTo>
                    <a:pt x="90" y="206"/>
                  </a:lnTo>
                  <a:lnTo>
                    <a:pt x="99" y="193"/>
                  </a:lnTo>
                  <a:lnTo>
                    <a:pt x="107" y="176"/>
                  </a:lnTo>
                  <a:lnTo>
                    <a:pt x="116" y="162"/>
                  </a:lnTo>
                  <a:lnTo>
                    <a:pt x="124" y="149"/>
                  </a:lnTo>
                  <a:lnTo>
                    <a:pt x="134" y="136"/>
                  </a:lnTo>
                  <a:lnTo>
                    <a:pt x="141" y="124"/>
                  </a:lnTo>
                  <a:lnTo>
                    <a:pt x="151" y="111"/>
                  </a:lnTo>
                  <a:lnTo>
                    <a:pt x="158" y="99"/>
                  </a:lnTo>
                  <a:lnTo>
                    <a:pt x="168" y="88"/>
                  </a:lnTo>
                  <a:lnTo>
                    <a:pt x="176" y="77"/>
                  </a:lnTo>
                  <a:lnTo>
                    <a:pt x="202" y="50"/>
                  </a:lnTo>
                  <a:lnTo>
                    <a:pt x="212" y="42"/>
                  </a:lnTo>
                  <a:lnTo>
                    <a:pt x="220" y="35"/>
                  </a:lnTo>
                  <a:lnTo>
                    <a:pt x="229" y="29"/>
                  </a:lnTo>
                  <a:lnTo>
                    <a:pt x="235" y="23"/>
                  </a:lnTo>
                  <a:lnTo>
                    <a:pt x="245" y="19"/>
                  </a:lnTo>
                  <a:lnTo>
                    <a:pt x="252" y="16"/>
                  </a:lnTo>
                  <a:lnTo>
                    <a:pt x="262" y="14"/>
                  </a:lnTo>
                  <a:lnTo>
                    <a:pt x="269" y="12"/>
                  </a:lnTo>
                  <a:lnTo>
                    <a:pt x="287" y="12"/>
                  </a:lnTo>
                  <a:lnTo>
                    <a:pt x="296" y="14"/>
                  </a:lnTo>
                  <a:lnTo>
                    <a:pt x="304" y="16"/>
                  </a:lnTo>
                  <a:lnTo>
                    <a:pt x="313" y="19"/>
                  </a:lnTo>
                  <a:lnTo>
                    <a:pt x="321" y="23"/>
                  </a:lnTo>
                  <a:lnTo>
                    <a:pt x="329" y="29"/>
                  </a:lnTo>
                  <a:lnTo>
                    <a:pt x="336" y="35"/>
                  </a:lnTo>
                  <a:lnTo>
                    <a:pt x="346" y="42"/>
                  </a:lnTo>
                  <a:lnTo>
                    <a:pt x="371" y="67"/>
                  </a:lnTo>
                  <a:lnTo>
                    <a:pt x="378" y="77"/>
                  </a:lnTo>
                  <a:lnTo>
                    <a:pt x="388" y="88"/>
                  </a:lnTo>
                  <a:lnTo>
                    <a:pt x="396" y="99"/>
                  </a:lnTo>
                  <a:lnTo>
                    <a:pt x="405" y="111"/>
                  </a:lnTo>
                  <a:lnTo>
                    <a:pt x="413" y="124"/>
                  </a:lnTo>
                  <a:lnTo>
                    <a:pt x="423" y="136"/>
                  </a:lnTo>
                  <a:lnTo>
                    <a:pt x="438" y="162"/>
                  </a:lnTo>
                  <a:lnTo>
                    <a:pt x="447" y="176"/>
                  </a:lnTo>
                  <a:lnTo>
                    <a:pt x="455" y="193"/>
                  </a:lnTo>
                  <a:lnTo>
                    <a:pt x="465" y="204"/>
                  </a:lnTo>
                  <a:lnTo>
                    <a:pt x="472" y="221"/>
                  </a:lnTo>
                  <a:lnTo>
                    <a:pt x="480" y="237"/>
                  </a:lnTo>
                  <a:lnTo>
                    <a:pt x="489" y="252"/>
                  </a:lnTo>
                  <a:lnTo>
                    <a:pt x="497" y="267"/>
                  </a:lnTo>
                  <a:lnTo>
                    <a:pt x="507" y="284"/>
                  </a:lnTo>
                  <a:lnTo>
                    <a:pt x="514" y="301"/>
                  </a:lnTo>
                  <a:lnTo>
                    <a:pt x="524" y="317"/>
                  </a:lnTo>
                  <a:lnTo>
                    <a:pt x="539" y="351"/>
                  </a:lnTo>
                  <a:lnTo>
                    <a:pt x="549" y="368"/>
                  </a:lnTo>
                  <a:lnTo>
                    <a:pt x="556" y="385"/>
                  </a:lnTo>
                  <a:lnTo>
                    <a:pt x="566" y="400"/>
                  </a:lnTo>
                  <a:lnTo>
                    <a:pt x="574" y="418"/>
                  </a:lnTo>
                  <a:lnTo>
                    <a:pt x="583" y="435"/>
                  </a:lnTo>
                  <a:lnTo>
                    <a:pt x="591" y="452"/>
                  </a:lnTo>
                  <a:lnTo>
                    <a:pt x="600" y="467"/>
                  </a:lnTo>
                  <a:lnTo>
                    <a:pt x="608" y="484"/>
                  </a:lnTo>
                  <a:lnTo>
                    <a:pt x="618" y="500"/>
                  </a:lnTo>
                  <a:lnTo>
                    <a:pt x="625" y="515"/>
                  </a:lnTo>
                  <a:lnTo>
                    <a:pt x="635" y="530"/>
                  </a:lnTo>
                  <a:lnTo>
                    <a:pt x="643" y="545"/>
                  </a:lnTo>
                  <a:lnTo>
                    <a:pt x="652" y="562"/>
                  </a:lnTo>
                  <a:lnTo>
                    <a:pt x="660" y="576"/>
                  </a:lnTo>
                  <a:lnTo>
                    <a:pt x="669" y="591"/>
                  </a:lnTo>
                  <a:lnTo>
                    <a:pt x="677" y="604"/>
                  </a:lnTo>
                  <a:lnTo>
                    <a:pt x="687" y="618"/>
                  </a:lnTo>
                  <a:lnTo>
                    <a:pt x="694" y="629"/>
                  </a:lnTo>
                  <a:lnTo>
                    <a:pt x="704" y="641"/>
                  </a:lnTo>
                  <a:lnTo>
                    <a:pt x="711" y="652"/>
                  </a:lnTo>
                  <a:lnTo>
                    <a:pt x="721" y="663"/>
                  </a:lnTo>
                  <a:lnTo>
                    <a:pt x="736" y="683"/>
                  </a:lnTo>
                  <a:lnTo>
                    <a:pt x="746" y="690"/>
                  </a:lnTo>
                  <a:lnTo>
                    <a:pt x="753" y="698"/>
                  </a:lnTo>
                  <a:lnTo>
                    <a:pt x="763" y="705"/>
                  </a:lnTo>
                  <a:lnTo>
                    <a:pt x="771" y="711"/>
                  </a:lnTo>
                  <a:lnTo>
                    <a:pt x="782" y="717"/>
                  </a:lnTo>
                  <a:lnTo>
                    <a:pt x="790" y="721"/>
                  </a:lnTo>
                  <a:lnTo>
                    <a:pt x="799" y="724"/>
                  </a:lnTo>
                  <a:lnTo>
                    <a:pt x="807" y="728"/>
                  </a:lnTo>
                  <a:lnTo>
                    <a:pt x="815" y="728"/>
                  </a:lnTo>
                  <a:lnTo>
                    <a:pt x="824" y="730"/>
                  </a:lnTo>
                  <a:lnTo>
                    <a:pt x="832" y="728"/>
                  </a:lnTo>
                  <a:lnTo>
                    <a:pt x="841" y="728"/>
                  </a:lnTo>
                  <a:lnTo>
                    <a:pt x="857" y="721"/>
                  </a:lnTo>
                  <a:lnTo>
                    <a:pt x="866" y="717"/>
                  </a:lnTo>
                  <a:lnTo>
                    <a:pt x="876" y="711"/>
                  </a:lnTo>
                  <a:lnTo>
                    <a:pt x="885" y="705"/>
                  </a:lnTo>
                  <a:lnTo>
                    <a:pt x="901" y="690"/>
                  </a:lnTo>
                  <a:lnTo>
                    <a:pt x="910" y="683"/>
                  </a:lnTo>
                  <a:lnTo>
                    <a:pt x="918" y="673"/>
                  </a:lnTo>
                  <a:lnTo>
                    <a:pt x="928" y="663"/>
                  </a:lnTo>
                  <a:lnTo>
                    <a:pt x="943" y="641"/>
                  </a:lnTo>
                  <a:lnTo>
                    <a:pt x="952" y="629"/>
                  </a:lnTo>
                  <a:lnTo>
                    <a:pt x="960" y="616"/>
                  </a:lnTo>
                  <a:lnTo>
                    <a:pt x="970" y="604"/>
                  </a:lnTo>
                  <a:lnTo>
                    <a:pt x="977" y="587"/>
                  </a:lnTo>
                  <a:lnTo>
                    <a:pt x="985" y="576"/>
                  </a:lnTo>
                  <a:lnTo>
                    <a:pt x="995" y="562"/>
                  </a:lnTo>
                  <a:lnTo>
                    <a:pt x="1002" y="545"/>
                  </a:lnTo>
                  <a:lnTo>
                    <a:pt x="1012" y="530"/>
                  </a:lnTo>
                  <a:lnTo>
                    <a:pt x="1019" y="515"/>
                  </a:lnTo>
                  <a:lnTo>
                    <a:pt x="1029" y="500"/>
                  </a:lnTo>
                  <a:lnTo>
                    <a:pt x="1037" y="482"/>
                  </a:lnTo>
                  <a:lnTo>
                    <a:pt x="1044" y="467"/>
                  </a:lnTo>
                  <a:lnTo>
                    <a:pt x="1054" y="450"/>
                  </a:lnTo>
                  <a:lnTo>
                    <a:pt x="1061" y="433"/>
                  </a:lnTo>
                  <a:lnTo>
                    <a:pt x="1071" y="416"/>
                  </a:lnTo>
                  <a:lnTo>
                    <a:pt x="1079" y="400"/>
                  </a:lnTo>
                  <a:lnTo>
                    <a:pt x="1086" y="383"/>
                  </a:lnTo>
                  <a:lnTo>
                    <a:pt x="1096" y="366"/>
                  </a:lnTo>
                  <a:lnTo>
                    <a:pt x="1104" y="349"/>
                  </a:lnTo>
                  <a:lnTo>
                    <a:pt x="1113" y="332"/>
                  </a:lnTo>
                  <a:lnTo>
                    <a:pt x="1121" y="315"/>
                  </a:lnTo>
                  <a:lnTo>
                    <a:pt x="1130" y="298"/>
                  </a:lnTo>
                  <a:lnTo>
                    <a:pt x="1138" y="282"/>
                  </a:lnTo>
                  <a:lnTo>
                    <a:pt x="1148" y="265"/>
                  </a:lnTo>
                  <a:lnTo>
                    <a:pt x="1155" y="248"/>
                  </a:lnTo>
                  <a:lnTo>
                    <a:pt x="1165" y="233"/>
                  </a:lnTo>
                  <a:lnTo>
                    <a:pt x="1172" y="218"/>
                  </a:lnTo>
                  <a:lnTo>
                    <a:pt x="1182" y="200"/>
                  </a:lnTo>
                  <a:lnTo>
                    <a:pt x="1190" y="187"/>
                  </a:lnTo>
                  <a:lnTo>
                    <a:pt x="1199" y="174"/>
                  </a:lnTo>
                  <a:lnTo>
                    <a:pt x="1207" y="158"/>
                  </a:lnTo>
                  <a:lnTo>
                    <a:pt x="1216" y="145"/>
                  </a:lnTo>
                  <a:lnTo>
                    <a:pt x="1224" y="130"/>
                  </a:lnTo>
                  <a:lnTo>
                    <a:pt x="1234" y="118"/>
                  </a:lnTo>
                  <a:lnTo>
                    <a:pt x="1241" y="105"/>
                  </a:lnTo>
                  <a:lnTo>
                    <a:pt x="1251" y="94"/>
                  </a:lnTo>
                  <a:lnTo>
                    <a:pt x="1259" y="82"/>
                  </a:lnTo>
                  <a:lnTo>
                    <a:pt x="1268" y="71"/>
                  </a:lnTo>
                  <a:lnTo>
                    <a:pt x="1283" y="52"/>
                  </a:lnTo>
                  <a:lnTo>
                    <a:pt x="1301" y="35"/>
                  </a:lnTo>
                  <a:lnTo>
                    <a:pt x="1310" y="29"/>
                  </a:lnTo>
                  <a:lnTo>
                    <a:pt x="1318" y="21"/>
                  </a:lnTo>
                  <a:lnTo>
                    <a:pt x="1326" y="16"/>
                  </a:lnTo>
                  <a:lnTo>
                    <a:pt x="1333" y="12"/>
                  </a:lnTo>
                  <a:lnTo>
                    <a:pt x="1343" y="8"/>
                  </a:lnTo>
                  <a:lnTo>
                    <a:pt x="1358" y="4"/>
                  </a:lnTo>
                  <a:lnTo>
                    <a:pt x="1375" y="4"/>
                  </a:lnTo>
                  <a:lnTo>
                    <a:pt x="1385" y="6"/>
                  </a:lnTo>
                  <a:lnTo>
                    <a:pt x="1392" y="8"/>
                  </a:lnTo>
                  <a:lnTo>
                    <a:pt x="1400" y="12"/>
                  </a:lnTo>
                  <a:lnTo>
                    <a:pt x="1410" y="16"/>
                  </a:lnTo>
                  <a:lnTo>
                    <a:pt x="1423" y="29"/>
                  </a:lnTo>
                  <a:lnTo>
                    <a:pt x="1433" y="35"/>
                  </a:lnTo>
                  <a:lnTo>
                    <a:pt x="1450" y="52"/>
                  </a:lnTo>
                  <a:lnTo>
                    <a:pt x="1465" y="71"/>
                  </a:lnTo>
                  <a:lnTo>
                    <a:pt x="1475" y="82"/>
                  </a:lnTo>
                  <a:lnTo>
                    <a:pt x="1490" y="105"/>
                  </a:lnTo>
                  <a:lnTo>
                    <a:pt x="1500" y="118"/>
                  </a:lnTo>
                  <a:lnTo>
                    <a:pt x="1515" y="145"/>
                  </a:lnTo>
                  <a:lnTo>
                    <a:pt x="1524" y="158"/>
                  </a:lnTo>
                  <a:lnTo>
                    <a:pt x="1540" y="187"/>
                  </a:lnTo>
                  <a:lnTo>
                    <a:pt x="1549" y="202"/>
                  </a:lnTo>
                  <a:lnTo>
                    <a:pt x="1565" y="233"/>
                  </a:lnTo>
                  <a:lnTo>
                    <a:pt x="1574" y="250"/>
                  </a:lnTo>
                  <a:lnTo>
                    <a:pt x="1582" y="265"/>
                  </a:lnTo>
                  <a:lnTo>
                    <a:pt x="1597" y="299"/>
                  </a:lnTo>
                  <a:lnTo>
                    <a:pt x="1607" y="317"/>
                  </a:lnTo>
                  <a:lnTo>
                    <a:pt x="1622" y="351"/>
                  </a:lnTo>
                  <a:lnTo>
                    <a:pt x="1632" y="368"/>
                  </a:lnTo>
                  <a:lnTo>
                    <a:pt x="1635" y="368"/>
                  </a:lnTo>
                  <a:lnTo>
                    <a:pt x="1626" y="351"/>
                  </a:lnTo>
                  <a:lnTo>
                    <a:pt x="1611" y="317"/>
                  </a:lnTo>
                  <a:lnTo>
                    <a:pt x="1601" y="299"/>
                  </a:lnTo>
                  <a:lnTo>
                    <a:pt x="1586" y="265"/>
                  </a:lnTo>
                  <a:lnTo>
                    <a:pt x="1578" y="250"/>
                  </a:lnTo>
                  <a:lnTo>
                    <a:pt x="1568" y="233"/>
                  </a:lnTo>
                  <a:lnTo>
                    <a:pt x="1553" y="202"/>
                  </a:lnTo>
                  <a:lnTo>
                    <a:pt x="1544" y="187"/>
                  </a:lnTo>
                  <a:lnTo>
                    <a:pt x="1528" y="155"/>
                  </a:lnTo>
                  <a:lnTo>
                    <a:pt x="1519" y="141"/>
                  </a:lnTo>
                  <a:lnTo>
                    <a:pt x="1503" y="115"/>
                  </a:lnTo>
                  <a:lnTo>
                    <a:pt x="1494" y="101"/>
                  </a:lnTo>
                  <a:lnTo>
                    <a:pt x="1479" y="78"/>
                  </a:lnTo>
                  <a:lnTo>
                    <a:pt x="1469" y="67"/>
                  </a:lnTo>
                  <a:lnTo>
                    <a:pt x="1454" y="48"/>
                  </a:lnTo>
                  <a:lnTo>
                    <a:pt x="1436" y="31"/>
                  </a:lnTo>
                  <a:lnTo>
                    <a:pt x="1427" y="25"/>
                  </a:lnTo>
                  <a:lnTo>
                    <a:pt x="1419" y="17"/>
                  </a:lnTo>
                  <a:lnTo>
                    <a:pt x="1410" y="12"/>
                  </a:lnTo>
                  <a:lnTo>
                    <a:pt x="1400" y="8"/>
                  </a:lnTo>
                  <a:lnTo>
                    <a:pt x="1392" y="4"/>
                  </a:lnTo>
                  <a:lnTo>
                    <a:pt x="1385" y="2"/>
                  </a:lnTo>
                  <a:lnTo>
                    <a:pt x="1375" y="0"/>
                  </a:lnTo>
                  <a:lnTo>
                    <a:pt x="1358" y="0"/>
                  </a:lnTo>
                  <a:lnTo>
                    <a:pt x="1343" y="4"/>
                  </a:lnTo>
                  <a:lnTo>
                    <a:pt x="1333" y="8"/>
                  </a:lnTo>
                  <a:lnTo>
                    <a:pt x="1326" y="12"/>
                  </a:lnTo>
                  <a:lnTo>
                    <a:pt x="1314" y="17"/>
                  </a:lnTo>
                  <a:lnTo>
                    <a:pt x="1306" y="25"/>
                  </a:lnTo>
                  <a:lnTo>
                    <a:pt x="1297" y="31"/>
                  </a:lnTo>
                  <a:lnTo>
                    <a:pt x="1280" y="48"/>
                  </a:lnTo>
                  <a:lnTo>
                    <a:pt x="1264" y="67"/>
                  </a:lnTo>
                  <a:lnTo>
                    <a:pt x="1255" y="78"/>
                  </a:lnTo>
                  <a:lnTo>
                    <a:pt x="1247" y="90"/>
                  </a:lnTo>
                  <a:lnTo>
                    <a:pt x="1237" y="101"/>
                  </a:lnTo>
                  <a:lnTo>
                    <a:pt x="1230" y="115"/>
                  </a:lnTo>
                  <a:lnTo>
                    <a:pt x="1220" y="126"/>
                  </a:lnTo>
                  <a:lnTo>
                    <a:pt x="1213" y="141"/>
                  </a:lnTo>
                  <a:lnTo>
                    <a:pt x="1203" y="155"/>
                  </a:lnTo>
                  <a:lnTo>
                    <a:pt x="1195" y="170"/>
                  </a:lnTo>
                  <a:lnTo>
                    <a:pt x="1186" y="183"/>
                  </a:lnTo>
                  <a:lnTo>
                    <a:pt x="1178" y="200"/>
                  </a:lnTo>
                  <a:lnTo>
                    <a:pt x="1169" y="218"/>
                  </a:lnTo>
                  <a:lnTo>
                    <a:pt x="1161" y="233"/>
                  </a:lnTo>
                  <a:lnTo>
                    <a:pt x="1151" y="248"/>
                  </a:lnTo>
                  <a:lnTo>
                    <a:pt x="1144" y="265"/>
                  </a:lnTo>
                  <a:lnTo>
                    <a:pt x="1134" y="282"/>
                  </a:lnTo>
                  <a:lnTo>
                    <a:pt x="1127" y="298"/>
                  </a:lnTo>
                  <a:lnTo>
                    <a:pt x="1117" y="315"/>
                  </a:lnTo>
                  <a:lnTo>
                    <a:pt x="1109" y="332"/>
                  </a:lnTo>
                  <a:lnTo>
                    <a:pt x="1100" y="349"/>
                  </a:lnTo>
                  <a:lnTo>
                    <a:pt x="1092" y="366"/>
                  </a:lnTo>
                  <a:lnTo>
                    <a:pt x="1083" y="383"/>
                  </a:lnTo>
                  <a:lnTo>
                    <a:pt x="1075" y="400"/>
                  </a:lnTo>
                  <a:lnTo>
                    <a:pt x="1067" y="416"/>
                  </a:lnTo>
                  <a:lnTo>
                    <a:pt x="1058" y="433"/>
                  </a:lnTo>
                  <a:lnTo>
                    <a:pt x="1050" y="450"/>
                  </a:lnTo>
                  <a:lnTo>
                    <a:pt x="1040" y="467"/>
                  </a:lnTo>
                  <a:lnTo>
                    <a:pt x="1033" y="482"/>
                  </a:lnTo>
                  <a:lnTo>
                    <a:pt x="1025" y="500"/>
                  </a:lnTo>
                  <a:lnTo>
                    <a:pt x="1016" y="515"/>
                  </a:lnTo>
                  <a:lnTo>
                    <a:pt x="1008" y="530"/>
                  </a:lnTo>
                  <a:lnTo>
                    <a:pt x="998" y="545"/>
                  </a:lnTo>
                  <a:lnTo>
                    <a:pt x="991" y="559"/>
                  </a:lnTo>
                  <a:lnTo>
                    <a:pt x="981" y="572"/>
                  </a:lnTo>
                  <a:lnTo>
                    <a:pt x="973" y="587"/>
                  </a:lnTo>
                  <a:lnTo>
                    <a:pt x="966" y="601"/>
                  </a:lnTo>
                  <a:lnTo>
                    <a:pt x="956" y="612"/>
                  </a:lnTo>
                  <a:lnTo>
                    <a:pt x="949" y="625"/>
                  </a:lnTo>
                  <a:lnTo>
                    <a:pt x="939" y="637"/>
                  </a:lnTo>
                  <a:lnTo>
                    <a:pt x="924" y="660"/>
                  </a:lnTo>
                  <a:lnTo>
                    <a:pt x="914" y="669"/>
                  </a:lnTo>
                  <a:lnTo>
                    <a:pt x="907" y="679"/>
                  </a:lnTo>
                  <a:lnTo>
                    <a:pt x="897" y="686"/>
                  </a:lnTo>
                  <a:lnTo>
                    <a:pt x="882" y="702"/>
                  </a:lnTo>
                  <a:lnTo>
                    <a:pt x="872" y="707"/>
                  </a:lnTo>
                  <a:lnTo>
                    <a:pt x="866" y="713"/>
                  </a:lnTo>
                  <a:lnTo>
                    <a:pt x="857" y="717"/>
                  </a:lnTo>
                  <a:lnTo>
                    <a:pt x="841" y="724"/>
                  </a:lnTo>
                  <a:lnTo>
                    <a:pt x="832" y="724"/>
                  </a:lnTo>
                  <a:lnTo>
                    <a:pt x="824" y="726"/>
                  </a:lnTo>
                  <a:lnTo>
                    <a:pt x="815" y="724"/>
                  </a:lnTo>
                  <a:lnTo>
                    <a:pt x="807" y="724"/>
                  </a:lnTo>
                  <a:lnTo>
                    <a:pt x="799" y="721"/>
                  </a:lnTo>
                  <a:lnTo>
                    <a:pt x="790" y="717"/>
                  </a:lnTo>
                  <a:lnTo>
                    <a:pt x="782" y="713"/>
                  </a:lnTo>
                  <a:lnTo>
                    <a:pt x="775" y="707"/>
                  </a:lnTo>
                  <a:lnTo>
                    <a:pt x="767" y="702"/>
                  </a:lnTo>
                  <a:lnTo>
                    <a:pt x="757" y="694"/>
                  </a:lnTo>
                  <a:lnTo>
                    <a:pt x="750" y="686"/>
                  </a:lnTo>
                  <a:lnTo>
                    <a:pt x="740" y="679"/>
                  </a:lnTo>
                  <a:lnTo>
                    <a:pt x="725" y="660"/>
                  </a:lnTo>
                  <a:lnTo>
                    <a:pt x="715" y="648"/>
                  </a:lnTo>
                  <a:lnTo>
                    <a:pt x="708" y="637"/>
                  </a:lnTo>
                  <a:lnTo>
                    <a:pt x="698" y="625"/>
                  </a:lnTo>
                  <a:lnTo>
                    <a:pt x="690" y="614"/>
                  </a:lnTo>
                  <a:lnTo>
                    <a:pt x="681" y="601"/>
                  </a:lnTo>
                  <a:lnTo>
                    <a:pt x="673" y="587"/>
                  </a:lnTo>
                  <a:lnTo>
                    <a:pt x="664" y="572"/>
                  </a:lnTo>
                  <a:lnTo>
                    <a:pt x="656" y="559"/>
                  </a:lnTo>
                  <a:lnTo>
                    <a:pt x="646" y="545"/>
                  </a:lnTo>
                  <a:lnTo>
                    <a:pt x="639" y="530"/>
                  </a:lnTo>
                  <a:lnTo>
                    <a:pt x="629" y="515"/>
                  </a:lnTo>
                  <a:lnTo>
                    <a:pt x="621" y="500"/>
                  </a:lnTo>
                  <a:lnTo>
                    <a:pt x="612" y="484"/>
                  </a:lnTo>
                  <a:lnTo>
                    <a:pt x="604" y="467"/>
                  </a:lnTo>
                  <a:lnTo>
                    <a:pt x="595" y="452"/>
                  </a:lnTo>
                  <a:lnTo>
                    <a:pt x="587" y="435"/>
                  </a:lnTo>
                  <a:lnTo>
                    <a:pt x="577" y="418"/>
                  </a:lnTo>
                  <a:lnTo>
                    <a:pt x="570" y="400"/>
                  </a:lnTo>
                  <a:lnTo>
                    <a:pt x="560" y="385"/>
                  </a:lnTo>
                  <a:lnTo>
                    <a:pt x="553" y="368"/>
                  </a:lnTo>
                  <a:lnTo>
                    <a:pt x="543" y="351"/>
                  </a:lnTo>
                  <a:lnTo>
                    <a:pt x="528" y="317"/>
                  </a:lnTo>
                  <a:lnTo>
                    <a:pt x="518" y="301"/>
                  </a:lnTo>
                  <a:lnTo>
                    <a:pt x="511" y="284"/>
                  </a:lnTo>
                  <a:lnTo>
                    <a:pt x="501" y="267"/>
                  </a:lnTo>
                  <a:lnTo>
                    <a:pt x="493" y="252"/>
                  </a:lnTo>
                  <a:lnTo>
                    <a:pt x="484" y="237"/>
                  </a:lnTo>
                  <a:lnTo>
                    <a:pt x="476" y="221"/>
                  </a:lnTo>
                  <a:lnTo>
                    <a:pt x="468" y="204"/>
                  </a:lnTo>
                  <a:lnTo>
                    <a:pt x="459" y="189"/>
                  </a:lnTo>
                  <a:lnTo>
                    <a:pt x="451" y="176"/>
                  </a:lnTo>
                  <a:lnTo>
                    <a:pt x="442" y="158"/>
                  </a:lnTo>
                  <a:lnTo>
                    <a:pt x="426" y="132"/>
                  </a:lnTo>
                  <a:lnTo>
                    <a:pt x="417" y="120"/>
                  </a:lnTo>
                  <a:lnTo>
                    <a:pt x="409" y="107"/>
                  </a:lnTo>
                  <a:lnTo>
                    <a:pt x="400" y="96"/>
                  </a:lnTo>
                  <a:lnTo>
                    <a:pt x="392" y="84"/>
                  </a:lnTo>
                  <a:lnTo>
                    <a:pt x="382" y="73"/>
                  </a:lnTo>
                  <a:lnTo>
                    <a:pt x="375" y="63"/>
                  </a:lnTo>
                  <a:lnTo>
                    <a:pt x="350" y="38"/>
                  </a:lnTo>
                  <a:lnTo>
                    <a:pt x="340" y="31"/>
                  </a:lnTo>
                  <a:lnTo>
                    <a:pt x="333" y="25"/>
                  </a:lnTo>
                  <a:lnTo>
                    <a:pt x="321" y="19"/>
                  </a:lnTo>
                  <a:lnTo>
                    <a:pt x="313" y="16"/>
                  </a:lnTo>
                  <a:lnTo>
                    <a:pt x="304" y="12"/>
                  </a:lnTo>
                  <a:lnTo>
                    <a:pt x="296" y="10"/>
                  </a:lnTo>
                  <a:lnTo>
                    <a:pt x="287" y="8"/>
                  </a:lnTo>
                  <a:lnTo>
                    <a:pt x="269" y="8"/>
                  </a:lnTo>
                  <a:lnTo>
                    <a:pt x="262" y="10"/>
                  </a:lnTo>
                  <a:lnTo>
                    <a:pt x="252" y="12"/>
                  </a:lnTo>
                  <a:lnTo>
                    <a:pt x="245" y="16"/>
                  </a:lnTo>
                  <a:lnTo>
                    <a:pt x="235" y="19"/>
                  </a:lnTo>
                  <a:lnTo>
                    <a:pt x="225" y="25"/>
                  </a:lnTo>
                  <a:lnTo>
                    <a:pt x="216" y="31"/>
                  </a:lnTo>
                  <a:lnTo>
                    <a:pt x="208" y="38"/>
                  </a:lnTo>
                  <a:lnTo>
                    <a:pt x="199" y="46"/>
                  </a:lnTo>
                  <a:lnTo>
                    <a:pt x="172" y="73"/>
                  </a:lnTo>
                  <a:lnTo>
                    <a:pt x="164" y="84"/>
                  </a:lnTo>
                  <a:lnTo>
                    <a:pt x="155" y="96"/>
                  </a:lnTo>
                  <a:lnTo>
                    <a:pt x="147" y="107"/>
                  </a:lnTo>
                  <a:lnTo>
                    <a:pt x="137" y="120"/>
                  </a:lnTo>
                  <a:lnTo>
                    <a:pt x="130" y="132"/>
                  </a:lnTo>
                  <a:lnTo>
                    <a:pt x="120" y="145"/>
                  </a:lnTo>
                  <a:lnTo>
                    <a:pt x="113" y="158"/>
                  </a:lnTo>
                  <a:lnTo>
                    <a:pt x="103" y="176"/>
                  </a:lnTo>
                  <a:lnTo>
                    <a:pt x="95" y="189"/>
                  </a:lnTo>
                  <a:lnTo>
                    <a:pt x="86" y="202"/>
                  </a:lnTo>
                  <a:lnTo>
                    <a:pt x="76" y="221"/>
                  </a:lnTo>
                  <a:lnTo>
                    <a:pt x="69" y="237"/>
                  </a:lnTo>
                  <a:lnTo>
                    <a:pt x="59" y="252"/>
                  </a:lnTo>
                  <a:lnTo>
                    <a:pt x="51" y="267"/>
                  </a:lnTo>
                  <a:lnTo>
                    <a:pt x="42" y="284"/>
                  </a:lnTo>
                  <a:lnTo>
                    <a:pt x="34" y="301"/>
                  </a:lnTo>
                  <a:lnTo>
                    <a:pt x="25" y="317"/>
                  </a:lnTo>
                  <a:lnTo>
                    <a:pt x="17" y="334"/>
                  </a:lnTo>
                  <a:lnTo>
                    <a:pt x="7" y="351"/>
                  </a:lnTo>
                  <a:lnTo>
                    <a:pt x="0" y="368"/>
                  </a:lnTo>
                  <a:lnTo>
                    <a:pt x="4" y="3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195200" y="1406160"/>
              <a:ext cx="0" cy="1195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204920" y="2003040"/>
              <a:ext cx="3007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516920" y="1876320"/>
              <a:ext cx="502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23440" y="19000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61040" y="1295280"/>
              <a:ext cx="41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|A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2514600" y="2971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666800" y="3382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0" y="5791320"/>
            <a:ext cx="4765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2514600" y="4495320"/>
            <a:ext cx="0" cy="132084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20" y="5257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757880" y="4897440"/>
            <a:ext cx="1321200" cy="1370520"/>
            <a:chOff x="1757880" y="4897440"/>
            <a:chExt cx="1321200" cy="1370520"/>
          </a:xfrm>
        </p:grpSpPr>
        <p:grpSp>
          <p:nvGrpSpPr>
            <p:cNvPr id="1170" name=""/>
            <p:cNvGrpSpPr/>
            <p:nvPr/>
          </p:nvGrpSpPr>
          <p:grpSpPr>
            <a:xfrm>
              <a:off x="2057400" y="4897440"/>
              <a:ext cx="914400" cy="925560"/>
              <a:chOff x="2057400" y="4897440"/>
              <a:chExt cx="914400" cy="925560"/>
            </a:xfrm>
          </p:grpSpPr>
          <p:sp>
            <p:nvSpPr>
              <p:cNvPr id="1171" name=""/>
              <p:cNvSpPr/>
              <p:nvPr/>
            </p:nvSpPr>
            <p:spPr>
              <a:xfrm>
                <a:off x="2057400" y="4897440"/>
                <a:ext cx="447840" cy="912960"/>
              </a:xfrm>
              <a:custGeom>
                <a:avLst/>
                <a:gdLst/>
                <a:ahLst/>
                <a:rect l="l" t="t" r="r" b="b"/>
                <a:pathLst>
                  <a:path w="721" h="607">
                    <a:moveTo>
                      <a:pt x="0" y="606"/>
                    </a:moveTo>
                    <a:lnTo>
                      <a:pt x="34" y="541"/>
                    </a:lnTo>
                    <a:lnTo>
                      <a:pt x="72" y="477"/>
                    </a:lnTo>
                    <a:lnTo>
                      <a:pt x="118" y="416"/>
                    </a:lnTo>
                    <a:lnTo>
                      <a:pt x="144" y="386"/>
                    </a:lnTo>
                    <a:lnTo>
                      <a:pt x="173" y="359"/>
                    </a:lnTo>
                    <a:lnTo>
                      <a:pt x="241" y="307"/>
                    </a:lnTo>
                    <a:lnTo>
                      <a:pt x="313" y="259"/>
                    </a:lnTo>
                    <a:lnTo>
                      <a:pt x="385" y="215"/>
                    </a:lnTo>
                    <a:lnTo>
                      <a:pt x="417" y="193"/>
                    </a:lnTo>
                    <a:lnTo>
                      <a:pt x="447" y="171"/>
                    </a:lnTo>
                    <a:lnTo>
                      <a:pt x="474" y="149"/>
                    </a:lnTo>
                    <a:lnTo>
                      <a:pt x="495" y="129"/>
                    </a:lnTo>
                    <a:lnTo>
                      <a:pt x="533" y="88"/>
                    </a:lnTo>
                    <a:lnTo>
                      <a:pt x="561" y="55"/>
                    </a:lnTo>
                    <a:lnTo>
                      <a:pt x="589" y="27"/>
                    </a:lnTo>
                    <a:lnTo>
                      <a:pt x="620" y="11"/>
                    </a:lnTo>
                    <a:lnTo>
                      <a:pt x="652" y="3"/>
                    </a:lnTo>
                    <a:lnTo>
                      <a:pt x="684" y="0"/>
                    </a:lnTo>
                    <a:lnTo>
                      <a:pt x="720" y="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496960" y="4908600"/>
                <a:ext cx="474840" cy="914400"/>
              </a:xfrm>
              <a:custGeom>
                <a:avLst/>
                <a:gdLst/>
                <a:ahLst/>
                <a:rect l="l" t="t" r="r" b="b"/>
                <a:pathLst>
                  <a:path w="720" h="608">
                    <a:moveTo>
                      <a:pt x="719" y="607"/>
                    </a:moveTo>
                    <a:lnTo>
                      <a:pt x="683" y="542"/>
                    </a:lnTo>
                    <a:lnTo>
                      <a:pt x="645" y="479"/>
                    </a:lnTo>
                    <a:lnTo>
                      <a:pt x="600" y="419"/>
                    </a:lnTo>
                    <a:lnTo>
                      <a:pt x="573" y="389"/>
                    </a:lnTo>
                    <a:lnTo>
                      <a:pt x="545" y="362"/>
                    </a:lnTo>
                    <a:lnTo>
                      <a:pt x="513" y="336"/>
                    </a:lnTo>
                    <a:lnTo>
                      <a:pt x="479" y="310"/>
                    </a:lnTo>
                    <a:lnTo>
                      <a:pt x="407" y="262"/>
                    </a:lnTo>
                    <a:lnTo>
                      <a:pt x="335" y="216"/>
                    </a:lnTo>
                    <a:lnTo>
                      <a:pt x="303" y="194"/>
                    </a:lnTo>
                    <a:lnTo>
                      <a:pt x="272" y="172"/>
                    </a:lnTo>
                    <a:lnTo>
                      <a:pt x="246" y="150"/>
                    </a:lnTo>
                    <a:lnTo>
                      <a:pt x="225" y="129"/>
                    </a:lnTo>
                    <a:lnTo>
                      <a:pt x="187" y="89"/>
                    </a:lnTo>
                    <a:lnTo>
                      <a:pt x="157" y="56"/>
                    </a:lnTo>
                    <a:lnTo>
                      <a:pt x="128" y="28"/>
                    </a:lnTo>
                    <a:lnTo>
                      <a:pt x="98" y="11"/>
                    </a:lnTo>
                    <a:lnTo>
                      <a:pt x="68" y="4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3" name=""/>
            <p:cNvSpPr/>
            <p:nvPr/>
          </p:nvSpPr>
          <p:spPr>
            <a:xfrm>
              <a:off x="1757880" y="586728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748240" y="5867280"/>
              <a:ext cx="3308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5" name=""/>
          <p:cNvSpPr/>
          <p:nvPr/>
        </p:nvSpPr>
        <p:spPr>
          <a:xfrm>
            <a:off x="2467440" y="4594320"/>
            <a:ext cx="41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447920" y="434232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4648320" y="3886200"/>
                <a:ext cx="15746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8" name=""/>
          <p:cNvSpPr/>
          <p:nvPr/>
        </p:nvSpPr>
        <p:spPr>
          <a:xfrm>
            <a:off x="5011560" y="5818320"/>
            <a:ext cx="4765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7391520" y="4495320"/>
            <a:ext cx="0" cy="132084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344360" y="4594320"/>
            <a:ext cx="41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6634800" y="4876920"/>
            <a:ext cx="1321200" cy="1370520"/>
            <a:chOff x="6634800" y="4876920"/>
            <a:chExt cx="1321200" cy="1370520"/>
          </a:xfrm>
        </p:grpSpPr>
        <p:grpSp>
          <p:nvGrpSpPr>
            <p:cNvPr id="1182" name=""/>
            <p:cNvGrpSpPr/>
            <p:nvPr/>
          </p:nvGrpSpPr>
          <p:grpSpPr>
            <a:xfrm>
              <a:off x="6934320" y="4876920"/>
              <a:ext cx="914400" cy="925560"/>
              <a:chOff x="6934320" y="4876920"/>
              <a:chExt cx="914400" cy="925560"/>
            </a:xfrm>
          </p:grpSpPr>
          <p:sp>
            <p:nvSpPr>
              <p:cNvPr id="1183" name=""/>
              <p:cNvSpPr/>
              <p:nvPr/>
            </p:nvSpPr>
            <p:spPr>
              <a:xfrm>
                <a:off x="6934320" y="4876920"/>
                <a:ext cx="447840" cy="912960"/>
              </a:xfrm>
              <a:custGeom>
                <a:avLst/>
                <a:gdLst/>
                <a:ahLst/>
                <a:rect l="l" t="t" r="r" b="b"/>
                <a:pathLst>
                  <a:path w="721" h="607">
                    <a:moveTo>
                      <a:pt x="0" y="606"/>
                    </a:moveTo>
                    <a:lnTo>
                      <a:pt x="34" y="541"/>
                    </a:lnTo>
                    <a:lnTo>
                      <a:pt x="72" y="477"/>
                    </a:lnTo>
                    <a:lnTo>
                      <a:pt x="118" y="416"/>
                    </a:lnTo>
                    <a:lnTo>
                      <a:pt x="144" y="386"/>
                    </a:lnTo>
                    <a:lnTo>
                      <a:pt x="173" y="359"/>
                    </a:lnTo>
                    <a:lnTo>
                      <a:pt x="241" y="307"/>
                    </a:lnTo>
                    <a:lnTo>
                      <a:pt x="313" y="259"/>
                    </a:lnTo>
                    <a:lnTo>
                      <a:pt x="385" y="215"/>
                    </a:lnTo>
                    <a:lnTo>
                      <a:pt x="417" y="193"/>
                    </a:lnTo>
                    <a:lnTo>
                      <a:pt x="447" y="171"/>
                    </a:lnTo>
                    <a:lnTo>
                      <a:pt x="474" y="149"/>
                    </a:lnTo>
                    <a:lnTo>
                      <a:pt x="495" y="129"/>
                    </a:lnTo>
                    <a:lnTo>
                      <a:pt x="533" y="88"/>
                    </a:lnTo>
                    <a:lnTo>
                      <a:pt x="561" y="55"/>
                    </a:lnTo>
                    <a:lnTo>
                      <a:pt x="589" y="27"/>
                    </a:lnTo>
                    <a:lnTo>
                      <a:pt x="620" y="11"/>
                    </a:lnTo>
                    <a:lnTo>
                      <a:pt x="652" y="3"/>
                    </a:lnTo>
                    <a:lnTo>
                      <a:pt x="684" y="0"/>
                    </a:lnTo>
                    <a:lnTo>
                      <a:pt x="720" y="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373880" y="4888080"/>
                <a:ext cx="474840" cy="914400"/>
              </a:xfrm>
              <a:custGeom>
                <a:avLst/>
                <a:gdLst/>
                <a:ahLst/>
                <a:rect l="l" t="t" r="r" b="b"/>
                <a:pathLst>
                  <a:path w="720" h="608">
                    <a:moveTo>
                      <a:pt x="719" y="607"/>
                    </a:moveTo>
                    <a:lnTo>
                      <a:pt x="683" y="542"/>
                    </a:lnTo>
                    <a:lnTo>
                      <a:pt x="645" y="479"/>
                    </a:lnTo>
                    <a:lnTo>
                      <a:pt x="600" y="419"/>
                    </a:lnTo>
                    <a:lnTo>
                      <a:pt x="573" y="389"/>
                    </a:lnTo>
                    <a:lnTo>
                      <a:pt x="545" y="362"/>
                    </a:lnTo>
                    <a:lnTo>
                      <a:pt x="513" y="336"/>
                    </a:lnTo>
                    <a:lnTo>
                      <a:pt x="479" y="310"/>
                    </a:lnTo>
                    <a:lnTo>
                      <a:pt x="407" y="262"/>
                    </a:lnTo>
                    <a:lnTo>
                      <a:pt x="335" y="216"/>
                    </a:lnTo>
                    <a:lnTo>
                      <a:pt x="303" y="194"/>
                    </a:lnTo>
                    <a:lnTo>
                      <a:pt x="272" y="172"/>
                    </a:lnTo>
                    <a:lnTo>
                      <a:pt x="246" y="150"/>
                    </a:lnTo>
                    <a:lnTo>
                      <a:pt x="225" y="129"/>
                    </a:lnTo>
                    <a:lnTo>
                      <a:pt x="187" y="89"/>
                    </a:lnTo>
                    <a:lnTo>
                      <a:pt x="157" y="56"/>
                    </a:lnTo>
                    <a:lnTo>
                      <a:pt x="128" y="28"/>
                    </a:lnTo>
                    <a:lnTo>
                      <a:pt x="98" y="11"/>
                    </a:lnTo>
                    <a:lnTo>
                      <a:pt x="68" y="4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5" name=""/>
            <p:cNvSpPr/>
            <p:nvPr/>
          </p:nvSpPr>
          <p:spPr>
            <a:xfrm>
              <a:off x="6634800" y="584676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625160" y="5846760"/>
              <a:ext cx="3308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7930080" y="4890960"/>
            <a:ext cx="1321200" cy="1370520"/>
            <a:chOff x="7930080" y="4890960"/>
            <a:chExt cx="1321200" cy="1370520"/>
          </a:xfrm>
        </p:grpSpPr>
        <p:grpSp>
          <p:nvGrpSpPr>
            <p:cNvPr id="1188" name=""/>
            <p:cNvGrpSpPr/>
            <p:nvPr/>
          </p:nvGrpSpPr>
          <p:grpSpPr>
            <a:xfrm>
              <a:off x="8229600" y="4890960"/>
              <a:ext cx="914400" cy="925560"/>
              <a:chOff x="8229600" y="4890960"/>
              <a:chExt cx="914400" cy="925560"/>
            </a:xfrm>
          </p:grpSpPr>
          <p:sp>
            <p:nvSpPr>
              <p:cNvPr id="1189" name=""/>
              <p:cNvSpPr/>
              <p:nvPr/>
            </p:nvSpPr>
            <p:spPr>
              <a:xfrm>
                <a:off x="8229600" y="4890960"/>
                <a:ext cx="447840" cy="912960"/>
              </a:xfrm>
              <a:custGeom>
                <a:avLst/>
                <a:gdLst/>
                <a:ahLst/>
                <a:rect l="l" t="t" r="r" b="b"/>
                <a:pathLst>
                  <a:path w="721" h="607">
                    <a:moveTo>
                      <a:pt x="0" y="606"/>
                    </a:moveTo>
                    <a:lnTo>
                      <a:pt x="34" y="541"/>
                    </a:lnTo>
                    <a:lnTo>
                      <a:pt x="72" y="477"/>
                    </a:lnTo>
                    <a:lnTo>
                      <a:pt x="118" y="416"/>
                    </a:lnTo>
                    <a:lnTo>
                      <a:pt x="144" y="386"/>
                    </a:lnTo>
                    <a:lnTo>
                      <a:pt x="173" y="359"/>
                    </a:lnTo>
                    <a:lnTo>
                      <a:pt x="241" y="307"/>
                    </a:lnTo>
                    <a:lnTo>
                      <a:pt x="313" y="259"/>
                    </a:lnTo>
                    <a:lnTo>
                      <a:pt x="385" y="215"/>
                    </a:lnTo>
                    <a:lnTo>
                      <a:pt x="417" y="193"/>
                    </a:lnTo>
                    <a:lnTo>
                      <a:pt x="447" y="171"/>
                    </a:lnTo>
                    <a:lnTo>
                      <a:pt x="474" y="149"/>
                    </a:lnTo>
                    <a:lnTo>
                      <a:pt x="495" y="129"/>
                    </a:lnTo>
                    <a:lnTo>
                      <a:pt x="533" y="88"/>
                    </a:lnTo>
                    <a:lnTo>
                      <a:pt x="561" y="55"/>
                    </a:lnTo>
                    <a:lnTo>
                      <a:pt x="589" y="27"/>
                    </a:lnTo>
                    <a:lnTo>
                      <a:pt x="620" y="11"/>
                    </a:lnTo>
                    <a:lnTo>
                      <a:pt x="652" y="3"/>
                    </a:lnTo>
                    <a:lnTo>
                      <a:pt x="684" y="0"/>
                    </a:lnTo>
                    <a:lnTo>
                      <a:pt x="720" y="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8669160" y="4902120"/>
                <a:ext cx="474840" cy="914400"/>
              </a:xfrm>
              <a:custGeom>
                <a:avLst/>
                <a:gdLst/>
                <a:ahLst/>
                <a:rect l="l" t="t" r="r" b="b"/>
                <a:pathLst>
                  <a:path w="720" h="608">
                    <a:moveTo>
                      <a:pt x="719" y="607"/>
                    </a:moveTo>
                    <a:lnTo>
                      <a:pt x="683" y="542"/>
                    </a:lnTo>
                    <a:lnTo>
                      <a:pt x="645" y="479"/>
                    </a:lnTo>
                    <a:lnTo>
                      <a:pt x="600" y="419"/>
                    </a:lnTo>
                    <a:lnTo>
                      <a:pt x="573" y="389"/>
                    </a:lnTo>
                    <a:lnTo>
                      <a:pt x="545" y="362"/>
                    </a:lnTo>
                    <a:lnTo>
                      <a:pt x="513" y="336"/>
                    </a:lnTo>
                    <a:lnTo>
                      <a:pt x="479" y="310"/>
                    </a:lnTo>
                    <a:lnTo>
                      <a:pt x="407" y="262"/>
                    </a:lnTo>
                    <a:lnTo>
                      <a:pt x="335" y="216"/>
                    </a:lnTo>
                    <a:lnTo>
                      <a:pt x="303" y="194"/>
                    </a:lnTo>
                    <a:lnTo>
                      <a:pt x="272" y="172"/>
                    </a:lnTo>
                    <a:lnTo>
                      <a:pt x="246" y="150"/>
                    </a:lnTo>
                    <a:lnTo>
                      <a:pt x="225" y="129"/>
                    </a:lnTo>
                    <a:lnTo>
                      <a:pt x="187" y="89"/>
                    </a:lnTo>
                    <a:lnTo>
                      <a:pt x="157" y="56"/>
                    </a:lnTo>
                    <a:lnTo>
                      <a:pt x="128" y="28"/>
                    </a:lnTo>
                    <a:lnTo>
                      <a:pt x="98" y="11"/>
                    </a:lnTo>
                    <a:lnTo>
                      <a:pt x="68" y="4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7930080" y="586080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920440" y="5860800"/>
              <a:ext cx="3308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5339160" y="4876920"/>
            <a:ext cx="1321200" cy="1370520"/>
            <a:chOff x="5339160" y="4876920"/>
            <a:chExt cx="1321200" cy="1370520"/>
          </a:xfrm>
        </p:grpSpPr>
        <p:grpSp>
          <p:nvGrpSpPr>
            <p:cNvPr id="1194" name=""/>
            <p:cNvGrpSpPr/>
            <p:nvPr/>
          </p:nvGrpSpPr>
          <p:grpSpPr>
            <a:xfrm>
              <a:off x="5638680" y="4876920"/>
              <a:ext cx="913680" cy="925560"/>
              <a:chOff x="5638680" y="4876920"/>
              <a:chExt cx="913680" cy="925560"/>
            </a:xfrm>
          </p:grpSpPr>
          <p:sp>
            <p:nvSpPr>
              <p:cNvPr id="1195" name=""/>
              <p:cNvSpPr/>
              <p:nvPr/>
            </p:nvSpPr>
            <p:spPr>
              <a:xfrm>
                <a:off x="5638680" y="4876920"/>
                <a:ext cx="447480" cy="912960"/>
              </a:xfrm>
              <a:custGeom>
                <a:avLst/>
                <a:gdLst/>
                <a:ahLst/>
                <a:rect l="l" t="t" r="r" b="b"/>
                <a:pathLst>
                  <a:path w="721" h="607">
                    <a:moveTo>
                      <a:pt x="0" y="606"/>
                    </a:moveTo>
                    <a:lnTo>
                      <a:pt x="34" y="541"/>
                    </a:lnTo>
                    <a:lnTo>
                      <a:pt x="72" y="477"/>
                    </a:lnTo>
                    <a:lnTo>
                      <a:pt x="118" y="416"/>
                    </a:lnTo>
                    <a:lnTo>
                      <a:pt x="144" y="386"/>
                    </a:lnTo>
                    <a:lnTo>
                      <a:pt x="173" y="359"/>
                    </a:lnTo>
                    <a:lnTo>
                      <a:pt x="241" y="307"/>
                    </a:lnTo>
                    <a:lnTo>
                      <a:pt x="313" y="259"/>
                    </a:lnTo>
                    <a:lnTo>
                      <a:pt x="385" y="215"/>
                    </a:lnTo>
                    <a:lnTo>
                      <a:pt x="417" y="193"/>
                    </a:lnTo>
                    <a:lnTo>
                      <a:pt x="447" y="171"/>
                    </a:lnTo>
                    <a:lnTo>
                      <a:pt x="474" y="149"/>
                    </a:lnTo>
                    <a:lnTo>
                      <a:pt x="495" y="129"/>
                    </a:lnTo>
                    <a:lnTo>
                      <a:pt x="533" y="88"/>
                    </a:lnTo>
                    <a:lnTo>
                      <a:pt x="561" y="55"/>
                    </a:lnTo>
                    <a:lnTo>
                      <a:pt x="589" y="27"/>
                    </a:lnTo>
                    <a:lnTo>
                      <a:pt x="620" y="11"/>
                    </a:lnTo>
                    <a:lnTo>
                      <a:pt x="652" y="3"/>
                    </a:lnTo>
                    <a:lnTo>
                      <a:pt x="684" y="0"/>
                    </a:lnTo>
                    <a:lnTo>
                      <a:pt x="720" y="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077880" y="4888080"/>
                <a:ext cx="474480" cy="914400"/>
              </a:xfrm>
              <a:custGeom>
                <a:avLst/>
                <a:gdLst/>
                <a:ahLst/>
                <a:rect l="l" t="t" r="r" b="b"/>
                <a:pathLst>
                  <a:path w="720" h="608">
                    <a:moveTo>
                      <a:pt x="719" y="607"/>
                    </a:moveTo>
                    <a:lnTo>
                      <a:pt x="683" y="542"/>
                    </a:lnTo>
                    <a:lnTo>
                      <a:pt x="645" y="479"/>
                    </a:lnTo>
                    <a:lnTo>
                      <a:pt x="600" y="419"/>
                    </a:lnTo>
                    <a:lnTo>
                      <a:pt x="573" y="389"/>
                    </a:lnTo>
                    <a:lnTo>
                      <a:pt x="545" y="362"/>
                    </a:lnTo>
                    <a:lnTo>
                      <a:pt x="513" y="336"/>
                    </a:lnTo>
                    <a:lnTo>
                      <a:pt x="479" y="310"/>
                    </a:lnTo>
                    <a:lnTo>
                      <a:pt x="407" y="262"/>
                    </a:lnTo>
                    <a:lnTo>
                      <a:pt x="335" y="216"/>
                    </a:lnTo>
                    <a:lnTo>
                      <a:pt x="303" y="194"/>
                    </a:lnTo>
                    <a:lnTo>
                      <a:pt x="272" y="172"/>
                    </a:lnTo>
                    <a:lnTo>
                      <a:pt x="246" y="150"/>
                    </a:lnTo>
                    <a:lnTo>
                      <a:pt x="225" y="129"/>
                    </a:lnTo>
                    <a:lnTo>
                      <a:pt x="187" y="89"/>
                    </a:lnTo>
                    <a:lnTo>
                      <a:pt x="157" y="56"/>
                    </a:lnTo>
                    <a:lnTo>
                      <a:pt x="128" y="28"/>
                    </a:lnTo>
                    <a:lnTo>
                      <a:pt x="98" y="11"/>
                    </a:lnTo>
                    <a:lnTo>
                      <a:pt x="68" y="4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>
              <a:off x="5339160" y="584676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329520" y="5846760"/>
              <a:ext cx="3308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8658360" y="42991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095880" y="4267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867640" y="60188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458920" y="6018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315200" y="28954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67400" y="33058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800680" y="1409760"/>
            <a:ext cx="2873520" cy="1100160"/>
          </a:xfrm>
          <a:custGeom>
            <a:avLst/>
            <a:gdLst/>
            <a:ahLst/>
            <a:rect l="l" t="t" r="r" b="b"/>
            <a:pathLst>
              <a:path w="1636" h="731">
                <a:moveTo>
                  <a:pt x="4" y="368"/>
                </a:moveTo>
                <a:lnTo>
                  <a:pt x="11" y="351"/>
                </a:lnTo>
                <a:lnTo>
                  <a:pt x="21" y="334"/>
                </a:lnTo>
                <a:lnTo>
                  <a:pt x="28" y="317"/>
                </a:lnTo>
                <a:lnTo>
                  <a:pt x="38" y="301"/>
                </a:lnTo>
                <a:lnTo>
                  <a:pt x="46" y="284"/>
                </a:lnTo>
                <a:lnTo>
                  <a:pt x="55" y="267"/>
                </a:lnTo>
                <a:lnTo>
                  <a:pt x="63" y="252"/>
                </a:lnTo>
                <a:lnTo>
                  <a:pt x="72" y="237"/>
                </a:lnTo>
                <a:lnTo>
                  <a:pt x="80" y="221"/>
                </a:lnTo>
                <a:lnTo>
                  <a:pt x="90" y="206"/>
                </a:lnTo>
                <a:lnTo>
                  <a:pt x="99" y="193"/>
                </a:lnTo>
                <a:lnTo>
                  <a:pt x="107" y="176"/>
                </a:lnTo>
                <a:lnTo>
                  <a:pt x="116" y="162"/>
                </a:lnTo>
                <a:lnTo>
                  <a:pt x="124" y="149"/>
                </a:lnTo>
                <a:lnTo>
                  <a:pt x="134" y="136"/>
                </a:lnTo>
                <a:lnTo>
                  <a:pt x="141" y="124"/>
                </a:lnTo>
                <a:lnTo>
                  <a:pt x="151" y="111"/>
                </a:lnTo>
                <a:lnTo>
                  <a:pt x="158" y="99"/>
                </a:lnTo>
                <a:lnTo>
                  <a:pt x="168" y="88"/>
                </a:lnTo>
                <a:lnTo>
                  <a:pt x="176" y="77"/>
                </a:lnTo>
                <a:lnTo>
                  <a:pt x="202" y="50"/>
                </a:lnTo>
                <a:lnTo>
                  <a:pt x="212" y="42"/>
                </a:lnTo>
                <a:lnTo>
                  <a:pt x="220" y="35"/>
                </a:lnTo>
                <a:lnTo>
                  <a:pt x="229" y="29"/>
                </a:lnTo>
                <a:lnTo>
                  <a:pt x="235" y="23"/>
                </a:lnTo>
                <a:lnTo>
                  <a:pt x="245" y="19"/>
                </a:lnTo>
                <a:lnTo>
                  <a:pt x="252" y="16"/>
                </a:lnTo>
                <a:lnTo>
                  <a:pt x="262" y="14"/>
                </a:lnTo>
                <a:lnTo>
                  <a:pt x="269" y="12"/>
                </a:lnTo>
                <a:lnTo>
                  <a:pt x="287" y="12"/>
                </a:lnTo>
                <a:lnTo>
                  <a:pt x="296" y="14"/>
                </a:lnTo>
                <a:lnTo>
                  <a:pt x="304" y="16"/>
                </a:lnTo>
                <a:lnTo>
                  <a:pt x="313" y="19"/>
                </a:lnTo>
                <a:lnTo>
                  <a:pt x="321" y="23"/>
                </a:lnTo>
                <a:lnTo>
                  <a:pt x="329" y="29"/>
                </a:lnTo>
                <a:lnTo>
                  <a:pt x="336" y="35"/>
                </a:lnTo>
                <a:lnTo>
                  <a:pt x="346" y="42"/>
                </a:lnTo>
                <a:lnTo>
                  <a:pt x="371" y="67"/>
                </a:lnTo>
                <a:lnTo>
                  <a:pt x="378" y="77"/>
                </a:lnTo>
                <a:lnTo>
                  <a:pt x="388" y="88"/>
                </a:lnTo>
                <a:lnTo>
                  <a:pt x="396" y="99"/>
                </a:lnTo>
                <a:lnTo>
                  <a:pt x="405" y="111"/>
                </a:lnTo>
                <a:lnTo>
                  <a:pt x="413" y="124"/>
                </a:lnTo>
                <a:lnTo>
                  <a:pt x="423" y="136"/>
                </a:lnTo>
                <a:lnTo>
                  <a:pt x="438" y="162"/>
                </a:lnTo>
                <a:lnTo>
                  <a:pt x="447" y="176"/>
                </a:lnTo>
                <a:lnTo>
                  <a:pt x="455" y="193"/>
                </a:lnTo>
                <a:lnTo>
                  <a:pt x="465" y="204"/>
                </a:lnTo>
                <a:lnTo>
                  <a:pt x="472" y="221"/>
                </a:lnTo>
                <a:lnTo>
                  <a:pt x="480" y="237"/>
                </a:lnTo>
                <a:lnTo>
                  <a:pt x="489" y="252"/>
                </a:lnTo>
                <a:lnTo>
                  <a:pt x="497" y="267"/>
                </a:lnTo>
                <a:lnTo>
                  <a:pt x="507" y="284"/>
                </a:lnTo>
                <a:lnTo>
                  <a:pt x="514" y="301"/>
                </a:lnTo>
                <a:lnTo>
                  <a:pt x="524" y="317"/>
                </a:lnTo>
                <a:lnTo>
                  <a:pt x="539" y="351"/>
                </a:lnTo>
                <a:lnTo>
                  <a:pt x="549" y="368"/>
                </a:lnTo>
                <a:lnTo>
                  <a:pt x="556" y="385"/>
                </a:lnTo>
                <a:lnTo>
                  <a:pt x="566" y="400"/>
                </a:lnTo>
                <a:lnTo>
                  <a:pt x="574" y="418"/>
                </a:lnTo>
                <a:lnTo>
                  <a:pt x="583" y="435"/>
                </a:lnTo>
                <a:lnTo>
                  <a:pt x="591" y="452"/>
                </a:lnTo>
                <a:lnTo>
                  <a:pt x="600" y="467"/>
                </a:lnTo>
                <a:lnTo>
                  <a:pt x="608" y="484"/>
                </a:lnTo>
                <a:lnTo>
                  <a:pt x="618" y="500"/>
                </a:lnTo>
                <a:lnTo>
                  <a:pt x="625" y="515"/>
                </a:lnTo>
                <a:lnTo>
                  <a:pt x="635" y="530"/>
                </a:lnTo>
                <a:lnTo>
                  <a:pt x="643" y="545"/>
                </a:lnTo>
                <a:lnTo>
                  <a:pt x="652" y="562"/>
                </a:lnTo>
                <a:lnTo>
                  <a:pt x="660" y="576"/>
                </a:lnTo>
                <a:lnTo>
                  <a:pt x="669" y="591"/>
                </a:lnTo>
                <a:lnTo>
                  <a:pt x="677" y="604"/>
                </a:lnTo>
                <a:lnTo>
                  <a:pt x="687" y="618"/>
                </a:lnTo>
                <a:lnTo>
                  <a:pt x="694" y="629"/>
                </a:lnTo>
                <a:lnTo>
                  <a:pt x="704" y="641"/>
                </a:lnTo>
                <a:lnTo>
                  <a:pt x="711" y="652"/>
                </a:lnTo>
                <a:lnTo>
                  <a:pt x="721" y="663"/>
                </a:lnTo>
                <a:lnTo>
                  <a:pt x="736" y="683"/>
                </a:lnTo>
                <a:lnTo>
                  <a:pt x="746" y="690"/>
                </a:lnTo>
                <a:lnTo>
                  <a:pt x="753" y="698"/>
                </a:lnTo>
                <a:lnTo>
                  <a:pt x="763" y="705"/>
                </a:lnTo>
                <a:lnTo>
                  <a:pt x="771" y="711"/>
                </a:lnTo>
                <a:lnTo>
                  <a:pt x="782" y="717"/>
                </a:lnTo>
                <a:lnTo>
                  <a:pt x="790" y="721"/>
                </a:lnTo>
                <a:lnTo>
                  <a:pt x="799" y="724"/>
                </a:lnTo>
                <a:lnTo>
                  <a:pt x="807" y="728"/>
                </a:lnTo>
                <a:lnTo>
                  <a:pt x="815" y="728"/>
                </a:lnTo>
                <a:lnTo>
                  <a:pt x="824" y="730"/>
                </a:lnTo>
                <a:lnTo>
                  <a:pt x="832" y="728"/>
                </a:lnTo>
                <a:lnTo>
                  <a:pt x="841" y="728"/>
                </a:lnTo>
                <a:lnTo>
                  <a:pt x="857" y="721"/>
                </a:lnTo>
                <a:lnTo>
                  <a:pt x="866" y="717"/>
                </a:lnTo>
                <a:lnTo>
                  <a:pt x="876" y="711"/>
                </a:lnTo>
                <a:lnTo>
                  <a:pt x="885" y="705"/>
                </a:lnTo>
                <a:lnTo>
                  <a:pt x="901" y="690"/>
                </a:lnTo>
                <a:lnTo>
                  <a:pt x="910" y="683"/>
                </a:lnTo>
                <a:lnTo>
                  <a:pt x="918" y="673"/>
                </a:lnTo>
                <a:lnTo>
                  <a:pt x="928" y="663"/>
                </a:lnTo>
                <a:lnTo>
                  <a:pt x="943" y="641"/>
                </a:lnTo>
                <a:lnTo>
                  <a:pt x="952" y="629"/>
                </a:lnTo>
                <a:lnTo>
                  <a:pt x="960" y="616"/>
                </a:lnTo>
                <a:lnTo>
                  <a:pt x="970" y="604"/>
                </a:lnTo>
                <a:lnTo>
                  <a:pt x="977" y="587"/>
                </a:lnTo>
                <a:lnTo>
                  <a:pt x="985" y="576"/>
                </a:lnTo>
                <a:lnTo>
                  <a:pt x="995" y="562"/>
                </a:lnTo>
                <a:lnTo>
                  <a:pt x="1002" y="545"/>
                </a:lnTo>
                <a:lnTo>
                  <a:pt x="1012" y="530"/>
                </a:lnTo>
                <a:lnTo>
                  <a:pt x="1019" y="515"/>
                </a:lnTo>
                <a:lnTo>
                  <a:pt x="1029" y="500"/>
                </a:lnTo>
                <a:lnTo>
                  <a:pt x="1037" y="482"/>
                </a:lnTo>
                <a:lnTo>
                  <a:pt x="1044" y="467"/>
                </a:lnTo>
                <a:lnTo>
                  <a:pt x="1054" y="450"/>
                </a:lnTo>
                <a:lnTo>
                  <a:pt x="1061" y="433"/>
                </a:lnTo>
                <a:lnTo>
                  <a:pt x="1071" y="416"/>
                </a:lnTo>
                <a:lnTo>
                  <a:pt x="1079" y="400"/>
                </a:lnTo>
                <a:lnTo>
                  <a:pt x="1086" y="383"/>
                </a:lnTo>
                <a:lnTo>
                  <a:pt x="1096" y="366"/>
                </a:lnTo>
                <a:lnTo>
                  <a:pt x="1104" y="349"/>
                </a:lnTo>
                <a:lnTo>
                  <a:pt x="1113" y="332"/>
                </a:lnTo>
                <a:lnTo>
                  <a:pt x="1121" y="315"/>
                </a:lnTo>
                <a:lnTo>
                  <a:pt x="1130" y="298"/>
                </a:lnTo>
                <a:lnTo>
                  <a:pt x="1138" y="282"/>
                </a:lnTo>
                <a:lnTo>
                  <a:pt x="1148" y="265"/>
                </a:lnTo>
                <a:lnTo>
                  <a:pt x="1155" y="248"/>
                </a:lnTo>
                <a:lnTo>
                  <a:pt x="1165" y="233"/>
                </a:lnTo>
                <a:lnTo>
                  <a:pt x="1172" y="218"/>
                </a:lnTo>
                <a:lnTo>
                  <a:pt x="1182" y="200"/>
                </a:lnTo>
                <a:lnTo>
                  <a:pt x="1190" y="187"/>
                </a:lnTo>
                <a:lnTo>
                  <a:pt x="1199" y="174"/>
                </a:lnTo>
                <a:lnTo>
                  <a:pt x="1207" y="158"/>
                </a:lnTo>
                <a:lnTo>
                  <a:pt x="1216" y="145"/>
                </a:lnTo>
                <a:lnTo>
                  <a:pt x="1224" y="130"/>
                </a:lnTo>
                <a:lnTo>
                  <a:pt x="1234" y="118"/>
                </a:lnTo>
                <a:lnTo>
                  <a:pt x="1241" y="105"/>
                </a:lnTo>
                <a:lnTo>
                  <a:pt x="1251" y="94"/>
                </a:lnTo>
                <a:lnTo>
                  <a:pt x="1259" y="82"/>
                </a:lnTo>
                <a:lnTo>
                  <a:pt x="1268" y="71"/>
                </a:lnTo>
                <a:lnTo>
                  <a:pt x="1283" y="52"/>
                </a:lnTo>
                <a:lnTo>
                  <a:pt x="1301" y="35"/>
                </a:lnTo>
                <a:lnTo>
                  <a:pt x="1310" y="29"/>
                </a:lnTo>
                <a:lnTo>
                  <a:pt x="1318" y="21"/>
                </a:lnTo>
                <a:lnTo>
                  <a:pt x="1326" y="16"/>
                </a:lnTo>
                <a:lnTo>
                  <a:pt x="1333" y="12"/>
                </a:lnTo>
                <a:lnTo>
                  <a:pt x="1343" y="8"/>
                </a:lnTo>
                <a:lnTo>
                  <a:pt x="1358" y="4"/>
                </a:lnTo>
                <a:lnTo>
                  <a:pt x="1375" y="4"/>
                </a:lnTo>
                <a:lnTo>
                  <a:pt x="1385" y="6"/>
                </a:lnTo>
                <a:lnTo>
                  <a:pt x="1392" y="8"/>
                </a:lnTo>
                <a:lnTo>
                  <a:pt x="1400" y="12"/>
                </a:lnTo>
                <a:lnTo>
                  <a:pt x="1410" y="16"/>
                </a:lnTo>
                <a:lnTo>
                  <a:pt x="1423" y="29"/>
                </a:lnTo>
                <a:lnTo>
                  <a:pt x="1433" y="35"/>
                </a:lnTo>
                <a:lnTo>
                  <a:pt x="1450" y="52"/>
                </a:lnTo>
                <a:lnTo>
                  <a:pt x="1465" y="71"/>
                </a:lnTo>
                <a:lnTo>
                  <a:pt x="1475" y="82"/>
                </a:lnTo>
                <a:lnTo>
                  <a:pt x="1490" y="105"/>
                </a:lnTo>
                <a:lnTo>
                  <a:pt x="1500" y="118"/>
                </a:lnTo>
                <a:lnTo>
                  <a:pt x="1515" y="145"/>
                </a:lnTo>
                <a:lnTo>
                  <a:pt x="1524" y="158"/>
                </a:lnTo>
                <a:lnTo>
                  <a:pt x="1540" y="187"/>
                </a:lnTo>
                <a:lnTo>
                  <a:pt x="1549" y="202"/>
                </a:lnTo>
                <a:lnTo>
                  <a:pt x="1565" y="233"/>
                </a:lnTo>
                <a:lnTo>
                  <a:pt x="1574" y="250"/>
                </a:lnTo>
                <a:lnTo>
                  <a:pt x="1582" y="265"/>
                </a:lnTo>
                <a:lnTo>
                  <a:pt x="1597" y="299"/>
                </a:lnTo>
                <a:lnTo>
                  <a:pt x="1607" y="317"/>
                </a:lnTo>
                <a:lnTo>
                  <a:pt x="1622" y="351"/>
                </a:lnTo>
                <a:lnTo>
                  <a:pt x="1632" y="368"/>
                </a:lnTo>
                <a:lnTo>
                  <a:pt x="1635" y="368"/>
                </a:lnTo>
                <a:lnTo>
                  <a:pt x="1626" y="351"/>
                </a:lnTo>
                <a:lnTo>
                  <a:pt x="1611" y="317"/>
                </a:lnTo>
                <a:lnTo>
                  <a:pt x="1601" y="299"/>
                </a:lnTo>
                <a:lnTo>
                  <a:pt x="1586" y="265"/>
                </a:lnTo>
                <a:lnTo>
                  <a:pt x="1578" y="250"/>
                </a:lnTo>
                <a:lnTo>
                  <a:pt x="1568" y="233"/>
                </a:lnTo>
                <a:lnTo>
                  <a:pt x="1553" y="202"/>
                </a:lnTo>
                <a:lnTo>
                  <a:pt x="1544" y="187"/>
                </a:lnTo>
                <a:lnTo>
                  <a:pt x="1528" y="155"/>
                </a:lnTo>
                <a:lnTo>
                  <a:pt x="1519" y="141"/>
                </a:lnTo>
                <a:lnTo>
                  <a:pt x="1503" y="115"/>
                </a:lnTo>
                <a:lnTo>
                  <a:pt x="1494" y="101"/>
                </a:lnTo>
                <a:lnTo>
                  <a:pt x="1479" y="78"/>
                </a:lnTo>
                <a:lnTo>
                  <a:pt x="1469" y="67"/>
                </a:lnTo>
                <a:lnTo>
                  <a:pt x="1454" y="48"/>
                </a:lnTo>
                <a:lnTo>
                  <a:pt x="1436" y="31"/>
                </a:lnTo>
                <a:lnTo>
                  <a:pt x="1427" y="25"/>
                </a:lnTo>
                <a:lnTo>
                  <a:pt x="1419" y="17"/>
                </a:lnTo>
                <a:lnTo>
                  <a:pt x="1410" y="12"/>
                </a:lnTo>
                <a:lnTo>
                  <a:pt x="1400" y="8"/>
                </a:lnTo>
                <a:lnTo>
                  <a:pt x="1392" y="4"/>
                </a:lnTo>
                <a:lnTo>
                  <a:pt x="1385" y="2"/>
                </a:lnTo>
                <a:lnTo>
                  <a:pt x="1375" y="0"/>
                </a:lnTo>
                <a:lnTo>
                  <a:pt x="1358" y="0"/>
                </a:lnTo>
                <a:lnTo>
                  <a:pt x="1343" y="4"/>
                </a:lnTo>
                <a:lnTo>
                  <a:pt x="1333" y="8"/>
                </a:lnTo>
                <a:lnTo>
                  <a:pt x="1326" y="12"/>
                </a:lnTo>
                <a:lnTo>
                  <a:pt x="1314" y="17"/>
                </a:lnTo>
                <a:lnTo>
                  <a:pt x="1306" y="25"/>
                </a:lnTo>
                <a:lnTo>
                  <a:pt x="1297" y="31"/>
                </a:lnTo>
                <a:lnTo>
                  <a:pt x="1280" y="48"/>
                </a:lnTo>
                <a:lnTo>
                  <a:pt x="1264" y="67"/>
                </a:lnTo>
                <a:lnTo>
                  <a:pt x="1255" y="78"/>
                </a:lnTo>
                <a:lnTo>
                  <a:pt x="1247" y="90"/>
                </a:lnTo>
                <a:lnTo>
                  <a:pt x="1237" y="101"/>
                </a:lnTo>
                <a:lnTo>
                  <a:pt x="1230" y="115"/>
                </a:lnTo>
                <a:lnTo>
                  <a:pt x="1220" y="126"/>
                </a:lnTo>
                <a:lnTo>
                  <a:pt x="1213" y="141"/>
                </a:lnTo>
                <a:lnTo>
                  <a:pt x="1203" y="155"/>
                </a:lnTo>
                <a:lnTo>
                  <a:pt x="1195" y="170"/>
                </a:lnTo>
                <a:lnTo>
                  <a:pt x="1186" y="183"/>
                </a:lnTo>
                <a:lnTo>
                  <a:pt x="1178" y="200"/>
                </a:lnTo>
                <a:lnTo>
                  <a:pt x="1169" y="218"/>
                </a:lnTo>
                <a:lnTo>
                  <a:pt x="1161" y="233"/>
                </a:lnTo>
                <a:lnTo>
                  <a:pt x="1151" y="248"/>
                </a:lnTo>
                <a:lnTo>
                  <a:pt x="1144" y="265"/>
                </a:lnTo>
                <a:lnTo>
                  <a:pt x="1134" y="282"/>
                </a:lnTo>
                <a:lnTo>
                  <a:pt x="1127" y="298"/>
                </a:lnTo>
                <a:lnTo>
                  <a:pt x="1117" y="315"/>
                </a:lnTo>
                <a:lnTo>
                  <a:pt x="1109" y="332"/>
                </a:lnTo>
                <a:lnTo>
                  <a:pt x="1100" y="349"/>
                </a:lnTo>
                <a:lnTo>
                  <a:pt x="1092" y="366"/>
                </a:lnTo>
                <a:lnTo>
                  <a:pt x="1083" y="383"/>
                </a:lnTo>
                <a:lnTo>
                  <a:pt x="1075" y="400"/>
                </a:lnTo>
                <a:lnTo>
                  <a:pt x="1067" y="416"/>
                </a:lnTo>
                <a:lnTo>
                  <a:pt x="1058" y="433"/>
                </a:lnTo>
                <a:lnTo>
                  <a:pt x="1050" y="450"/>
                </a:lnTo>
                <a:lnTo>
                  <a:pt x="1040" y="467"/>
                </a:lnTo>
                <a:lnTo>
                  <a:pt x="1033" y="482"/>
                </a:lnTo>
                <a:lnTo>
                  <a:pt x="1025" y="500"/>
                </a:lnTo>
                <a:lnTo>
                  <a:pt x="1016" y="515"/>
                </a:lnTo>
                <a:lnTo>
                  <a:pt x="1008" y="530"/>
                </a:lnTo>
                <a:lnTo>
                  <a:pt x="998" y="545"/>
                </a:lnTo>
                <a:lnTo>
                  <a:pt x="991" y="559"/>
                </a:lnTo>
                <a:lnTo>
                  <a:pt x="981" y="572"/>
                </a:lnTo>
                <a:lnTo>
                  <a:pt x="973" y="587"/>
                </a:lnTo>
                <a:lnTo>
                  <a:pt x="966" y="601"/>
                </a:lnTo>
                <a:lnTo>
                  <a:pt x="956" y="612"/>
                </a:lnTo>
                <a:lnTo>
                  <a:pt x="949" y="625"/>
                </a:lnTo>
                <a:lnTo>
                  <a:pt x="939" y="637"/>
                </a:lnTo>
                <a:lnTo>
                  <a:pt x="924" y="660"/>
                </a:lnTo>
                <a:lnTo>
                  <a:pt x="914" y="669"/>
                </a:lnTo>
                <a:lnTo>
                  <a:pt x="907" y="679"/>
                </a:lnTo>
                <a:lnTo>
                  <a:pt x="897" y="686"/>
                </a:lnTo>
                <a:lnTo>
                  <a:pt x="882" y="702"/>
                </a:lnTo>
                <a:lnTo>
                  <a:pt x="872" y="707"/>
                </a:lnTo>
                <a:lnTo>
                  <a:pt x="866" y="713"/>
                </a:lnTo>
                <a:lnTo>
                  <a:pt x="857" y="717"/>
                </a:lnTo>
                <a:lnTo>
                  <a:pt x="841" y="724"/>
                </a:lnTo>
                <a:lnTo>
                  <a:pt x="832" y="724"/>
                </a:lnTo>
                <a:lnTo>
                  <a:pt x="824" y="726"/>
                </a:lnTo>
                <a:lnTo>
                  <a:pt x="815" y="724"/>
                </a:lnTo>
                <a:lnTo>
                  <a:pt x="807" y="724"/>
                </a:lnTo>
                <a:lnTo>
                  <a:pt x="799" y="721"/>
                </a:lnTo>
                <a:lnTo>
                  <a:pt x="790" y="717"/>
                </a:lnTo>
                <a:lnTo>
                  <a:pt x="782" y="713"/>
                </a:lnTo>
                <a:lnTo>
                  <a:pt x="775" y="707"/>
                </a:lnTo>
                <a:lnTo>
                  <a:pt x="767" y="702"/>
                </a:lnTo>
                <a:lnTo>
                  <a:pt x="757" y="694"/>
                </a:lnTo>
                <a:lnTo>
                  <a:pt x="750" y="686"/>
                </a:lnTo>
                <a:lnTo>
                  <a:pt x="740" y="679"/>
                </a:lnTo>
                <a:lnTo>
                  <a:pt x="725" y="660"/>
                </a:lnTo>
                <a:lnTo>
                  <a:pt x="715" y="648"/>
                </a:lnTo>
                <a:lnTo>
                  <a:pt x="708" y="637"/>
                </a:lnTo>
                <a:lnTo>
                  <a:pt x="698" y="625"/>
                </a:lnTo>
                <a:lnTo>
                  <a:pt x="690" y="614"/>
                </a:lnTo>
                <a:lnTo>
                  <a:pt x="681" y="601"/>
                </a:lnTo>
                <a:lnTo>
                  <a:pt x="673" y="587"/>
                </a:lnTo>
                <a:lnTo>
                  <a:pt x="664" y="572"/>
                </a:lnTo>
                <a:lnTo>
                  <a:pt x="656" y="559"/>
                </a:lnTo>
                <a:lnTo>
                  <a:pt x="646" y="545"/>
                </a:lnTo>
                <a:lnTo>
                  <a:pt x="639" y="530"/>
                </a:lnTo>
                <a:lnTo>
                  <a:pt x="629" y="515"/>
                </a:lnTo>
                <a:lnTo>
                  <a:pt x="621" y="500"/>
                </a:lnTo>
                <a:lnTo>
                  <a:pt x="612" y="484"/>
                </a:lnTo>
                <a:lnTo>
                  <a:pt x="604" y="467"/>
                </a:lnTo>
                <a:lnTo>
                  <a:pt x="595" y="452"/>
                </a:lnTo>
                <a:lnTo>
                  <a:pt x="587" y="435"/>
                </a:lnTo>
                <a:lnTo>
                  <a:pt x="577" y="418"/>
                </a:lnTo>
                <a:lnTo>
                  <a:pt x="570" y="400"/>
                </a:lnTo>
                <a:lnTo>
                  <a:pt x="560" y="385"/>
                </a:lnTo>
                <a:lnTo>
                  <a:pt x="553" y="368"/>
                </a:lnTo>
                <a:lnTo>
                  <a:pt x="543" y="351"/>
                </a:lnTo>
                <a:lnTo>
                  <a:pt x="528" y="317"/>
                </a:lnTo>
                <a:lnTo>
                  <a:pt x="518" y="301"/>
                </a:lnTo>
                <a:lnTo>
                  <a:pt x="511" y="284"/>
                </a:lnTo>
                <a:lnTo>
                  <a:pt x="501" y="267"/>
                </a:lnTo>
                <a:lnTo>
                  <a:pt x="493" y="252"/>
                </a:lnTo>
                <a:lnTo>
                  <a:pt x="484" y="237"/>
                </a:lnTo>
                <a:lnTo>
                  <a:pt x="476" y="221"/>
                </a:lnTo>
                <a:lnTo>
                  <a:pt x="468" y="204"/>
                </a:lnTo>
                <a:lnTo>
                  <a:pt x="459" y="189"/>
                </a:lnTo>
                <a:lnTo>
                  <a:pt x="451" y="176"/>
                </a:lnTo>
                <a:lnTo>
                  <a:pt x="442" y="158"/>
                </a:lnTo>
                <a:lnTo>
                  <a:pt x="426" y="132"/>
                </a:lnTo>
                <a:lnTo>
                  <a:pt x="417" y="120"/>
                </a:lnTo>
                <a:lnTo>
                  <a:pt x="409" y="107"/>
                </a:lnTo>
                <a:lnTo>
                  <a:pt x="400" y="96"/>
                </a:lnTo>
                <a:lnTo>
                  <a:pt x="392" y="84"/>
                </a:lnTo>
                <a:lnTo>
                  <a:pt x="382" y="73"/>
                </a:lnTo>
                <a:lnTo>
                  <a:pt x="375" y="63"/>
                </a:lnTo>
                <a:lnTo>
                  <a:pt x="350" y="38"/>
                </a:lnTo>
                <a:lnTo>
                  <a:pt x="340" y="31"/>
                </a:lnTo>
                <a:lnTo>
                  <a:pt x="333" y="25"/>
                </a:lnTo>
                <a:lnTo>
                  <a:pt x="321" y="19"/>
                </a:lnTo>
                <a:lnTo>
                  <a:pt x="313" y="16"/>
                </a:lnTo>
                <a:lnTo>
                  <a:pt x="304" y="12"/>
                </a:lnTo>
                <a:lnTo>
                  <a:pt x="296" y="10"/>
                </a:lnTo>
                <a:lnTo>
                  <a:pt x="287" y="8"/>
                </a:lnTo>
                <a:lnTo>
                  <a:pt x="269" y="8"/>
                </a:lnTo>
                <a:lnTo>
                  <a:pt x="262" y="10"/>
                </a:lnTo>
                <a:lnTo>
                  <a:pt x="252" y="12"/>
                </a:lnTo>
                <a:lnTo>
                  <a:pt x="245" y="16"/>
                </a:lnTo>
                <a:lnTo>
                  <a:pt x="235" y="19"/>
                </a:lnTo>
                <a:lnTo>
                  <a:pt x="225" y="25"/>
                </a:lnTo>
                <a:lnTo>
                  <a:pt x="216" y="31"/>
                </a:lnTo>
                <a:lnTo>
                  <a:pt x="208" y="38"/>
                </a:lnTo>
                <a:lnTo>
                  <a:pt x="199" y="46"/>
                </a:lnTo>
                <a:lnTo>
                  <a:pt x="172" y="73"/>
                </a:lnTo>
                <a:lnTo>
                  <a:pt x="164" y="84"/>
                </a:lnTo>
                <a:lnTo>
                  <a:pt x="155" y="96"/>
                </a:lnTo>
                <a:lnTo>
                  <a:pt x="147" y="107"/>
                </a:lnTo>
                <a:lnTo>
                  <a:pt x="137" y="120"/>
                </a:lnTo>
                <a:lnTo>
                  <a:pt x="130" y="132"/>
                </a:lnTo>
                <a:lnTo>
                  <a:pt x="120" y="145"/>
                </a:lnTo>
                <a:lnTo>
                  <a:pt x="113" y="158"/>
                </a:lnTo>
                <a:lnTo>
                  <a:pt x="103" y="176"/>
                </a:lnTo>
                <a:lnTo>
                  <a:pt x="95" y="189"/>
                </a:lnTo>
                <a:lnTo>
                  <a:pt x="86" y="202"/>
                </a:lnTo>
                <a:lnTo>
                  <a:pt x="76" y="221"/>
                </a:lnTo>
                <a:lnTo>
                  <a:pt x="69" y="237"/>
                </a:lnTo>
                <a:lnTo>
                  <a:pt x="59" y="252"/>
                </a:lnTo>
                <a:lnTo>
                  <a:pt x="51" y="267"/>
                </a:lnTo>
                <a:lnTo>
                  <a:pt x="42" y="284"/>
                </a:lnTo>
                <a:lnTo>
                  <a:pt x="34" y="301"/>
                </a:lnTo>
                <a:lnTo>
                  <a:pt x="25" y="317"/>
                </a:lnTo>
                <a:lnTo>
                  <a:pt x="17" y="334"/>
                </a:lnTo>
                <a:lnTo>
                  <a:pt x="7" y="351"/>
                </a:lnTo>
                <a:lnTo>
                  <a:pt x="0" y="368"/>
                </a:lnTo>
                <a:lnTo>
                  <a:pt x="4" y="36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811840" y="1366920"/>
            <a:ext cx="0" cy="1195200"/>
          </a:xfrm>
          <a:prstGeom prst="line">
            <a:avLst/>
          </a:prstGeom>
          <a:ln w="64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821200" y="1963800"/>
            <a:ext cx="3008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973840" y="172260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048360" y="1616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118200" y="1539720"/>
            <a:ext cx="0" cy="420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199200" y="1465200"/>
            <a:ext cx="0" cy="484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283440" y="143352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356520" y="146520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442200" y="1527120"/>
            <a:ext cx="0" cy="42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532560" y="160812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607080" y="1722600"/>
            <a:ext cx="0" cy="226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699240" y="1892160"/>
            <a:ext cx="0" cy="65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886360" y="1841400"/>
            <a:ext cx="0" cy="108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51520" y="1981080"/>
            <a:ext cx="0" cy="84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929280" y="198108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012080" y="19717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095960" y="1971720"/>
            <a:ext cx="0" cy="430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174080" y="1971720"/>
            <a:ext cx="0" cy="479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251840" y="197172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324560" y="1971720"/>
            <a:ext cx="0" cy="488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402680" y="1971720"/>
            <a:ext cx="0" cy="430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486560" y="1981080"/>
            <a:ext cx="0" cy="331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559640" y="1971720"/>
            <a:ext cx="0" cy="226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648560" y="1971720"/>
            <a:ext cx="0" cy="93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808760" y="184140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880400" y="170496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947000" y="1608120"/>
            <a:ext cx="0" cy="349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034480" y="1535040"/>
            <a:ext cx="0" cy="42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118360" y="1455840"/>
            <a:ext cx="0" cy="501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8196120" y="143352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8280360" y="146520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358120" y="1519200"/>
            <a:ext cx="0" cy="430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440560" y="16160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524800" y="1746360"/>
            <a:ext cx="0" cy="210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8601120" y="1882800"/>
            <a:ext cx="0" cy="74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9133920" y="1836720"/>
            <a:ext cx="502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8740440" y="186048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77320" y="1255680"/>
            <a:ext cx="41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D8DD-58E9-41AD-B8BC-81A5A82A9CD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pling revisited (with theory and mat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0" y="1143000"/>
            <a:ext cx="5128920" cy="5162040"/>
            <a:chOff x="0" y="1143000"/>
            <a:chExt cx="5128920" cy="5162040"/>
          </a:xfrm>
        </p:grpSpPr>
        <mc:AlternateContent>
          <mc:Choice xmlns:a14="http://schemas.microsoft.com/office/drawing/2010/main" Requires="a14">
            <p:sp>
              <p:nvSpPr>
                <p:cNvPr id="1246" name=""/>
                <p:cNvSpPr txBox="1"/>
                <p:nvPr/>
              </p:nvSpPr>
              <p:spPr>
                <a:xfrm>
                  <a:off x="0" y="3773520"/>
                  <a:ext cx="157464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247" name=""/>
            <p:cNvSpPr/>
            <p:nvPr/>
          </p:nvSpPr>
          <p:spPr>
            <a:xfrm>
              <a:off x="363240" y="5705640"/>
              <a:ext cx="4765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2743200" y="4382640"/>
              <a:ext cx="0" cy="132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696040" y="4481640"/>
              <a:ext cx="41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|A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0" name=""/>
            <p:cNvGrpSpPr/>
            <p:nvPr/>
          </p:nvGrpSpPr>
          <p:grpSpPr>
            <a:xfrm>
              <a:off x="1986480" y="4764240"/>
              <a:ext cx="1321200" cy="1370520"/>
              <a:chOff x="1986480" y="4764240"/>
              <a:chExt cx="1321200" cy="1370520"/>
            </a:xfrm>
          </p:grpSpPr>
          <p:grpSp>
            <p:nvGrpSpPr>
              <p:cNvPr id="1251" name=""/>
              <p:cNvGrpSpPr/>
              <p:nvPr/>
            </p:nvGrpSpPr>
            <p:grpSpPr>
              <a:xfrm>
                <a:off x="2286000" y="4764240"/>
                <a:ext cx="914400" cy="925560"/>
                <a:chOff x="2286000" y="4764240"/>
                <a:chExt cx="914400" cy="92556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2286000" y="4764240"/>
                  <a:ext cx="447840" cy="912960"/>
                </a:xfrm>
                <a:custGeom>
                  <a:avLst/>
                  <a:gdLst/>
                  <a:ahLst/>
                  <a:rect l="l" t="t" r="r" b="b"/>
                  <a:pathLst>
                    <a:path w="721" h="607">
                      <a:moveTo>
                        <a:pt x="0" y="606"/>
                      </a:moveTo>
                      <a:lnTo>
                        <a:pt x="34" y="541"/>
                      </a:lnTo>
                      <a:lnTo>
                        <a:pt x="72" y="477"/>
                      </a:lnTo>
                      <a:lnTo>
                        <a:pt x="118" y="416"/>
                      </a:lnTo>
                      <a:lnTo>
                        <a:pt x="144" y="386"/>
                      </a:lnTo>
                      <a:lnTo>
                        <a:pt x="173" y="359"/>
                      </a:lnTo>
                      <a:lnTo>
                        <a:pt x="241" y="307"/>
                      </a:lnTo>
                      <a:lnTo>
                        <a:pt x="313" y="259"/>
                      </a:lnTo>
                      <a:lnTo>
                        <a:pt x="385" y="215"/>
                      </a:lnTo>
                      <a:lnTo>
                        <a:pt x="417" y="193"/>
                      </a:lnTo>
                      <a:lnTo>
                        <a:pt x="447" y="171"/>
                      </a:lnTo>
                      <a:lnTo>
                        <a:pt x="474" y="149"/>
                      </a:lnTo>
                      <a:lnTo>
                        <a:pt x="495" y="129"/>
                      </a:lnTo>
                      <a:lnTo>
                        <a:pt x="533" y="88"/>
                      </a:lnTo>
                      <a:lnTo>
                        <a:pt x="561" y="55"/>
                      </a:lnTo>
                      <a:lnTo>
                        <a:pt x="589" y="27"/>
                      </a:lnTo>
                      <a:lnTo>
                        <a:pt x="620" y="11"/>
                      </a:lnTo>
                      <a:lnTo>
                        <a:pt x="652" y="3"/>
                      </a:lnTo>
                      <a:lnTo>
                        <a:pt x="684" y="0"/>
                      </a:lnTo>
                      <a:lnTo>
                        <a:pt x="72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2725560" y="4775400"/>
                  <a:ext cx="474840" cy="914400"/>
                </a:xfrm>
                <a:custGeom>
                  <a:avLst/>
                  <a:gdLst/>
                  <a:ahLst/>
                  <a:rect l="l" t="t" r="r" b="b"/>
                  <a:pathLst>
                    <a:path w="720" h="608">
                      <a:moveTo>
                        <a:pt x="719" y="607"/>
                      </a:moveTo>
                      <a:lnTo>
                        <a:pt x="683" y="542"/>
                      </a:lnTo>
                      <a:lnTo>
                        <a:pt x="645" y="479"/>
                      </a:lnTo>
                      <a:lnTo>
                        <a:pt x="600" y="419"/>
                      </a:lnTo>
                      <a:lnTo>
                        <a:pt x="573" y="389"/>
                      </a:lnTo>
                      <a:lnTo>
                        <a:pt x="545" y="362"/>
                      </a:lnTo>
                      <a:lnTo>
                        <a:pt x="513" y="336"/>
                      </a:lnTo>
                      <a:lnTo>
                        <a:pt x="479" y="310"/>
                      </a:lnTo>
                      <a:lnTo>
                        <a:pt x="407" y="262"/>
                      </a:lnTo>
                      <a:lnTo>
                        <a:pt x="335" y="216"/>
                      </a:lnTo>
                      <a:lnTo>
                        <a:pt x="303" y="194"/>
                      </a:lnTo>
                      <a:lnTo>
                        <a:pt x="272" y="172"/>
                      </a:lnTo>
                      <a:lnTo>
                        <a:pt x="246" y="150"/>
                      </a:lnTo>
                      <a:lnTo>
                        <a:pt x="225" y="129"/>
                      </a:lnTo>
                      <a:lnTo>
                        <a:pt x="187" y="89"/>
                      </a:lnTo>
                      <a:lnTo>
                        <a:pt x="157" y="56"/>
                      </a:lnTo>
                      <a:lnTo>
                        <a:pt x="128" y="28"/>
                      </a:lnTo>
                      <a:lnTo>
                        <a:pt x="98" y="11"/>
                      </a:lnTo>
                      <a:lnTo>
                        <a:pt x="68" y="4"/>
                      </a:lnTo>
                      <a:lnTo>
                        <a:pt x="3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4" name=""/>
              <p:cNvSpPr/>
              <p:nvPr/>
            </p:nvSpPr>
            <p:spPr>
              <a:xfrm>
                <a:off x="1986480" y="573408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2976840" y="5734080"/>
                <a:ext cx="3308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3281760" y="4778280"/>
              <a:ext cx="1321200" cy="1370520"/>
              <a:chOff x="3281760" y="4778280"/>
              <a:chExt cx="1321200" cy="1370520"/>
            </a:xfrm>
          </p:grpSpPr>
          <p:grpSp>
            <p:nvGrpSpPr>
              <p:cNvPr id="1257" name=""/>
              <p:cNvGrpSpPr/>
              <p:nvPr/>
            </p:nvGrpSpPr>
            <p:grpSpPr>
              <a:xfrm>
                <a:off x="3581280" y="4778280"/>
                <a:ext cx="914400" cy="925560"/>
                <a:chOff x="3581280" y="4778280"/>
                <a:chExt cx="914400" cy="92556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3581280" y="4778280"/>
                  <a:ext cx="447840" cy="912960"/>
                </a:xfrm>
                <a:custGeom>
                  <a:avLst/>
                  <a:gdLst/>
                  <a:ahLst/>
                  <a:rect l="l" t="t" r="r" b="b"/>
                  <a:pathLst>
                    <a:path w="721" h="607">
                      <a:moveTo>
                        <a:pt x="0" y="606"/>
                      </a:moveTo>
                      <a:lnTo>
                        <a:pt x="34" y="541"/>
                      </a:lnTo>
                      <a:lnTo>
                        <a:pt x="72" y="477"/>
                      </a:lnTo>
                      <a:lnTo>
                        <a:pt x="118" y="416"/>
                      </a:lnTo>
                      <a:lnTo>
                        <a:pt x="144" y="386"/>
                      </a:lnTo>
                      <a:lnTo>
                        <a:pt x="173" y="359"/>
                      </a:lnTo>
                      <a:lnTo>
                        <a:pt x="241" y="307"/>
                      </a:lnTo>
                      <a:lnTo>
                        <a:pt x="313" y="259"/>
                      </a:lnTo>
                      <a:lnTo>
                        <a:pt x="385" y="215"/>
                      </a:lnTo>
                      <a:lnTo>
                        <a:pt x="417" y="193"/>
                      </a:lnTo>
                      <a:lnTo>
                        <a:pt x="447" y="171"/>
                      </a:lnTo>
                      <a:lnTo>
                        <a:pt x="474" y="149"/>
                      </a:lnTo>
                      <a:lnTo>
                        <a:pt x="495" y="129"/>
                      </a:lnTo>
                      <a:lnTo>
                        <a:pt x="533" y="88"/>
                      </a:lnTo>
                      <a:lnTo>
                        <a:pt x="561" y="55"/>
                      </a:lnTo>
                      <a:lnTo>
                        <a:pt x="589" y="27"/>
                      </a:lnTo>
                      <a:lnTo>
                        <a:pt x="620" y="11"/>
                      </a:lnTo>
                      <a:lnTo>
                        <a:pt x="652" y="3"/>
                      </a:lnTo>
                      <a:lnTo>
                        <a:pt x="684" y="0"/>
                      </a:lnTo>
                      <a:lnTo>
                        <a:pt x="72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4020840" y="4789440"/>
                  <a:ext cx="474840" cy="914400"/>
                </a:xfrm>
                <a:custGeom>
                  <a:avLst/>
                  <a:gdLst/>
                  <a:ahLst/>
                  <a:rect l="l" t="t" r="r" b="b"/>
                  <a:pathLst>
                    <a:path w="720" h="608">
                      <a:moveTo>
                        <a:pt x="719" y="607"/>
                      </a:moveTo>
                      <a:lnTo>
                        <a:pt x="683" y="542"/>
                      </a:lnTo>
                      <a:lnTo>
                        <a:pt x="645" y="479"/>
                      </a:lnTo>
                      <a:lnTo>
                        <a:pt x="600" y="419"/>
                      </a:lnTo>
                      <a:lnTo>
                        <a:pt x="573" y="389"/>
                      </a:lnTo>
                      <a:lnTo>
                        <a:pt x="545" y="362"/>
                      </a:lnTo>
                      <a:lnTo>
                        <a:pt x="513" y="336"/>
                      </a:lnTo>
                      <a:lnTo>
                        <a:pt x="479" y="310"/>
                      </a:lnTo>
                      <a:lnTo>
                        <a:pt x="407" y="262"/>
                      </a:lnTo>
                      <a:lnTo>
                        <a:pt x="335" y="216"/>
                      </a:lnTo>
                      <a:lnTo>
                        <a:pt x="303" y="194"/>
                      </a:lnTo>
                      <a:lnTo>
                        <a:pt x="272" y="172"/>
                      </a:lnTo>
                      <a:lnTo>
                        <a:pt x="246" y="150"/>
                      </a:lnTo>
                      <a:lnTo>
                        <a:pt x="225" y="129"/>
                      </a:lnTo>
                      <a:lnTo>
                        <a:pt x="187" y="89"/>
                      </a:lnTo>
                      <a:lnTo>
                        <a:pt x="157" y="56"/>
                      </a:lnTo>
                      <a:lnTo>
                        <a:pt x="128" y="28"/>
                      </a:lnTo>
                      <a:lnTo>
                        <a:pt x="98" y="11"/>
                      </a:lnTo>
                      <a:lnTo>
                        <a:pt x="68" y="4"/>
                      </a:lnTo>
                      <a:lnTo>
                        <a:pt x="3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0" name=""/>
              <p:cNvSpPr/>
              <p:nvPr/>
            </p:nvSpPr>
            <p:spPr>
              <a:xfrm>
                <a:off x="3281760" y="574812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272120" y="5748120"/>
                <a:ext cx="3308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690840" y="4764240"/>
              <a:ext cx="1321200" cy="1370520"/>
              <a:chOff x="690840" y="4764240"/>
              <a:chExt cx="1321200" cy="1370520"/>
            </a:xfrm>
          </p:grpSpPr>
          <p:grpSp>
            <p:nvGrpSpPr>
              <p:cNvPr id="1263" name=""/>
              <p:cNvGrpSpPr/>
              <p:nvPr/>
            </p:nvGrpSpPr>
            <p:grpSpPr>
              <a:xfrm>
                <a:off x="990360" y="4764240"/>
                <a:ext cx="913680" cy="925560"/>
                <a:chOff x="990360" y="4764240"/>
                <a:chExt cx="913680" cy="92556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990360" y="4764240"/>
                  <a:ext cx="447480" cy="912960"/>
                </a:xfrm>
                <a:custGeom>
                  <a:avLst/>
                  <a:gdLst/>
                  <a:ahLst/>
                  <a:rect l="l" t="t" r="r" b="b"/>
                  <a:pathLst>
                    <a:path w="721" h="607">
                      <a:moveTo>
                        <a:pt x="0" y="606"/>
                      </a:moveTo>
                      <a:lnTo>
                        <a:pt x="34" y="541"/>
                      </a:lnTo>
                      <a:lnTo>
                        <a:pt x="72" y="477"/>
                      </a:lnTo>
                      <a:lnTo>
                        <a:pt x="118" y="416"/>
                      </a:lnTo>
                      <a:lnTo>
                        <a:pt x="144" y="386"/>
                      </a:lnTo>
                      <a:lnTo>
                        <a:pt x="173" y="359"/>
                      </a:lnTo>
                      <a:lnTo>
                        <a:pt x="241" y="307"/>
                      </a:lnTo>
                      <a:lnTo>
                        <a:pt x="313" y="259"/>
                      </a:lnTo>
                      <a:lnTo>
                        <a:pt x="385" y="215"/>
                      </a:lnTo>
                      <a:lnTo>
                        <a:pt x="417" y="193"/>
                      </a:lnTo>
                      <a:lnTo>
                        <a:pt x="447" y="171"/>
                      </a:lnTo>
                      <a:lnTo>
                        <a:pt x="474" y="149"/>
                      </a:lnTo>
                      <a:lnTo>
                        <a:pt x="495" y="129"/>
                      </a:lnTo>
                      <a:lnTo>
                        <a:pt x="533" y="88"/>
                      </a:lnTo>
                      <a:lnTo>
                        <a:pt x="561" y="55"/>
                      </a:lnTo>
                      <a:lnTo>
                        <a:pt x="589" y="27"/>
                      </a:lnTo>
                      <a:lnTo>
                        <a:pt x="620" y="11"/>
                      </a:lnTo>
                      <a:lnTo>
                        <a:pt x="652" y="3"/>
                      </a:lnTo>
                      <a:lnTo>
                        <a:pt x="684" y="0"/>
                      </a:lnTo>
                      <a:lnTo>
                        <a:pt x="72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1429560" y="4775400"/>
                  <a:ext cx="474480" cy="914400"/>
                </a:xfrm>
                <a:custGeom>
                  <a:avLst/>
                  <a:gdLst/>
                  <a:ahLst/>
                  <a:rect l="l" t="t" r="r" b="b"/>
                  <a:pathLst>
                    <a:path w="720" h="608">
                      <a:moveTo>
                        <a:pt x="719" y="607"/>
                      </a:moveTo>
                      <a:lnTo>
                        <a:pt x="683" y="542"/>
                      </a:lnTo>
                      <a:lnTo>
                        <a:pt x="645" y="479"/>
                      </a:lnTo>
                      <a:lnTo>
                        <a:pt x="600" y="419"/>
                      </a:lnTo>
                      <a:lnTo>
                        <a:pt x="573" y="389"/>
                      </a:lnTo>
                      <a:lnTo>
                        <a:pt x="545" y="362"/>
                      </a:lnTo>
                      <a:lnTo>
                        <a:pt x="513" y="336"/>
                      </a:lnTo>
                      <a:lnTo>
                        <a:pt x="479" y="310"/>
                      </a:lnTo>
                      <a:lnTo>
                        <a:pt x="407" y="262"/>
                      </a:lnTo>
                      <a:lnTo>
                        <a:pt x="335" y="216"/>
                      </a:lnTo>
                      <a:lnTo>
                        <a:pt x="303" y="194"/>
                      </a:lnTo>
                      <a:lnTo>
                        <a:pt x="272" y="172"/>
                      </a:lnTo>
                      <a:lnTo>
                        <a:pt x="246" y="150"/>
                      </a:lnTo>
                      <a:lnTo>
                        <a:pt x="225" y="129"/>
                      </a:lnTo>
                      <a:lnTo>
                        <a:pt x="187" y="89"/>
                      </a:lnTo>
                      <a:lnTo>
                        <a:pt x="157" y="56"/>
                      </a:lnTo>
                      <a:lnTo>
                        <a:pt x="128" y="28"/>
                      </a:lnTo>
                      <a:lnTo>
                        <a:pt x="98" y="11"/>
                      </a:lnTo>
                      <a:lnTo>
                        <a:pt x="68" y="4"/>
                      </a:lnTo>
                      <a:lnTo>
                        <a:pt x="3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6" name=""/>
              <p:cNvSpPr/>
              <p:nvPr/>
            </p:nvSpPr>
            <p:spPr>
              <a:xfrm>
                <a:off x="690840" y="573408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681200" y="5734080"/>
                <a:ext cx="3308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>
              <a:off x="4010040" y="418644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447560" y="415440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219320" y="590616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f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810600" y="5906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666880" y="27828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819080" y="319320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152360" y="1297080"/>
              <a:ext cx="2873520" cy="1100160"/>
            </a:xfrm>
            <a:custGeom>
              <a:avLst/>
              <a:gdLst/>
              <a:ahLst/>
              <a:rect l="l" t="t" r="r" b="b"/>
              <a:pathLst>
                <a:path w="1636" h="731">
                  <a:moveTo>
                    <a:pt x="4" y="368"/>
                  </a:moveTo>
                  <a:lnTo>
                    <a:pt x="11" y="351"/>
                  </a:lnTo>
                  <a:lnTo>
                    <a:pt x="21" y="334"/>
                  </a:lnTo>
                  <a:lnTo>
                    <a:pt x="28" y="317"/>
                  </a:lnTo>
                  <a:lnTo>
                    <a:pt x="38" y="301"/>
                  </a:lnTo>
                  <a:lnTo>
                    <a:pt x="46" y="284"/>
                  </a:lnTo>
                  <a:lnTo>
                    <a:pt x="55" y="267"/>
                  </a:lnTo>
                  <a:lnTo>
                    <a:pt x="63" y="252"/>
                  </a:lnTo>
                  <a:lnTo>
                    <a:pt x="72" y="237"/>
                  </a:lnTo>
                  <a:lnTo>
                    <a:pt x="80" y="221"/>
                  </a:lnTo>
                  <a:lnTo>
                    <a:pt x="90" y="206"/>
                  </a:lnTo>
                  <a:lnTo>
                    <a:pt x="99" y="193"/>
                  </a:lnTo>
                  <a:lnTo>
                    <a:pt x="107" y="176"/>
                  </a:lnTo>
                  <a:lnTo>
                    <a:pt x="116" y="162"/>
                  </a:lnTo>
                  <a:lnTo>
                    <a:pt x="124" y="149"/>
                  </a:lnTo>
                  <a:lnTo>
                    <a:pt x="134" y="136"/>
                  </a:lnTo>
                  <a:lnTo>
                    <a:pt x="141" y="124"/>
                  </a:lnTo>
                  <a:lnTo>
                    <a:pt x="151" y="111"/>
                  </a:lnTo>
                  <a:lnTo>
                    <a:pt x="158" y="99"/>
                  </a:lnTo>
                  <a:lnTo>
                    <a:pt x="168" y="88"/>
                  </a:lnTo>
                  <a:lnTo>
                    <a:pt x="176" y="77"/>
                  </a:lnTo>
                  <a:lnTo>
                    <a:pt x="202" y="50"/>
                  </a:lnTo>
                  <a:lnTo>
                    <a:pt x="212" y="42"/>
                  </a:lnTo>
                  <a:lnTo>
                    <a:pt x="220" y="35"/>
                  </a:lnTo>
                  <a:lnTo>
                    <a:pt x="229" y="29"/>
                  </a:lnTo>
                  <a:lnTo>
                    <a:pt x="235" y="23"/>
                  </a:lnTo>
                  <a:lnTo>
                    <a:pt x="245" y="19"/>
                  </a:lnTo>
                  <a:lnTo>
                    <a:pt x="252" y="16"/>
                  </a:lnTo>
                  <a:lnTo>
                    <a:pt x="262" y="14"/>
                  </a:lnTo>
                  <a:lnTo>
                    <a:pt x="269" y="12"/>
                  </a:lnTo>
                  <a:lnTo>
                    <a:pt x="287" y="12"/>
                  </a:lnTo>
                  <a:lnTo>
                    <a:pt x="296" y="14"/>
                  </a:lnTo>
                  <a:lnTo>
                    <a:pt x="304" y="16"/>
                  </a:lnTo>
                  <a:lnTo>
                    <a:pt x="313" y="19"/>
                  </a:lnTo>
                  <a:lnTo>
                    <a:pt x="321" y="23"/>
                  </a:lnTo>
                  <a:lnTo>
                    <a:pt x="329" y="29"/>
                  </a:lnTo>
                  <a:lnTo>
                    <a:pt x="336" y="35"/>
                  </a:lnTo>
                  <a:lnTo>
                    <a:pt x="346" y="42"/>
                  </a:lnTo>
                  <a:lnTo>
                    <a:pt x="371" y="67"/>
                  </a:lnTo>
                  <a:lnTo>
                    <a:pt x="378" y="77"/>
                  </a:lnTo>
                  <a:lnTo>
                    <a:pt x="388" y="88"/>
                  </a:lnTo>
                  <a:lnTo>
                    <a:pt x="396" y="99"/>
                  </a:lnTo>
                  <a:lnTo>
                    <a:pt x="405" y="111"/>
                  </a:lnTo>
                  <a:lnTo>
                    <a:pt x="413" y="124"/>
                  </a:lnTo>
                  <a:lnTo>
                    <a:pt x="423" y="136"/>
                  </a:lnTo>
                  <a:lnTo>
                    <a:pt x="438" y="162"/>
                  </a:lnTo>
                  <a:lnTo>
                    <a:pt x="447" y="176"/>
                  </a:lnTo>
                  <a:lnTo>
                    <a:pt x="455" y="193"/>
                  </a:lnTo>
                  <a:lnTo>
                    <a:pt x="465" y="204"/>
                  </a:lnTo>
                  <a:lnTo>
                    <a:pt x="472" y="221"/>
                  </a:lnTo>
                  <a:lnTo>
                    <a:pt x="480" y="237"/>
                  </a:lnTo>
                  <a:lnTo>
                    <a:pt x="489" y="252"/>
                  </a:lnTo>
                  <a:lnTo>
                    <a:pt x="497" y="267"/>
                  </a:lnTo>
                  <a:lnTo>
                    <a:pt x="507" y="284"/>
                  </a:lnTo>
                  <a:lnTo>
                    <a:pt x="514" y="301"/>
                  </a:lnTo>
                  <a:lnTo>
                    <a:pt x="524" y="317"/>
                  </a:lnTo>
                  <a:lnTo>
                    <a:pt x="539" y="351"/>
                  </a:lnTo>
                  <a:lnTo>
                    <a:pt x="549" y="368"/>
                  </a:lnTo>
                  <a:lnTo>
                    <a:pt x="556" y="385"/>
                  </a:lnTo>
                  <a:lnTo>
                    <a:pt x="566" y="400"/>
                  </a:lnTo>
                  <a:lnTo>
                    <a:pt x="574" y="418"/>
                  </a:lnTo>
                  <a:lnTo>
                    <a:pt x="583" y="435"/>
                  </a:lnTo>
                  <a:lnTo>
                    <a:pt x="591" y="452"/>
                  </a:lnTo>
                  <a:lnTo>
                    <a:pt x="600" y="467"/>
                  </a:lnTo>
                  <a:lnTo>
                    <a:pt x="608" y="484"/>
                  </a:lnTo>
                  <a:lnTo>
                    <a:pt x="618" y="500"/>
                  </a:lnTo>
                  <a:lnTo>
                    <a:pt x="625" y="515"/>
                  </a:lnTo>
                  <a:lnTo>
                    <a:pt x="635" y="530"/>
                  </a:lnTo>
                  <a:lnTo>
                    <a:pt x="643" y="545"/>
                  </a:lnTo>
                  <a:lnTo>
                    <a:pt x="652" y="562"/>
                  </a:lnTo>
                  <a:lnTo>
                    <a:pt x="660" y="576"/>
                  </a:lnTo>
                  <a:lnTo>
                    <a:pt x="669" y="591"/>
                  </a:lnTo>
                  <a:lnTo>
                    <a:pt x="677" y="604"/>
                  </a:lnTo>
                  <a:lnTo>
                    <a:pt x="687" y="618"/>
                  </a:lnTo>
                  <a:lnTo>
                    <a:pt x="694" y="629"/>
                  </a:lnTo>
                  <a:lnTo>
                    <a:pt x="704" y="641"/>
                  </a:lnTo>
                  <a:lnTo>
                    <a:pt x="711" y="652"/>
                  </a:lnTo>
                  <a:lnTo>
                    <a:pt x="721" y="663"/>
                  </a:lnTo>
                  <a:lnTo>
                    <a:pt x="736" y="683"/>
                  </a:lnTo>
                  <a:lnTo>
                    <a:pt x="746" y="690"/>
                  </a:lnTo>
                  <a:lnTo>
                    <a:pt x="753" y="698"/>
                  </a:lnTo>
                  <a:lnTo>
                    <a:pt x="763" y="705"/>
                  </a:lnTo>
                  <a:lnTo>
                    <a:pt x="771" y="711"/>
                  </a:lnTo>
                  <a:lnTo>
                    <a:pt x="782" y="717"/>
                  </a:lnTo>
                  <a:lnTo>
                    <a:pt x="790" y="721"/>
                  </a:lnTo>
                  <a:lnTo>
                    <a:pt x="799" y="724"/>
                  </a:lnTo>
                  <a:lnTo>
                    <a:pt x="807" y="728"/>
                  </a:lnTo>
                  <a:lnTo>
                    <a:pt x="815" y="728"/>
                  </a:lnTo>
                  <a:lnTo>
                    <a:pt x="824" y="730"/>
                  </a:lnTo>
                  <a:lnTo>
                    <a:pt x="832" y="728"/>
                  </a:lnTo>
                  <a:lnTo>
                    <a:pt x="841" y="728"/>
                  </a:lnTo>
                  <a:lnTo>
                    <a:pt x="857" y="721"/>
                  </a:lnTo>
                  <a:lnTo>
                    <a:pt x="866" y="717"/>
                  </a:lnTo>
                  <a:lnTo>
                    <a:pt x="876" y="711"/>
                  </a:lnTo>
                  <a:lnTo>
                    <a:pt x="885" y="705"/>
                  </a:lnTo>
                  <a:lnTo>
                    <a:pt x="901" y="690"/>
                  </a:lnTo>
                  <a:lnTo>
                    <a:pt x="910" y="683"/>
                  </a:lnTo>
                  <a:lnTo>
                    <a:pt x="918" y="673"/>
                  </a:lnTo>
                  <a:lnTo>
                    <a:pt x="928" y="663"/>
                  </a:lnTo>
                  <a:lnTo>
                    <a:pt x="943" y="641"/>
                  </a:lnTo>
                  <a:lnTo>
                    <a:pt x="952" y="629"/>
                  </a:lnTo>
                  <a:lnTo>
                    <a:pt x="960" y="616"/>
                  </a:lnTo>
                  <a:lnTo>
                    <a:pt x="970" y="604"/>
                  </a:lnTo>
                  <a:lnTo>
                    <a:pt x="977" y="587"/>
                  </a:lnTo>
                  <a:lnTo>
                    <a:pt x="985" y="576"/>
                  </a:lnTo>
                  <a:lnTo>
                    <a:pt x="995" y="562"/>
                  </a:lnTo>
                  <a:lnTo>
                    <a:pt x="1002" y="545"/>
                  </a:lnTo>
                  <a:lnTo>
                    <a:pt x="1012" y="530"/>
                  </a:lnTo>
                  <a:lnTo>
                    <a:pt x="1019" y="515"/>
                  </a:lnTo>
                  <a:lnTo>
                    <a:pt x="1029" y="500"/>
                  </a:lnTo>
                  <a:lnTo>
                    <a:pt x="1037" y="482"/>
                  </a:lnTo>
                  <a:lnTo>
                    <a:pt x="1044" y="467"/>
                  </a:lnTo>
                  <a:lnTo>
                    <a:pt x="1054" y="450"/>
                  </a:lnTo>
                  <a:lnTo>
                    <a:pt x="1061" y="433"/>
                  </a:lnTo>
                  <a:lnTo>
                    <a:pt x="1071" y="416"/>
                  </a:lnTo>
                  <a:lnTo>
                    <a:pt x="1079" y="400"/>
                  </a:lnTo>
                  <a:lnTo>
                    <a:pt x="1086" y="383"/>
                  </a:lnTo>
                  <a:lnTo>
                    <a:pt x="1096" y="366"/>
                  </a:lnTo>
                  <a:lnTo>
                    <a:pt x="1104" y="349"/>
                  </a:lnTo>
                  <a:lnTo>
                    <a:pt x="1113" y="332"/>
                  </a:lnTo>
                  <a:lnTo>
                    <a:pt x="1121" y="315"/>
                  </a:lnTo>
                  <a:lnTo>
                    <a:pt x="1130" y="298"/>
                  </a:lnTo>
                  <a:lnTo>
                    <a:pt x="1138" y="282"/>
                  </a:lnTo>
                  <a:lnTo>
                    <a:pt x="1148" y="265"/>
                  </a:lnTo>
                  <a:lnTo>
                    <a:pt x="1155" y="248"/>
                  </a:lnTo>
                  <a:lnTo>
                    <a:pt x="1165" y="233"/>
                  </a:lnTo>
                  <a:lnTo>
                    <a:pt x="1172" y="218"/>
                  </a:lnTo>
                  <a:lnTo>
                    <a:pt x="1182" y="200"/>
                  </a:lnTo>
                  <a:lnTo>
                    <a:pt x="1190" y="187"/>
                  </a:lnTo>
                  <a:lnTo>
                    <a:pt x="1199" y="174"/>
                  </a:lnTo>
                  <a:lnTo>
                    <a:pt x="1207" y="158"/>
                  </a:lnTo>
                  <a:lnTo>
                    <a:pt x="1216" y="145"/>
                  </a:lnTo>
                  <a:lnTo>
                    <a:pt x="1224" y="130"/>
                  </a:lnTo>
                  <a:lnTo>
                    <a:pt x="1234" y="118"/>
                  </a:lnTo>
                  <a:lnTo>
                    <a:pt x="1241" y="105"/>
                  </a:lnTo>
                  <a:lnTo>
                    <a:pt x="1251" y="94"/>
                  </a:lnTo>
                  <a:lnTo>
                    <a:pt x="1259" y="82"/>
                  </a:lnTo>
                  <a:lnTo>
                    <a:pt x="1268" y="71"/>
                  </a:lnTo>
                  <a:lnTo>
                    <a:pt x="1283" y="52"/>
                  </a:lnTo>
                  <a:lnTo>
                    <a:pt x="1301" y="35"/>
                  </a:lnTo>
                  <a:lnTo>
                    <a:pt x="1310" y="29"/>
                  </a:lnTo>
                  <a:lnTo>
                    <a:pt x="1318" y="21"/>
                  </a:lnTo>
                  <a:lnTo>
                    <a:pt x="1326" y="16"/>
                  </a:lnTo>
                  <a:lnTo>
                    <a:pt x="1333" y="12"/>
                  </a:lnTo>
                  <a:lnTo>
                    <a:pt x="1343" y="8"/>
                  </a:lnTo>
                  <a:lnTo>
                    <a:pt x="1358" y="4"/>
                  </a:lnTo>
                  <a:lnTo>
                    <a:pt x="1375" y="4"/>
                  </a:lnTo>
                  <a:lnTo>
                    <a:pt x="1385" y="6"/>
                  </a:lnTo>
                  <a:lnTo>
                    <a:pt x="1392" y="8"/>
                  </a:lnTo>
                  <a:lnTo>
                    <a:pt x="1400" y="12"/>
                  </a:lnTo>
                  <a:lnTo>
                    <a:pt x="1410" y="16"/>
                  </a:lnTo>
                  <a:lnTo>
                    <a:pt x="1423" y="29"/>
                  </a:lnTo>
                  <a:lnTo>
                    <a:pt x="1433" y="35"/>
                  </a:lnTo>
                  <a:lnTo>
                    <a:pt x="1450" y="52"/>
                  </a:lnTo>
                  <a:lnTo>
                    <a:pt x="1465" y="71"/>
                  </a:lnTo>
                  <a:lnTo>
                    <a:pt x="1475" y="82"/>
                  </a:lnTo>
                  <a:lnTo>
                    <a:pt x="1490" y="105"/>
                  </a:lnTo>
                  <a:lnTo>
                    <a:pt x="1500" y="118"/>
                  </a:lnTo>
                  <a:lnTo>
                    <a:pt x="1515" y="145"/>
                  </a:lnTo>
                  <a:lnTo>
                    <a:pt x="1524" y="158"/>
                  </a:lnTo>
                  <a:lnTo>
                    <a:pt x="1540" y="187"/>
                  </a:lnTo>
                  <a:lnTo>
                    <a:pt x="1549" y="202"/>
                  </a:lnTo>
                  <a:lnTo>
                    <a:pt x="1565" y="233"/>
                  </a:lnTo>
                  <a:lnTo>
                    <a:pt x="1574" y="250"/>
                  </a:lnTo>
                  <a:lnTo>
                    <a:pt x="1582" y="265"/>
                  </a:lnTo>
                  <a:lnTo>
                    <a:pt x="1597" y="299"/>
                  </a:lnTo>
                  <a:lnTo>
                    <a:pt x="1607" y="317"/>
                  </a:lnTo>
                  <a:lnTo>
                    <a:pt x="1622" y="351"/>
                  </a:lnTo>
                  <a:lnTo>
                    <a:pt x="1632" y="368"/>
                  </a:lnTo>
                  <a:lnTo>
                    <a:pt x="1635" y="368"/>
                  </a:lnTo>
                  <a:lnTo>
                    <a:pt x="1626" y="351"/>
                  </a:lnTo>
                  <a:lnTo>
                    <a:pt x="1611" y="317"/>
                  </a:lnTo>
                  <a:lnTo>
                    <a:pt x="1601" y="299"/>
                  </a:lnTo>
                  <a:lnTo>
                    <a:pt x="1586" y="265"/>
                  </a:lnTo>
                  <a:lnTo>
                    <a:pt x="1578" y="250"/>
                  </a:lnTo>
                  <a:lnTo>
                    <a:pt x="1568" y="233"/>
                  </a:lnTo>
                  <a:lnTo>
                    <a:pt x="1553" y="202"/>
                  </a:lnTo>
                  <a:lnTo>
                    <a:pt x="1544" y="187"/>
                  </a:lnTo>
                  <a:lnTo>
                    <a:pt x="1528" y="155"/>
                  </a:lnTo>
                  <a:lnTo>
                    <a:pt x="1519" y="141"/>
                  </a:lnTo>
                  <a:lnTo>
                    <a:pt x="1503" y="115"/>
                  </a:lnTo>
                  <a:lnTo>
                    <a:pt x="1494" y="101"/>
                  </a:lnTo>
                  <a:lnTo>
                    <a:pt x="1479" y="78"/>
                  </a:lnTo>
                  <a:lnTo>
                    <a:pt x="1469" y="67"/>
                  </a:lnTo>
                  <a:lnTo>
                    <a:pt x="1454" y="48"/>
                  </a:lnTo>
                  <a:lnTo>
                    <a:pt x="1436" y="31"/>
                  </a:lnTo>
                  <a:lnTo>
                    <a:pt x="1427" y="25"/>
                  </a:lnTo>
                  <a:lnTo>
                    <a:pt x="1419" y="17"/>
                  </a:lnTo>
                  <a:lnTo>
                    <a:pt x="1410" y="12"/>
                  </a:lnTo>
                  <a:lnTo>
                    <a:pt x="1400" y="8"/>
                  </a:lnTo>
                  <a:lnTo>
                    <a:pt x="1392" y="4"/>
                  </a:lnTo>
                  <a:lnTo>
                    <a:pt x="1385" y="2"/>
                  </a:lnTo>
                  <a:lnTo>
                    <a:pt x="1375" y="0"/>
                  </a:lnTo>
                  <a:lnTo>
                    <a:pt x="1358" y="0"/>
                  </a:lnTo>
                  <a:lnTo>
                    <a:pt x="1343" y="4"/>
                  </a:lnTo>
                  <a:lnTo>
                    <a:pt x="1333" y="8"/>
                  </a:lnTo>
                  <a:lnTo>
                    <a:pt x="1326" y="12"/>
                  </a:lnTo>
                  <a:lnTo>
                    <a:pt x="1314" y="17"/>
                  </a:lnTo>
                  <a:lnTo>
                    <a:pt x="1306" y="25"/>
                  </a:lnTo>
                  <a:lnTo>
                    <a:pt x="1297" y="31"/>
                  </a:lnTo>
                  <a:lnTo>
                    <a:pt x="1280" y="48"/>
                  </a:lnTo>
                  <a:lnTo>
                    <a:pt x="1264" y="67"/>
                  </a:lnTo>
                  <a:lnTo>
                    <a:pt x="1255" y="78"/>
                  </a:lnTo>
                  <a:lnTo>
                    <a:pt x="1247" y="90"/>
                  </a:lnTo>
                  <a:lnTo>
                    <a:pt x="1237" y="101"/>
                  </a:lnTo>
                  <a:lnTo>
                    <a:pt x="1230" y="115"/>
                  </a:lnTo>
                  <a:lnTo>
                    <a:pt x="1220" y="126"/>
                  </a:lnTo>
                  <a:lnTo>
                    <a:pt x="1213" y="141"/>
                  </a:lnTo>
                  <a:lnTo>
                    <a:pt x="1203" y="155"/>
                  </a:lnTo>
                  <a:lnTo>
                    <a:pt x="1195" y="170"/>
                  </a:lnTo>
                  <a:lnTo>
                    <a:pt x="1186" y="183"/>
                  </a:lnTo>
                  <a:lnTo>
                    <a:pt x="1178" y="200"/>
                  </a:lnTo>
                  <a:lnTo>
                    <a:pt x="1169" y="218"/>
                  </a:lnTo>
                  <a:lnTo>
                    <a:pt x="1161" y="233"/>
                  </a:lnTo>
                  <a:lnTo>
                    <a:pt x="1151" y="248"/>
                  </a:lnTo>
                  <a:lnTo>
                    <a:pt x="1144" y="265"/>
                  </a:lnTo>
                  <a:lnTo>
                    <a:pt x="1134" y="282"/>
                  </a:lnTo>
                  <a:lnTo>
                    <a:pt x="1127" y="298"/>
                  </a:lnTo>
                  <a:lnTo>
                    <a:pt x="1117" y="315"/>
                  </a:lnTo>
                  <a:lnTo>
                    <a:pt x="1109" y="332"/>
                  </a:lnTo>
                  <a:lnTo>
                    <a:pt x="1100" y="349"/>
                  </a:lnTo>
                  <a:lnTo>
                    <a:pt x="1092" y="366"/>
                  </a:lnTo>
                  <a:lnTo>
                    <a:pt x="1083" y="383"/>
                  </a:lnTo>
                  <a:lnTo>
                    <a:pt x="1075" y="400"/>
                  </a:lnTo>
                  <a:lnTo>
                    <a:pt x="1067" y="416"/>
                  </a:lnTo>
                  <a:lnTo>
                    <a:pt x="1058" y="433"/>
                  </a:lnTo>
                  <a:lnTo>
                    <a:pt x="1050" y="450"/>
                  </a:lnTo>
                  <a:lnTo>
                    <a:pt x="1040" y="467"/>
                  </a:lnTo>
                  <a:lnTo>
                    <a:pt x="1033" y="482"/>
                  </a:lnTo>
                  <a:lnTo>
                    <a:pt x="1025" y="500"/>
                  </a:lnTo>
                  <a:lnTo>
                    <a:pt x="1016" y="515"/>
                  </a:lnTo>
                  <a:lnTo>
                    <a:pt x="1008" y="530"/>
                  </a:lnTo>
                  <a:lnTo>
                    <a:pt x="998" y="545"/>
                  </a:lnTo>
                  <a:lnTo>
                    <a:pt x="991" y="559"/>
                  </a:lnTo>
                  <a:lnTo>
                    <a:pt x="981" y="572"/>
                  </a:lnTo>
                  <a:lnTo>
                    <a:pt x="973" y="587"/>
                  </a:lnTo>
                  <a:lnTo>
                    <a:pt x="966" y="601"/>
                  </a:lnTo>
                  <a:lnTo>
                    <a:pt x="956" y="612"/>
                  </a:lnTo>
                  <a:lnTo>
                    <a:pt x="949" y="625"/>
                  </a:lnTo>
                  <a:lnTo>
                    <a:pt x="939" y="637"/>
                  </a:lnTo>
                  <a:lnTo>
                    <a:pt x="924" y="660"/>
                  </a:lnTo>
                  <a:lnTo>
                    <a:pt x="914" y="669"/>
                  </a:lnTo>
                  <a:lnTo>
                    <a:pt x="907" y="679"/>
                  </a:lnTo>
                  <a:lnTo>
                    <a:pt x="897" y="686"/>
                  </a:lnTo>
                  <a:lnTo>
                    <a:pt x="882" y="702"/>
                  </a:lnTo>
                  <a:lnTo>
                    <a:pt x="872" y="707"/>
                  </a:lnTo>
                  <a:lnTo>
                    <a:pt x="866" y="713"/>
                  </a:lnTo>
                  <a:lnTo>
                    <a:pt x="857" y="717"/>
                  </a:lnTo>
                  <a:lnTo>
                    <a:pt x="841" y="724"/>
                  </a:lnTo>
                  <a:lnTo>
                    <a:pt x="832" y="724"/>
                  </a:lnTo>
                  <a:lnTo>
                    <a:pt x="824" y="726"/>
                  </a:lnTo>
                  <a:lnTo>
                    <a:pt x="815" y="724"/>
                  </a:lnTo>
                  <a:lnTo>
                    <a:pt x="807" y="724"/>
                  </a:lnTo>
                  <a:lnTo>
                    <a:pt x="799" y="721"/>
                  </a:lnTo>
                  <a:lnTo>
                    <a:pt x="790" y="717"/>
                  </a:lnTo>
                  <a:lnTo>
                    <a:pt x="782" y="713"/>
                  </a:lnTo>
                  <a:lnTo>
                    <a:pt x="775" y="707"/>
                  </a:lnTo>
                  <a:lnTo>
                    <a:pt x="767" y="702"/>
                  </a:lnTo>
                  <a:lnTo>
                    <a:pt x="757" y="694"/>
                  </a:lnTo>
                  <a:lnTo>
                    <a:pt x="750" y="686"/>
                  </a:lnTo>
                  <a:lnTo>
                    <a:pt x="740" y="679"/>
                  </a:lnTo>
                  <a:lnTo>
                    <a:pt x="725" y="660"/>
                  </a:lnTo>
                  <a:lnTo>
                    <a:pt x="715" y="648"/>
                  </a:lnTo>
                  <a:lnTo>
                    <a:pt x="708" y="637"/>
                  </a:lnTo>
                  <a:lnTo>
                    <a:pt x="698" y="625"/>
                  </a:lnTo>
                  <a:lnTo>
                    <a:pt x="690" y="614"/>
                  </a:lnTo>
                  <a:lnTo>
                    <a:pt x="681" y="601"/>
                  </a:lnTo>
                  <a:lnTo>
                    <a:pt x="673" y="587"/>
                  </a:lnTo>
                  <a:lnTo>
                    <a:pt x="664" y="572"/>
                  </a:lnTo>
                  <a:lnTo>
                    <a:pt x="656" y="559"/>
                  </a:lnTo>
                  <a:lnTo>
                    <a:pt x="646" y="545"/>
                  </a:lnTo>
                  <a:lnTo>
                    <a:pt x="639" y="530"/>
                  </a:lnTo>
                  <a:lnTo>
                    <a:pt x="629" y="515"/>
                  </a:lnTo>
                  <a:lnTo>
                    <a:pt x="621" y="500"/>
                  </a:lnTo>
                  <a:lnTo>
                    <a:pt x="612" y="484"/>
                  </a:lnTo>
                  <a:lnTo>
                    <a:pt x="604" y="467"/>
                  </a:lnTo>
                  <a:lnTo>
                    <a:pt x="595" y="452"/>
                  </a:lnTo>
                  <a:lnTo>
                    <a:pt x="587" y="435"/>
                  </a:lnTo>
                  <a:lnTo>
                    <a:pt x="577" y="418"/>
                  </a:lnTo>
                  <a:lnTo>
                    <a:pt x="570" y="400"/>
                  </a:lnTo>
                  <a:lnTo>
                    <a:pt x="560" y="385"/>
                  </a:lnTo>
                  <a:lnTo>
                    <a:pt x="553" y="368"/>
                  </a:lnTo>
                  <a:lnTo>
                    <a:pt x="543" y="351"/>
                  </a:lnTo>
                  <a:lnTo>
                    <a:pt x="528" y="317"/>
                  </a:lnTo>
                  <a:lnTo>
                    <a:pt x="518" y="301"/>
                  </a:lnTo>
                  <a:lnTo>
                    <a:pt x="511" y="284"/>
                  </a:lnTo>
                  <a:lnTo>
                    <a:pt x="501" y="267"/>
                  </a:lnTo>
                  <a:lnTo>
                    <a:pt x="493" y="252"/>
                  </a:lnTo>
                  <a:lnTo>
                    <a:pt x="484" y="237"/>
                  </a:lnTo>
                  <a:lnTo>
                    <a:pt x="476" y="221"/>
                  </a:lnTo>
                  <a:lnTo>
                    <a:pt x="468" y="204"/>
                  </a:lnTo>
                  <a:lnTo>
                    <a:pt x="459" y="189"/>
                  </a:lnTo>
                  <a:lnTo>
                    <a:pt x="451" y="176"/>
                  </a:lnTo>
                  <a:lnTo>
                    <a:pt x="442" y="158"/>
                  </a:lnTo>
                  <a:lnTo>
                    <a:pt x="426" y="132"/>
                  </a:lnTo>
                  <a:lnTo>
                    <a:pt x="417" y="120"/>
                  </a:lnTo>
                  <a:lnTo>
                    <a:pt x="409" y="107"/>
                  </a:lnTo>
                  <a:lnTo>
                    <a:pt x="400" y="96"/>
                  </a:lnTo>
                  <a:lnTo>
                    <a:pt x="392" y="84"/>
                  </a:lnTo>
                  <a:lnTo>
                    <a:pt x="382" y="73"/>
                  </a:lnTo>
                  <a:lnTo>
                    <a:pt x="375" y="63"/>
                  </a:lnTo>
                  <a:lnTo>
                    <a:pt x="350" y="38"/>
                  </a:lnTo>
                  <a:lnTo>
                    <a:pt x="340" y="31"/>
                  </a:lnTo>
                  <a:lnTo>
                    <a:pt x="333" y="25"/>
                  </a:lnTo>
                  <a:lnTo>
                    <a:pt x="321" y="19"/>
                  </a:lnTo>
                  <a:lnTo>
                    <a:pt x="313" y="16"/>
                  </a:lnTo>
                  <a:lnTo>
                    <a:pt x="304" y="12"/>
                  </a:lnTo>
                  <a:lnTo>
                    <a:pt x="296" y="10"/>
                  </a:lnTo>
                  <a:lnTo>
                    <a:pt x="287" y="8"/>
                  </a:lnTo>
                  <a:lnTo>
                    <a:pt x="269" y="8"/>
                  </a:lnTo>
                  <a:lnTo>
                    <a:pt x="262" y="10"/>
                  </a:lnTo>
                  <a:lnTo>
                    <a:pt x="252" y="12"/>
                  </a:lnTo>
                  <a:lnTo>
                    <a:pt x="245" y="16"/>
                  </a:lnTo>
                  <a:lnTo>
                    <a:pt x="235" y="19"/>
                  </a:lnTo>
                  <a:lnTo>
                    <a:pt x="225" y="25"/>
                  </a:lnTo>
                  <a:lnTo>
                    <a:pt x="216" y="31"/>
                  </a:lnTo>
                  <a:lnTo>
                    <a:pt x="208" y="38"/>
                  </a:lnTo>
                  <a:lnTo>
                    <a:pt x="199" y="46"/>
                  </a:lnTo>
                  <a:lnTo>
                    <a:pt x="172" y="73"/>
                  </a:lnTo>
                  <a:lnTo>
                    <a:pt x="164" y="84"/>
                  </a:lnTo>
                  <a:lnTo>
                    <a:pt x="155" y="96"/>
                  </a:lnTo>
                  <a:lnTo>
                    <a:pt x="147" y="107"/>
                  </a:lnTo>
                  <a:lnTo>
                    <a:pt x="137" y="120"/>
                  </a:lnTo>
                  <a:lnTo>
                    <a:pt x="130" y="132"/>
                  </a:lnTo>
                  <a:lnTo>
                    <a:pt x="120" y="145"/>
                  </a:lnTo>
                  <a:lnTo>
                    <a:pt x="113" y="158"/>
                  </a:lnTo>
                  <a:lnTo>
                    <a:pt x="103" y="176"/>
                  </a:lnTo>
                  <a:lnTo>
                    <a:pt x="95" y="189"/>
                  </a:lnTo>
                  <a:lnTo>
                    <a:pt x="86" y="202"/>
                  </a:lnTo>
                  <a:lnTo>
                    <a:pt x="76" y="221"/>
                  </a:lnTo>
                  <a:lnTo>
                    <a:pt x="69" y="237"/>
                  </a:lnTo>
                  <a:lnTo>
                    <a:pt x="59" y="252"/>
                  </a:lnTo>
                  <a:lnTo>
                    <a:pt x="51" y="267"/>
                  </a:lnTo>
                  <a:lnTo>
                    <a:pt x="42" y="284"/>
                  </a:lnTo>
                  <a:lnTo>
                    <a:pt x="34" y="301"/>
                  </a:lnTo>
                  <a:lnTo>
                    <a:pt x="25" y="317"/>
                  </a:lnTo>
                  <a:lnTo>
                    <a:pt x="17" y="334"/>
                  </a:lnTo>
                  <a:lnTo>
                    <a:pt x="7" y="351"/>
                  </a:lnTo>
                  <a:lnTo>
                    <a:pt x="0" y="368"/>
                  </a:lnTo>
                  <a:lnTo>
                    <a:pt x="4" y="3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163520" y="1254240"/>
              <a:ext cx="0" cy="119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172880" y="1851120"/>
              <a:ext cx="3008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325520" y="1609920"/>
              <a:ext cx="0" cy="234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400040" y="150336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469880" y="1427040"/>
              <a:ext cx="0" cy="420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550880" y="1352520"/>
              <a:ext cx="0" cy="484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635120" y="1320840"/>
              <a:ext cx="0" cy="523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708200" y="1352520"/>
              <a:ext cx="0" cy="492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793880" y="1414440"/>
              <a:ext cx="0" cy="422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884240" y="14954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958760" y="160992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050920" y="1779480"/>
              <a:ext cx="0" cy="651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38040" y="172872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203200" y="1868400"/>
              <a:ext cx="0" cy="84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280960" y="186840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363760" y="1859040"/>
              <a:ext cx="0" cy="333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47640" y="1859040"/>
              <a:ext cx="0" cy="430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525760" y="1859040"/>
              <a:ext cx="0" cy="479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603520" y="18590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676240" y="1859040"/>
              <a:ext cx="0" cy="488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54360" y="1859040"/>
              <a:ext cx="0" cy="430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838240" y="1868400"/>
              <a:ext cx="0" cy="331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911320" y="185904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000240" y="185904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160440" y="1728720"/>
              <a:ext cx="0" cy="115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232080" y="159228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298680" y="149544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386160" y="1422360"/>
              <a:ext cx="0" cy="422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470040" y="1343160"/>
              <a:ext cx="0" cy="5014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547800" y="1320840"/>
              <a:ext cx="0" cy="523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632040" y="1352520"/>
              <a:ext cx="0" cy="492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709800" y="1406520"/>
              <a:ext cx="0" cy="430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792240" y="150336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76480" y="163368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952800" y="177012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485600" y="1724040"/>
              <a:ext cx="502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092120" y="174780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29000" y="1143000"/>
              <a:ext cx="41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|A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3" name=""/>
          <p:cNvSpPr/>
          <p:nvPr/>
        </p:nvSpPr>
        <p:spPr>
          <a:xfrm>
            <a:off x="6167520" y="1908720"/>
            <a:ext cx="22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 2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172200" y="2793240"/>
            <a:ext cx="221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2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172200" y="3707640"/>
            <a:ext cx="221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 2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F09-5A77-4826-B44A-CA348DBF8AF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yquist’s sampling theor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f the highest frequency component in a continuous signal is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then that signal can only be recovered from its data samples if the sampling frequency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is greater than twice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o CD: [0-20kHz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pling at 44 kHz       (why not 40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3687-73F9-4750-ACE1-B23E7F4920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reteness and period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761040" y="1295280"/>
            <a:ext cx="4258800" cy="1306440"/>
            <a:chOff x="761040" y="1295280"/>
            <a:chExt cx="4258800" cy="1306440"/>
          </a:xfrm>
        </p:grpSpPr>
        <p:sp>
          <p:nvSpPr>
            <p:cNvPr id="1321" name=""/>
            <p:cNvSpPr/>
            <p:nvPr/>
          </p:nvSpPr>
          <p:spPr>
            <a:xfrm>
              <a:off x="1184040" y="1449000"/>
              <a:ext cx="2873160" cy="1100160"/>
            </a:xfrm>
            <a:custGeom>
              <a:avLst/>
              <a:gdLst/>
              <a:ahLst/>
              <a:rect l="l" t="t" r="r" b="b"/>
              <a:pathLst>
                <a:path w="1636" h="731">
                  <a:moveTo>
                    <a:pt x="4" y="368"/>
                  </a:moveTo>
                  <a:lnTo>
                    <a:pt x="11" y="351"/>
                  </a:lnTo>
                  <a:lnTo>
                    <a:pt x="21" y="334"/>
                  </a:lnTo>
                  <a:lnTo>
                    <a:pt x="28" y="317"/>
                  </a:lnTo>
                  <a:lnTo>
                    <a:pt x="38" y="301"/>
                  </a:lnTo>
                  <a:lnTo>
                    <a:pt x="46" y="284"/>
                  </a:lnTo>
                  <a:lnTo>
                    <a:pt x="55" y="267"/>
                  </a:lnTo>
                  <a:lnTo>
                    <a:pt x="63" y="252"/>
                  </a:lnTo>
                  <a:lnTo>
                    <a:pt x="72" y="237"/>
                  </a:lnTo>
                  <a:lnTo>
                    <a:pt x="80" y="221"/>
                  </a:lnTo>
                  <a:lnTo>
                    <a:pt x="90" y="206"/>
                  </a:lnTo>
                  <a:lnTo>
                    <a:pt x="99" y="193"/>
                  </a:lnTo>
                  <a:lnTo>
                    <a:pt x="107" y="176"/>
                  </a:lnTo>
                  <a:lnTo>
                    <a:pt x="116" y="162"/>
                  </a:lnTo>
                  <a:lnTo>
                    <a:pt x="124" y="149"/>
                  </a:lnTo>
                  <a:lnTo>
                    <a:pt x="134" y="136"/>
                  </a:lnTo>
                  <a:lnTo>
                    <a:pt x="141" y="124"/>
                  </a:lnTo>
                  <a:lnTo>
                    <a:pt x="151" y="111"/>
                  </a:lnTo>
                  <a:lnTo>
                    <a:pt x="158" y="99"/>
                  </a:lnTo>
                  <a:lnTo>
                    <a:pt x="168" y="88"/>
                  </a:lnTo>
                  <a:lnTo>
                    <a:pt x="176" y="77"/>
                  </a:lnTo>
                  <a:lnTo>
                    <a:pt x="202" y="50"/>
                  </a:lnTo>
                  <a:lnTo>
                    <a:pt x="212" y="42"/>
                  </a:lnTo>
                  <a:lnTo>
                    <a:pt x="220" y="35"/>
                  </a:lnTo>
                  <a:lnTo>
                    <a:pt x="229" y="29"/>
                  </a:lnTo>
                  <a:lnTo>
                    <a:pt x="235" y="23"/>
                  </a:lnTo>
                  <a:lnTo>
                    <a:pt x="245" y="19"/>
                  </a:lnTo>
                  <a:lnTo>
                    <a:pt x="252" y="16"/>
                  </a:lnTo>
                  <a:lnTo>
                    <a:pt x="262" y="14"/>
                  </a:lnTo>
                  <a:lnTo>
                    <a:pt x="269" y="12"/>
                  </a:lnTo>
                  <a:lnTo>
                    <a:pt x="287" y="12"/>
                  </a:lnTo>
                  <a:lnTo>
                    <a:pt x="296" y="14"/>
                  </a:lnTo>
                  <a:lnTo>
                    <a:pt x="304" y="16"/>
                  </a:lnTo>
                  <a:lnTo>
                    <a:pt x="313" y="19"/>
                  </a:lnTo>
                  <a:lnTo>
                    <a:pt x="321" y="23"/>
                  </a:lnTo>
                  <a:lnTo>
                    <a:pt x="329" y="29"/>
                  </a:lnTo>
                  <a:lnTo>
                    <a:pt x="336" y="35"/>
                  </a:lnTo>
                  <a:lnTo>
                    <a:pt x="346" y="42"/>
                  </a:lnTo>
                  <a:lnTo>
                    <a:pt x="371" y="67"/>
                  </a:lnTo>
                  <a:lnTo>
                    <a:pt x="378" y="77"/>
                  </a:lnTo>
                  <a:lnTo>
                    <a:pt x="388" y="88"/>
                  </a:lnTo>
                  <a:lnTo>
                    <a:pt x="396" y="99"/>
                  </a:lnTo>
                  <a:lnTo>
                    <a:pt x="405" y="111"/>
                  </a:lnTo>
                  <a:lnTo>
                    <a:pt x="413" y="124"/>
                  </a:lnTo>
                  <a:lnTo>
                    <a:pt x="423" y="136"/>
                  </a:lnTo>
                  <a:lnTo>
                    <a:pt x="438" y="162"/>
                  </a:lnTo>
                  <a:lnTo>
                    <a:pt x="447" y="176"/>
                  </a:lnTo>
                  <a:lnTo>
                    <a:pt x="455" y="193"/>
                  </a:lnTo>
                  <a:lnTo>
                    <a:pt x="465" y="204"/>
                  </a:lnTo>
                  <a:lnTo>
                    <a:pt x="472" y="221"/>
                  </a:lnTo>
                  <a:lnTo>
                    <a:pt x="480" y="237"/>
                  </a:lnTo>
                  <a:lnTo>
                    <a:pt x="489" y="252"/>
                  </a:lnTo>
                  <a:lnTo>
                    <a:pt x="497" y="267"/>
                  </a:lnTo>
                  <a:lnTo>
                    <a:pt x="507" y="284"/>
                  </a:lnTo>
                  <a:lnTo>
                    <a:pt x="514" y="301"/>
                  </a:lnTo>
                  <a:lnTo>
                    <a:pt x="524" y="317"/>
                  </a:lnTo>
                  <a:lnTo>
                    <a:pt x="539" y="351"/>
                  </a:lnTo>
                  <a:lnTo>
                    <a:pt x="549" y="368"/>
                  </a:lnTo>
                  <a:lnTo>
                    <a:pt x="556" y="385"/>
                  </a:lnTo>
                  <a:lnTo>
                    <a:pt x="566" y="400"/>
                  </a:lnTo>
                  <a:lnTo>
                    <a:pt x="574" y="418"/>
                  </a:lnTo>
                  <a:lnTo>
                    <a:pt x="583" y="435"/>
                  </a:lnTo>
                  <a:lnTo>
                    <a:pt x="591" y="452"/>
                  </a:lnTo>
                  <a:lnTo>
                    <a:pt x="600" y="467"/>
                  </a:lnTo>
                  <a:lnTo>
                    <a:pt x="608" y="484"/>
                  </a:lnTo>
                  <a:lnTo>
                    <a:pt x="618" y="500"/>
                  </a:lnTo>
                  <a:lnTo>
                    <a:pt x="625" y="515"/>
                  </a:lnTo>
                  <a:lnTo>
                    <a:pt x="635" y="530"/>
                  </a:lnTo>
                  <a:lnTo>
                    <a:pt x="643" y="545"/>
                  </a:lnTo>
                  <a:lnTo>
                    <a:pt x="652" y="562"/>
                  </a:lnTo>
                  <a:lnTo>
                    <a:pt x="660" y="576"/>
                  </a:lnTo>
                  <a:lnTo>
                    <a:pt x="669" y="591"/>
                  </a:lnTo>
                  <a:lnTo>
                    <a:pt x="677" y="604"/>
                  </a:lnTo>
                  <a:lnTo>
                    <a:pt x="687" y="618"/>
                  </a:lnTo>
                  <a:lnTo>
                    <a:pt x="694" y="629"/>
                  </a:lnTo>
                  <a:lnTo>
                    <a:pt x="704" y="641"/>
                  </a:lnTo>
                  <a:lnTo>
                    <a:pt x="711" y="652"/>
                  </a:lnTo>
                  <a:lnTo>
                    <a:pt x="721" y="663"/>
                  </a:lnTo>
                  <a:lnTo>
                    <a:pt x="736" y="683"/>
                  </a:lnTo>
                  <a:lnTo>
                    <a:pt x="746" y="690"/>
                  </a:lnTo>
                  <a:lnTo>
                    <a:pt x="753" y="698"/>
                  </a:lnTo>
                  <a:lnTo>
                    <a:pt x="763" y="705"/>
                  </a:lnTo>
                  <a:lnTo>
                    <a:pt x="771" y="711"/>
                  </a:lnTo>
                  <a:lnTo>
                    <a:pt x="782" y="717"/>
                  </a:lnTo>
                  <a:lnTo>
                    <a:pt x="790" y="721"/>
                  </a:lnTo>
                  <a:lnTo>
                    <a:pt x="799" y="724"/>
                  </a:lnTo>
                  <a:lnTo>
                    <a:pt x="807" y="728"/>
                  </a:lnTo>
                  <a:lnTo>
                    <a:pt x="815" y="728"/>
                  </a:lnTo>
                  <a:lnTo>
                    <a:pt x="824" y="730"/>
                  </a:lnTo>
                  <a:lnTo>
                    <a:pt x="832" y="728"/>
                  </a:lnTo>
                  <a:lnTo>
                    <a:pt x="841" y="728"/>
                  </a:lnTo>
                  <a:lnTo>
                    <a:pt x="857" y="721"/>
                  </a:lnTo>
                  <a:lnTo>
                    <a:pt x="866" y="717"/>
                  </a:lnTo>
                  <a:lnTo>
                    <a:pt x="876" y="711"/>
                  </a:lnTo>
                  <a:lnTo>
                    <a:pt x="885" y="705"/>
                  </a:lnTo>
                  <a:lnTo>
                    <a:pt x="901" y="690"/>
                  </a:lnTo>
                  <a:lnTo>
                    <a:pt x="910" y="683"/>
                  </a:lnTo>
                  <a:lnTo>
                    <a:pt x="918" y="673"/>
                  </a:lnTo>
                  <a:lnTo>
                    <a:pt x="928" y="663"/>
                  </a:lnTo>
                  <a:lnTo>
                    <a:pt x="943" y="641"/>
                  </a:lnTo>
                  <a:lnTo>
                    <a:pt x="952" y="629"/>
                  </a:lnTo>
                  <a:lnTo>
                    <a:pt x="960" y="616"/>
                  </a:lnTo>
                  <a:lnTo>
                    <a:pt x="970" y="604"/>
                  </a:lnTo>
                  <a:lnTo>
                    <a:pt x="977" y="587"/>
                  </a:lnTo>
                  <a:lnTo>
                    <a:pt x="985" y="576"/>
                  </a:lnTo>
                  <a:lnTo>
                    <a:pt x="995" y="562"/>
                  </a:lnTo>
                  <a:lnTo>
                    <a:pt x="1002" y="545"/>
                  </a:lnTo>
                  <a:lnTo>
                    <a:pt x="1012" y="530"/>
                  </a:lnTo>
                  <a:lnTo>
                    <a:pt x="1019" y="515"/>
                  </a:lnTo>
                  <a:lnTo>
                    <a:pt x="1029" y="500"/>
                  </a:lnTo>
                  <a:lnTo>
                    <a:pt x="1037" y="482"/>
                  </a:lnTo>
                  <a:lnTo>
                    <a:pt x="1044" y="467"/>
                  </a:lnTo>
                  <a:lnTo>
                    <a:pt x="1054" y="450"/>
                  </a:lnTo>
                  <a:lnTo>
                    <a:pt x="1061" y="433"/>
                  </a:lnTo>
                  <a:lnTo>
                    <a:pt x="1071" y="416"/>
                  </a:lnTo>
                  <a:lnTo>
                    <a:pt x="1079" y="400"/>
                  </a:lnTo>
                  <a:lnTo>
                    <a:pt x="1086" y="383"/>
                  </a:lnTo>
                  <a:lnTo>
                    <a:pt x="1096" y="366"/>
                  </a:lnTo>
                  <a:lnTo>
                    <a:pt x="1104" y="349"/>
                  </a:lnTo>
                  <a:lnTo>
                    <a:pt x="1113" y="332"/>
                  </a:lnTo>
                  <a:lnTo>
                    <a:pt x="1121" y="315"/>
                  </a:lnTo>
                  <a:lnTo>
                    <a:pt x="1130" y="298"/>
                  </a:lnTo>
                  <a:lnTo>
                    <a:pt x="1138" y="282"/>
                  </a:lnTo>
                  <a:lnTo>
                    <a:pt x="1148" y="265"/>
                  </a:lnTo>
                  <a:lnTo>
                    <a:pt x="1155" y="248"/>
                  </a:lnTo>
                  <a:lnTo>
                    <a:pt x="1165" y="233"/>
                  </a:lnTo>
                  <a:lnTo>
                    <a:pt x="1172" y="218"/>
                  </a:lnTo>
                  <a:lnTo>
                    <a:pt x="1182" y="200"/>
                  </a:lnTo>
                  <a:lnTo>
                    <a:pt x="1190" y="187"/>
                  </a:lnTo>
                  <a:lnTo>
                    <a:pt x="1199" y="174"/>
                  </a:lnTo>
                  <a:lnTo>
                    <a:pt x="1207" y="158"/>
                  </a:lnTo>
                  <a:lnTo>
                    <a:pt x="1216" y="145"/>
                  </a:lnTo>
                  <a:lnTo>
                    <a:pt x="1224" y="130"/>
                  </a:lnTo>
                  <a:lnTo>
                    <a:pt x="1234" y="118"/>
                  </a:lnTo>
                  <a:lnTo>
                    <a:pt x="1241" y="105"/>
                  </a:lnTo>
                  <a:lnTo>
                    <a:pt x="1251" y="94"/>
                  </a:lnTo>
                  <a:lnTo>
                    <a:pt x="1259" y="82"/>
                  </a:lnTo>
                  <a:lnTo>
                    <a:pt x="1268" y="71"/>
                  </a:lnTo>
                  <a:lnTo>
                    <a:pt x="1283" y="52"/>
                  </a:lnTo>
                  <a:lnTo>
                    <a:pt x="1301" y="35"/>
                  </a:lnTo>
                  <a:lnTo>
                    <a:pt x="1310" y="29"/>
                  </a:lnTo>
                  <a:lnTo>
                    <a:pt x="1318" y="21"/>
                  </a:lnTo>
                  <a:lnTo>
                    <a:pt x="1326" y="16"/>
                  </a:lnTo>
                  <a:lnTo>
                    <a:pt x="1333" y="12"/>
                  </a:lnTo>
                  <a:lnTo>
                    <a:pt x="1343" y="8"/>
                  </a:lnTo>
                  <a:lnTo>
                    <a:pt x="1358" y="4"/>
                  </a:lnTo>
                  <a:lnTo>
                    <a:pt x="1375" y="4"/>
                  </a:lnTo>
                  <a:lnTo>
                    <a:pt x="1385" y="6"/>
                  </a:lnTo>
                  <a:lnTo>
                    <a:pt x="1392" y="8"/>
                  </a:lnTo>
                  <a:lnTo>
                    <a:pt x="1400" y="12"/>
                  </a:lnTo>
                  <a:lnTo>
                    <a:pt x="1410" y="16"/>
                  </a:lnTo>
                  <a:lnTo>
                    <a:pt x="1423" y="29"/>
                  </a:lnTo>
                  <a:lnTo>
                    <a:pt x="1433" y="35"/>
                  </a:lnTo>
                  <a:lnTo>
                    <a:pt x="1450" y="52"/>
                  </a:lnTo>
                  <a:lnTo>
                    <a:pt x="1465" y="71"/>
                  </a:lnTo>
                  <a:lnTo>
                    <a:pt x="1475" y="82"/>
                  </a:lnTo>
                  <a:lnTo>
                    <a:pt x="1490" y="105"/>
                  </a:lnTo>
                  <a:lnTo>
                    <a:pt x="1500" y="118"/>
                  </a:lnTo>
                  <a:lnTo>
                    <a:pt x="1515" y="145"/>
                  </a:lnTo>
                  <a:lnTo>
                    <a:pt x="1524" y="158"/>
                  </a:lnTo>
                  <a:lnTo>
                    <a:pt x="1540" y="187"/>
                  </a:lnTo>
                  <a:lnTo>
                    <a:pt x="1549" y="202"/>
                  </a:lnTo>
                  <a:lnTo>
                    <a:pt x="1565" y="233"/>
                  </a:lnTo>
                  <a:lnTo>
                    <a:pt x="1574" y="250"/>
                  </a:lnTo>
                  <a:lnTo>
                    <a:pt x="1582" y="265"/>
                  </a:lnTo>
                  <a:lnTo>
                    <a:pt x="1597" y="299"/>
                  </a:lnTo>
                  <a:lnTo>
                    <a:pt x="1607" y="317"/>
                  </a:lnTo>
                  <a:lnTo>
                    <a:pt x="1622" y="351"/>
                  </a:lnTo>
                  <a:lnTo>
                    <a:pt x="1632" y="368"/>
                  </a:lnTo>
                  <a:lnTo>
                    <a:pt x="1635" y="368"/>
                  </a:lnTo>
                  <a:lnTo>
                    <a:pt x="1626" y="351"/>
                  </a:lnTo>
                  <a:lnTo>
                    <a:pt x="1611" y="317"/>
                  </a:lnTo>
                  <a:lnTo>
                    <a:pt x="1601" y="299"/>
                  </a:lnTo>
                  <a:lnTo>
                    <a:pt x="1586" y="265"/>
                  </a:lnTo>
                  <a:lnTo>
                    <a:pt x="1578" y="250"/>
                  </a:lnTo>
                  <a:lnTo>
                    <a:pt x="1568" y="233"/>
                  </a:lnTo>
                  <a:lnTo>
                    <a:pt x="1553" y="202"/>
                  </a:lnTo>
                  <a:lnTo>
                    <a:pt x="1544" y="187"/>
                  </a:lnTo>
                  <a:lnTo>
                    <a:pt x="1528" y="155"/>
                  </a:lnTo>
                  <a:lnTo>
                    <a:pt x="1519" y="141"/>
                  </a:lnTo>
                  <a:lnTo>
                    <a:pt x="1503" y="115"/>
                  </a:lnTo>
                  <a:lnTo>
                    <a:pt x="1494" y="101"/>
                  </a:lnTo>
                  <a:lnTo>
                    <a:pt x="1479" y="78"/>
                  </a:lnTo>
                  <a:lnTo>
                    <a:pt x="1469" y="67"/>
                  </a:lnTo>
                  <a:lnTo>
                    <a:pt x="1454" y="48"/>
                  </a:lnTo>
                  <a:lnTo>
                    <a:pt x="1436" y="31"/>
                  </a:lnTo>
                  <a:lnTo>
                    <a:pt x="1427" y="25"/>
                  </a:lnTo>
                  <a:lnTo>
                    <a:pt x="1419" y="17"/>
                  </a:lnTo>
                  <a:lnTo>
                    <a:pt x="1410" y="12"/>
                  </a:lnTo>
                  <a:lnTo>
                    <a:pt x="1400" y="8"/>
                  </a:lnTo>
                  <a:lnTo>
                    <a:pt x="1392" y="4"/>
                  </a:lnTo>
                  <a:lnTo>
                    <a:pt x="1385" y="2"/>
                  </a:lnTo>
                  <a:lnTo>
                    <a:pt x="1375" y="0"/>
                  </a:lnTo>
                  <a:lnTo>
                    <a:pt x="1358" y="0"/>
                  </a:lnTo>
                  <a:lnTo>
                    <a:pt x="1343" y="4"/>
                  </a:lnTo>
                  <a:lnTo>
                    <a:pt x="1333" y="8"/>
                  </a:lnTo>
                  <a:lnTo>
                    <a:pt x="1326" y="12"/>
                  </a:lnTo>
                  <a:lnTo>
                    <a:pt x="1314" y="17"/>
                  </a:lnTo>
                  <a:lnTo>
                    <a:pt x="1306" y="25"/>
                  </a:lnTo>
                  <a:lnTo>
                    <a:pt x="1297" y="31"/>
                  </a:lnTo>
                  <a:lnTo>
                    <a:pt x="1280" y="48"/>
                  </a:lnTo>
                  <a:lnTo>
                    <a:pt x="1264" y="67"/>
                  </a:lnTo>
                  <a:lnTo>
                    <a:pt x="1255" y="78"/>
                  </a:lnTo>
                  <a:lnTo>
                    <a:pt x="1247" y="90"/>
                  </a:lnTo>
                  <a:lnTo>
                    <a:pt x="1237" y="101"/>
                  </a:lnTo>
                  <a:lnTo>
                    <a:pt x="1230" y="115"/>
                  </a:lnTo>
                  <a:lnTo>
                    <a:pt x="1220" y="126"/>
                  </a:lnTo>
                  <a:lnTo>
                    <a:pt x="1213" y="141"/>
                  </a:lnTo>
                  <a:lnTo>
                    <a:pt x="1203" y="155"/>
                  </a:lnTo>
                  <a:lnTo>
                    <a:pt x="1195" y="170"/>
                  </a:lnTo>
                  <a:lnTo>
                    <a:pt x="1186" y="183"/>
                  </a:lnTo>
                  <a:lnTo>
                    <a:pt x="1178" y="200"/>
                  </a:lnTo>
                  <a:lnTo>
                    <a:pt x="1169" y="218"/>
                  </a:lnTo>
                  <a:lnTo>
                    <a:pt x="1161" y="233"/>
                  </a:lnTo>
                  <a:lnTo>
                    <a:pt x="1151" y="248"/>
                  </a:lnTo>
                  <a:lnTo>
                    <a:pt x="1144" y="265"/>
                  </a:lnTo>
                  <a:lnTo>
                    <a:pt x="1134" y="282"/>
                  </a:lnTo>
                  <a:lnTo>
                    <a:pt x="1127" y="298"/>
                  </a:lnTo>
                  <a:lnTo>
                    <a:pt x="1117" y="315"/>
                  </a:lnTo>
                  <a:lnTo>
                    <a:pt x="1109" y="332"/>
                  </a:lnTo>
                  <a:lnTo>
                    <a:pt x="1100" y="349"/>
                  </a:lnTo>
                  <a:lnTo>
                    <a:pt x="1092" y="366"/>
                  </a:lnTo>
                  <a:lnTo>
                    <a:pt x="1083" y="383"/>
                  </a:lnTo>
                  <a:lnTo>
                    <a:pt x="1075" y="400"/>
                  </a:lnTo>
                  <a:lnTo>
                    <a:pt x="1067" y="416"/>
                  </a:lnTo>
                  <a:lnTo>
                    <a:pt x="1058" y="433"/>
                  </a:lnTo>
                  <a:lnTo>
                    <a:pt x="1050" y="450"/>
                  </a:lnTo>
                  <a:lnTo>
                    <a:pt x="1040" y="467"/>
                  </a:lnTo>
                  <a:lnTo>
                    <a:pt x="1033" y="482"/>
                  </a:lnTo>
                  <a:lnTo>
                    <a:pt x="1025" y="500"/>
                  </a:lnTo>
                  <a:lnTo>
                    <a:pt x="1016" y="515"/>
                  </a:lnTo>
                  <a:lnTo>
                    <a:pt x="1008" y="530"/>
                  </a:lnTo>
                  <a:lnTo>
                    <a:pt x="998" y="545"/>
                  </a:lnTo>
                  <a:lnTo>
                    <a:pt x="991" y="559"/>
                  </a:lnTo>
                  <a:lnTo>
                    <a:pt x="981" y="572"/>
                  </a:lnTo>
                  <a:lnTo>
                    <a:pt x="973" y="587"/>
                  </a:lnTo>
                  <a:lnTo>
                    <a:pt x="966" y="601"/>
                  </a:lnTo>
                  <a:lnTo>
                    <a:pt x="956" y="612"/>
                  </a:lnTo>
                  <a:lnTo>
                    <a:pt x="949" y="625"/>
                  </a:lnTo>
                  <a:lnTo>
                    <a:pt x="939" y="637"/>
                  </a:lnTo>
                  <a:lnTo>
                    <a:pt x="924" y="660"/>
                  </a:lnTo>
                  <a:lnTo>
                    <a:pt x="914" y="669"/>
                  </a:lnTo>
                  <a:lnTo>
                    <a:pt x="907" y="679"/>
                  </a:lnTo>
                  <a:lnTo>
                    <a:pt x="897" y="686"/>
                  </a:lnTo>
                  <a:lnTo>
                    <a:pt x="882" y="702"/>
                  </a:lnTo>
                  <a:lnTo>
                    <a:pt x="872" y="707"/>
                  </a:lnTo>
                  <a:lnTo>
                    <a:pt x="866" y="713"/>
                  </a:lnTo>
                  <a:lnTo>
                    <a:pt x="857" y="717"/>
                  </a:lnTo>
                  <a:lnTo>
                    <a:pt x="841" y="724"/>
                  </a:lnTo>
                  <a:lnTo>
                    <a:pt x="832" y="724"/>
                  </a:lnTo>
                  <a:lnTo>
                    <a:pt x="824" y="726"/>
                  </a:lnTo>
                  <a:lnTo>
                    <a:pt x="815" y="724"/>
                  </a:lnTo>
                  <a:lnTo>
                    <a:pt x="807" y="724"/>
                  </a:lnTo>
                  <a:lnTo>
                    <a:pt x="799" y="721"/>
                  </a:lnTo>
                  <a:lnTo>
                    <a:pt x="790" y="717"/>
                  </a:lnTo>
                  <a:lnTo>
                    <a:pt x="782" y="713"/>
                  </a:lnTo>
                  <a:lnTo>
                    <a:pt x="775" y="707"/>
                  </a:lnTo>
                  <a:lnTo>
                    <a:pt x="767" y="702"/>
                  </a:lnTo>
                  <a:lnTo>
                    <a:pt x="757" y="694"/>
                  </a:lnTo>
                  <a:lnTo>
                    <a:pt x="750" y="686"/>
                  </a:lnTo>
                  <a:lnTo>
                    <a:pt x="740" y="679"/>
                  </a:lnTo>
                  <a:lnTo>
                    <a:pt x="725" y="660"/>
                  </a:lnTo>
                  <a:lnTo>
                    <a:pt x="715" y="648"/>
                  </a:lnTo>
                  <a:lnTo>
                    <a:pt x="708" y="637"/>
                  </a:lnTo>
                  <a:lnTo>
                    <a:pt x="698" y="625"/>
                  </a:lnTo>
                  <a:lnTo>
                    <a:pt x="690" y="614"/>
                  </a:lnTo>
                  <a:lnTo>
                    <a:pt x="681" y="601"/>
                  </a:lnTo>
                  <a:lnTo>
                    <a:pt x="673" y="587"/>
                  </a:lnTo>
                  <a:lnTo>
                    <a:pt x="664" y="572"/>
                  </a:lnTo>
                  <a:lnTo>
                    <a:pt x="656" y="559"/>
                  </a:lnTo>
                  <a:lnTo>
                    <a:pt x="646" y="545"/>
                  </a:lnTo>
                  <a:lnTo>
                    <a:pt x="639" y="530"/>
                  </a:lnTo>
                  <a:lnTo>
                    <a:pt x="629" y="515"/>
                  </a:lnTo>
                  <a:lnTo>
                    <a:pt x="621" y="500"/>
                  </a:lnTo>
                  <a:lnTo>
                    <a:pt x="612" y="484"/>
                  </a:lnTo>
                  <a:lnTo>
                    <a:pt x="604" y="467"/>
                  </a:lnTo>
                  <a:lnTo>
                    <a:pt x="595" y="452"/>
                  </a:lnTo>
                  <a:lnTo>
                    <a:pt x="587" y="435"/>
                  </a:lnTo>
                  <a:lnTo>
                    <a:pt x="577" y="418"/>
                  </a:lnTo>
                  <a:lnTo>
                    <a:pt x="570" y="400"/>
                  </a:lnTo>
                  <a:lnTo>
                    <a:pt x="560" y="385"/>
                  </a:lnTo>
                  <a:lnTo>
                    <a:pt x="553" y="368"/>
                  </a:lnTo>
                  <a:lnTo>
                    <a:pt x="543" y="351"/>
                  </a:lnTo>
                  <a:lnTo>
                    <a:pt x="528" y="317"/>
                  </a:lnTo>
                  <a:lnTo>
                    <a:pt x="518" y="301"/>
                  </a:lnTo>
                  <a:lnTo>
                    <a:pt x="511" y="284"/>
                  </a:lnTo>
                  <a:lnTo>
                    <a:pt x="501" y="267"/>
                  </a:lnTo>
                  <a:lnTo>
                    <a:pt x="493" y="252"/>
                  </a:lnTo>
                  <a:lnTo>
                    <a:pt x="484" y="237"/>
                  </a:lnTo>
                  <a:lnTo>
                    <a:pt x="476" y="221"/>
                  </a:lnTo>
                  <a:lnTo>
                    <a:pt x="468" y="204"/>
                  </a:lnTo>
                  <a:lnTo>
                    <a:pt x="459" y="189"/>
                  </a:lnTo>
                  <a:lnTo>
                    <a:pt x="451" y="176"/>
                  </a:lnTo>
                  <a:lnTo>
                    <a:pt x="442" y="158"/>
                  </a:lnTo>
                  <a:lnTo>
                    <a:pt x="426" y="132"/>
                  </a:lnTo>
                  <a:lnTo>
                    <a:pt x="417" y="120"/>
                  </a:lnTo>
                  <a:lnTo>
                    <a:pt x="409" y="107"/>
                  </a:lnTo>
                  <a:lnTo>
                    <a:pt x="400" y="96"/>
                  </a:lnTo>
                  <a:lnTo>
                    <a:pt x="392" y="84"/>
                  </a:lnTo>
                  <a:lnTo>
                    <a:pt x="382" y="73"/>
                  </a:lnTo>
                  <a:lnTo>
                    <a:pt x="375" y="63"/>
                  </a:lnTo>
                  <a:lnTo>
                    <a:pt x="350" y="38"/>
                  </a:lnTo>
                  <a:lnTo>
                    <a:pt x="340" y="31"/>
                  </a:lnTo>
                  <a:lnTo>
                    <a:pt x="333" y="25"/>
                  </a:lnTo>
                  <a:lnTo>
                    <a:pt x="321" y="19"/>
                  </a:lnTo>
                  <a:lnTo>
                    <a:pt x="313" y="16"/>
                  </a:lnTo>
                  <a:lnTo>
                    <a:pt x="304" y="12"/>
                  </a:lnTo>
                  <a:lnTo>
                    <a:pt x="296" y="10"/>
                  </a:lnTo>
                  <a:lnTo>
                    <a:pt x="287" y="8"/>
                  </a:lnTo>
                  <a:lnTo>
                    <a:pt x="269" y="8"/>
                  </a:lnTo>
                  <a:lnTo>
                    <a:pt x="262" y="10"/>
                  </a:lnTo>
                  <a:lnTo>
                    <a:pt x="252" y="12"/>
                  </a:lnTo>
                  <a:lnTo>
                    <a:pt x="245" y="16"/>
                  </a:lnTo>
                  <a:lnTo>
                    <a:pt x="235" y="19"/>
                  </a:lnTo>
                  <a:lnTo>
                    <a:pt x="225" y="25"/>
                  </a:lnTo>
                  <a:lnTo>
                    <a:pt x="216" y="31"/>
                  </a:lnTo>
                  <a:lnTo>
                    <a:pt x="208" y="38"/>
                  </a:lnTo>
                  <a:lnTo>
                    <a:pt x="199" y="46"/>
                  </a:lnTo>
                  <a:lnTo>
                    <a:pt x="172" y="73"/>
                  </a:lnTo>
                  <a:lnTo>
                    <a:pt x="164" y="84"/>
                  </a:lnTo>
                  <a:lnTo>
                    <a:pt x="155" y="96"/>
                  </a:lnTo>
                  <a:lnTo>
                    <a:pt x="147" y="107"/>
                  </a:lnTo>
                  <a:lnTo>
                    <a:pt x="137" y="120"/>
                  </a:lnTo>
                  <a:lnTo>
                    <a:pt x="130" y="132"/>
                  </a:lnTo>
                  <a:lnTo>
                    <a:pt x="120" y="145"/>
                  </a:lnTo>
                  <a:lnTo>
                    <a:pt x="113" y="158"/>
                  </a:lnTo>
                  <a:lnTo>
                    <a:pt x="103" y="176"/>
                  </a:lnTo>
                  <a:lnTo>
                    <a:pt x="95" y="189"/>
                  </a:lnTo>
                  <a:lnTo>
                    <a:pt x="86" y="202"/>
                  </a:lnTo>
                  <a:lnTo>
                    <a:pt x="76" y="221"/>
                  </a:lnTo>
                  <a:lnTo>
                    <a:pt x="69" y="237"/>
                  </a:lnTo>
                  <a:lnTo>
                    <a:pt x="59" y="252"/>
                  </a:lnTo>
                  <a:lnTo>
                    <a:pt x="51" y="267"/>
                  </a:lnTo>
                  <a:lnTo>
                    <a:pt x="42" y="284"/>
                  </a:lnTo>
                  <a:lnTo>
                    <a:pt x="34" y="301"/>
                  </a:lnTo>
                  <a:lnTo>
                    <a:pt x="25" y="317"/>
                  </a:lnTo>
                  <a:lnTo>
                    <a:pt x="17" y="334"/>
                  </a:lnTo>
                  <a:lnTo>
                    <a:pt x="7" y="351"/>
                  </a:lnTo>
                  <a:lnTo>
                    <a:pt x="0" y="368"/>
                  </a:lnTo>
                  <a:lnTo>
                    <a:pt x="4" y="3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195200" y="1406160"/>
              <a:ext cx="0" cy="1195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204920" y="2003040"/>
              <a:ext cx="3007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516920" y="1876320"/>
              <a:ext cx="502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123440" y="19000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61040" y="1295280"/>
              <a:ext cx="41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|A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7" name=""/>
          <p:cNvSpPr/>
          <p:nvPr/>
        </p:nvSpPr>
        <p:spPr>
          <a:xfrm>
            <a:off x="0" y="5791320"/>
            <a:ext cx="4765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2514600" y="4495320"/>
            <a:ext cx="0" cy="132084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20" y="5257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1757880" y="4897440"/>
            <a:ext cx="1321200" cy="1370520"/>
            <a:chOff x="1757880" y="4897440"/>
            <a:chExt cx="1321200" cy="1370520"/>
          </a:xfrm>
        </p:grpSpPr>
        <p:grpSp>
          <p:nvGrpSpPr>
            <p:cNvPr id="1331" name=""/>
            <p:cNvGrpSpPr/>
            <p:nvPr/>
          </p:nvGrpSpPr>
          <p:grpSpPr>
            <a:xfrm>
              <a:off x="2057400" y="4897440"/>
              <a:ext cx="914400" cy="925560"/>
              <a:chOff x="2057400" y="4897440"/>
              <a:chExt cx="914400" cy="925560"/>
            </a:xfrm>
          </p:grpSpPr>
          <p:sp>
            <p:nvSpPr>
              <p:cNvPr id="1332" name=""/>
              <p:cNvSpPr/>
              <p:nvPr/>
            </p:nvSpPr>
            <p:spPr>
              <a:xfrm>
                <a:off x="2057400" y="4897440"/>
                <a:ext cx="447840" cy="912960"/>
              </a:xfrm>
              <a:custGeom>
                <a:avLst/>
                <a:gdLst/>
                <a:ahLst/>
                <a:rect l="l" t="t" r="r" b="b"/>
                <a:pathLst>
                  <a:path w="721" h="607">
                    <a:moveTo>
                      <a:pt x="0" y="606"/>
                    </a:moveTo>
                    <a:lnTo>
                      <a:pt x="34" y="541"/>
                    </a:lnTo>
                    <a:lnTo>
                      <a:pt x="72" y="477"/>
                    </a:lnTo>
                    <a:lnTo>
                      <a:pt x="118" y="416"/>
                    </a:lnTo>
                    <a:lnTo>
                      <a:pt x="144" y="386"/>
                    </a:lnTo>
                    <a:lnTo>
                      <a:pt x="173" y="359"/>
                    </a:lnTo>
                    <a:lnTo>
                      <a:pt x="241" y="307"/>
                    </a:lnTo>
                    <a:lnTo>
                      <a:pt x="313" y="259"/>
                    </a:lnTo>
                    <a:lnTo>
                      <a:pt x="385" y="215"/>
                    </a:lnTo>
                    <a:lnTo>
                      <a:pt x="417" y="193"/>
                    </a:lnTo>
                    <a:lnTo>
                      <a:pt x="447" y="171"/>
                    </a:lnTo>
                    <a:lnTo>
                      <a:pt x="474" y="149"/>
                    </a:lnTo>
                    <a:lnTo>
                      <a:pt x="495" y="129"/>
                    </a:lnTo>
                    <a:lnTo>
                      <a:pt x="533" y="88"/>
                    </a:lnTo>
                    <a:lnTo>
                      <a:pt x="561" y="55"/>
                    </a:lnTo>
                    <a:lnTo>
                      <a:pt x="589" y="27"/>
                    </a:lnTo>
                    <a:lnTo>
                      <a:pt x="620" y="11"/>
                    </a:lnTo>
                    <a:lnTo>
                      <a:pt x="652" y="3"/>
                    </a:lnTo>
                    <a:lnTo>
                      <a:pt x="684" y="0"/>
                    </a:lnTo>
                    <a:lnTo>
                      <a:pt x="720" y="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496960" y="4908600"/>
                <a:ext cx="474840" cy="914400"/>
              </a:xfrm>
              <a:custGeom>
                <a:avLst/>
                <a:gdLst/>
                <a:ahLst/>
                <a:rect l="l" t="t" r="r" b="b"/>
                <a:pathLst>
                  <a:path w="720" h="608">
                    <a:moveTo>
                      <a:pt x="719" y="607"/>
                    </a:moveTo>
                    <a:lnTo>
                      <a:pt x="683" y="542"/>
                    </a:lnTo>
                    <a:lnTo>
                      <a:pt x="645" y="479"/>
                    </a:lnTo>
                    <a:lnTo>
                      <a:pt x="600" y="419"/>
                    </a:lnTo>
                    <a:lnTo>
                      <a:pt x="573" y="389"/>
                    </a:lnTo>
                    <a:lnTo>
                      <a:pt x="545" y="362"/>
                    </a:lnTo>
                    <a:lnTo>
                      <a:pt x="513" y="336"/>
                    </a:lnTo>
                    <a:lnTo>
                      <a:pt x="479" y="310"/>
                    </a:lnTo>
                    <a:lnTo>
                      <a:pt x="407" y="262"/>
                    </a:lnTo>
                    <a:lnTo>
                      <a:pt x="335" y="216"/>
                    </a:lnTo>
                    <a:lnTo>
                      <a:pt x="303" y="194"/>
                    </a:lnTo>
                    <a:lnTo>
                      <a:pt x="272" y="172"/>
                    </a:lnTo>
                    <a:lnTo>
                      <a:pt x="246" y="150"/>
                    </a:lnTo>
                    <a:lnTo>
                      <a:pt x="225" y="129"/>
                    </a:lnTo>
                    <a:lnTo>
                      <a:pt x="187" y="89"/>
                    </a:lnTo>
                    <a:lnTo>
                      <a:pt x="157" y="56"/>
                    </a:lnTo>
                    <a:lnTo>
                      <a:pt x="128" y="28"/>
                    </a:lnTo>
                    <a:lnTo>
                      <a:pt x="98" y="11"/>
                    </a:lnTo>
                    <a:lnTo>
                      <a:pt x="68" y="4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4" name=""/>
            <p:cNvSpPr/>
            <p:nvPr/>
          </p:nvSpPr>
          <p:spPr>
            <a:xfrm>
              <a:off x="1757880" y="586728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748240" y="5867280"/>
              <a:ext cx="3308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>
            <a:off x="2467440" y="4594320"/>
            <a:ext cx="41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447920" y="449496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2058840" y="3048120"/>
            <a:ext cx="608040" cy="990360"/>
            <a:chOff x="2058840" y="3048120"/>
            <a:chExt cx="608040" cy="990360"/>
          </a:xfrm>
        </p:grpSpPr>
        <p:sp>
          <p:nvSpPr>
            <p:cNvPr id="1339" name=""/>
            <p:cNvSpPr/>
            <p:nvPr/>
          </p:nvSpPr>
          <p:spPr>
            <a:xfrm>
              <a:off x="2666880" y="304812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058840" y="327564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1" name=""/>
          <p:cNvSpPr/>
          <p:nvPr/>
        </p:nvSpPr>
        <p:spPr>
          <a:xfrm>
            <a:off x="1668240" y="2656440"/>
            <a:ext cx="2029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ous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760760" y="4037400"/>
            <a:ext cx="1829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3" name=""/>
          <p:cNvGrpSpPr/>
          <p:nvPr/>
        </p:nvGrpSpPr>
        <p:grpSpPr>
          <a:xfrm>
            <a:off x="5011560" y="1255680"/>
            <a:ext cx="4765680" cy="5162040"/>
            <a:chOff x="5011560" y="1255680"/>
            <a:chExt cx="4765680" cy="5162040"/>
          </a:xfrm>
        </p:grpSpPr>
        <p:sp>
          <p:nvSpPr>
            <p:cNvPr id="1344" name=""/>
            <p:cNvSpPr/>
            <p:nvPr/>
          </p:nvSpPr>
          <p:spPr>
            <a:xfrm>
              <a:off x="5011560" y="5818320"/>
              <a:ext cx="4765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7391520" y="4495320"/>
              <a:ext cx="0" cy="132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344360" y="4594320"/>
              <a:ext cx="41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|A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7" name=""/>
            <p:cNvGrpSpPr/>
            <p:nvPr/>
          </p:nvGrpSpPr>
          <p:grpSpPr>
            <a:xfrm>
              <a:off x="6634800" y="4876920"/>
              <a:ext cx="1321200" cy="1370520"/>
              <a:chOff x="6634800" y="4876920"/>
              <a:chExt cx="1321200" cy="1370520"/>
            </a:xfrm>
          </p:grpSpPr>
          <p:grpSp>
            <p:nvGrpSpPr>
              <p:cNvPr id="1348" name=""/>
              <p:cNvGrpSpPr/>
              <p:nvPr/>
            </p:nvGrpSpPr>
            <p:grpSpPr>
              <a:xfrm>
                <a:off x="6934320" y="4876920"/>
                <a:ext cx="914400" cy="925560"/>
                <a:chOff x="6934320" y="4876920"/>
                <a:chExt cx="914400" cy="925560"/>
              </a:xfrm>
            </p:grpSpPr>
            <p:sp>
              <p:nvSpPr>
                <p:cNvPr id="1349" name=""/>
                <p:cNvSpPr/>
                <p:nvPr/>
              </p:nvSpPr>
              <p:spPr>
                <a:xfrm>
                  <a:off x="6934320" y="4876920"/>
                  <a:ext cx="447840" cy="912960"/>
                </a:xfrm>
                <a:custGeom>
                  <a:avLst/>
                  <a:gdLst/>
                  <a:ahLst/>
                  <a:rect l="l" t="t" r="r" b="b"/>
                  <a:pathLst>
                    <a:path w="721" h="607">
                      <a:moveTo>
                        <a:pt x="0" y="606"/>
                      </a:moveTo>
                      <a:lnTo>
                        <a:pt x="34" y="541"/>
                      </a:lnTo>
                      <a:lnTo>
                        <a:pt x="72" y="477"/>
                      </a:lnTo>
                      <a:lnTo>
                        <a:pt x="118" y="416"/>
                      </a:lnTo>
                      <a:lnTo>
                        <a:pt x="144" y="386"/>
                      </a:lnTo>
                      <a:lnTo>
                        <a:pt x="173" y="359"/>
                      </a:lnTo>
                      <a:lnTo>
                        <a:pt x="241" y="307"/>
                      </a:lnTo>
                      <a:lnTo>
                        <a:pt x="313" y="259"/>
                      </a:lnTo>
                      <a:lnTo>
                        <a:pt x="385" y="215"/>
                      </a:lnTo>
                      <a:lnTo>
                        <a:pt x="417" y="193"/>
                      </a:lnTo>
                      <a:lnTo>
                        <a:pt x="447" y="171"/>
                      </a:lnTo>
                      <a:lnTo>
                        <a:pt x="474" y="149"/>
                      </a:lnTo>
                      <a:lnTo>
                        <a:pt x="495" y="129"/>
                      </a:lnTo>
                      <a:lnTo>
                        <a:pt x="533" y="88"/>
                      </a:lnTo>
                      <a:lnTo>
                        <a:pt x="561" y="55"/>
                      </a:lnTo>
                      <a:lnTo>
                        <a:pt x="589" y="27"/>
                      </a:lnTo>
                      <a:lnTo>
                        <a:pt x="620" y="11"/>
                      </a:lnTo>
                      <a:lnTo>
                        <a:pt x="652" y="3"/>
                      </a:lnTo>
                      <a:lnTo>
                        <a:pt x="684" y="0"/>
                      </a:lnTo>
                      <a:lnTo>
                        <a:pt x="72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7373880" y="4888080"/>
                  <a:ext cx="474840" cy="914400"/>
                </a:xfrm>
                <a:custGeom>
                  <a:avLst/>
                  <a:gdLst/>
                  <a:ahLst/>
                  <a:rect l="l" t="t" r="r" b="b"/>
                  <a:pathLst>
                    <a:path w="720" h="608">
                      <a:moveTo>
                        <a:pt x="719" y="607"/>
                      </a:moveTo>
                      <a:lnTo>
                        <a:pt x="683" y="542"/>
                      </a:lnTo>
                      <a:lnTo>
                        <a:pt x="645" y="479"/>
                      </a:lnTo>
                      <a:lnTo>
                        <a:pt x="600" y="419"/>
                      </a:lnTo>
                      <a:lnTo>
                        <a:pt x="573" y="389"/>
                      </a:lnTo>
                      <a:lnTo>
                        <a:pt x="545" y="362"/>
                      </a:lnTo>
                      <a:lnTo>
                        <a:pt x="513" y="336"/>
                      </a:lnTo>
                      <a:lnTo>
                        <a:pt x="479" y="310"/>
                      </a:lnTo>
                      <a:lnTo>
                        <a:pt x="407" y="262"/>
                      </a:lnTo>
                      <a:lnTo>
                        <a:pt x="335" y="216"/>
                      </a:lnTo>
                      <a:lnTo>
                        <a:pt x="303" y="194"/>
                      </a:lnTo>
                      <a:lnTo>
                        <a:pt x="272" y="172"/>
                      </a:lnTo>
                      <a:lnTo>
                        <a:pt x="246" y="150"/>
                      </a:lnTo>
                      <a:lnTo>
                        <a:pt x="225" y="129"/>
                      </a:lnTo>
                      <a:lnTo>
                        <a:pt x="187" y="89"/>
                      </a:lnTo>
                      <a:lnTo>
                        <a:pt x="157" y="56"/>
                      </a:lnTo>
                      <a:lnTo>
                        <a:pt x="128" y="28"/>
                      </a:lnTo>
                      <a:lnTo>
                        <a:pt x="98" y="11"/>
                      </a:lnTo>
                      <a:lnTo>
                        <a:pt x="68" y="4"/>
                      </a:lnTo>
                      <a:lnTo>
                        <a:pt x="3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1" name=""/>
              <p:cNvSpPr/>
              <p:nvPr/>
            </p:nvSpPr>
            <p:spPr>
              <a:xfrm>
                <a:off x="6634800" y="584676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625160" y="5846760"/>
                <a:ext cx="3308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3" name=""/>
            <p:cNvGrpSpPr/>
            <p:nvPr/>
          </p:nvGrpSpPr>
          <p:grpSpPr>
            <a:xfrm>
              <a:off x="7930080" y="4890960"/>
              <a:ext cx="1321200" cy="1370520"/>
              <a:chOff x="7930080" y="4890960"/>
              <a:chExt cx="1321200" cy="1370520"/>
            </a:xfrm>
          </p:grpSpPr>
          <p:grpSp>
            <p:nvGrpSpPr>
              <p:cNvPr id="1354" name=""/>
              <p:cNvGrpSpPr/>
              <p:nvPr/>
            </p:nvGrpSpPr>
            <p:grpSpPr>
              <a:xfrm>
                <a:off x="8229600" y="4890960"/>
                <a:ext cx="914400" cy="925560"/>
                <a:chOff x="8229600" y="4890960"/>
                <a:chExt cx="914400" cy="925560"/>
              </a:xfrm>
            </p:grpSpPr>
            <p:sp>
              <p:nvSpPr>
                <p:cNvPr id="1355" name=""/>
                <p:cNvSpPr/>
                <p:nvPr/>
              </p:nvSpPr>
              <p:spPr>
                <a:xfrm>
                  <a:off x="8229600" y="4890960"/>
                  <a:ext cx="447840" cy="912960"/>
                </a:xfrm>
                <a:custGeom>
                  <a:avLst/>
                  <a:gdLst/>
                  <a:ahLst/>
                  <a:rect l="l" t="t" r="r" b="b"/>
                  <a:pathLst>
                    <a:path w="721" h="607">
                      <a:moveTo>
                        <a:pt x="0" y="606"/>
                      </a:moveTo>
                      <a:lnTo>
                        <a:pt x="34" y="541"/>
                      </a:lnTo>
                      <a:lnTo>
                        <a:pt x="72" y="477"/>
                      </a:lnTo>
                      <a:lnTo>
                        <a:pt x="118" y="416"/>
                      </a:lnTo>
                      <a:lnTo>
                        <a:pt x="144" y="386"/>
                      </a:lnTo>
                      <a:lnTo>
                        <a:pt x="173" y="359"/>
                      </a:lnTo>
                      <a:lnTo>
                        <a:pt x="241" y="307"/>
                      </a:lnTo>
                      <a:lnTo>
                        <a:pt x="313" y="259"/>
                      </a:lnTo>
                      <a:lnTo>
                        <a:pt x="385" y="215"/>
                      </a:lnTo>
                      <a:lnTo>
                        <a:pt x="417" y="193"/>
                      </a:lnTo>
                      <a:lnTo>
                        <a:pt x="447" y="171"/>
                      </a:lnTo>
                      <a:lnTo>
                        <a:pt x="474" y="149"/>
                      </a:lnTo>
                      <a:lnTo>
                        <a:pt x="495" y="129"/>
                      </a:lnTo>
                      <a:lnTo>
                        <a:pt x="533" y="88"/>
                      </a:lnTo>
                      <a:lnTo>
                        <a:pt x="561" y="55"/>
                      </a:lnTo>
                      <a:lnTo>
                        <a:pt x="589" y="27"/>
                      </a:lnTo>
                      <a:lnTo>
                        <a:pt x="620" y="11"/>
                      </a:lnTo>
                      <a:lnTo>
                        <a:pt x="652" y="3"/>
                      </a:lnTo>
                      <a:lnTo>
                        <a:pt x="684" y="0"/>
                      </a:lnTo>
                      <a:lnTo>
                        <a:pt x="72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8669160" y="4902120"/>
                  <a:ext cx="474840" cy="914400"/>
                </a:xfrm>
                <a:custGeom>
                  <a:avLst/>
                  <a:gdLst/>
                  <a:ahLst/>
                  <a:rect l="l" t="t" r="r" b="b"/>
                  <a:pathLst>
                    <a:path w="720" h="608">
                      <a:moveTo>
                        <a:pt x="719" y="607"/>
                      </a:moveTo>
                      <a:lnTo>
                        <a:pt x="683" y="542"/>
                      </a:lnTo>
                      <a:lnTo>
                        <a:pt x="645" y="479"/>
                      </a:lnTo>
                      <a:lnTo>
                        <a:pt x="600" y="419"/>
                      </a:lnTo>
                      <a:lnTo>
                        <a:pt x="573" y="389"/>
                      </a:lnTo>
                      <a:lnTo>
                        <a:pt x="545" y="362"/>
                      </a:lnTo>
                      <a:lnTo>
                        <a:pt x="513" y="336"/>
                      </a:lnTo>
                      <a:lnTo>
                        <a:pt x="479" y="310"/>
                      </a:lnTo>
                      <a:lnTo>
                        <a:pt x="407" y="262"/>
                      </a:lnTo>
                      <a:lnTo>
                        <a:pt x="335" y="216"/>
                      </a:lnTo>
                      <a:lnTo>
                        <a:pt x="303" y="194"/>
                      </a:lnTo>
                      <a:lnTo>
                        <a:pt x="272" y="172"/>
                      </a:lnTo>
                      <a:lnTo>
                        <a:pt x="246" y="150"/>
                      </a:lnTo>
                      <a:lnTo>
                        <a:pt x="225" y="129"/>
                      </a:lnTo>
                      <a:lnTo>
                        <a:pt x="187" y="89"/>
                      </a:lnTo>
                      <a:lnTo>
                        <a:pt x="157" y="56"/>
                      </a:lnTo>
                      <a:lnTo>
                        <a:pt x="128" y="28"/>
                      </a:lnTo>
                      <a:lnTo>
                        <a:pt x="98" y="11"/>
                      </a:lnTo>
                      <a:lnTo>
                        <a:pt x="68" y="4"/>
                      </a:lnTo>
                      <a:lnTo>
                        <a:pt x="3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7" name=""/>
              <p:cNvSpPr/>
              <p:nvPr/>
            </p:nvSpPr>
            <p:spPr>
              <a:xfrm>
                <a:off x="7930080" y="586080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8920440" y="5860800"/>
                <a:ext cx="3308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9" name=""/>
            <p:cNvGrpSpPr/>
            <p:nvPr/>
          </p:nvGrpSpPr>
          <p:grpSpPr>
            <a:xfrm>
              <a:off x="5339160" y="4876920"/>
              <a:ext cx="1321200" cy="1370520"/>
              <a:chOff x="5339160" y="4876920"/>
              <a:chExt cx="1321200" cy="1370520"/>
            </a:xfrm>
          </p:grpSpPr>
          <p:grpSp>
            <p:nvGrpSpPr>
              <p:cNvPr id="1360" name=""/>
              <p:cNvGrpSpPr/>
              <p:nvPr/>
            </p:nvGrpSpPr>
            <p:grpSpPr>
              <a:xfrm>
                <a:off x="5638680" y="4876920"/>
                <a:ext cx="913680" cy="925560"/>
                <a:chOff x="5638680" y="4876920"/>
                <a:chExt cx="913680" cy="925560"/>
              </a:xfrm>
            </p:grpSpPr>
            <p:sp>
              <p:nvSpPr>
                <p:cNvPr id="1361" name=""/>
                <p:cNvSpPr/>
                <p:nvPr/>
              </p:nvSpPr>
              <p:spPr>
                <a:xfrm>
                  <a:off x="5638680" y="4876920"/>
                  <a:ext cx="447480" cy="912960"/>
                </a:xfrm>
                <a:custGeom>
                  <a:avLst/>
                  <a:gdLst/>
                  <a:ahLst/>
                  <a:rect l="l" t="t" r="r" b="b"/>
                  <a:pathLst>
                    <a:path w="721" h="607">
                      <a:moveTo>
                        <a:pt x="0" y="606"/>
                      </a:moveTo>
                      <a:lnTo>
                        <a:pt x="34" y="541"/>
                      </a:lnTo>
                      <a:lnTo>
                        <a:pt x="72" y="477"/>
                      </a:lnTo>
                      <a:lnTo>
                        <a:pt x="118" y="416"/>
                      </a:lnTo>
                      <a:lnTo>
                        <a:pt x="144" y="386"/>
                      </a:lnTo>
                      <a:lnTo>
                        <a:pt x="173" y="359"/>
                      </a:lnTo>
                      <a:lnTo>
                        <a:pt x="241" y="307"/>
                      </a:lnTo>
                      <a:lnTo>
                        <a:pt x="313" y="259"/>
                      </a:lnTo>
                      <a:lnTo>
                        <a:pt x="385" y="215"/>
                      </a:lnTo>
                      <a:lnTo>
                        <a:pt x="417" y="193"/>
                      </a:lnTo>
                      <a:lnTo>
                        <a:pt x="447" y="171"/>
                      </a:lnTo>
                      <a:lnTo>
                        <a:pt x="474" y="149"/>
                      </a:lnTo>
                      <a:lnTo>
                        <a:pt x="495" y="129"/>
                      </a:lnTo>
                      <a:lnTo>
                        <a:pt x="533" y="88"/>
                      </a:lnTo>
                      <a:lnTo>
                        <a:pt x="561" y="55"/>
                      </a:lnTo>
                      <a:lnTo>
                        <a:pt x="589" y="27"/>
                      </a:lnTo>
                      <a:lnTo>
                        <a:pt x="620" y="11"/>
                      </a:lnTo>
                      <a:lnTo>
                        <a:pt x="652" y="3"/>
                      </a:lnTo>
                      <a:lnTo>
                        <a:pt x="684" y="0"/>
                      </a:lnTo>
                      <a:lnTo>
                        <a:pt x="72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6077880" y="4888080"/>
                  <a:ext cx="474480" cy="914400"/>
                </a:xfrm>
                <a:custGeom>
                  <a:avLst/>
                  <a:gdLst/>
                  <a:ahLst/>
                  <a:rect l="l" t="t" r="r" b="b"/>
                  <a:pathLst>
                    <a:path w="720" h="608">
                      <a:moveTo>
                        <a:pt x="719" y="607"/>
                      </a:moveTo>
                      <a:lnTo>
                        <a:pt x="683" y="542"/>
                      </a:lnTo>
                      <a:lnTo>
                        <a:pt x="645" y="479"/>
                      </a:lnTo>
                      <a:lnTo>
                        <a:pt x="600" y="419"/>
                      </a:lnTo>
                      <a:lnTo>
                        <a:pt x="573" y="389"/>
                      </a:lnTo>
                      <a:lnTo>
                        <a:pt x="545" y="362"/>
                      </a:lnTo>
                      <a:lnTo>
                        <a:pt x="513" y="336"/>
                      </a:lnTo>
                      <a:lnTo>
                        <a:pt x="479" y="310"/>
                      </a:lnTo>
                      <a:lnTo>
                        <a:pt x="407" y="262"/>
                      </a:lnTo>
                      <a:lnTo>
                        <a:pt x="335" y="216"/>
                      </a:lnTo>
                      <a:lnTo>
                        <a:pt x="303" y="194"/>
                      </a:lnTo>
                      <a:lnTo>
                        <a:pt x="272" y="172"/>
                      </a:lnTo>
                      <a:lnTo>
                        <a:pt x="246" y="150"/>
                      </a:lnTo>
                      <a:lnTo>
                        <a:pt x="225" y="129"/>
                      </a:lnTo>
                      <a:lnTo>
                        <a:pt x="187" y="89"/>
                      </a:lnTo>
                      <a:lnTo>
                        <a:pt x="157" y="56"/>
                      </a:lnTo>
                      <a:lnTo>
                        <a:pt x="128" y="28"/>
                      </a:lnTo>
                      <a:lnTo>
                        <a:pt x="98" y="11"/>
                      </a:lnTo>
                      <a:lnTo>
                        <a:pt x="68" y="4"/>
                      </a:lnTo>
                      <a:lnTo>
                        <a:pt x="3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3" name=""/>
              <p:cNvSpPr/>
              <p:nvPr/>
            </p:nvSpPr>
            <p:spPr>
              <a:xfrm>
                <a:off x="5339160" y="584676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329520" y="5846760"/>
                <a:ext cx="3308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5" name=""/>
            <p:cNvSpPr/>
            <p:nvPr/>
          </p:nvSpPr>
          <p:spPr>
            <a:xfrm>
              <a:off x="8658360" y="42991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095880" y="426708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867640" y="601884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f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8458920" y="60188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800680" y="1409760"/>
              <a:ext cx="2873520" cy="1100160"/>
            </a:xfrm>
            <a:custGeom>
              <a:avLst/>
              <a:gdLst/>
              <a:ahLst/>
              <a:rect l="l" t="t" r="r" b="b"/>
              <a:pathLst>
                <a:path w="1636" h="731">
                  <a:moveTo>
                    <a:pt x="4" y="368"/>
                  </a:moveTo>
                  <a:lnTo>
                    <a:pt x="11" y="351"/>
                  </a:lnTo>
                  <a:lnTo>
                    <a:pt x="21" y="334"/>
                  </a:lnTo>
                  <a:lnTo>
                    <a:pt x="28" y="317"/>
                  </a:lnTo>
                  <a:lnTo>
                    <a:pt x="38" y="301"/>
                  </a:lnTo>
                  <a:lnTo>
                    <a:pt x="46" y="284"/>
                  </a:lnTo>
                  <a:lnTo>
                    <a:pt x="55" y="267"/>
                  </a:lnTo>
                  <a:lnTo>
                    <a:pt x="63" y="252"/>
                  </a:lnTo>
                  <a:lnTo>
                    <a:pt x="72" y="237"/>
                  </a:lnTo>
                  <a:lnTo>
                    <a:pt x="80" y="221"/>
                  </a:lnTo>
                  <a:lnTo>
                    <a:pt x="90" y="206"/>
                  </a:lnTo>
                  <a:lnTo>
                    <a:pt x="99" y="193"/>
                  </a:lnTo>
                  <a:lnTo>
                    <a:pt x="107" y="176"/>
                  </a:lnTo>
                  <a:lnTo>
                    <a:pt x="116" y="162"/>
                  </a:lnTo>
                  <a:lnTo>
                    <a:pt x="124" y="149"/>
                  </a:lnTo>
                  <a:lnTo>
                    <a:pt x="134" y="136"/>
                  </a:lnTo>
                  <a:lnTo>
                    <a:pt x="141" y="124"/>
                  </a:lnTo>
                  <a:lnTo>
                    <a:pt x="151" y="111"/>
                  </a:lnTo>
                  <a:lnTo>
                    <a:pt x="158" y="99"/>
                  </a:lnTo>
                  <a:lnTo>
                    <a:pt x="168" y="88"/>
                  </a:lnTo>
                  <a:lnTo>
                    <a:pt x="176" y="77"/>
                  </a:lnTo>
                  <a:lnTo>
                    <a:pt x="202" y="50"/>
                  </a:lnTo>
                  <a:lnTo>
                    <a:pt x="212" y="42"/>
                  </a:lnTo>
                  <a:lnTo>
                    <a:pt x="220" y="35"/>
                  </a:lnTo>
                  <a:lnTo>
                    <a:pt x="229" y="29"/>
                  </a:lnTo>
                  <a:lnTo>
                    <a:pt x="235" y="23"/>
                  </a:lnTo>
                  <a:lnTo>
                    <a:pt x="245" y="19"/>
                  </a:lnTo>
                  <a:lnTo>
                    <a:pt x="252" y="16"/>
                  </a:lnTo>
                  <a:lnTo>
                    <a:pt x="262" y="14"/>
                  </a:lnTo>
                  <a:lnTo>
                    <a:pt x="269" y="12"/>
                  </a:lnTo>
                  <a:lnTo>
                    <a:pt x="287" y="12"/>
                  </a:lnTo>
                  <a:lnTo>
                    <a:pt x="296" y="14"/>
                  </a:lnTo>
                  <a:lnTo>
                    <a:pt x="304" y="16"/>
                  </a:lnTo>
                  <a:lnTo>
                    <a:pt x="313" y="19"/>
                  </a:lnTo>
                  <a:lnTo>
                    <a:pt x="321" y="23"/>
                  </a:lnTo>
                  <a:lnTo>
                    <a:pt x="329" y="29"/>
                  </a:lnTo>
                  <a:lnTo>
                    <a:pt x="336" y="35"/>
                  </a:lnTo>
                  <a:lnTo>
                    <a:pt x="346" y="42"/>
                  </a:lnTo>
                  <a:lnTo>
                    <a:pt x="371" y="67"/>
                  </a:lnTo>
                  <a:lnTo>
                    <a:pt x="378" y="77"/>
                  </a:lnTo>
                  <a:lnTo>
                    <a:pt x="388" y="88"/>
                  </a:lnTo>
                  <a:lnTo>
                    <a:pt x="396" y="99"/>
                  </a:lnTo>
                  <a:lnTo>
                    <a:pt x="405" y="111"/>
                  </a:lnTo>
                  <a:lnTo>
                    <a:pt x="413" y="124"/>
                  </a:lnTo>
                  <a:lnTo>
                    <a:pt x="423" y="136"/>
                  </a:lnTo>
                  <a:lnTo>
                    <a:pt x="438" y="162"/>
                  </a:lnTo>
                  <a:lnTo>
                    <a:pt x="447" y="176"/>
                  </a:lnTo>
                  <a:lnTo>
                    <a:pt x="455" y="193"/>
                  </a:lnTo>
                  <a:lnTo>
                    <a:pt x="465" y="204"/>
                  </a:lnTo>
                  <a:lnTo>
                    <a:pt x="472" y="221"/>
                  </a:lnTo>
                  <a:lnTo>
                    <a:pt x="480" y="237"/>
                  </a:lnTo>
                  <a:lnTo>
                    <a:pt x="489" y="252"/>
                  </a:lnTo>
                  <a:lnTo>
                    <a:pt x="497" y="267"/>
                  </a:lnTo>
                  <a:lnTo>
                    <a:pt x="507" y="284"/>
                  </a:lnTo>
                  <a:lnTo>
                    <a:pt x="514" y="301"/>
                  </a:lnTo>
                  <a:lnTo>
                    <a:pt x="524" y="317"/>
                  </a:lnTo>
                  <a:lnTo>
                    <a:pt x="539" y="351"/>
                  </a:lnTo>
                  <a:lnTo>
                    <a:pt x="549" y="368"/>
                  </a:lnTo>
                  <a:lnTo>
                    <a:pt x="556" y="385"/>
                  </a:lnTo>
                  <a:lnTo>
                    <a:pt x="566" y="400"/>
                  </a:lnTo>
                  <a:lnTo>
                    <a:pt x="574" y="418"/>
                  </a:lnTo>
                  <a:lnTo>
                    <a:pt x="583" y="435"/>
                  </a:lnTo>
                  <a:lnTo>
                    <a:pt x="591" y="452"/>
                  </a:lnTo>
                  <a:lnTo>
                    <a:pt x="600" y="467"/>
                  </a:lnTo>
                  <a:lnTo>
                    <a:pt x="608" y="484"/>
                  </a:lnTo>
                  <a:lnTo>
                    <a:pt x="618" y="500"/>
                  </a:lnTo>
                  <a:lnTo>
                    <a:pt x="625" y="515"/>
                  </a:lnTo>
                  <a:lnTo>
                    <a:pt x="635" y="530"/>
                  </a:lnTo>
                  <a:lnTo>
                    <a:pt x="643" y="545"/>
                  </a:lnTo>
                  <a:lnTo>
                    <a:pt x="652" y="562"/>
                  </a:lnTo>
                  <a:lnTo>
                    <a:pt x="660" y="576"/>
                  </a:lnTo>
                  <a:lnTo>
                    <a:pt x="669" y="591"/>
                  </a:lnTo>
                  <a:lnTo>
                    <a:pt x="677" y="604"/>
                  </a:lnTo>
                  <a:lnTo>
                    <a:pt x="687" y="618"/>
                  </a:lnTo>
                  <a:lnTo>
                    <a:pt x="694" y="629"/>
                  </a:lnTo>
                  <a:lnTo>
                    <a:pt x="704" y="641"/>
                  </a:lnTo>
                  <a:lnTo>
                    <a:pt x="711" y="652"/>
                  </a:lnTo>
                  <a:lnTo>
                    <a:pt x="721" y="663"/>
                  </a:lnTo>
                  <a:lnTo>
                    <a:pt x="736" y="683"/>
                  </a:lnTo>
                  <a:lnTo>
                    <a:pt x="746" y="690"/>
                  </a:lnTo>
                  <a:lnTo>
                    <a:pt x="753" y="698"/>
                  </a:lnTo>
                  <a:lnTo>
                    <a:pt x="763" y="705"/>
                  </a:lnTo>
                  <a:lnTo>
                    <a:pt x="771" y="711"/>
                  </a:lnTo>
                  <a:lnTo>
                    <a:pt x="782" y="717"/>
                  </a:lnTo>
                  <a:lnTo>
                    <a:pt x="790" y="721"/>
                  </a:lnTo>
                  <a:lnTo>
                    <a:pt x="799" y="724"/>
                  </a:lnTo>
                  <a:lnTo>
                    <a:pt x="807" y="728"/>
                  </a:lnTo>
                  <a:lnTo>
                    <a:pt x="815" y="728"/>
                  </a:lnTo>
                  <a:lnTo>
                    <a:pt x="824" y="730"/>
                  </a:lnTo>
                  <a:lnTo>
                    <a:pt x="832" y="728"/>
                  </a:lnTo>
                  <a:lnTo>
                    <a:pt x="841" y="728"/>
                  </a:lnTo>
                  <a:lnTo>
                    <a:pt x="857" y="721"/>
                  </a:lnTo>
                  <a:lnTo>
                    <a:pt x="866" y="717"/>
                  </a:lnTo>
                  <a:lnTo>
                    <a:pt x="876" y="711"/>
                  </a:lnTo>
                  <a:lnTo>
                    <a:pt x="885" y="705"/>
                  </a:lnTo>
                  <a:lnTo>
                    <a:pt x="901" y="690"/>
                  </a:lnTo>
                  <a:lnTo>
                    <a:pt x="910" y="683"/>
                  </a:lnTo>
                  <a:lnTo>
                    <a:pt x="918" y="673"/>
                  </a:lnTo>
                  <a:lnTo>
                    <a:pt x="928" y="663"/>
                  </a:lnTo>
                  <a:lnTo>
                    <a:pt x="943" y="641"/>
                  </a:lnTo>
                  <a:lnTo>
                    <a:pt x="952" y="629"/>
                  </a:lnTo>
                  <a:lnTo>
                    <a:pt x="960" y="616"/>
                  </a:lnTo>
                  <a:lnTo>
                    <a:pt x="970" y="604"/>
                  </a:lnTo>
                  <a:lnTo>
                    <a:pt x="977" y="587"/>
                  </a:lnTo>
                  <a:lnTo>
                    <a:pt x="985" y="576"/>
                  </a:lnTo>
                  <a:lnTo>
                    <a:pt x="995" y="562"/>
                  </a:lnTo>
                  <a:lnTo>
                    <a:pt x="1002" y="545"/>
                  </a:lnTo>
                  <a:lnTo>
                    <a:pt x="1012" y="530"/>
                  </a:lnTo>
                  <a:lnTo>
                    <a:pt x="1019" y="515"/>
                  </a:lnTo>
                  <a:lnTo>
                    <a:pt x="1029" y="500"/>
                  </a:lnTo>
                  <a:lnTo>
                    <a:pt x="1037" y="482"/>
                  </a:lnTo>
                  <a:lnTo>
                    <a:pt x="1044" y="467"/>
                  </a:lnTo>
                  <a:lnTo>
                    <a:pt x="1054" y="450"/>
                  </a:lnTo>
                  <a:lnTo>
                    <a:pt x="1061" y="433"/>
                  </a:lnTo>
                  <a:lnTo>
                    <a:pt x="1071" y="416"/>
                  </a:lnTo>
                  <a:lnTo>
                    <a:pt x="1079" y="400"/>
                  </a:lnTo>
                  <a:lnTo>
                    <a:pt x="1086" y="383"/>
                  </a:lnTo>
                  <a:lnTo>
                    <a:pt x="1096" y="366"/>
                  </a:lnTo>
                  <a:lnTo>
                    <a:pt x="1104" y="349"/>
                  </a:lnTo>
                  <a:lnTo>
                    <a:pt x="1113" y="332"/>
                  </a:lnTo>
                  <a:lnTo>
                    <a:pt x="1121" y="315"/>
                  </a:lnTo>
                  <a:lnTo>
                    <a:pt x="1130" y="298"/>
                  </a:lnTo>
                  <a:lnTo>
                    <a:pt x="1138" y="282"/>
                  </a:lnTo>
                  <a:lnTo>
                    <a:pt x="1148" y="265"/>
                  </a:lnTo>
                  <a:lnTo>
                    <a:pt x="1155" y="248"/>
                  </a:lnTo>
                  <a:lnTo>
                    <a:pt x="1165" y="233"/>
                  </a:lnTo>
                  <a:lnTo>
                    <a:pt x="1172" y="218"/>
                  </a:lnTo>
                  <a:lnTo>
                    <a:pt x="1182" y="200"/>
                  </a:lnTo>
                  <a:lnTo>
                    <a:pt x="1190" y="187"/>
                  </a:lnTo>
                  <a:lnTo>
                    <a:pt x="1199" y="174"/>
                  </a:lnTo>
                  <a:lnTo>
                    <a:pt x="1207" y="158"/>
                  </a:lnTo>
                  <a:lnTo>
                    <a:pt x="1216" y="145"/>
                  </a:lnTo>
                  <a:lnTo>
                    <a:pt x="1224" y="130"/>
                  </a:lnTo>
                  <a:lnTo>
                    <a:pt x="1234" y="118"/>
                  </a:lnTo>
                  <a:lnTo>
                    <a:pt x="1241" y="105"/>
                  </a:lnTo>
                  <a:lnTo>
                    <a:pt x="1251" y="94"/>
                  </a:lnTo>
                  <a:lnTo>
                    <a:pt x="1259" y="82"/>
                  </a:lnTo>
                  <a:lnTo>
                    <a:pt x="1268" y="71"/>
                  </a:lnTo>
                  <a:lnTo>
                    <a:pt x="1283" y="52"/>
                  </a:lnTo>
                  <a:lnTo>
                    <a:pt x="1301" y="35"/>
                  </a:lnTo>
                  <a:lnTo>
                    <a:pt x="1310" y="29"/>
                  </a:lnTo>
                  <a:lnTo>
                    <a:pt x="1318" y="21"/>
                  </a:lnTo>
                  <a:lnTo>
                    <a:pt x="1326" y="16"/>
                  </a:lnTo>
                  <a:lnTo>
                    <a:pt x="1333" y="12"/>
                  </a:lnTo>
                  <a:lnTo>
                    <a:pt x="1343" y="8"/>
                  </a:lnTo>
                  <a:lnTo>
                    <a:pt x="1358" y="4"/>
                  </a:lnTo>
                  <a:lnTo>
                    <a:pt x="1375" y="4"/>
                  </a:lnTo>
                  <a:lnTo>
                    <a:pt x="1385" y="6"/>
                  </a:lnTo>
                  <a:lnTo>
                    <a:pt x="1392" y="8"/>
                  </a:lnTo>
                  <a:lnTo>
                    <a:pt x="1400" y="12"/>
                  </a:lnTo>
                  <a:lnTo>
                    <a:pt x="1410" y="16"/>
                  </a:lnTo>
                  <a:lnTo>
                    <a:pt x="1423" y="29"/>
                  </a:lnTo>
                  <a:lnTo>
                    <a:pt x="1433" y="35"/>
                  </a:lnTo>
                  <a:lnTo>
                    <a:pt x="1450" y="52"/>
                  </a:lnTo>
                  <a:lnTo>
                    <a:pt x="1465" y="71"/>
                  </a:lnTo>
                  <a:lnTo>
                    <a:pt x="1475" y="82"/>
                  </a:lnTo>
                  <a:lnTo>
                    <a:pt x="1490" y="105"/>
                  </a:lnTo>
                  <a:lnTo>
                    <a:pt x="1500" y="118"/>
                  </a:lnTo>
                  <a:lnTo>
                    <a:pt x="1515" y="145"/>
                  </a:lnTo>
                  <a:lnTo>
                    <a:pt x="1524" y="158"/>
                  </a:lnTo>
                  <a:lnTo>
                    <a:pt x="1540" y="187"/>
                  </a:lnTo>
                  <a:lnTo>
                    <a:pt x="1549" y="202"/>
                  </a:lnTo>
                  <a:lnTo>
                    <a:pt x="1565" y="233"/>
                  </a:lnTo>
                  <a:lnTo>
                    <a:pt x="1574" y="250"/>
                  </a:lnTo>
                  <a:lnTo>
                    <a:pt x="1582" y="265"/>
                  </a:lnTo>
                  <a:lnTo>
                    <a:pt x="1597" y="299"/>
                  </a:lnTo>
                  <a:lnTo>
                    <a:pt x="1607" y="317"/>
                  </a:lnTo>
                  <a:lnTo>
                    <a:pt x="1622" y="351"/>
                  </a:lnTo>
                  <a:lnTo>
                    <a:pt x="1632" y="368"/>
                  </a:lnTo>
                  <a:lnTo>
                    <a:pt x="1635" y="368"/>
                  </a:lnTo>
                  <a:lnTo>
                    <a:pt x="1626" y="351"/>
                  </a:lnTo>
                  <a:lnTo>
                    <a:pt x="1611" y="317"/>
                  </a:lnTo>
                  <a:lnTo>
                    <a:pt x="1601" y="299"/>
                  </a:lnTo>
                  <a:lnTo>
                    <a:pt x="1586" y="265"/>
                  </a:lnTo>
                  <a:lnTo>
                    <a:pt x="1578" y="250"/>
                  </a:lnTo>
                  <a:lnTo>
                    <a:pt x="1568" y="233"/>
                  </a:lnTo>
                  <a:lnTo>
                    <a:pt x="1553" y="202"/>
                  </a:lnTo>
                  <a:lnTo>
                    <a:pt x="1544" y="187"/>
                  </a:lnTo>
                  <a:lnTo>
                    <a:pt x="1528" y="155"/>
                  </a:lnTo>
                  <a:lnTo>
                    <a:pt x="1519" y="141"/>
                  </a:lnTo>
                  <a:lnTo>
                    <a:pt x="1503" y="115"/>
                  </a:lnTo>
                  <a:lnTo>
                    <a:pt x="1494" y="101"/>
                  </a:lnTo>
                  <a:lnTo>
                    <a:pt x="1479" y="78"/>
                  </a:lnTo>
                  <a:lnTo>
                    <a:pt x="1469" y="67"/>
                  </a:lnTo>
                  <a:lnTo>
                    <a:pt x="1454" y="48"/>
                  </a:lnTo>
                  <a:lnTo>
                    <a:pt x="1436" y="31"/>
                  </a:lnTo>
                  <a:lnTo>
                    <a:pt x="1427" y="25"/>
                  </a:lnTo>
                  <a:lnTo>
                    <a:pt x="1419" y="17"/>
                  </a:lnTo>
                  <a:lnTo>
                    <a:pt x="1410" y="12"/>
                  </a:lnTo>
                  <a:lnTo>
                    <a:pt x="1400" y="8"/>
                  </a:lnTo>
                  <a:lnTo>
                    <a:pt x="1392" y="4"/>
                  </a:lnTo>
                  <a:lnTo>
                    <a:pt x="1385" y="2"/>
                  </a:lnTo>
                  <a:lnTo>
                    <a:pt x="1375" y="0"/>
                  </a:lnTo>
                  <a:lnTo>
                    <a:pt x="1358" y="0"/>
                  </a:lnTo>
                  <a:lnTo>
                    <a:pt x="1343" y="4"/>
                  </a:lnTo>
                  <a:lnTo>
                    <a:pt x="1333" y="8"/>
                  </a:lnTo>
                  <a:lnTo>
                    <a:pt x="1326" y="12"/>
                  </a:lnTo>
                  <a:lnTo>
                    <a:pt x="1314" y="17"/>
                  </a:lnTo>
                  <a:lnTo>
                    <a:pt x="1306" y="25"/>
                  </a:lnTo>
                  <a:lnTo>
                    <a:pt x="1297" y="31"/>
                  </a:lnTo>
                  <a:lnTo>
                    <a:pt x="1280" y="48"/>
                  </a:lnTo>
                  <a:lnTo>
                    <a:pt x="1264" y="67"/>
                  </a:lnTo>
                  <a:lnTo>
                    <a:pt x="1255" y="78"/>
                  </a:lnTo>
                  <a:lnTo>
                    <a:pt x="1247" y="90"/>
                  </a:lnTo>
                  <a:lnTo>
                    <a:pt x="1237" y="101"/>
                  </a:lnTo>
                  <a:lnTo>
                    <a:pt x="1230" y="115"/>
                  </a:lnTo>
                  <a:lnTo>
                    <a:pt x="1220" y="126"/>
                  </a:lnTo>
                  <a:lnTo>
                    <a:pt x="1213" y="141"/>
                  </a:lnTo>
                  <a:lnTo>
                    <a:pt x="1203" y="155"/>
                  </a:lnTo>
                  <a:lnTo>
                    <a:pt x="1195" y="170"/>
                  </a:lnTo>
                  <a:lnTo>
                    <a:pt x="1186" y="183"/>
                  </a:lnTo>
                  <a:lnTo>
                    <a:pt x="1178" y="200"/>
                  </a:lnTo>
                  <a:lnTo>
                    <a:pt x="1169" y="218"/>
                  </a:lnTo>
                  <a:lnTo>
                    <a:pt x="1161" y="233"/>
                  </a:lnTo>
                  <a:lnTo>
                    <a:pt x="1151" y="248"/>
                  </a:lnTo>
                  <a:lnTo>
                    <a:pt x="1144" y="265"/>
                  </a:lnTo>
                  <a:lnTo>
                    <a:pt x="1134" y="282"/>
                  </a:lnTo>
                  <a:lnTo>
                    <a:pt x="1127" y="298"/>
                  </a:lnTo>
                  <a:lnTo>
                    <a:pt x="1117" y="315"/>
                  </a:lnTo>
                  <a:lnTo>
                    <a:pt x="1109" y="332"/>
                  </a:lnTo>
                  <a:lnTo>
                    <a:pt x="1100" y="349"/>
                  </a:lnTo>
                  <a:lnTo>
                    <a:pt x="1092" y="366"/>
                  </a:lnTo>
                  <a:lnTo>
                    <a:pt x="1083" y="383"/>
                  </a:lnTo>
                  <a:lnTo>
                    <a:pt x="1075" y="400"/>
                  </a:lnTo>
                  <a:lnTo>
                    <a:pt x="1067" y="416"/>
                  </a:lnTo>
                  <a:lnTo>
                    <a:pt x="1058" y="433"/>
                  </a:lnTo>
                  <a:lnTo>
                    <a:pt x="1050" y="450"/>
                  </a:lnTo>
                  <a:lnTo>
                    <a:pt x="1040" y="467"/>
                  </a:lnTo>
                  <a:lnTo>
                    <a:pt x="1033" y="482"/>
                  </a:lnTo>
                  <a:lnTo>
                    <a:pt x="1025" y="500"/>
                  </a:lnTo>
                  <a:lnTo>
                    <a:pt x="1016" y="515"/>
                  </a:lnTo>
                  <a:lnTo>
                    <a:pt x="1008" y="530"/>
                  </a:lnTo>
                  <a:lnTo>
                    <a:pt x="998" y="545"/>
                  </a:lnTo>
                  <a:lnTo>
                    <a:pt x="991" y="559"/>
                  </a:lnTo>
                  <a:lnTo>
                    <a:pt x="981" y="572"/>
                  </a:lnTo>
                  <a:lnTo>
                    <a:pt x="973" y="587"/>
                  </a:lnTo>
                  <a:lnTo>
                    <a:pt x="966" y="601"/>
                  </a:lnTo>
                  <a:lnTo>
                    <a:pt x="956" y="612"/>
                  </a:lnTo>
                  <a:lnTo>
                    <a:pt x="949" y="625"/>
                  </a:lnTo>
                  <a:lnTo>
                    <a:pt x="939" y="637"/>
                  </a:lnTo>
                  <a:lnTo>
                    <a:pt x="924" y="660"/>
                  </a:lnTo>
                  <a:lnTo>
                    <a:pt x="914" y="669"/>
                  </a:lnTo>
                  <a:lnTo>
                    <a:pt x="907" y="679"/>
                  </a:lnTo>
                  <a:lnTo>
                    <a:pt x="897" y="686"/>
                  </a:lnTo>
                  <a:lnTo>
                    <a:pt x="882" y="702"/>
                  </a:lnTo>
                  <a:lnTo>
                    <a:pt x="872" y="707"/>
                  </a:lnTo>
                  <a:lnTo>
                    <a:pt x="866" y="713"/>
                  </a:lnTo>
                  <a:lnTo>
                    <a:pt x="857" y="717"/>
                  </a:lnTo>
                  <a:lnTo>
                    <a:pt x="841" y="724"/>
                  </a:lnTo>
                  <a:lnTo>
                    <a:pt x="832" y="724"/>
                  </a:lnTo>
                  <a:lnTo>
                    <a:pt x="824" y="726"/>
                  </a:lnTo>
                  <a:lnTo>
                    <a:pt x="815" y="724"/>
                  </a:lnTo>
                  <a:lnTo>
                    <a:pt x="807" y="724"/>
                  </a:lnTo>
                  <a:lnTo>
                    <a:pt x="799" y="721"/>
                  </a:lnTo>
                  <a:lnTo>
                    <a:pt x="790" y="717"/>
                  </a:lnTo>
                  <a:lnTo>
                    <a:pt x="782" y="713"/>
                  </a:lnTo>
                  <a:lnTo>
                    <a:pt x="775" y="707"/>
                  </a:lnTo>
                  <a:lnTo>
                    <a:pt x="767" y="702"/>
                  </a:lnTo>
                  <a:lnTo>
                    <a:pt x="757" y="694"/>
                  </a:lnTo>
                  <a:lnTo>
                    <a:pt x="750" y="686"/>
                  </a:lnTo>
                  <a:lnTo>
                    <a:pt x="740" y="679"/>
                  </a:lnTo>
                  <a:lnTo>
                    <a:pt x="725" y="660"/>
                  </a:lnTo>
                  <a:lnTo>
                    <a:pt x="715" y="648"/>
                  </a:lnTo>
                  <a:lnTo>
                    <a:pt x="708" y="637"/>
                  </a:lnTo>
                  <a:lnTo>
                    <a:pt x="698" y="625"/>
                  </a:lnTo>
                  <a:lnTo>
                    <a:pt x="690" y="614"/>
                  </a:lnTo>
                  <a:lnTo>
                    <a:pt x="681" y="601"/>
                  </a:lnTo>
                  <a:lnTo>
                    <a:pt x="673" y="587"/>
                  </a:lnTo>
                  <a:lnTo>
                    <a:pt x="664" y="572"/>
                  </a:lnTo>
                  <a:lnTo>
                    <a:pt x="656" y="559"/>
                  </a:lnTo>
                  <a:lnTo>
                    <a:pt x="646" y="545"/>
                  </a:lnTo>
                  <a:lnTo>
                    <a:pt x="639" y="530"/>
                  </a:lnTo>
                  <a:lnTo>
                    <a:pt x="629" y="515"/>
                  </a:lnTo>
                  <a:lnTo>
                    <a:pt x="621" y="500"/>
                  </a:lnTo>
                  <a:lnTo>
                    <a:pt x="612" y="484"/>
                  </a:lnTo>
                  <a:lnTo>
                    <a:pt x="604" y="467"/>
                  </a:lnTo>
                  <a:lnTo>
                    <a:pt x="595" y="452"/>
                  </a:lnTo>
                  <a:lnTo>
                    <a:pt x="587" y="435"/>
                  </a:lnTo>
                  <a:lnTo>
                    <a:pt x="577" y="418"/>
                  </a:lnTo>
                  <a:lnTo>
                    <a:pt x="570" y="400"/>
                  </a:lnTo>
                  <a:lnTo>
                    <a:pt x="560" y="385"/>
                  </a:lnTo>
                  <a:lnTo>
                    <a:pt x="553" y="368"/>
                  </a:lnTo>
                  <a:lnTo>
                    <a:pt x="543" y="351"/>
                  </a:lnTo>
                  <a:lnTo>
                    <a:pt x="528" y="317"/>
                  </a:lnTo>
                  <a:lnTo>
                    <a:pt x="518" y="301"/>
                  </a:lnTo>
                  <a:lnTo>
                    <a:pt x="511" y="284"/>
                  </a:lnTo>
                  <a:lnTo>
                    <a:pt x="501" y="267"/>
                  </a:lnTo>
                  <a:lnTo>
                    <a:pt x="493" y="252"/>
                  </a:lnTo>
                  <a:lnTo>
                    <a:pt x="484" y="237"/>
                  </a:lnTo>
                  <a:lnTo>
                    <a:pt x="476" y="221"/>
                  </a:lnTo>
                  <a:lnTo>
                    <a:pt x="468" y="204"/>
                  </a:lnTo>
                  <a:lnTo>
                    <a:pt x="459" y="189"/>
                  </a:lnTo>
                  <a:lnTo>
                    <a:pt x="451" y="176"/>
                  </a:lnTo>
                  <a:lnTo>
                    <a:pt x="442" y="158"/>
                  </a:lnTo>
                  <a:lnTo>
                    <a:pt x="426" y="132"/>
                  </a:lnTo>
                  <a:lnTo>
                    <a:pt x="417" y="120"/>
                  </a:lnTo>
                  <a:lnTo>
                    <a:pt x="409" y="107"/>
                  </a:lnTo>
                  <a:lnTo>
                    <a:pt x="400" y="96"/>
                  </a:lnTo>
                  <a:lnTo>
                    <a:pt x="392" y="84"/>
                  </a:lnTo>
                  <a:lnTo>
                    <a:pt x="382" y="73"/>
                  </a:lnTo>
                  <a:lnTo>
                    <a:pt x="375" y="63"/>
                  </a:lnTo>
                  <a:lnTo>
                    <a:pt x="350" y="38"/>
                  </a:lnTo>
                  <a:lnTo>
                    <a:pt x="340" y="31"/>
                  </a:lnTo>
                  <a:lnTo>
                    <a:pt x="333" y="25"/>
                  </a:lnTo>
                  <a:lnTo>
                    <a:pt x="321" y="19"/>
                  </a:lnTo>
                  <a:lnTo>
                    <a:pt x="313" y="16"/>
                  </a:lnTo>
                  <a:lnTo>
                    <a:pt x="304" y="12"/>
                  </a:lnTo>
                  <a:lnTo>
                    <a:pt x="296" y="10"/>
                  </a:lnTo>
                  <a:lnTo>
                    <a:pt x="287" y="8"/>
                  </a:lnTo>
                  <a:lnTo>
                    <a:pt x="269" y="8"/>
                  </a:lnTo>
                  <a:lnTo>
                    <a:pt x="262" y="10"/>
                  </a:lnTo>
                  <a:lnTo>
                    <a:pt x="252" y="12"/>
                  </a:lnTo>
                  <a:lnTo>
                    <a:pt x="245" y="16"/>
                  </a:lnTo>
                  <a:lnTo>
                    <a:pt x="235" y="19"/>
                  </a:lnTo>
                  <a:lnTo>
                    <a:pt x="225" y="25"/>
                  </a:lnTo>
                  <a:lnTo>
                    <a:pt x="216" y="31"/>
                  </a:lnTo>
                  <a:lnTo>
                    <a:pt x="208" y="38"/>
                  </a:lnTo>
                  <a:lnTo>
                    <a:pt x="199" y="46"/>
                  </a:lnTo>
                  <a:lnTo>
                    <a:pt x="172" y="73"/>
                  </a:lnTo>
                  <a:lnTo>
                    <a:pt x="164" y="84"/>
                  </a:lnTo>
                  <a:lnTo>
                    <a:pt x="155" y="96"/>
                  </a:lnTo>
                  <a:lnTo>
                    <a:pt x="147" y="107"/>
                  </a:lnTo>
                  <a:lnTo>
                    <a:pt x="137" y="120"/>
                  </a:lnTo>
                  <a:lnTo>
                    <a:pt x="130" y="132"/>
                  </a:lnTo>
                  <a:lnTo>
                    <a:pt x="120" y="145"/>
                  </a:lnTo>
                  <a:lnTo>
                    <a:pt x="113" y="158"/>
                  </a:lnTo>
                  <a:lnTo>
                    <a:pt x="103" y="176"/>
                  </a:lnTo>
                  <a:lnTo>
                    <a:pt x="95" y="189"/>
                  </a:lnTo>
                  <a:lnTo>
                    <a:pt x="86" y="202"/>
                  </a:lnTo>
                  <a:lnTo>
                    <a:pt x="76" y="221"/>
                  </a:lnTo>
                  <a:lnTo>
                    <a:pt x="69" y="237"/>
                  </a:lnTo>
                  <a:lnTo>
                    <a:pt x="59" y="252"/>
                  </a:lnTo>
                  <a:lnTo>
                    <a:pt x="51" y="267"/>
                  </a:lnTo>
                  <a:lnTo>
                    <a:pt x="42" y="284"/>
                  </a:lnTo>
                  <a:lnTo>
                    <a:pt x="34" y="301"/>
                  </a:lnTo>
                  <a:lnTo>
                    <a:pt x="25" y="317"/>
                  </a:lnTo>
                  <a:lnTo>
                    <a:pt x="17" y="334"/>
                  </a:lnTo>
                  <a:lnTo>
                    <a:pt x="7" y="351"/>
                  </a:lnTo>
                  <a:lnTo>
                    <a:pt x="0" y="368"/>
                  </a:lnTo>
                  <a:lnTo>
                    <a:pt x="4" y="3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811840" y="1366920"/>
              <a:ext cx="0" cy="119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821200" y="1963800"/>
              <a:ext cx="3008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973840" y="1722600"/>
              <a:ext cx="0" cy="234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048360" y="16160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118200" y="1539720"/>
              <a:ext cx="0" cy="420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199200" y="1465200"/>
              <a:ext cx="0" cy="484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283440" y="1433520"/>
              <a:ext cx="0" cy="523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56520" y="1465200"/>
              <a:ext cx="0" cy="492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442200" y="1527120"/>
              <a:ext cx="0" cy="422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532560" y="16081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607080" y="172260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699240" y="1892160"/>
              <a:ext cx="0" cy="651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886360" y="184140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851520" y="1981080"/>
              <a:ext cx="0" cy="84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929280" y="198108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012080" y="1971720"/>
              <a:ext cx="0" cy="333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095960" y="1971720"/>
              <a:ext cx="0" cy="430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174080" y="1971720"/>
              <a:ext cx="0" cy="479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251840" y="197172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324560" y="1971720"/>
              <a:ext cx="0" cy="488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402680" y="1971720"/>
              <a:ext cx="0" cy="430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486560" y="1981080"/>
              <a:ext cx="0" cy="331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559640" y="197172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648560" y="197172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808760" y="1841400"/>
              <a:ext cx="0" cy="115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880400" y="170496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947000" y="160812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034480" y="1535040"/>
              <a:ext cx="0" cy="422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118360" y="1455840"/>
              <a:ext cx="0" cy="5014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8196120" y="1433520"/>
              <a:ext cx="0" cy="523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280360" y="1465200"/>
              <a:ext cx="0" cy="492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358120" y="1519200"/>
              <a:ext cx="0" cy="430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8440560" y="161604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8524800" y="1746360"/>
              <a:ext cx="0" cy="210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8601120" y="188280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9133920" y="1836720"/>
              <a:ext cx="502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740440" y="18604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377320" y="1255680"/>
              <a:ext cx="41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|A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8" name=""/>
            <p:cNvGrpSpPr/>
            <p:nvPr/>
          </p:nvGrpSpPr>
          <p:grpSpPr>
            <a:xfrm>
              <a:off x="6707160" y="2971800"/>
              <a:ext cx="608040" cy="990360"/>
              <a:chOff x="6707160" y="2971800"/>
              <a:chExt cx="608040" cy="990360"/>
            </a:xfrm>
          </p:grpSpPr>
          <p:sp>
            <p:nvSpPr>
              <p:cNvPr id="1409" name=""/>
              <p:cNvSpPr/>
              <p:nvPr/>
            </p:nvSpPr>
            <p:spPr>
              <a:xfrm>
                <a:off x="7315200" y="297180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707160" y="3199320"/>
                <a:ext cx="47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1" name=""/>
            <p:cNvSpPr/>
            <p:nvPr/>
          </p:nvSpPr>
          <p:spPr>
            <a:xfrm>
              <a:off x="6511680" y="2580120"/>
              <a:ext cx="16437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crete 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426720" y="3961080"/>
              <a:ext cx="1800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iodic spect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027-D206-4621-BBC3-41B42348DF9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reteness and period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42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"/>
          <p:cNvSpPr/>
          <p:nvPr/>
        </p:nvSpPr>
        <p:spPr>
          <a:xfrm>
            <a:off x="1195560" y="1406520"/>
            <a:ext cx="0" cy="1195560"/>
          </a:xfrm>
          <a:prstGeom prst="line">
            <a:avLst/>
          </a:prstGeom>
          <a:ln w="64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204920" y="2003400"/>
            <a:ext cx="30081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517280" y="1876320"/>
            <a:ext cx="502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123800" y="190008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61040" y="1295280"/>
            <a:ext cx="41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0" y="5791320"/>
            <a:ext cx="4765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2514600" y="4495320"/>
            <a:ext cx="0" cy="132084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20" y="5257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3" name=""/>
          <p:cNvGrpSpPr/>
          <p:nvPr/>
        </p:nvGrpSpPr>
        <p:grpSpPr>
          <a:xfrm>
            <a:off x="2057400" y="4897440"/>
            <a:ext cx="914400" cy="925560"/>
            <a:chOff x="2057400" y="4897440"/>
            <a:chExt cx="914400" cy="925560"/>
          </a:xfrm>
        </p:grpSpPr>
        <p:sp>
          <p:nvSpPr>
            <p:cNvPr id="1424" name=""/>
            <p:cNvSpPr/>
            <p:nvPr/>
          </p:nvSpPr>
          <p:spPr>
            <a:xfrm>
              <a:off x="2057400" y="4897440"/>
              <a:ext cx="447840" cy="912960"/>
            </a:xfrm>
            <a:custGeom>
              <a:avLst/>
              <a:gdLst/>
              <a:ahLst/>
              <a:rect l="l" t="t" r="r" b="b"/>
              <a:pathLst>
                <a:path w="721" h="607">
                  <a:moveTo>
                    <a:pt x="0" y="606"/>
                  </a:moveTo>
                  <a:lnTo>
                    <a:pt x="34" y="541"/>
                  </a:lnTo>
                  <a:lnTo>
                    <a:pt x="72" y="477"/>
                  </a:lnTo>
                  <a:lnTo>
                    <a:pt x="118" y="416"/>
                  </a:lnTo>
                  <a:lnTo>
                    <a:pt x="144" y="386"/>
                  </a:lnTo>
                  <a:lnTo>
                    <a:pt x="173" y="359"/>
                  </a:lnTo>
                  <a:lnTo>
                    <a:pt x="241" y="307"/>
                  </a:lnTo>
                  <a:lnTo>
                    <a:pt x="313" y="259"/>
                  </a:lnTo>
                  <a:lnTo>
                    <a:pt x="385" y="215"/>
                  </a:lnTo>
                  <a:lnTo>
                    <a:pt x="417" y="193"/>
                  </a:lnTo>
                  <a:lnTo>
                    <a:pt x="447" y="171"/>
                  </a:lnTo>
                  <a:lnTo>
                    <a:pt x="474" y="149"/>
                  </a:lnTo>
                  <a:lnTo>
                    <a:pt x="495" y="129"/>
                  </a:lnTo>
                  <a:lnTo>
                    <a:pt x="533" y="88"/>
                  </a:lnTo>
                  <a:lnTo>
                    <a:pt x="561" y="55"/>
                  </a:lnTo>
                  <a:lnTo>
                    <a:pt x="589" y="27"/>
                  </a:lnTo>
                  <a:lnTo>
                    <a:pt x="620" y="11"/>
                  </a:lnTo>
                  <a:lnTo>
                    <a:pt x="652" y="3"/>
                  </a:lnTo>
                  <a:lnTo>
                    <a:pt x="684" y="0"/>
                  </a:lnTo>
                  <a:lnTo>
                    <a:pt x="72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496960" y="4908600"/>
              <a:ext cx="474840" cy="914400"/>
            </a:xfrm>
            <a:custGeom>
              <a:avLst/>
              <a:gdLst/>
              <a:ahLst/>
              <a:rect l="l" t="t" r="r" b="b"/>
              <a:pathLst>
                <a:path w="720" h="608">
                  <a:moveTo>
                    <a:pt x="719" y="607"/>
                  </a:moveTo>
                  <a:lnTo>
                    <a:pt x="683" y="542"/>
                  </a:lnTo>
                  <a:lnTo>
                    <a:pt x="645" y="479"/>
                  </a:lnTo>
                  <a:lnTo>
                    <a:pt x="600" y="419"/>
                  </a:lnTo>
                  <a:lnTo>
                    <a:pt x="573" y="389"/>
                  </a:lnTo>
                  <a:lnTo>
                    <a:pt x="545" y="362"/>
                  </a:lnTo>
                  <a:lnTo>
                    <a:pt x="513" y="336"/>
                  </a:lnTo>
                  <a:lnTo>
                    <a:pt x="479" y="310"/>
                  </a:lnTo>
                  <a:lnTo>
                    <a:pt x="407" y="262"/>
                  </a:lnTo>
                  <a:lnTo>
                    <a:pt x="335" y="216"/>
                  </a:lnTo>
                  <a:lnTo>
                    <a:pt x="303" y="194"/>
                  </a:lnTo>
                  <a:lnTo>
                    <a:pt x="272" y="172"/>
                  </a:lnTo>
                  <a:lnTo>
                    <a:pt x="246" y="150"/>
                  </a:lnTo>
                  <a:lnTo>
                    <a:pt x="225" y="129"/>
                  </a:lnTo>
                  <a:lnTo>
                    <a:pt x="187" y="89"/>
                  </a:lnTo>
                  <a:lnTo>
                    <a:pt x="157" y="56"/>
                  </a:lnTo>
                  <a:lnTo>
                    <a:pt x="128" y="28"/>
                  </a:lnTo>
                  <a:lnTo>
                    <a:pt x="98" y="11"/>
                  </a:lnTo>
                  <a:lnTo>
                    <a:pt x="68" y="4"/>
                  </a:lnTo>
                  <a:lnTo>
                    <a:pt x="34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6" name=""/>
          <p:cNvSpPr/>
          <p:nvPr/>
        </p:nvSpPr>
        <p:spPr>
          <a:xfrm>
            <a:off x="1757880" y="5867280"/>
            <a:ext cx="40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748240" y="5867280"/>
            <a:ext cx="330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467440" y="4594320"/>
            <a:ext cx="41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A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447920" y="449496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2058840" y="3048120"/>
            <a:ext cx="608040" cy="990360"/>
            <a:chOff x="2058840" y="3048120"/>
            <a:chExt cx="608040" cy="990360"/>
          </a:xfrm>
        </p:grpSpPr>
        <p:sp>
          <p:nvSpPr>
            <p:cNvPr id="1431" name=""/>
            <p:cNvSpPr/>
            <p:nvPr/>
          </p:nvSpPr>
          <p:spPr>
            <a:xfrm>
              <a:off x="2666880" y="304812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058840" y="327564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3" name=""/>
          <p:cNvSpPr/>
          <p:nvPr/>
        </p:nvSpPr>
        <p:spPr>
          <a:xfrm>
            <a:off x="1933200" y="2656440"/>
            <a:ext cx="1503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525680" y="4037400"/>
            <a:ext cx="2298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ous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219320" y="1536840"/>
            <a:ext cx="1523880" cy="812520"/>
          </a:xfrm>
          <a:custGeom>
            <a:avLst/>
            <a:gdLst/>
            <a:ahLst/>
            <a:rect l="l" t="t" r="r" b="b"/>
            <a:pathLst>
              <a:path w="960" h="512">
                <a:moveTo>
                  <a:pt x="0" y="280"/>
                </a:moveTo>
                <a:cubicBezTo>
                  <a:pt x="56" y="164"/>
                  <a:pt x="112" y="48"/>
                  <a:pt x="192" y="40"/>
                </a:cubicBezTo>
                <a:cubicBezTo>
                  <a:pt x="272" y="32"/>
                  <a:pt x="408" y="232"/>
                  <a:pt x="480" y="232"/>
                </a:cubicBezTo>
                <a:cubicBezTo>
                  <a:pt x="552" y="232"/>
                  <a:pt x="568" y="0"/>
                  <a:pt x="624" y="40"/>
                </a:cubicBezTo>
                <a:cubicBezTo>
                  <a:pt x="680" y="80"/>
                  <a:pt x="760" y="432"/>
                  <a:pt x="816" y="472"/>
                </a:cubicBezTo>
                <a:cubicBezTo>
                  <a:pt x="872" y="512"/>
                  <a:pt x="916" y="396"/>
                  <a:pt x="960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5011560" y="1255680"/>
            <a:ext cx="4765680" cy="4991760"/>
            <a:chOff x="5011560" y="1255680"/>
            <a:chExt cx="4765680" cy="4991760"/>
          </a:xfrm>
        </p:grpSpPr>
        <p:sp>
          <p:nvSpPr>
            <p:cNvPr id="1437" name=""/>
            <p:cNvSpPr/>
            <p:nvPr/>
          </p:nvSpPr>
          <p:spPr>
            <a:xfrm>
              <a:off x="5011560" y="5818320"/>
              <a:ext cx="4765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7391520" y="4495320"/>
              <a:ext cx="0" cy="132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344360" y="4594320"/>
              <a:ext cx="41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|A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0" name=""/>
            <p:cNvGrpSpPr/>
            <p:nvPr/>
          </p:nvGrpSpPr>
          <p:grpSpPr>
            <a:xfrm>
              <a:off x="6634800" y="4876920"/>
              <a:ext cx="1321200" cy="1370520"/>
              <a:chOff x="6634800" y="4876920"/>
              <a:chExt cx="1321200" cy="1370520"/>
            </a:xfrm>
          </p:grpSpPr>
          <p:grpSp>
            <p:nvGrpSpPr>
              <p:cNvPr id="1441" name=""/>
              <p:cNvGrpSpPr/>
              <p:nvPr/>
            </p:nvGrpSpPr>
            <p:grpSpPr>
              <a:xfrm>
                <a:off x="6934320" y="4876920"/>
                <a:ext cx="914400" cy="925560"/>
                <a:chOff x="6934320" y="4876920"/>
                <a:chExt cx="914400" cy="92556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6934320" y="4876920"/>
                  <a:ext cx="447840" cy="912960"/>
                </a:xfrm>
                <a:custGeom>
                  <a:avLst/>
                  <a:gdLst/>
                  <a:ahLst/>
                  <a:rect l="l" t="t" r="r" b="b"/>
                  <a:pathLst>
                    <a:path w="721" h="607">
                      <a:moveTo>
                        <a:pt x="0" y="606"/>
                      </a:moveTo>
                      <a:lnTo>
                        <a:pt x="34" y="541"/>
                      </a:lnTo>
                      <a:lnTo>
                        <a:pt x="72" y="477"/>
                      </a:lnTo>
                      <a:lnTo>
                        <a:pt x="118" y="416"/>
                      </a:lnTo>
                      <a:lnTo>
                        <a:pt x="144" y="386"/>
                      </a:lnTo>
                      <a:lnTo>
                        <a:pt x="173" y="359"/>
                      </a:lnTo>
                      <a:lnTo>
                        <a:pt x="241" y="307"/>
                      </a:lnTo>
                      <a:lnTo>
                        <a:pt x="313" y="259"/>
                      </a:lnTo>
                      <a:lnTo>
                        <a:pt x="385" y="215"/>
                      </a:lnTo>
                      <a:lnTo>
                        <a:pt x="417" y="193"/>
                      </a:lnTo>
                      <a:lnTo>
                        <a:pt x="447" y="171"/>
                      </a:lnTo>
                      <a:lnTo>
                        <a:pt x="474" y="149"/>
                      </a:lnTo>
                      <a:lnTo>
                        <a:pt x="495" y="129"/>
                      </a:lnTo>
                      <a:lnTo>
                        <a:pt x="533" y="88"/>
                      </a:lnTo>
                      <a:lnTo>
                        <a:pt x="561" y="55"/>
                      </a:lnTo>
                      <a:lnTo>
                        <a:pt x="589" y="27"/>
                      </a:lnTo>
                      <a:lnTo>
                        <a:pt x="620" y="11"/>
                      </a:lnTo>
                      <a:lnTo>
                        <a:pt x="652" y="3"/>
                      </a:lnTo>
                      <a:lnTo>
                        <a:pt x="684" y="0"/>
                      </a:lnTo>
                      <a:lnTo>
                        <a:pt x="72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7373880" y="4888080"/>
                  <a:ext cx="474840" cy="914400"/>
                </a:xfrm>
                <a:custGeom>
                  <a:avLst/>
                  <a:gdLst/>
                  <a:ahLst/>
                  <a:rect l="l" t="t" r="r" b="b"/>
                  <a:pathLst>
                    <a:path w="720" h="608">
                      <a:moveTo>
                        <a:pt x="719" y="607"/>
                      </a:moveTo>
                      <a:lnTo>
                        <a:pt x="683" y="542"/>
                      </a:lnTo>
                      <a:lnTo>
                        <a:pt x="645" y="479"/>
                      </a:lnTo>
                      <a:lnTo>
                        <a:pt x="600" y="419"/>
                      </a:lnTo>
                      <a:lnTo>
                        <a:pt x="573" y="389"/>
                      </a:lnTo>
                      <a:lnTo>
                        <a:pt x="545" y="362"/>
                      </a:lnTo>
                      <a:lnTo>
                        <a:pt x="513" y="336"/>
                      </a:lnTo>
                      <a:lnTo>
                        <a:pt x="479" y="310"/>
                      </a:lnTo>
                      <a:lnTo>
                        <a:pt x="407" y="262"/>
                      </a:lnTo>
                      <a:lnTo>
                        <a:pt x="335" y="216"/>
                      </a:lnTo>
                      <a:lnTo>
                        <a:pt x="303" y="194"/>
                      </a:lnTo>
                      <a:lnTo>
                        <a:pt x="272" y="172"/>
                      </a:lnTo>
                      <a:lnTo>
                        <a:pt x="246" y="150"/>
                      </a:lnTo>
                      <a:lnTo>
                        <a:pt x="225" y="129"/>
                      </a:lnTo>
                      <a:lnTo>
                        <a:pt x="187" y="89"/>
                      </a:lnTo>
                      <a:lnTo>
                        <a:pt x="157" y="56"/>
                      </a:lnTo>
                      <a:lnTo>
                        <a:pt x="128" y="28"/>
                      </a:lnTo>
                      <a:lnTo>
                        <a:pt x="98" y="11"/>
                      </a:lnTo>
                      <a:lnTo>
                        <a:pt x="68" y="4"/>
                      </a:lnTo>
                      <a:lnTo>
                        <a:pt x="3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4" name=""/>
              <p:cNvSpPr/>
              <p:nvPr/>
            </p:nvSpPr>
            <p:spPr>
              <a:xfrm>
                <a:off x="6634800" y="584676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625160" y="5846760"/>
                <a:ext cx="3308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6" name=""/>
            <p:cNvSpPr/>
            <p:nvPr/>
          </p:nvSpPr>
          <p:spPr>
            <a:xfrm>
              <a:off x="5811840" y="1366920"/>
              <a:ext cx="0" cy="119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821200" y="1963800"/>
              <a:ext cx="3008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9133920" y="1836720"/>
              <a:ext cx="502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f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8740440" y="18604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377320" y="1255680"/>
              <a:ext cx="41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|A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1" name=""/>
            <p:cNvGrpSpPr/>
            <p:nvPr/>
          </p:nvGrpSpPr>
          <p:grpSpPr>
            <a:xfrm>
              <a:off x="6707160" y="2971800"/>
              <a:ext cx="608040" cy="990360"/>
              <a:chOff x="6707160" y="2971800"/>
              <a:chExt cx="608040" cy="990360"/>
            </a:xfrm>
          </p:grpSpPr>
          <p:sp>
            <p:nvSpPr>
              <p:cNvPr id="1452" name=""/>
              <p:cNvSpPr/>
              <p:nvPr/>
            </p:nvSpPr>
            <p:spPr>
              <a:xfrm>
                <a:off x="7315200" y="297180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707160" y="3199320"/>
                <a:ext cx="47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4" name=""/>
            <p:cNvSpPr/>
            <p:nvPr/>
          </p:nvSpPr>
          <p:spPr>
            <a:xfrm>
              <a:off x="6485760" y="2580120"/>
              <a:ext cx="17017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iodic 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318360" y="3961080"/>
              <a:ext cx="20264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crete spect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791320" y="1523880"/>
              <a:ext cx="1523880" cy="812880"/>
            </a:xfrm>
            <a:custGeom>
              <a:avLst/>
              <a:gdLst/>
              <a:ahLst/>
              <a:rect l="l" t="t" r="r" b="b"/>
              <a:pathLst>
                <a:path w="960" h="512">
                  <a:moveTo>
                    <a:pt x="0" y="280"/>
                  </a:moveTo>
                  <a:cubicBezTo>
                    <a:pt x="56" y="164"/>
                    <a:pt x="112" y="48"/>
                    <a:pt x="192" y="40"/>
                  </a:cubicBezTo>
                  <a:cubicBezTo>
                    <a:pt x="272" y="32"/>
                    <a:pt x="408" y="232"/>
                    <a:pt x="480" y="232"/>
                  </a:cubicBezTo>
                  <a:cubicBezTo>
                    <a:pt x="552" y="232"/>
                    <a:pt x="568" y="0"/>
                    <a:pt x="624" y="40"/>
                  </a:cubicBezTo>
                  <a:cubicBezTo>
                    <a:pt x="680" y="80"/>
                    <a:pt x="760" y="432"/>
                    <a:pt x="816" y="472"/>
                  </a:cubicBezTo>
                  <a:cubicBezTo>
                    <a:pt x="872" y="512"/>
                    <a:pt x="916" y="396"/>
                    <a:pt x="960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315200" y="1523880"/>
              <a:ext cx="1523880" cy="812880"/>
            </a:xfrm>
            <a:custGeom>
              <a:avLst/>
              <a:gdLst/>
              <a:ahLst/>
              <a:rect l="l" t="t" r="r" b="b"/>
              <a:pathLst>
                <a:path w="960" h="512">
                  <a:moveTo>
                    <a:pt x="0" y="280"/>
                  </a:moveTo>
                  <a:cubicBezTo>
                    <a:pt x="56" y="164"/>
                    <a:pt x="112" y="48"/>
                    <a:pt x="192" y="40"/>
                  </a:cubicBezTo>
                  <a:cubicBezTo>
                    <a:pt x="272" y="32"/>
                    <a:pt x="408" y="232"/>
                    <a:pt x="480" y="232"/>
                  </a:cubicBezTo>
                  <a:cubicBezTo>
                    <a:pt x="552" y="232"/>
                    <a:pt x="568" y="0"/>
                    <a:pt x="624" y="40"/>
                  </a:cubicBezTo>
                  <a:cubicBezTo>
                    <a:pt x="680" y="80"/>
                    <a:pt x="760" y="432"/>
                    <a:pt x="816" y="472"/>
                  </a:cubicBezTo>
                  <a:cubicBezTo>
                    <a:pt x="872" y="512"/>
                    <a:pt x="916" y="396"/>
                    <a:pt x="960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8" name=""/>
            <p:cNvGrpSpPr/>
            <p:nvPr/>
          </p:nvGrpSpPr>
          <p:grpSpPr>
            <a:xfrm>
              <a:off x="7086600" y="4952880"/>
              <a:ext cx="609480" cy="879480"/>
              <a:chOff x="7086600" y="4952880"/>
              <a:chExt cx="609480" cy="879480"/>
            </a:xfrm>
          </p:grpSpPr>
          <p:sp>
            <p:nvSpPr>
              <p:cNvPr id="1459" name=""/>
              <p:cNvSpPr/>
              <p:nvPr/>
            </p:nvSpPr>
            <p:spPr>
              <a:xfrm>
                <a:off x="7086600" y="5334120"/>
                <a:ext cx="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696080" y="5334120"/>
                <a:ext cx="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543800" y="518148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238880" y="5029200"/>
                <a:ext cx="0" cy="80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391520" y="49528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22F2-E5E4-472F-A7B1-14B35CAADEE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C revisi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742680" y="2743200"/>
            <a:ext cx="8420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e signal to baseban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sampling frequenc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d on information required in sig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d on existing ADC converters and design tradeoffs (cost, power dissip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 pass filter signal to half  (Anti aliasing fil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ple signal a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</a:t>
            </a:r>
            <a:r>
              <a:rPr b="0" lang="en-US" sz="2000" spc="-1" strike="noStrike" u="sng" baseline="-25000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"/>
          <p:cNvSpPr/>
          <p:nvPr/>
        </p:nvSpPr>
        <p:spPr>
          <a:xfrm>
            <a:off x="1600200" y="1295280"/>
            <a:ext cx="7037280" cy="1143000"/>
          </a:xfrm>
          <a:prstGeom prst="rect">
            <a:avLst/>
          </a:prstGeom>
          <a:solidFill>
            <a:srgbClr val="ffdd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995480" y="1687680"/>
            <a:ext cx="900000" cy="398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365960" y="1687680"/>
            <a:ext cx="900000" cy="398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459320" y="1380960"/>
            <a:ext cx="1303200" cy="1020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Digital Signal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895480" y="1890720"/>
            <a:ext cx="157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775480" y="1890720"/>
            <a:ext cx="157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293840" y="189072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8280360" y="1890720"/>
            <a:ext cx="68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63400" y="1596960"/>
            <a:ext cx="83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7B15-4C0F-4A01-AB0E-62CDBD59F7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ing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42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 and properties of Linear Time Invariant (LTI)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tering and the convolution theor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ier transform and conv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pling and aliasing. Nyquist theor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pling and periodicity: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ampling in one domain is periodizing in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C conversion: anti-aliasing filtering followed by samp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AAD-07EF-49D0-9111-827C20E6417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ed Examples: Digital Radio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42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digital radio system consists of a transmitter on one building and a receiver on another building. The impulse response of the receiver and the transmitter are the same given by figure 1 below. A logic 1 (High) is transmitted applying a unit impulse to the transmitter. A logic 0 (low) is transmitted by sending a negative impulse (-1) to the transmitter. The time taken fro the transmitted pulse to reach the receiver is negligi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300"/>
              </a:spcBef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aw a block diagram of the system. Using convolution, make a detailed sketch of the the waveform at the output of the receiver when a logic 1 (High) is transmitt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300"/>
              </a:spcBef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Logic 0 is transmitted 0.5 ms after a logic 1. In other words the signal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s applied to the transmitter. Make a detailed sketch of the waveform at the output of the receiv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300"/>
              </a:spcBef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bad weather, there are two path between the transmitter and the receiver. The first path (direct) has a negligible time delay and a gain of 1. The second path has a gain of –1 (reflection)  and a delay of 0.25ms. The contributions of the two paths add together at the input of the receiver. Draw a diagram of the complete system. Make a sketch of the waveform output of the receiver when a logic 1 is transmitt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1371600" y="2819520"/>
                <a:ext cx="26226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7C4-83A0-4686-82B6-8292868C06A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DSP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2680" y="1066680"/>
            <a:ext cx="8420040" cy="18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Digital Signal Process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the processing or manipulation of signals using digit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403280" y="3200400"/>
            <a:ext cx="7037280" cy="2322360"/>
          </a:xfrm>
          <a:prstGeom prst="rect">
            <a:avLst/>
          </a:prstGeom>
          <a:solidFill>
            <a:srgbClr val="ffdd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8560" y="4049640"/>
            <a:ext cx="900360" cy="398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A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9040" y="4049640"/>
            <a:ext cx="900360" cy="398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D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2400" y="3743280"/>
            <a:ext cx="1303200" cy="1020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Digital Signal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98920" y="4253040"/>
            <a:ext cx="157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78560" y="4253040"/>
            <a:ext cx="157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6920" y="425304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83440" y="4253040"/>
            <a:ext cx="68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68600" y="4433760"/>
            <a:ext cx="116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Analogue to Digital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37280" y="4433760"/>
            <a:ext cx="116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Digital to Analogue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6840" y="3959280"/>
            <a:ext cx="8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26400" y="3970440"/>
            <a:ext cx="83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Out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905-235B-4B45-9FE9-B23A338C3F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dcr-trv30_2" descr=""/>
          <p:cNvPicPr/>
          <p:nvPr/>
        </p:nvPicPr>
        <p:blipFill>
          <a:blip r:embed="rId1"/>
          <a:stretch/>
        </p:blipFill>
        <p:spPr>
          <a:xfrm>
            <a:off x="6521400" y="3429000"/>
            <a:ext cx="2365560" cy="1635120"/>
          </a:xfrm>
          <a:prstGeom prst="rect">
            <a:avLst/>
          </a:prstGeom>
          <a:ln w="0">
            <a:noFill/>
          </a:ln>
        </p:spPr>
      </p:pic>
      <p:pic>
        <p:nvPicPr>
          <p:cNvPr id="152" name="hp_phone" descr=""/>
          <p:cNvPicPr/>
          <p:nvPr/>
        </p:nvPicPr>
        <p:blipFill>
          <a:blip r:embed="rId2"/>
          <a:stretch/>
        </p:blipFill>
        <p:spPr>
          <a:xfrm>
            <a:off x="4979880" y="4240080"/>
            <a:ext cx="1635120" cy="1220760"/>
          </a:xfrm>
          <a:prstGeom prst="rect">
            <a:avLst/>
          </a:prstGeom>
          <a:ln w="0">
            <a:noFill/>
          </a:ln>
        </p:spPr>
      </p:pic>
      <p:pic>
        <p:nvPicPr>
          <p:cNvPr id="153" name="vmotion_hands_280" descr=""/>
          <p:cNvPicPr/>
          <p:nvPr/>
        </p:nvPicPr>
        <p:blipFill>
          <a:blip r:embed="rId3"/>
          <a:stretch/>
        </p:blipFill>
        <p:spPr>
          <a:xfrm>
            <a:off x="3301920" y="914400"/>
            <a:ext cx="3853080" cy="39751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DSP Used Fo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42680" y="55623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much mor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laptop_1" descr=""/>
          <p:cNvPicPr/>
          <p:nvPr/>
        </p:nvPicPr>
        <p:blipFill>
          <a:blip r:embed="rId4"/>
          <a:stretch/>
        </p:blipFill>
        <p:spPr>
          <a:xfrm>
            <a:off x="990720" y="1219320"/>
            <a:ext cx="1733400" cy="1554120"/>
          </a:xfrm>
          <a:prstGeom prst="rect">
            <a:avLst/>
          </a:prstGeom>
          <a:ln w="0">
            <a:noFill/>
          </a:ln>
        </p:spPr>
      </p:pic>
      <p:pic>
        <p:nvPicPr>
          <p:cNvPr id="157" name="hi-fi_1" descr=""/>
          <p:cNvPicPr/>
          <p:nvPr/>
        </p:nvPicPr>
        <p:blipFill>
          <a:blip r:embed="rId5"/>
          <a:stretch/>
        </p:blipFill>
        <p:spPr>
          <a:xfrm>
            <a:off x="660240" y="3505320"/>
            <a:ext cx="2476800" cy="2286000"/>
          </a:xfrm>
          <a:prstGeom prst="rect">
            <a:avLst/>
          </a:prstGeom>
          <a:ln w="0">
            <a:noFill/>
          </a:ln>
        </p:spPr>
      </p:pic>
      <p:pic>
        <p:nvPicPr>
          <p:cNvPr id="158" name="pc_2" descr=""/>
          <p:cNvPicPr/>
          <p:nvPr/>
        </p:nvPicPr>
        <p:blipFill>
          <a:blip r:embed="rId6"/>
          <a:stretch/>
        </p:blipFill>
        <p:spPr>
          <a:xfrm>
            <a:off x="7264440" y="2133720"/>
            <a:ext cx="1733400" cy="1371600"/>
          </a:xfrm>
          <a:prstGeom prst="rect">
            <a:avLst/>
          </a:prstGeom>
          <a:ln w="0">
            <a:noFill/>
          </a:ln>
        </p:spPr>
      </p:pic>
      <p:pic>
        <p:nvPicPr>
          <p:cNvPr id="159" name="hard_disk_2" descr=""/>
          <p:cNvPicPr/>
          <p:nvPr/>
        </p:nvPicPr>
        <p:blipFill>
          <a:blip r:embed="rId7"/>
          <a:stretch/>
        </p:blipFill>
        <p:spPr>
          <a:xfrm>
            <a:off x="3467160" y="4343400"/>
            <a:ext cx="1733400" cy="1600200"/>
          </a:xfrm>
          <a:prstGeom prst="rect">
            <a:avLst/>
          </a:prstGeom>
          <a:ln w="0">
            <a:noFill/>
          </a:ln>
        </p:spPr>
      </p:pic>
      <p:pic>
        <p:nvPicPr>
          <p:cNvPr id="160" name="nokia_handset" descr=""/>
          <p:cNvPicPr/>
          <p:nvPr/>
        </p:nvPicPr>
        <p:blipFill>
          <a:blip r:embed="rId8"/>
          <a:stretch/>
        </p:blipFill>
        <p:spPr>
          <a:xfrm>
            <a:off x="1733400" y="3124080"/>
            <a:ext cx="1898640" cy="94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7C33-E6F2-4558-9BED-91D47C37DA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tion Cont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Linear Time Invariant (LTI)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ing th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ing and alia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ing and Frequency eff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B4A-EEB9-4EAE-BFEB-A950AAA26D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ous Linear Time Invariant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3505320"/>
            <a:ext cx="84200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Invaria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lso called stationarit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ystem does not evolve through time: same input means sam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ysis done at a certain time is valid at an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ari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1143000"/>
            <a:ext cx="6095880" cy="1905120"/>
          </a:xfrm>
          <a:prstGeom prst="rect">
            <a:avLst/>
          </a:prstGeom>
          <a:solidFill>
            <a:srgbClr val="ffdd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1371600"/>
            <a:ext cx="2133720" cy="1523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System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designed (fil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eal (acquisition syst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47800" y="196524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x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7" idx="3"/>
            <a:endCxn id="166" idx="1"/>
          </p:cNvCxnSpPr>
          <p:nvPr/>
        </p:nvCxnSpPr>
        <p:spPr>
          <a:xfrm>
            <a:off x="2908440" y="2133360"/>
            <a:ext cx="978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858000" y="196200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y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6" idx="3"/>
            <a:endCxn id="169" idx="1"/>
          </p:cNvCxnSpPr>
          <p:nvPr/>
        </p:nvCxnSpPr>
        <p:spPr>
          <a:xfrm flipV="1">
            <a:off x="6019920" y="2129760"/>
            <a:ext cx="8388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743200" y="5562720"/>
                <a:ext cx="5029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8176-094A-41C1-8167-4FDE9CBA2A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ality &amp; St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aus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TI system is said to be causal if its output at any given time depends only on the input values up to and including that ti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vious for any practical system (we cannot predict the futur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desirable functions (ideal differentiator) require non-causal functions. Any non-causal function is not realisable and needs to be approximated (ideal filters for example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TI system is said to be stable if every bounded input gives rise to bounded outputs.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ounding may occur in amplitude or time. A bounded short impulse signal generating an amplitude-bounded continuous oscillation is not bound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203B-55E7-47D0-A1B0-5B42443E5E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9880" y="151920"/>
            <a:ext cx="850284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ters, impulse response and conv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2680" y="1066680"/>
            <a:ext cx="8420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ntinuous LT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alled a line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LTI the relation between input and output i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         is the impulse response of the fil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762120" y="2666880"/>
                <a:ext cx="504972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</m:e>
                    </m:nary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dτ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43200" y="4114800"/>
                <a:ext cx="657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8" name=""/>
          <p:cNvGrpSpPr/>
          <p:nvPr/>
        </p:nvGrpSpPr>
        <p:grpSpPr>
          <a:xfrm>
            <a:off x="1219320" y="4572000"/>
            <a:ext cx="6710400" cy="457200"/>
            <a:chOff x="1219320" y="4572000"/>
            <a:chExt cx="6710400" cy="457200"/>
          </a:xfrm>
        </p:grpSpPr>
        <p:sp>
          <p:nvSpPr>
            <p:cNvPr id="179" name=""/>
            <p:cNvSpPr/>
            <p:nvPr/>
          </p:nvSpPr>
          <p:spPr>
            <a:xfrm>
              <a:off x="3357720" y="4572000"/>
              <a:ext cx="2133360" cy="457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</a:rPr>
                <a:t>h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19320" y="4632480"/>
              <a:ext cx="116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Times New Roman"/>
                </a:rPr>
                <a:t>x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80" idx="3"/>
              <a:endCxn id="179" idx="1"/>
            </p:cNvCxnSpPr>
            <p:nvPr/>
          </p:nvCxnSpPr>
          <p:spPr>
            <a:xfrm>
              <a:off x="2379240" y="480024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2" name=""/>
            <p:cNvSpPr/>
            <p:nvPr/>
          </p:nvSpPr>
          <p:spPr>
            <a:xfrm>
              <a:off x="6342120" y="4643640"/>
              <a:ext cx="158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Times New Roman"/>
                </a:rPr>
                <a:t>y(t)=h(t)*x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" name=""/>
            <p:cNvCxnSpPr>
              <a:stCxn id="179" idx="3"/>
              <a:endCxn id="182" idx="1"/>
            </p:cNvCxnSpPr>
            <p:nvPr/>
          </p:nvCxnSpPr>
          <p:spPr>
            <a:xfrm>
              <a:off x="5491080" y="4800240"/>
              <a:ext cx="851760" cy="1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4" name=""/>
          <p:cNvGrpSpPr/>
          <p:nvPr/>
        </p:nvGrpSpPr>
        <p:grpSpPr>
          <a:xfrm>
            <a:off x="1219320" y="5410080"/>
            <a:ext cx="6710400" cy="457200"/>
            <a:chOff x="1219320" y="5410080"/>
            <a:chExt cx="6710400" cy="457200"/>
          </a:xfrm>
        </p:grpSpPr>
        <p:sp>
          <p:nvSpPr>
            <p:cNvPr id="185" name=""/>
            <p:cNvSpPr/>
            <p:nvPr/>
          </p:nvSpPr>
          <p:spPr>
            <a:xfrm>
              <a:off x="3357720" y="5410080"/>
              <a:ext cx="2133360" cy="457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</a:rPr>
                <a:t>h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19320" y="5470560"/>
              <a:ext cx="116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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" name=""/>
            <p:cNvCxnSpPr>
              <a:stCxn id="186" idx="3"/>
              <a:endCxn id="185" idx="1"/>
            </p:cNvCxnSpPr>
            <p:nvPr/>
          </p:nvCxnSpPr>
          <p:spPr>
            <a:xfrm>
              <a:off x="2379240" y="563832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6342120" y="5481720"/>
              <a:ext cx="158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Times New Roman"/>
                </a:rPr>
                <a:t>y(t)=h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9" name=""/>
            <p:cNvCxnSpPr>
              <a:stCxn id="185" idx="3"/>
              <a:endCxn id="188" idx="1"/>
            </p:cNvCxnSpPr>
            <p:nvPr/>
          </p:nvCxnSpPr>
          <p:spPr>
            <a:xfrm>
              <a:off x="5491080" y="5638320"/>
              <a:ext cx="851760" cy="1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90" name=""/>
          <p:cNvSpPr/>
          <p:nvPr/>
        </p:nvSpPr>
        <p:spPr>
          <a:xfrm>
            <a:off x="1156320" y="5851080"/>
            <a:ext cx="12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t impu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79560" y="586692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uls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ED41-C2E0-4BC3-A295-76161E8C55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09:22:08Z</dcterms:created>
  <dc:creator>Administrator</dc:creator>
  <dc:description/>
  <dc:language>en-US</dc:language>
  <cp:lastModifiedBy>ceeyrp</cp:lastModifiedBy>
  <cp:lastPrinted>2001-10-01T15:20:00Z</cp:lastPrinted>
  <dcterms:modified xsi:type="dcterms:W3CDTF">2004-09-28T16:51:41Z</dcterms:modified>
  <cp:revision>361</cp:revision>
  <dc:subject/>
  <dc:title>Electronic Instrumentation</dc:title>
</cp:coreProperties>
</file>