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3.jpeg" ContentType="image/jpeg"/>
  <Override PartName="/ppt/media/image24.jpeg" ContentType="image/jpeg"/>
  <Override PartName="/ppt/media/image29.wmf" ContentType="image/x-wmf"/>
  <Override PartName="/ppt/media/image20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2.jpeg" ContentType="image/jpeg"/>
  <Override PartName="/ppt/media/image17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6.wmf" ContentType="image/x-wmf"/>
  <Override PartName="/ppt/media/image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1C4-CB06-482C-BAED-99EEA385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13E-FCFC-4961-A2CE-FFF9F36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4F1-6874-413C-B522-1FD1B9F1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223-DAA7-4876-8281-CC5798E5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C83-5AFB-47A8-9EEA-5F38B03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9A4-7CAA-4C5D-8800-7EBFB523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A00-0541-4F05-B7B6-43840638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147-9BF0-4EFC-BC1E-46382D9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9880" y="15192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6BD-B305-442D-ADA7-C9F9E3E5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AA7-9BEA-4431-8D4B-FB3D57B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EC0-968D-47B0-B80D-35922EF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8FC-2AF1-4173-8001-8135EA64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Fourier Trans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C3001B3C-98F6-4205-BBD2-45DCF4D0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Yvan Peti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7AD-A365-4E60-97DF-4F131C3855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1419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fig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91520" cy="4330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14040" y="464724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lculate the 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1222-06A0-49B7-9443-056F12E35D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fig6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876560" cy="3041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 /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" y="137052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ete Time 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5800" y="1981080"/>
                <a:ext cx="2681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θ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38680" y="1905120"/>
                <a:ext cx="28958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k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583240" y="137052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ete 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81080" y="3405240"/>
                <a:ext cx="241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438280" y="35812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29400" y="3200400"/>
                <a:ext cx="620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C45-AE9E-42C6-8D58-22B449B64C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length/Frequency resolution/Sampling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5800" y="1447920"/>
                <a:ext cx="4006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5800" y="2895480"/>
                <a:ext cx="34290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Δ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Δf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250960" y="1599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 is the sampling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46640" y="2970720"/>
            <a:ext cx="42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is the frequency spacing (resolu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DFT coeffic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5CB-8091-4EF0-9D24-5CA483B83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fig8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5486400" cy="2882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length/Frequency resolution/Sampling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0880" y="13705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1447920"/>
                <a:ext cx="3919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π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π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175480" y="19803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d at 1k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080" y="2894400"/>
            <a:ext cx="567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period of the resulting sequence x(nT), i.e.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frequenc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D23-26EE-4CA6-91B1-A0A1A4D76D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length/Frequency resolution/Sampling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x(nT) is made of frequency components spaced by less tha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Hertz, the DFT will NOT represent th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1066680"/>
                <a:ext cx="220176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signal</m:t>
                        </m:r>
                        <m:r>
                          <m:rPr>
                            <m:lit/>
                            <m:nor/>
                          </m:rPr>
                          <m:t xml:space="preserve"> du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638680" y="3496320"/>
            <a:ext cx="366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example but k = 0,1,…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folding around k = 5 = f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fig7" descr=""/>
          <p:cNvPicPr/>
          <p:nvPr/>
        </p:nvPicPr>
        <p:blipFill>
          <a:blip r:embed="rId1"/>
          <a:stretch/>
        </p:blipFill>
        <p:spPr>
          <a:xfrm>
            <a:off x="0" y="3200400"/>
            <a:ext cx="525780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716-E24C-460C-AB80-8B9A0C031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length/Frequency resolution/Sampling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ogue signal of 200ms length is sampled at 2.5 kHz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maximum frequency present is aliasing is to be avoi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frequency resolution of the D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nalogue frequencies are represented by the D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67F-F70A-4B27-9A94-42AADF7360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 length/Frequency resolution/Sampling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An analogue signal of 200ms length is sampled at 2.5 kHz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maximum frequency present is aliasing is to be avoi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yquist: max frequency = fs/2 = 1.25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frequency resolution of the D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nalogue frequencies are represented by the DF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5, 10, 15 ,…, 1250, -1245, …, -5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4114800"/>
                <a:ext cx="28558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0E2-6B0F-4CAD-A24B-3BD7E8156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of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N constant with two sampling periods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90720" y="2514600"/>
                <a:ext cx="54496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1" name="fig9a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495680" cy="32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5E6-388E-4D44-9AE0-6B1B623CF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of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ig9b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778280" cy="1847880"/>
          </a:xfrm>
          <a:prstGeom prst="rect">
            <a:avLst/>
          </a:prstGeom>
          <a:ln w="0">
            <a:noFill/>
          </a:ln>
        </p:spPr>
      </p:pic>
      <p:pic>
        <p:nvPicPr>
          <p:cNvPr id="236" name="fig9c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6400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8C6-1CDC-4DFC-9A2E-5BDEADBA21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fig10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858000" cy="47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C90-B8E5-41F3-90C4-DE37731052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tion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TIs and D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DFT and 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various parameters on D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D87-2286-40F4-8B7E-A5E250E80A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fig11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743280" cy="40701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FT analysis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5320" y="1219320"/>
            <a:ext cx="8420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838080" y="3124080"/>
                <a:ext cx="289584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" y="1446480"/>
            <a:ext cx="6072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= 0.0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content of the sequ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olu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9E4-3903-4143-8431-361E471C18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38080" y="1523880"/>
                <a:ext cx="845820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T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743040" y="2590920"/>
            <a:ext cx="8420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(n) is a sequence of real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95280" y="3505320"/>
                <a:ext cx="619452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N ev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N odd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∠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30D-0BEE-44ED-BAF3-D02C9BF4BC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la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fig1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943600" cy="47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A2B-637A-4715-A509-B8870DE9EB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la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38080" y="1676520"/>
                <a:ext cx="24066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743040" y="3048120"/>
            <a:ext cx="8420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657600"/>
                <a:ext cx="42404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85800" y="510552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 demonstration left as an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5AF-3DC9-4BAB-B2C0-8225F92A5E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I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38080" y="1523880"/>
                <a:ext cx="480060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sSup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/>
                                        </m:s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</m:t>
                                        </m:r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</m:t>
                                        </m:r>
                                        <m:f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N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762120" y="3886200"/>
            <a:ext cx="8420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VAL 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838080" y="4648320"/>
                <a:ext cx="20718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5029200"/>
                <a:ext cx="12175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y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10080" y="5029200"/>
                <a:ext cx="3071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86D-54F0-41FA-86BF-FEA3D53FD0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lete the relationship using the duality princ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362320" y="1219320"/>
                <a:ext cx="43131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n/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 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N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elsewhe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38080" y="3657600"/>
                <a:ext cx="3899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n/N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   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38080" y="4267080"/>
                <a:ext cx="3022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?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   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-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0DD-9A78-4793-927E-7A4CC04CC5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erties of the D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42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62320" y="1219320"/>
                <a:ext cx="43131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n/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 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N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elsewhe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6" name="fig14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57200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022-F50A-4030-B8DE-DEC3D47128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 Filtering is a linear convolu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 signals uncomm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do the same with finite, periodic sign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066680" y="1828800"/>
                <a:ext cx="4996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319080" y="205632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screte Linear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565-574E-4F35-AE5D-A2B85AF60C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1523880"/>
                <a:ext cx="4996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6397200" y="17517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ear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590920"/>
            <a:ext cx="842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09480" y="3200400"/>
            <a:ext cx="3146400" cy="2209680"/>
            <a:chOff x="609480" y="3200400"/>
            <a:chExt cx="3146400" cy="220968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762120" y="3200400"/>
                  <a:ext cx="2993760" cy="21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n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n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"/>
            <p:cNvSpPr/>
            <p:nvPr/>
          </p:nvSpPr>
          <p:spPr>
            <a:xfrm>
              <a:off x="609480" y="4952880"/>
              <a:ext cx="2743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20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952880" y="2743200"/>
                <a:ext cx="39625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p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k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k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925880" y="4114800"/>
                <a:ext cx="27226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480060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19960" y="487584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iodic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8672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iodic Convolu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linear convolution but over one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B95-0DF7-4AF2-A898-9C407384A5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219320"/>
            <a:ext cx="842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the periodic convolution of sequence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010280" y="1905120"/>
                <a:ext cx="2386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58800" y="1828800"/>
                <a:ext cx="27226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886200" y="21337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8000" y="16754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ig15a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2577960" cy="3657600"/>
          </a:xfrm>
          <a:prstGeom prst="rect">
            <a:avLst/>
          </a:prstGeom>
          <a:ln w="0">
            <a:noFill/>
          </a:ln>
        </p:spPr>
      </p:pic>
      <p:pic>
        <p:nvPicPr>
          <p:cNvPr id="302" name="fig15b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1908000" cy="37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2E3-EEF4-4AE9-83BD-5E281E39CC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spectr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to filtering (Convolution theor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to signal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 tool of digital signa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E50-2156-4045-9207-59CE53CB50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19320"/>
            <a:ext cx="8420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al 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bit tedi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fig16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238880" cy="27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0EF-DFEA-4333-BB86-5FAD63D552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8420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ig17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F1F-0017-4913-9500-628290272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ic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84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mmary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ic convolution of two sequences can be obta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in the time domain and using the convolution sum di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into the frequency domain using the following sche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97920" y="5007240"/>
            <a:ext cx="2108880" cy="440640"/>
            <a:chOff x="997920" y="5007240"/>
            <a:chExt cx="2108880" cy="440640"/>
          </a:xfrm>
        </p:grpSpPr>
        <p:sp>
          <p:nvSpPr>
            <p:cNvPr id="312" name=""/>
            <p:cNvSpPr/>
            <p:nvPr/>
          </p:nvSpPr>
          <p:spPr>
            <a:xfrm>
              <a:off x="997920" y="5007240"/>
              <a:ext cx="75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2" idx="3"/>
              <a:endCxn id="314" idx="1"/>
            </p:cNvCxnSpPr>
            <p:nvPr/>
          </p:nvCxnSpPr>
          <p:spPr>
            <a:xfrm>
              <a:off x="1762200" y="5227200"/>
              <a:ext cx="67680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4" name=""/>
            <p:cNvSpPr/>
            <p:nvPr/>
          </p:nvSpPr>
          <p:spPr>
            <a:xfrm>
              <a:off x="2444400" y="5032800"/>
              <a:ext cx="662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97920" y="5616720"/>
            <a:ext cx="2108880" cy="440640"/>
            <a:chOff x="997920" y="5616720"/>
            <a:chExt cx="2108880" cy="440640"/>
          </a:xfrm>
        </p:grpSpPr>
        <p:sp>
          <p:nvSpPr>
            <p:cNvPr id="316" name=""/>
            <p:cNvSpPr/>
            <p:nvPr/>
          </p:nvSpPr>
          <p:spPr>
            <a:xfrm>
              <a:off x="997920" y="5616720"/>
              <a:ext cx="75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6" idx="3"/>
              <a:endCxn id="318" idx="1"/>
            </p:cNvCxnSpPr>
            <p:nvPr/>
          </p:nvCxnSpPr>
          <p:spPr>
            <a:xfrm>
              <a:off x="1762200" y="5836680"/>
              <a:ext cx="67680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2444400" y="5642280"/>
              <a:ext cx="6624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657600" y="5410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4" idx="3"/>
            <a:endCxn id="319" idx="2"/>
          </p:cNvCxnSpPr>
          <p:nvPr/>
        </p:nvCxnSpPr>
        <p:spPr>
          <a:xfrm>
            <a:off x="3112560" y="5232240"/>
            <a:ext cx="545400" cy="33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8" idx="3"/>
            <a:endCxn id="319" idx="2"/>
          </p:cNvCxnSpPr>
          <p:nvPr/>
        </p:nvCxnSpPr>
        <p:spPr>
          <a:xfrm flipV="1">
            <a:off x="3112560" y="5562360"/>
            <a:ext cx="5454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671280" y="532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319" idx="6"/>
            <a:endCxn id="324" idx="1"/>
          </p:cNvCxnSpPr>
          <p:nvPr/>
        </p:nvCxnSpPr>
        <p:spPr>
          <a:xfrm>
            <a:off x="3962520" y="556236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6202080" y="5337720"/>
            <a:ext cx="230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8640" y="536292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 flipV="1">
            <a:off x="5441760" y="5557320"/>
            <a:ext cx="7434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2D9-0F14-4B89-805F-82C153279E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lar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219320"/>
            <a:ext cx="84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 Proble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 we perform linear convolution with finite length signals using DF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we use DFT, we are dealing with sampled spectrum which implies … periodic signa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y not use the sum definition and forget about DF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F68-E107-4AFE-AD95-4C5831CA3C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lar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219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art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00200" y="1905120"/>
          <a:ext cx="7010280" cy="39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70102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819520" y="54100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FTs in FFTs form are good for you!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0FA-D104-4A07-81C6-9EBB7E0A6C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lar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sider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 and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 and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 and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n) their periodic equival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35120" y="2590920"/>
                <a:ext cx="2722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25400" y="3429000"/>
                <a:ext cx="48722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e</m:t>
                        </m:r>
                        <m:r>
                          <m:rPr>
                            <m:lit/>
                            <m:nor/>
                          </m:rPr>
                          <m:t xml:space="preserve"> perio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5873040" y="358056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ircular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62120" y="4495680"/>
                <a:ext cx="2387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765360" y="5083560"/>
            <a:ext cx="68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0" idx="3"/>
            <a:endCxn id="342" idx="1"/>
          </p:cNvCxnSpPr>
          <p:nvPr/>
        </p:nvCxnSpPr>
        <p:spPr>
          <a:xfrm>
            <a:off x="1450800" y="5303520"/>
            <a:ext cx="718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174760" y="5109120"/>
            <a:ext cx="662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5360" y="5693040"/>
            <a:ext cx="68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3"/>
            <a:endCxn id="345" idx="1"/>
          </p:cNvCxnSpPr>
          <p:nvPr/>
        </p:nvCxnSpPr>
        <p:spPr>
          <a:xfrm>
            <a:off x="1450800" y="5913000"/>
            <a:ext cx="718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2174760" y="5718600"/>
            <a:ext cx="662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87600" y="54864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2" idx="3"/>
            <a:endCxn id="346" idx="2"/>
          </p:cNvCxnSpPr>
          <p:nvPr/>
        </p:nvCxnSpPr>
        <p:spPr>
          <a:xfrm>
            <a:off x="2843280" y="5308200"/>
            <a:ext cx="545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5" idx="3"/>
            <a:endCxn id="346" idx="2"/>
          </p:cNvCxnSpPr>
          <p:nvPr/>
        </p:nvCxnSpPr>
        <p:spPr>
          <a:xfrm flipV="1">
            <a:off x="2843280" y="5638320"/>
            <a:ext cx="5450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3404520" y="540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6" idx="6"/>
            <a:endCxn id="351" idx="1"/>
          </p:cNvCxnSpPr>
          <p:nvPr/>
        </p:nvCxnSpPr>
        <p:spPr>
          <a:xfrm>
            <a:off x="3692160" y="5638320"/>
            <a:ext cx="734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057360" y="5413680"/>
            <a:ext cx="208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*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31240" y="543924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1" idx="3"/>
            <a:endCxn id="352" idx="1"/>
          </p:cNvCxnSpPr>
          <p:nvPr/>
        </p:nvCxnSpPr>
        <p:spPr>
          <a:xfrm flipV="1">
            <a:off x="5184720" y="5633280"/>
            <a:ext cx="8676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488-48C4-4CEC-B3F7-FDD4B64382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lar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what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fferen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ifferent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ear conv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1+N2-1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rcular conv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(N1,N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fig18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493236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98D-BECE-4E71-BEBA-00FC5BD5C2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lar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2193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fig19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790960" cy="5182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600200" y="1600200"/>
            <a:ext cx="2438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cing linear and Circular Convolution to be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8D8-D51F-48C0-83C7-D89A1F0F90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cy Con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duality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62120" y="1981080"/>
                <a:ext cx="3703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FC9-C04D-4F66-AB11-13403EB655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detection &amp;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the Power Spectral Density (P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statistical description of signals (no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34C-C234-4021-BDC9-4A388E1201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295280" y="1981080"/>
            <a:ext cx="6710400" cy="457200"/>
            <a:chOff x="1295280" y="1981080"/>
            <a:chExt cx="6710400" cy="457200"/>
          </a:xfrm>
        </p:grpSpPr>
        <p:sp>
          <p:nvSpPr>
            <p:cNvPr id="50" name=""/>
            <p:cNvSpPr/>
            <p:nvPr/>
          </p:nvSpPr>
          <p:spPr>
            <a:xfrm>
              <a:off x="3433680" y="1981080"/>
              <a:ext cx="213336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95280" y="204156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x(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3"/>
              <a:endCxn id="50" idx="1"/>
            </p:cNvCxnSpPr>
            <p:nvPr/>
          </p:nvCxnSpPr>
          <p:spPr>
            <a:xfrm>
              <a:off x="2455200" y="220932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6418080" y="2052720"/>
              <a:ext cx="15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n)= </a:t>
              </a: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 x(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3"/>
              <a:endCxn id="53" idx="1"/>
            </p:cNvCxnSpPr>
            <p:nvPr/>
          </p:nvCxnSpPr>
          <p:spPr>
            <a:xfrm>
              <a:off x="5567040" y="2209320"/>
              <a:ext cx="8517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5" name=""/>
          <p:cNvSpPr/>
          <p:nvPr/>
        </p:nvSpPr>
        <p:spPr>
          <a:xfrm>
            <a:off x="680760" y="114192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functions of LT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676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3080" y="13705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520" y="274212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3276720"/>
                <a:ext cx="3022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w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-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6520" y="380916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4191120"/>
                <a:ext cx="51814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wn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wk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wn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λ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wn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w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26560" y="571392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screte Time 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62D-CA9D-46A4-B34F-B5B55F27B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convolution but with no time rever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14240" y="1828800"/>
                <a:ext cx="5554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49160" y="3200400"/>
                <a:ext cx="5483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6810840" y="198036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ross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10840" y="34279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700-223A-406C-A15F-8ECF2446E3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fig23a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2012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732-6388-4D34-BF1C-E7706D2E63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fig23b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943600" cy="49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7D2-F58B-4A33-9C92-A26640CE20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85880" y="1981080"/>
                <a:ext cx="2340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-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738360" y="2819520"/>
                <a:ext cx="2388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-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85880" y="3733920"/>
                <a:ext cx="30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 flipH="1">
            <a:off x="2666520" y="472428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9280" y="57902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85000" y="198036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correlation is always 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87520" y="281844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ion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720-3FC1-4390-9B2D-77C6AE4BF1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 and D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rcular cor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841320" y="1676520"/>
                <a:ext cx="74059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e perio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90" name="fig24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510552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050-FAA8-4DD3-A25F-1EADC868F9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lation and D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12193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we perform circular correlation with DFT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801720" y="1905120"/>
                <a:ext cx="5167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e</m:t>
                        </m:r>
                        <m:r>
                          <m:rPr>
                            <m:lit/>
                            <m:nor/>
                          </m:rPr>
                          <m:t xml:space="preserve"> perio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157800" y="205632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ircular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838080" y="2895480"/>
                <a:ext cx="316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T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/>
                          <m:sub>
                            <m:r>
                              <m:t xml:space="preserve">1</m:t>
                            </m:r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730440" y="4016880"/>
            <a:ext cx="68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3"/>
            <a:endCxn id="398" idx="1"/>
          </p:cNvCxnSpPr>
          <p:nvPr/>
        </p:nvCxnSpPr>
        <p:spPr>
          <a:xfrm>
            <a:off x="1415880" y="4236840"/>
            <a:ext cx="718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2139840" y="4042080"/>
            <a:ext cx="662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0440" y="4626360"/>
            <a:ext cx="68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3"/>
            <a:endCxn id="401" idx="1"/>
          </p:cNvCxnSpPr>
          <p:nvPr/>
        </p:nvCxnSpPr>
        <p:spPr>
          <a:xfrm>
            <a:off x="1415520" y="4846320"/>
            <a:ext cx="6548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2075760" y="4651920"/>
            <a:ext cx="79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8" idx="3"/>
            <a:endCxn id="402" idx="2"/>
          </p:cNvCxnSpPr>
          <p:nvPr/>
        </p:nvCxnSpPr>
        <p:spPr>
          <a:xfrm>
            <a:off x="2808360" y="4241520"/>
            <a:ext cx="545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1" idx="3"/>
            <a:endCxn id="402" idx="2"/>
          </p:cNvCxnSpPr>
          <p:nvPr/>
        </p:nvCxnSpPr>
        <p:spPr>
          <a:xfrm flipV="1">
            <a:off x="2871720" y="4571640"/>
            <a:ext cx="4816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69600" y="4342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2" idx="6"/>
            <a:endCxn id="407" idx="1"/>
          </p:cNvCxnSpPr>
          <p:nvPr/>
        </p:nvCxnSpPr>
        <p:spPr>
          <a:xfrm>
            <a:off x="3657240" y="4571640"/>
            <a:ext cx="734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4396320" y="4372560"/>
            <a:ext cx="74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7" idx="3"/>
          </p:cNvCxnSpPr>
          <p:nvPr/>
        </p:nvCxnSpPr>
        <p:spPr>
          <a:xfrm>
            <a:off x="5149800" y="4572000"/>
            <a:ext cx="2736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7885080" y="4343400"/>
                <a:ext cx="8762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751-38C8-4D49-8823-67A6CD2DDE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 Correlation and D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fig2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57800" cy="518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989-5386-44A3-A9DC-8B337D300E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of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657600" cy="2741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3657600" cy="27414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3733920" cy="27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CE9-292B-4681-9387-F5B7D7D117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rete Fourier Transform, definition and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uence of parameters on frequenc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rete convolution: linear / 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rete correlation: linear / 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3EB-E0A0-40A2-8296-7D2A5F8D07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1371600"/>
            <a:ext cx="4765680" cy="5162040"/>
            <a:chOff x="0" y="1371600"/>
            <a:chExt cx="4765680" cy="5162040"/>
          </a:xfrm>
        </p:grpSpPr>
        <p:sp>
          <p:nvSpPr>
            <p:cNvPr id="66" name=""/>
            <p:cNvSpPr/>
            <p:nvPr/>
          </p:nvSpPr>
          <p:spPr>
            <a:xfrm>
              <a:off x="0" y="593424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379960" y="461124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32800" y="471024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623240" y="4992840"/>
              <a:ext cx="1321200" cy="1370520"/>
              <a:chOff x="1623240" y="4992840"/>
              <a:chExt cx="1321200" cy="137052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1922760" y="4992840"/>
                <a:ext cx="914400" cy="925560"/>
                <a:chOff x="1922760" y="4992840"/>
                <a:chExt cx="914400" cy="92556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922760" y="499284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362320" y="500400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623240" y="596268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13600" y="596268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918520" y="5006880"/>
              <a:ext cx="1321200" cy="1370520"/>
              <a:chOff x="2918520" y="5006880"/>
              <a:chExt cx="1321200" cy="13705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218040" y="5006880"/>
                <a:ext cx="914400" cy="925560"/>
                <a:chOff x="3218040" y="5006880"/>
                <a:chExt cx="914400" cy="9255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218040" y="500688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600" y="501804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2918520" y="5976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908880" y="597672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27600" y="4992840"/>
              <a:ext cx="1321200" cy="1370520"/>
              <a:chOff x="327600" y="4992840"/>
              <a:chExt cx="1321200" cy="1370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27120" y="4992840"/>
                <a:ext cx="913680" cy="925560"/>
                <a:chOff x="627120" y="4992840"/>
                <a:chExt cx="913680" cy="925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27120" y="4992840"/>
                  <a:ext cx="44748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066320" y="5004000"/>
                  <a:ext cx="47448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327600" y="596268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17960" y="596268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3646800" y="4415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84320" y="43830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6080" y="61347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47360" y="613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9120" y="1525680"/>
              <a:ext cx="287352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280" y="148284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9640" y="207972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62280" y="183852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36800" y="17319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06640" y="165564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87640" y="1581120"/>
              <a:ext cx="0" cy="48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71880" y="154944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44960" y="158112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30640" y="16430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1000" y="17240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5520" y="183852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87680" y="200808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4800" y="19573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9960" y="20970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7720" y="209700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0520" y="2087640"/>
              <a:ext cx="0" cy="333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4400" y="208764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62520" y="208764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40280" y="20876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3000" y="208764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91120" y="208764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5000" y="209700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48080" y="208764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7000" y="20876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7200" y="195732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68840" y="182088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35440" y="17240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22920" y="165096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06800" y="1571760"/>
              <a:ext cx="0" cy="501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4560" y="154944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68800" y="158112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6560" y="16351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17319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3240" y="186228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9560" y="19987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2360" y="195264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28880" y="19764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" y="137160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695600" y="3087720"/>
              <a:ext cx="608040" cy="990360"/>
              <a:chOff x="1695600" y="3087720"/>
              <a:chExt cx="608040" cy="990360"/>
            </a:xfrm>
          </p:grpSpPr>
          <p:sp>
            <p:nvSpPr>
              <p:cNvPr id="131" name=""/>
              <p:cNvSpPr/>
              <p:nvPr/>
            </p:nvSpPr>
            <p:spPr>
              <a:xfrm>
                <a:off x="2303640" y="30877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5600" y="331524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500120" y="2696040"/>
              <a:ext cx="16437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15160" y="4077000"/>
              <a:ext cx="1800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1447920"/>
            <a:ext cx="4765680" cy="4991040"/>
            <a:chOff x="5181480" y="1447920"/>
            <a:chExt cx="4765680" cy="4991040"/>
          </a:xfrm>
        </p:grpSpPr>
        <p:sp>
          <p:nvSpPr>
            <p:cNvPr id="136" name=""/>
            <p:cNvSpPr/>
            <p:nvPr/>
          </p:nvSpPr>
          <p:spPr>
            <a:xfrm>
              <a:off x="5181480" y="601020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7561440" y="4687560"/>
              <a:ext cx="0" cy="132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4280" y="478620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804720" y="5068800"/>
              <a:ext cx="1321200" cy="1370160"/>
              <a:chOff x="6804720" y="5068800"/>
              <a:chExt cx="1321200" cy="13701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104240" y="5068800"/>
                <a:ext cx="914400" cy="924840"/>
                <a:chOff x="7104240" y="5068800"/>
                <a:chExt cx="914400" cy="9248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104240" y="5068800"/>
                  <a:ext cx="447840" cy="91260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543800" y="5079600"/>
                  <a:ext cx="474840" cy="91404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6804720" y="603828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95080" y="603828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981760" y="1558800"/>
              <a:ext cx="0" cy="119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1120" y="215568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03840" y="202860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10360" y="20523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7240" y="144792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877080" y="3163680"/>
              <a:ext cx="608040" cy="990360"/>
              <a:chOff x="6877080" y="3163680"/>
              <a:chExt cx="608040" cy="99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7485120" y="31636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77080" y="339120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655680" y="2772000"/>
              <a:ext cx="1701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8280" y="4152960"/>
              <a:ext cx="2026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1240" y="1715760"/>
              <a:ext cx="1523880" cy="81252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85120" y="1715760"/>
              <a:ext cx="1523880" cy="81252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256520" y="5144760"/>
              <a:ext cx="609480" cy="878760"/>
              <a:chOff x="7256520" y="5144760"/>
              <a:chExt cx="609480" cy="878760"/>
            </a:xfrm>
          </p:grpSpPr>
          <p:sp>
            <p:nvSpPr>
              <p:cNvPr id="158" name=""/>
              <p:cNvSpPr/>
              <p:nvPr/>
            </p:nvSpPr>
            <p:spPr>
              <a:xfrm>
                <a:off x="7256520" y="5525640"/>
                <a:ext cx="0" cy="48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66000" y="5525640"/>
                <a:ext cx="0" cy="48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3720" y="5373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08800" y="5220720"/>
                <a:ext cx="0" cy="80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61440" y="51447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EF8-0FB5-4F89-AADE-31EEC568C7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ier Series 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920" y="1066680"/>
            <a:ext cx="35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Sig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m of Sinusoidal Compon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2133720"/>
            <a:ext cx="6313680" cy="4056480"/>
            <a:chOff x="838080" y="2133720"/>
            <a:chExt cx="6313680" cy="4056480"/>
          </a:xfrm>
        </p:grpSpPr>
        <p:pic>
          <p:nvPicPr>
            <p:cNvPr id="166" name="bigwave" descr=""/>
            <p:cNvPicPr/>
            <p:nvPr/>
          </p:nvPicPr>
          <p:blipFill>
            <a:blip r:embed="rId1"/>
            <a:stretch/>
          </p:blipFill>
          <p:spPr>
            <a:xfrm>
              <a:off x="1905120" y="2133720"/>
              <a:ext cx="5246640" cy="31431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 flipV="1">
              <a:off x="2514600" y="3961800"/>
              <a:ext cx="83808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548640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dividual Pure Sinusoidal  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438280" y="4114440"/>
              <a:ext cx="228600" cy="12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590920" y="4495320"/>
              <a:ext cx="160020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057400" y="1752480"/>
            <a:ext cx="3276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4B7-8832-4C3C-AB74-6DAA2A793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rete Fourier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representation for periodic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periodic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ite length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not use Fourier Ser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n-periodic finite sequence can be considered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e peri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peri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e sequen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397080" cy="120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95280" y="1789200"/>
                <a:ext cx="58118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ww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where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w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where T is the period of the periodic sign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A16-52C0-46B9-A226-0F3EDD9117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1419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04280" y="2316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590920" y="1219320"/>
                <a:ext cx="39528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N-1,  -</m:t>
                    </m:r>
                    <m:r>
                      <m:t xml:space="preserve">∞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19520" y="5486400"/>
                <a:ext cx="2438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-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elsewhere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2" name="fig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38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72E-E749-4EEC-ADCD-6FC11DD79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rete Fourier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rete Fourier Trans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Fourier Series of the periodised signal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nly one period of the resulting sequence for x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finition of the D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38080" y="2971800"/>
                <a:ext cx="4800600" cy="306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0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0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6323040" y="540936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erse D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6B7-3C41-4338-89A7-0B2974333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6:20:35Z</dcterms:created>
  <dc:creator>Administrator</dc:creator>
  <dc:description/>
  <dc:language>en-US</dc:language>
  <cp:lastModifiedBy>ceeyrp</cp:lastModifiedBy>
  <cp:lastPrinted>2002-10-30T10:57:21Z</cp:lastPrinted>
  <dcterms:modified xsi:type="dcterms:W3CDTF">2004-10-05T12:20:18Z</dcterms:modified>
  <cp:revision>25</cp:revision>
  <dc:subject/>
  <dc:title>Discrete Fourier Transform</dc:title>
</cp:coreProperties>
</file>